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2.gif" ContentType="image/gif"/>
  <Override PartName="/ppt/media/image25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F92-49BC-4710-98C8-3E8C854B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8B2-A5DF-4EC6-B0D7-BB340093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F18-A5A4-4CD3-82E7-A48B138B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81E-A835-4C37-AB67-1F62B145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737-46B7-46EC-88A6-272C629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40F-A6D5-4745-BC96-A9D3573C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636B-3BF3-4EE0-BDC3-7411D22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1894-6339-4437-83D7-36C8F5A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A65A-512A-4A95-8679-8149F1EB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B535-2CDF-4127-820E-A250E41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B2A-C252-4FCC-AA50-E2B7308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144-F8AF-40E8-999C-0740444E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D0BA-7B9F-4F55-A405-79DF8AE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715F-4B72-4164-B745-E723592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851-DC34-47FE-A322-525034E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4F2-6857-46C1-BE37-862EA024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21E5-C162-4A6E-93DD-A7C3AE9E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D8D-2D5E-4E00-9050-8FB2D12B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962-E00E-4718-9848-EEC1841F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0EA-EA94-4EF4-A224-6BBE78F5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4F8-073A-4485-9321-9601E19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905-E1B7-4A58-A7D4-DB87495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01A-5EC8-44F7-A556-7D6A226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76F-AC06-4E8D-AD83-B45024A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FFD-70EA-4F6E-B6DB-02DDDBFFC1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3DCE-CE96-430D-9950-57BCC2F0A6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35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анда, футбольный, хоккей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сильева, Дмитрий, Иванов, Сем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ый, солнце, веселый, з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ждать, радоваться, играть, молодёжь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Найдите «лишнее» слово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116000" y="1844640"/>
            <a:ext cx="208908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3564000" y="2492280"/>
            <a:ext cx="2232000" cy="72072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987640" y="3716280"/>
            <a:ext cx="165564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1116000" y="4941720"/>
            <a:ext cx="237636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50920" y="1052640"/>
            <a:ext cx="864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ernard MT Condensed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ernard MT Condensed"/>
              </a:rPr>
              <a:t>ИЗМЕНЯЕТСЯ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00000" y="2421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076720" y="2349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SARDANA"/>
          <p:cNvPicPr/>
          <p:nvPr/>
        </p:nvPicPr>
        <p:blipFill>
          <a:blip r:embed="rId2"/>
          <a:stretch/>
        </p:blipFill>
        <p:spPr>
          <a:xfrm>
            <a:off x="7667640" y="4221000"/>
            <a:ext cx="1150920" cy="1090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REDRBUD"/>
          <p:cNvPicPr/>
          <p:nvPr/>
        </p:nvPicPr>
        <p:blipFill>
          <a:blip r:embed="rId3"/>
          <a:stretch/>
        </p:blipFill>
        <p:spPr>
          <a:xfrm>
            <a:off x="684360" y="4221000"/>
            <a:ext cx="990360" cy="1146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books2"/>
          <p:cNvPicPr/>
          <p:nvPr/>
        </p:nvPicPr>
        <p:blipFill>
          <a:blip r:embed="rId4"/>
          <a:stretch/>
        </p:blipFill>
        <p:spPr>
          <a:xfrm>
            <a:off x="6372360" y="5157720"/>
            <a:ext cx="1179360" cy="104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BOOK02"/>
          <p:cNvPicPr/>
          <p:nvPr/>
        </p:nvPicPr>
        <p:blipFill>
          <a:blip r:embed="rId5"/>
          <a:stretch/>
        </p:blipFill>
        <p:spPr>
          <a:xfrm>
            <a:off x="1258920" y="5445000"/>
            <a:ext cx="1693800" cy="90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bird4"/>
          <p:cNvPicPr/>
          <p:nvPr/>
        </p:nvPicPr>
        <p:blipFill>
          <a:blip r:embed="rId6"/>
          <a:stretch/>
        </p:blipFill>
        <p:spPr>
          <a:xfrm>
            <a:off x="6443640" y="3141720"/>
            <a:ext cx="1149480" cy="122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ЦЫПЛЕНОК"/>
          <p:cNvPicPr/>
          <p:nvPr/>
        </p:nvPicPr>
        <p:blipFill>
          <a:blip r:embed="rId7"/>
          <a:stretch/>
        </p:blipFill>
        <p:spPr>
          <a:xfrm>
            <a:off x="468360" y="3284640"/>
            <a:ext cx="1219320" cy="793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3"/>
          <p:cNvSpPr/>
          <p:nvPr/>
        </p:nvSpPr>
        <p:spPr>
          <a:xfrm>
            <a:off x="176364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ЦЫПЛ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190800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59280" y="522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5007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ЦЫП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148360" y="44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4932360" y="5229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 flipH="1">
            <a:off x="2700360" y="2133720"/>
            <a:ext cx="287280" cy="287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5508720" y="2133720"/>
            <a:ext cx="215640" cy="287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1" descr="Сова"/>
          <p:cNvPicPr/>
          <p:nvPr/>
        </p:nvPicPr>
        <p:blipFill>
          <a:blip r:embed="rId8"/>
          <a:stretch/>
        </p:blipFill>
        <p:spPr>
          <a:xfrm flipH="1">
            <a:off x="8191440" y="0"/>
            <a:ext cx="95256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6"/>
          <p:cNvGrpSpPr/>
          <p:nvPr/>
        </p:nvGrpSpPr>
        <p:grpSpPr>
          <a:xfrm>
            <a:off x="2124000" y="1916280"/>
            <a:ext cx="4825800" cy="4033440"/>
            <a:chOff x="2124000" y="1916280"/>
            <a:chExt cx="4825800" cy="4033440"/>
          </a:xfrm>
        </p:grpSpPr>
        <p:sp>
          <p:nvSpPr>
            <p:cNvPr id="204" name="AutoShape 5"/>
            <p:cNvSpPr/>
            <p:nvPr/>
          </p:nvSpPr>
          <p:spPr>
            <a:xfrm>
              <a:off x="2124000" y="1916280"/>
              <a:ext cx="120672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2124000" y="2936160"/>
              <a:ext cx="120672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3330720" y="1916280"/>
              <a:ext cx="120528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8"/>
            <p:cNvSpPr/>
            <p:nvPr/>
          </p:nvSpPr>
          <p:spPr>
            <a:xfrm>
              <a:off x="3330720" y="2936160"/>
              <a:ext cx="120528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4536360" y="1916280"/>
              <a:ext cx="120672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4536360" y="2936160"/>
              <a:ext cx="120672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5743440" y="1916280"/>
              <a:ext cx="120636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5743440" y="2936160"/>
              <a:ext cx="120636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9"/>
            <p:cNvGrpSpPr/>
            <p:nvPr/>
          </p:nvGrpSpPr>
          <p:grpSpPr>
            <a:xfrm>
              <a:off x="2124000" y="3957120"/>
              <a:ext cx="4825800" cy="1019880"/>
              <a:chOff x="2124000" y="3957120"/>
              <a:chExt cx="4825800" cy="1019880"/>
            </a:xfrm>
          </p:grpSpPr>
          <p:sp>
            <p:nvSpPr>
              <p:cNvPr id="213" name="AutoShape 9"/>
              <p:cNvSpPr/>
              <p:nvPr/>
            </p:nvSpPr>
            <p:spPr>
              <a:xfrm>
                <a:off x="3330720" y="3957120"/>
                <a:ext cx="120528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1"/>
              <p:cNvSpPr/>
              <p:nvPr/>
            </p:nvSpPr>
            <p:spPr>
              <a:xfrm>
                <a:off x="2124000" y="395712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13"/>
              <p:cNvSpPr/>
              <p:nvPr/>
            </p:nvSpPr>
            <p:spPr>
              <a:xfrm>
                <a:off x="4536360" y="395712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8"/>
              <p:cNvSpPr/>
              <p:nvPr/>
            </p:nvSpPr>
            <p:spPr>
              <a:xfrm>
                <a:off x="5743440" y="3957120"/>
                <a:ext cx="120636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0"/>
            <p:cNvGrpSpPr/>
            <p:nvPr/>
          </p:nvGrpSpPr>
          <p:grpSpPr>
            <a:xfrm>
              <a:off x="2124000" y="4929840"/>
              <a:ext cx="4825800" cy="1019880"/>
              <a:chOff x="2124000" y="4929840"/>
              <a:chExt cx="4825800" cy="1019880"/>
            </a:xfrm>
          </p:grpSpPr>
          <p:sp>
            <p:nvSpPr>
              <p:cNvPr id="218" name="AutoShape 21"/>
              <p:cNvSpPr/>
              <p:nvPr/>
            </p:nvSpPr>
            <p:spPr>
              <a:xfrm>
                <a:off x="3330720" y="4929840"/>
                <a:ext cx="120528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22"/>
              <p:cNvSpPr/>
              <p:nvPr/>
            </p:nvSpPr>
            <p:spPr>
              <a:xfrm>
                <a:off x="2124000" y="492984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23"/>
              <p:cNvSpPr/>
              <p:nvPr/>
            </p:nvSpPr>
            <p:spPr>
              <a:xfrm>
                <a:off x="4536360" y="492984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24"/>
              <p:cNvSpPr/>
              <p:nvPr/>
            </p:nvSpPr>
            <p:spPr>
              <a:xfrm>
                <a:off x="5743440" y="4929840"/>
                <a:ext cx="120636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27"/>
          <p:cNvSpPr/>
          <p:nvPr/>
        </p:nvSpPr>
        <p:spPr>
          <a:xfrm>
            <a:off x="324000" y="83664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редели число им.существительных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5"/>
          <p:cNvSpPr/>
          <p:nvPr/>
        </p:nvSpPr>
        <p:spPr>
          <a:xfrm>
            <a:off x="1258920" y="404640"/>
            <a:ext cx="1603440" cy="138456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258920" y="17892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862360" y="404640"/>
            <a:ext cx="1600200" cy="1384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2862360" y="17892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4462560" y="404640"/>
            <a:ext cx="1601640" cy="1384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4462560" y="17892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6064200" y="404640"/>
            <a:ext cx="1603440" cy="138456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6064200" y="17892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2862360" y="31734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1258920" y="31734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4462560" y="31734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6064200" y="31734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2862360" y="44928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1258920" y="44928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462560" y="44928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6064200" y="44928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50920" y="105264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Lucida Handwriting"/>
              </a:rPr>
              <a:t>3 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Lucida Handwriting"/>
              </a:rPr>
              <a:t>ИМЕНИ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 flipH="1">
            <a:off x="1547640" y="2133720"/>
            <a:ext cx="1152720" cy="718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9640" y="28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ЖЕНСКИЙ 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492360" y="28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МУЖСКО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940360" y="2133720"/>
            <a:ext cx="1079640" cy="6476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6372360" y="2852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СРЕДН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Сова"/>
          <p:cNvPicPr/>
          <p:nvPr/>
        </p:nvPicPr>
        <p:blipFill>
          <a:blip r:embed="rId2"/>
          <a:stretch/>
        </p:blipFill>
        <p:spPr>
          <a:xfrm flipH="1">
            <a:off x="8174160" y="0"/>
            <a:ext cx="969840" cy="1440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2"/>
          <p:cNvPicPr/>
          <p:nvPr/>
        </p:nvPicPr>
        <p:blipFill>
          <a:blip r:embed="rId3"/>
          <a:stretch/>
        </p:blipFill>
        <p:spPr>
          <a:xfrm>
            <a:off x="333360" y="3284640"/>
            <a:ext cx="2706840" cy="316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3"/>
          <p:cNvPicPr/>
          <p:nvPr/>
        </p:nvPicPr>
        <p:blipFill>
          <a:blip r:embed="rId4"/>
          <a:stretch/>
        </p:blipFill>
        <p:spPr>
          <a:xfrm>
            <a:off x="3203640" y="3284640"/>
            <a:ext cx="2816280" cy="316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4"/>
          <p:cNvPicPr/>
          <p:nvPr/>
        </p:nvPicPr>
        <p:blipFill>
          <a:blip r:embed="rId5"/>
          <a:stretch/>
        </p:blipFill>
        <p:spPr>
          <a:xfrm>
            <a:off x="6156360" y="3284640"/>
            <a:ext cx="27194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191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«ПУТАНИЦА»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05604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ОД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РАВК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КЕР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кровать"/>
          <p:cNvPicPr/>
          <p:nvPr/>
        </p:nvPicPr>
        <p:blipFill>
          <a:blip r:embed="rId1"/>
          <a:stretch/>
        </p:blipFill>
        <p:spPr>
          <a:xfrm>
            <a:off x="3838680" y="362736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дИВАН"/>
          <p:cNvPicPr/>
          <p:nvPr/>
        </p:nvPicPr>
        <p:blipFill>
          <a:blip r:embed="rId2"/>
          <a:stretch/>
        </p:blipFill>
        <p:spPr>
          <a:xfrm>
            <a:off x="3811680" y="2349360"/>
            <a:ext cx="1349280" cy="1179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5364000" y="1989000"/>
            <a:ext cx="288000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КР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КРЕ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ДИВ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Юля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010040" y="4788000"/>
            <a:ext cx="954000" cy="119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Мышь умная"/>
          <p:cNvPicPr/>
          <p:nvPr/>
        </p:nvPicPr>
        <p:blipFill>
          <a:blip r:embed="rId1"/>
          <a:stretch/>
        </p:blipFill>
        <p:spPr>
          <a:xfrm>
            <a:off x="7020000" y="4221000"/>
            <a:ext cx="151596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1" descr="Киса"/>
          <p:cNvPicPr/>
          <p:nvPr/>
        </p:nvPicPr>
        <p:blipFill>
          <a:blip r:embed="rId2"/>
          <a:stretch/>
        </p:blipFill>
        <p:spPr>
          <a:xfrm>
            <a:off x="1835280" y="476280"/>
            <a:ext cx="491796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nttm"/>
          <p:cNvPicPr/>
          <p:nvPr/>
        </p:nvPicPr>
        <p:blipFill>
          <a:blip r:embed="rId1"/>
          <a:stretch/>
        </p:blipFill>
        <p:spPr>
          <a:xfrm>
            <a:off x="5724360" y="5445000"/>
            <a:ext cx="971640" cy="981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3520" y="1828800"/>
          <a:ext cx="4000320" cy="45259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ТЕЛЬНЫЙ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НЫЙ   ПАДЕЖ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Е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ЕЛЬНЫЙ ПАДЕЖ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 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ИТЕЛЬНЫЙ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ИТЕЛЬНЫЙ 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 Ч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НЫЙ 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 О ЧЁ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2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8"/>
          <p:cNvSpPr/>
          <p:nvPr/>
        </p:nvSpPr>
        <p:spPr>
          <a:xfrm>
            <a:off x="179280" y="119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"/>
              </a:rPr>
              <a:t>ПАДЕЖИ ИМЕНИ СУЩЕСТВИТЕЛЬНОГО</a:t>
            </a:r>
            <a:r>
              <a:rPr b="1" lang="ru-RU" sz="3200" spc="-1" strike="noStrike">
                <a:solidFill>
                  <a:srgbClr val="000099"/>
                </a:solidFill>
                <a:latin typeface="com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844640"/>
          <a:ext cx="8137440" cy="3529080"/>
        </p:xfrm>
        <a:graphic>
          <a:graphicData uri="http://schemas.openxmlformats.org/drawingml/2006/table">
            <a:tbl>
              <a:tblPr/>
              <a:tblGrid>
                <a:gridCol w="4681440"/>
                <a:gridCol w="345600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ИМЕНИТЕЛЬНЫЙ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РОДИТЕЛЬНЫЙ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ДАТЕЛЬНЫЙ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ВИНИТЕЛЬНЫЙ 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ТВОРИТЕЛЬНЫЙ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ПРЕДЛОЖНЫЙ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66" name="Picture 55" descr="Сова"/>
          <p:cNvPicPr/>
          <p:nvPr/>
        </p:nvPicPr>
        <p:blipFill>
          <a:blip r:embed="rId3"/>
          <a:stretch/>
        </p:blipFill>
        <p:spPr>
          <a:xfrm flipH="1">
            <a:off x="8174160" y="5418000"/>
            <a:ext cx="9698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оставь предложение: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17640">
              <a:lnSpc>
                <a:spcPct val="150000"/>
              </a:lnSpc>
              <a:spcBef>
                <a:spcPts val="92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И  КОСТЁР  НЕБОЛЬШОГО   СИДЕЛИ  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СОБАКА  ОХОТНИ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79200" indent="17640">
              <a:lnSpc>
                <a:spcPct val="150000"/>
              </a:lnSpc>
              <a:spcBef>
                <a:spcPts val="92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СТОЛИЦА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КВА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НАШЕЙ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-ое ПРЕДЛОЖЕНИЕ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У небольшого кост-ра сидели охотник и соба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716360" y="3789360"/>
            <a:ext cx="2880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971640" y="4797360"/>
            <a:ext cx="2376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2050920" y="3789360"/>
            <a:ext cx="2449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2050920" y="3933720"/>
            <a:ext cx="2449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91636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724360" y="28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04292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2-ое ПРЕДЛОЖЕНИЕ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4640"/>
            <a:ext cx="81532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Москва – столица нашей Родин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932360" y="3141720"/>
            <a:ext cx="280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932360" y="3284640"/>
            <a:ext cx="280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403280" y="3141720"/>
            <a:ext cx="266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34000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79600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 flipH="1">
            <a:off x="900000" y="620640"/>
            <a:ext cx="7723440" cy="5661000"/>
          </a:xfrm>
          <a:custGeom>
            <a:avLst/>
            <a:gdLst/>
            <a:ahLst/>
            <a:rect l="l" t="t" r="r" b="b"/>
            <a:pathLst>
              <a:path w="4865" h="3566">
                <a:moveTo>
                  <a:pt x="484" y="106"/>
                </a:moveTo>
                <a:cubicBezTo>
                  <a:pt x="2024" y="118"/>
                  <a:pt x="1171" y="0"/>
                  <a:pt x="1627" y="158"/>
                </a:cubicBezTo>
                <a:cubicBezTo>
                  <a:pt x="1650" y="272"/>
                  <a:pt x="1762" y="254"/>
                  <a:pt x="1696" y="358"/>
                </a:cubicBezTo>
                <a:cubicBezTo>
                  <a:pt x="1731" y="376"/>
                  <a:pt x="1851" y="469"/>
                  <a:pt x="1792" y="498"/>
                </a:cubicBezTo>
                <a:cubicBezTo>
                  <a:pt x="1816" y="531"/>
                  <a:pt x="1550" y="734"/>
                  <a:pt x="1584" y="760"/>
                </a:cubicBezTo>
                <a:cubicBezTo>
                  <a:pt x="1679" y="833"/>
                  <a:pt x="1613" y="772"/>
                  <a:pt x="1689" y="848"/>
                </a:cubicBezTo>
                <a:cubicBezTo>
                  <a:pt x="1708" y="867"/>
                  <a:pt x="1740" y="863"/>
                  <a:pt x="1767" y="865"/>
                </a:cubicBezTo>
                <a:cubicBezTo>
                  <a:pt x="1819" y="869"/>
                  <a:pt x="1872" y="871"/>
                  <a:pt x="1924" y="874"/>
                </a:cubicBezTo>
                <a:cubicBezTo>
                  <a:pt x="2008" y="871"/>
                  <a:pt x="2093" y="870"/>
                  <a:pt x="2177" y="865"/>
                </a:cubicBezTo>
                <a:cubicBezTo>
                  <a:pt x="2230" y="862"/>
                  <a:pt x="2196" y="859"/>
                  <a:pt x="2230" y="839"/>
                </a:cubicBezTo>
                <a:cubicBezTo>
                  <a:pt x="2265" y="818"/>
                  <a:pt x="2323" y="818"/>
                  <a:pt x="2361" y="813"/>
                </a:cubicBezTo>
                <a:cubicBezTo>
                  <a:pt x="2426" y="786"/>
                  <a:pt x="2570" y="778"/>
                  <a:pt x="2570" y="778"/>
                </a:cubicBezTo>
                <a:cubicBezTo>
                  <a:pt x="2642" y="759"/>
                  <a:pt x="2568" y="781"/>
                  <a:pt x="2640" y="752"/>
                </a:cubicBezTo>
                <a:cubicBezTo>
                  <a:pt x="2657" y="745"/>
                  <a:pt x="2692" y="734"/>
                  <a:pt x="2692" y="734"/>
                </a:cubicBezTo>
                <a:cubicBezTo>
                  <a:pt x="2727" y="701"/>
                  <a:pt x="2786" y="693"/>
                  <a:pt x="2832" y="682"/>
                </a:cubicBezTo>
                <a:cubicBezTo>
                  <a:pt x="2892" y="667"/>
                  <a:pt x="2945" y="642"/>
                  <a:pt x="3006" y="629"/>
                </a:cubicBezTo>
                <a:cubicBezTo>
                  <a:pt x="3089" y="640"/>
                  <a:pt x="3161" y="663"/>
                  <a:pt x="3207" y="734"/>
                </a:cubicBezTo>
                <a:cubicBezTo>
                  <a:pt x="3218" y="778"/>
                  <a:pt x="3243" y="799"/>
                  <a:pt x="3286" y="813"/>
                </a:cubicBezTo>
                <a:cubicBezTo>
                  <a:pt x="3344" y="805"/>
                  <a:pt x="3406" y="809"/>
                  <a:pt x="3460" y="786"/>
                </a:cubicBezTo>
                <a:cubicBezTo>
                  <a:pt x="3507" y="766"/>
                  <a:pt x="3616" y="640"/>
                  <a:pt x="3635" y="594"/>
                </a:cubicBezTo>
                <a:cubicBezTo>
                  <a:pt x="3658" y="538"/>
                  <a:pt x="3664" y="486"/>
                  <a:pt x="3696" y="437"/>
                </a:cubicBezTo>
                <a:cubicBezTo>
                  <a:pt x="3716" y="343"/>
                  <a:pt x="3713" y="320"/>
                  <a:pt x="3809" y="298"/>
                </a:cubicBezTo>
                <a:cubicBezTo>
                  <a:pt x="3850" y="301"/>
                  <a:pt x="3891" y="299"/>
                  <a:pt x="3931" y="306"/>
                </a:cubicBezTo>
                <a:cubicBezTo>
                  <a:pt x="3953" y="310"/>
                  <a:pt x="3971" y="328"/>
                  <a:pt x="3993" y="333"/>
                </a:cubicBezTo>
                <a:cubicBezTo>
                  <a:pt x="4025" y="340"/>
                  <a:pt x="4089" y="350"/>
                  <a:pt x="4089" y="350"/>
                </a:cubicBezTo>
                <a:cubicBezTo>
                  <a:pt x="4147" y="381"/>
                  <a:pt x="4136" y="383"/>
                  <a:pt x="4115" y="446"/>
                </a:cubicBezTo>
                <a:cubicBezTo>
                  <a:pt x="4118" y="490"/>
                  <a:pt x="4116" y="534"/>
                  <a:pt x="4123" y="577"/>
                </a:cubicBezTo>
                <a:cubicBezTo>
                  <a:pt x="4133" y="644"/>
                  <a:pt x="4250" y="741"/>
                  <a:pt x="4307" y="769"/>
                </a:cubicBezTo>
                <a:cubicBezTo>
                  <a:pt x="4320" y="811"/>
                  <a:pt x="4337" y="853"/>
                  <a:pt x="4359" y="891"/>
                </a:cubicBezTo>
                <a:cubicBezTo>
                  <a:pt x="4363" y="898"/>
                  <a:pt x="4372" y="902"/>
                  <a:pt x="4377" y="909"/>
                </a:cubicBezTo>
                <a:cubicBezTo>
                  <a:pt x="4387" y="923"/>
                  <a:pt x="4396" y="937"/>
                  <a:pt x="4403" y="952"/>
                </a:cubicBezTo>
                <a:cubicBezTo>
                  <a:pt x="4436" y="1026"/>
                  <a:pt x="4401" y="987"/>
                  <a:pt x="4438" y="1022"/>
                </a:cubicBezTo>
                <a:cubicBezTo>
                  <a:pt x="4462" y="1071"/>
                  <a:pt x="4494" y="1112"/>
                  <a:pt x="4516" y="1162"/>
                </a:cubicBezTo>
                <a:cubicBezTo>
                  <a:pt x="4538" y="1211"/>
                  <a:pt x="4557" y="1263"/>
                  <a:pt x="4595" y="1301"/>
                </a:cubicBezTo>
                <a:cubicBezTo>
                  <a:pt x="4610" y="1365"/>
                  <a:pt x="4619" y="1430"/>
                  <a:pt x="4638" y="1493"/>
                </a:cubicBezTo>
                <a:cubicBezTo>
                  <a:pt x="4650" y="1576"/>
                  <a:pt x="4653" y="1645"/>
                  <a:pt x="4603" y="1712"/>
                </a:cubicBezTo>
                <a:cubicBezTo>
                  <a:pt x="4591" y="1729"/>
                  <a:pt x="4576" y="1744"/>
                  <a:pt x="4569" y="1764"/>
                </a:cubicBezTo>
                <a:cubicBezTo>
                  <a:pt x="4563" y="1781"/>
                  <a:pt x="4551" y="1816"/>
                  <a:pt x="4551" y="1816"/>
                </a:cubicBezTo>
                <a:cubicBezTo>
                  <a:pt x="4554" y="1842"/>
                  <a:pt x="4548" y="1871"/>
                  <a:pt x="4560" y="1895"/>
                </a:cubicBezTo>
                <a:cubicBezTo>
                  <a:pt x="4586" y="1947"/>
                  <a:pt x="4651" y="1970"/>
                  <a:pt x="4691" y="2008"/>
                </a:cubicBezTo>
                <a:cubicBezTo>
                  <a:pt x="4709" y="2067"/>
                  <a:pt x="4707" y="2120"/>
                  <a:pt x="4752" y="2165"/>
                </a:cubicBezTo>
                <a:cubicBezTo>
                  <a:pt x="4773" y="2242"/>
                  <a:pt x="4821" y="2305"/>
                  <a:pt x="4839" y="2384"/>
                </a:cubicBezTo>
                <a:cubicBezTo>
                  <a:pt x="4851" y="2439"/>
                  <a:pt x="4848" y="2495"/>
                  <a:pt x="4865" y="2549"/>
                </a:cubicBezTo>
                <a:cubicBezTo>
                  <a:pt x="4862" y="2581"/>
                  <a:pt x="4865" y="2614"/>
                  <a:pt x="4857" y="2645"/>
                </a:cubicBezTo>
                <a:cubicBezTo>
                  <a:pt x="4846" y="2688"/>
                  <a:pt x="4788" y="2704"/>
                  <a:pt x="4752" y="2715"/>
                </a:cubicBezTo>
                <a:cubicBezTo>
                  <a:pt x="4600" y="2762"/>
                  <a:pt x="4593" y="2768"/>
                  <a:pt x="4411" y="2776"/>
                </a:cubicBezTo>
                <a:cubicBezTo>
                  <a:pt x="4391" y="2779"/>
                  <a:pt x="4359" y="2766"/>
                  <a:pt x="4350" y="2785"/>
                </a:cubicBezTo>
                <a:cubicBezTo>
                  <a:pt x="4330" y="2827"/>
                  <a:pt x="4382" y="2902"/>
                  <a:pt x="4342" y="2925"/>
                </a:cubicBezTo>
                <a:cubicBezTo>
                  <a:pt x="4279" y="2962"/>
                  <a:pt x="4196" y="2919"/>
                  <a:pt x="4123" y="2916"/>
                </a:cubicBezTo>
                <a:cubicBezTo>
                  <a:pt x="4063" y="2884"/>
                  <a:pt x="3998" y="2867"/>
                  <a:pt x="3940" y="2829"/>
                </a:cubicBezTo>
                <a:cubicBezTo>
                  <a:pt x="3931" y="2817"/>
                  <a:pt x="3924" y="2804"/>
                  <a:pt x="3914" y="2794"/>
                </a:cubicBezTo>
                <a:cubicBezTo>
                  <a:pt x="3904" y="2784"/>
                  <a:pt x="3888" y="2779"/>
                  <a:pt x="3879" y="2768"/>
                </a:cubicBezTo>
                <a:cubicBezTo>
                  <a:pt x="3859" y="2745"/>
                  <a:pt x="3851" y="2715"/>
                  <a:pt x="3835" y="2689"/>
                </a:cubicBezTo>
                <a:cubicBezTo>
                  <a:pt x="3828" y="2648"/>
                  <a:pt x="3818" y="2608"/>
                  <a:pt x="3809" y="2567"/>
                </a:cubicBezTo>
                <a:cubicBezTo>
                  <a:pt x="3792" y="2579"/>
                  <a:pt x="3775" y="2592"/>
                  <a:pt x="3757" y="2602"/>
                </a:cubicBezTo>
                <a:cubicBezTo>
                  <a:pt x="3749" y="2606"/>
                  <a:pt x="3738" y="2604"/>
                  <a:pt x="3731" y="2610"/>
                </a:cubicBezTo>
                <a:cubicBezTo>
                  <a:pt x="3708" y="2628"/>
                  <a:pt x="3696" y="2659"/>
                  <a:pt x="3670" y="2672"/>
                </a:cubicBezTo>
                <a:cubicBezTo>
                  <a:pt x="3658" y="2678"/>
                  <a:pt x="3646" y="2682"/>
                  <a:pt x="3635" y="2689"/>
                </a:cubicBezTo>
                <a:cubicBezTo>
                  <a:pt x="3612" y="2704"/>
                  <a:pt x="3605" y="2734"/>
                  <a:pt x="3574" y="2741"/>
                </a:cubicBezTo>
                <a:cubicBezTo>
                  <a:pt x="3526" y="2752"/>
                  <a:pt x="3475" y="2747"/>
                  <a:pt x="3425" y="2750"/>
                </a:cubicBezTo>
                <a:cubicBezTo>
                  <a:pt x="3426" y="2766"/>
                  <a:pt x="3457" y="3004"/>
                  <a:pt x="3434" y="3047"/>
                </a:cubicBezTo>
                <a:cubicBezTo>
                  <a:pt x="3425" y="3063"/>
                  <a:pt x="3400" y="3061"/>
                  <a:pt x="3382" y="3064"/>
                </a:cubicBezTo>
                <a:cubicBezTo>
                  <a:pt x="3365" y="3067"/>
                  <a:pt x="3128" y="3081"/>
                  <a:pt x="3120" y="3082"/>
                </a:cubicBezTo>
                <a:cubicBezTo>
                  <a:pt x="3022" y="3112"/>
                  <a:pt x="2915" y="3091"/>
                  <a:pt x="2814" y="3117"/>
                </a:cubicBezTo>
                <a:cubicBezTo>
                  <a:pt x="2769" y="3147"/>
                  <a:pt x="2740" y="3188"/>
                  <a:pt x="2692" y="3213"/>
                </a:cubicBezTo>
                <a:cubicBezTo>
                  <a:pt x="2649" y="3279"/>
                  <a:pt x="2704" y="3202"/>
                  <a:pt x="2649" y="3256"/>
                </a:cubicBezTo>
                <a:cubicBezTo>
                  <a:pt x="2611" y="3293"/>
                  <a:pt x="2581" y="3340"/>
                  <a:pt x="2544" y="3378"/>
                </a:cubicBezTo>
                <a:cubicBezTo>
                  <a:pt x="2488" y="3436"/>
                  <a:pt x="2413" y="3476"/>
                  <a:pt x="2334" y="3492"/>
                </a:cubicBezTo>
                <a:cubicBezTo>
                  <a:pt x="2220" y="3566"/>
                  <a:pt x="2069" y="3516"/>
                  <a:pt x="1942" y="3483"/>
                </a:cubicBezTo>
                <a:cubicBezTo>
                  <a:pt x="1906" y="3456"/>
                  <a:pt x="1889" y="3450"/>
                  <a:pt x="1846" y="3440"/>
                </a:cubicBezTo>
                <a:cubicBezTo>
                  <a:pt x="1822" y="3416"/>
                  <a:pt x="1776" y="3361"/>
                  <a:pt x="1767" y="3335"/>
                </a:cubicBezTo>
                <a:cubicBezTo>
                  <a:pt x="1757" y="3306"/>
                  <a:pt x="1755" y="3286"/>
                  <a:pt x="1732" y="3265"/>
                </a:cubicBezTo>
                <a:cubicBezTo>
                  <a:pt x="1735" y="3181"/>
                  <a:pt x="1741" y="3096"/>
                  <a:pt x="1741" y="3012"/>
                </a:cubicBezTo>
                <a:cubicBezTo>
                  <a:pt x="1741" y="2893"/>
                  <a:pt x="1640" y="3024"/>
                  <a:pt x="1600" y="2933"/>
                </a:cubicBezTo>
                <a:cubicBezTo>
                  <a:pt x="1585" y="2900"/>
                  <a:pt x="1526" y="2993"/>
                  <a:pt x="1486" y="2976"/>
                </a:cubicBezTo>
                <a:cubicBezTo>
                  <a:pt x="1461" y="2966"/>
                  <a:pt x="1451" y="2896"/>
                  <a:pt x="1425" y="2889"/>
                </a:cubicBezTo>
                <a:cubicBezTo>
                  <a:pt x="1171" y="2901"/>
                  <a:pt x="1347" y="2854"/>
                  <a:pt x="1312" y="2863"/>
                </a:cubicBezTo>
                <a:cubicBezTo>
                  <a:pt x="1302" y="2923"/>
                  <a:pt x="1298" y="2837"/>
                  <a:pt x="1252" y="2881"/>
                </a:cubicBezTo>
                <a:cubicBezTo>
                  <a:pt x="1226" y="2880"/>
                  <a:pt x="883" y="2837"/>
                  <a:pt x="790" y="2898"/>
                </a:cubicBezTo>
                <a:cubicBezTo>
                  <a:pt x="770" y="2995"/>
                  <a:pt x="801" y="2977"/>
                  <a:pt x="746" y="2994"/>
                </a:cubicBezTo>
                <a:cubicBezTo>
                  <a:pt x="690" y="2982"/>
                  <a:pt x="636" y="2969"/>
                  <a:pt x="580" y="2960"/>
                </a:cubicBezTo>
                <a:cubicBezTo>
                  <a:pt x="461" y="2967"/>
                  <a:pt x="425" y="2977"/>
                  <a:pt x="310" y="2968"/>
                </a:cubicBezTo>
                <a:cubicBezTo>
                  <a:pt x="280" y="2940"/>
                  <a:pt x="243" y="2919"/>
                  <a:pt x="214" y="2890"/>
                </a:cubicBezTo>
                <a:cubicBezTo>
                  <a:pt x="196" y="2872"/>
                  <a:pt x="161" y="2837"/>
                  <a:pt x="161" y="2837"/>
                </a:cubicBezTo>
                <a:cubicBezTo>
                  <a:pt x="138" y="2718"/>
                  <a:pt x="144" y="2598"/>
                  <a:pt x="118" y="2480"/>
                </a:cubicBezTo>
                <a:cubicBezTo>
                  <a:pt x="106" y="2426"/>
                  <a:pt x="104" y="2377"/>
                  <a:pt x="74" y="2331"/>
                </a:cubicBezTo>
                <a:cubicBezTo>
                  <a:pt x="65" y="2295"/>
                  <a:pt x="61" y="2266"/>
                  <a:pt x="39" y="2235"/>
                </a:cubicBezTo>
                <a:cubicBezTo>
                  <a:pt x="36" y="2221"/>
                  <a:pt x="29" y="2207"/>
                  <a:pt x="30" y="2192"/>
                </a:cubicBezTo>
                <a:cubicBezTo>
                  <a:pt x="32" y="2157"/>
                  <a:pt x="31" y="2118"/>
                  <a:pt x="48" y="2087"/>
                </a:cubicBezTo>
                <a:cubicBezTo>
                  <a:pt x="78" y="2030"/>
                  <a:pt x="226" y="2013"/>
                  <a:pt x="283" y="1991"/>
                </a:cubicBezTo>
                <a:cubicBezTo>
                  <a:pt x="302" y="1937"/>
                  <a:pt x="297" y="1891"/>
                  <a:pt x="257" y="1851"/>
                </a:cubicBezTo>
                <a:cubicBezTo>
                  <a:pt x="233" y="1802"/>
                  <a:pt x="196" y="1753"/>
                  <a:pt x="153" y="1720"/>
                </a:cubicBezTo>
                <a:cubicBezTo>
                  <a:pt x="150" y="1703"/>
                  <a:pt x="152" y="1684"/>
                  <a:pt x="144" y="1668"/>
                </a:cubicBezTo>
                <a:cubicBezTo>
                  <a:pt x="139" y="1659"/>
                  <a:pt x="123" y="1659"/>
                  <a:pt x="118" y="1650"/>
                </a:cubicBezTo>
                <a:cubicBezTo>
                  <a:pt x="91" y="1602"/>
                  <a:pt x="95" y="1555"/>
                  <a:pt x="65" y="1511"/>
                </a:cubicBezTo>
                <a:cubicBezTo>
                  <a:pt x="52" y="1440"/>
                  <a:pt x="43" y="1361"/>
                  <a:pt x="22" y="1293"/>
                </a:cubicBezTo>
                <a:cubicBezTo>
                  <a:pt x="16" y="1194"/>
                  <a:pt x="0" y="1084"/>
                  <a:pt x="30" y="987"/>
                </a:cubicBezTo>
                <a:cubicBezTo>
                  <a:pt x="23" y="951"/>
                  <a:pt x="13" y="918"/>
                  <a:pt x="4" y="882"/>
                </a:cubicBezTo>
                <a:cubicBezTo>
                  <a:pt x="13" y="862"/>
                  <a:pt x="12" y="834"/>
                  <a:pt x="30" y="821"/>
                </a:cubicBezTo>
                <a:cubicBezTo>
                  <a:pt x="56" y="802"/>
                  <a:pt x="95" y="815"/>
                  <a:pt x="126" y="804"/>
                </a:cubicBezTo>
                <a:cubicBezTo>
                  <a:pt x="155" y="721"/>
                  <a:pt x="122" y="610"/>
                  <a:pt x="109" y="525"/>
                </a:cubicBezTo>
                <a:cubicBezTo>
                  <a:pt x="116" y="439"/>
                  <a:pt x="134" y="385"/>
                  <a:pt x="153" y="306"/>
                </a:cubicBezTo>
                <a:cubicBezTo>
                  <a:pt x="156" y="292"/>
                  <a:pt x="147" y="268"/>
                  <a:pt x="161" y="263"/>
                </a:cubicBezTo>
                <a:cubicBezTo>
                  <a:pt x="205" y="247"/>
                  <a:pt x="254" y="257"/>
                  <a:pt x="301" y="254"/>
                </a:cubicBezTo>
                <a:cubicBezTo>
                  <a:pt x="319" y="203"/>
                  <a:pt x="355" y="204"/>
                  <a:pt x="397" y="176"/>
                </a:cubicBezTo>
                <a:cubicBezTo>
                  <a:pt x="400" y="161"/>
                  <a:pt x="398" y="144"/>
                  <a:pt x="406" y="132"/>
                </a:cubicBezTo>
                <a:cubicBezTo>
                  <a:pt x="417" y="116"/>
                  <a:pt x="485" y="121"/>
                  <a:pt x="502" y="106"/>
                </a:cubicBezTo>
                <a:cubicBezTo>
                  <a:pt x="506" y="102"/>
                  <a:pt x="490" y="106"/>
                  <a:pt x="484" y="106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324000" y="476280"/>
            <a:ext cx="5256000" cy="792000"/>
          </a:xfrm>
          <a:custGeom>
            <a:avLst/>
            <a:gdLst>
              <a:gd name="textAreaLeft" fmla="*/ 791280 w 5256000"/>
              <a:gd name="textAreaRight" fmla="*/ 4464720 w 5256000"/>
              <a:gd name="textAreaTop" fmla="*/ 0 h 792000"/>
              <a:gd name="textAreaBottom" fmla="*/ 529920 h 792000"/>
            </a:gdLst>
            <a:ahLst/>
            <a:rect l="textAreaLeft" t="textAreaTop" r="textAreaRight" b="textAreaBottom"/>
            <a:pathLst>
              <a:path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20707"/>
                  <a:pt x="5533" y="21600"/>
                  <a:pt x="5113" y="21600"/>
                </a:cubicBezTo>
                <a:lnTo>
                  <a:pt x="0" y="21600"/>
                </a:lnTo>
                <a:lnTo>
                  <a:pt x="2750" y="14374"/>
                </a:lnTo>
                <a:lnTo>
                  <a:pt x="0" y="7147"/>
                </a:lnTo>
                <a:lnTo>
                  <a:pt x="3253" y="7147"/>
                </a:lnTo>
                <a:lnTo>
                  <a:pt x="3253" y="1787"/>
                </a:lnTo>
                <a:cubicBezTo>
                  <a:pt x="3253" y="893"/>
                  <a:pt x="3673" y="0"/>
                  <a:pt x="4093" y="0"/>
                </a:cubicBezTo>
                <a:lnTo>
                  <a:pt x="17507" y="0"/>
                </a:lnTo>
                <a:cubicBezTo>
                  <a:pt x="17927" y="0"/>
                  <a:pt x="18347" y="893"/>
                  <a:pt x="18347" y="1787"/>
                </a:cubicBezTo>
                <a:lnTo>
                  <a:pt x="18347" y="7147"/>
                </a:lnTo>
                <a:lnTo>
                  <a:pt x="21600" y="7147"/>
                </a:lnTo>
                <a:lnTo>
                  <a:pt x="18850" y="14374"/>
                </a:lnTo>
                <a:lnTo>
                  <a:pt x="21600" y="21600"/>
                </a:lnTo>
                <a:lnTo>
                  <a:pt x="16487" y="21600"/>
                </a:lnTo>
                <a:cubicBezTo>
                  <a:pt x="16067" y="21600"/>
                  <a:pt x="15647" y="20707"/>
                  <a:pt x="15647" y="19813"/>
                </a:cubicBezTo>
                <a:lnTo>
                  <a:pt x="15647" y="14453"/>
                </a:lnTo>
                <a:close/>
              </a:path>
              <a:path fill="darkenLess"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18920"/>
                  <a:pt x="5533" y="18027"/>
                  <a:pt x="5113" y="18027"/>
                </a:cubicBezTo>
                <a:lnTo>
                  <a:pt x="4093" y="18027"/>
                </a:lnTo>
                <a:cubicBezTo>
                  <a:pt x="3673" y="18027"/>
                  <a:pt x="3253" y="17133"/>
                  <a:pt x="3253" y="16240"/>
                </a:cubicBezTo>
                <a:cubicBezTo>
                  <a:pt x="3253" y="15346"/>
                  <a:pt x="3673" y="14453"/>
                  <a:pt x="4093" y="14453"/>
                </a:cubicBezTo>
                <a:close/>
              </a:path>
              <a:path fill="darkenLess" w="21600" h="21600">
                <a:moveTo>
                  <a:pt x="15647" y="14453"/>
                </a:moveTo>
                <a:lnTo>
                  <a:pt x="15647" y="19813"/>
                </a:lnTo>
                <a:cubicBezTo>
                  <a:pt x="15647" y="18920"/>
                  <a:pt x="16067" y="18027"/>
                  <a:pt x="16487" y="18027"/>
                </a:cubicBezTo>
                <a:lnTo>
                  <a:pt x="17507" y="18027"/>
                </a:lnTo>
                <a:cubicBezTo>
                  <a:pt x="17927" y="18027"/>
                  <a:pt x="18347" y="17133"/>
                  <a:pt x="18347" y="16240"/>
                </a:cubicBezTo>
                <a:cubicBezTo>
                  <a:pt x="18347" y="15346"/>
                  <a:pt x="17927" y="14453"/>
                  <a:pt x="17507" y="14453"/>
                </a:cubicBezTo>
                <a:close/>
              </a:path>
              <a:path fill="darkenLess" w="21600" h="21600">
                <a:moveTo>
                  <a:pt x="3253" y="16240"/>
                </a:moveTo>
                <a:lnTo>
                  <a:pt x="3253" y="7147"/>
                </a:lnTo>
              </a:path>
              <a:path fill="darkenLess" w="21600" h="21600">
                <a:moveTo>
                  <a:pt x="18347" y="16240"/>
                </a:moveTo>
                <a:lnTo>
                  <a:pt x="18347" y="7147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27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ров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4"/>
          <p:cNvSpPr/>
          <p:nvPr/>
        </p:nvSpPr>
        <p:spPr>
          <a:xfrm flipV="1">
            <a:off x="1403280" y="1627920"/>
            <a:ext cx="151128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16000" y="2492280"/>
            <a:ext cx="2219400" cy="1765440"/>
          </a:xfrm>
          <a:custGeom>
            <a:avLst/>
            <a:gdLst/>
            <a:ahLst/>
            <a:rect l="l" t="t" r="r" b="b"/>
            <a:pathLst>
              <a:path w="1398" h="1112">
                <a:moveTo>
                  <a:pt x="998" y="0"/>
                </a:moveTo>
                <a:cubicBezTo>
                  <a:pt x="1107" y="87"/>
                  <a:pt x="1217" y="174"/>
                  <a:pt x="1270" y="272"/>
                </a:cubicBezTo>
                <a:cubicBezTo>
                  <a:pt x="1323" y="370"/>
                  <a:pt x="1398" y="462"/>
                  <a:pt x="1315" y="590"/>
                </a:cubicBezTo>
                <a:cubicBezTo>
                  <a:pt x="1232" y="718"/>
                  <a:pt x="937" y="976"/>
                  <a:pt x="771" y="1044"/>
                </a:cubicBezTo>
                <a:cubicBezTo>
                  <a:pt x="605" y="1112"/>
                  <a:pt x="445" y="1013"/>
                  <a:pt x="317" y="998"/>
                </a:cubicBezTo>
                <a:cubicBezTo>
                  <a:pt x="189" y="983"/>
                  <a:pt x="53" y="960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3132000" y="1844640"/>
            <a:ext cx="1584360" cy="1739880"/>
          </a:xfrm>
          <a:custGeom>
            <a:avLst/>
            <a:gdLst/>
            <a:ahLst/>
            <a:rect l="l" t="t" r="r" b="b"/>
            <a:pathLst>
              <a:path w="998" h="1096">
                <a:moveTo>
                  <a:pt x="0" y="1089"/>
                </a:moveTo>
                <a:cubicBezTo>
                  <a:pt x="264" y="1092"/>
                  <a:pt x="529" y="1096"/>
                  <a:pt x="680" y="998"/>
                </a:cubicBezTo>
                <a:cubicBezTo>
                  <a:pt x="831" y="900"/>
                  <a:pt x="854" y="665"/>
                  <a:pt x="907" y="499"/>
                </a:cubicBezTo>
                <a:cubicBezTo>
                  <a:pt x="960" y="333"/>
                  <a:pt x="983" y="83"/>
                  <a:pt x="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708360" y="3284640"/>
            <a:ext cx="803160" cy="2232000"/>
          </a:xfrm>
          <a:custGeom>
            <a:avLst/>
            <a:gdLst/>
            <a:ahLst/>
            <a:rect l="l" t="t" r="r" b="b"/>
            <a:pathLst>
              <a:path w="552" h="1444">
                <a:moveTo>
                  <a:pt x="450" y="0"/>
                </a:moveTo>
                <a:cubicBezTo>
                  <a:pt x="377" y="109"/>
                  <a:pt x="0" y="452"/>
                  <a:pt x="13" y="655"/>
                </a:cubicBezTo>
                <a:cubicBezTo>
                  <a:pt x="26" y="858"/>
                  <a:pt x="502" y="1086"/>
                  <a:pt x="527" y="1217"/>
                </a:cubicBezTo>
                <a:cubicBezTo>
                  <a:pt x="552" y="1348"/>
                  <a:pt x="224" y="1414"/>
                  <a:pt x="164" y="14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"/>
          <p:cNvSpPr/>
          <p:nvPr/>
        </p:nvSpPr>
        <p:spPr>
          <a:xfrm>
            <a:off x="4378320" y="1297080"/>
            <a:ext cx="3219480" cy="1944720"/>
          </a:xfrm>
          <a:custGeom>
            <a:avLst/>
            <a:gdLst/>
            <a:ahLst/>
            <a:rect l="l" t="t" r="r" b="b"/>
            <a:pathLst>
              <a:path w="2028" h="1225">
                <a:moveTo>
                  <a:pt x="0" y="1225"/>
                </a:moveTo>
                <a:cubicBezTo>
                  <a:pt x="185" y="1138"/>
                  <a:pt x="796" y="821"/>
                  <a:pt x="1117" y="702"/>
                </a:cubicBezTo>
                <a:cubicBezTo>
                  <a:pt x="1438" y="583"/>
                  <a:pt x="1830" y="615"/>
                  <a:pt x="1929" y="510"/>
                </a:cubicBezTo>
                <a:cubicBezTo>
                  <a:pt x="2028" y="405"/>
                  <a:pt x="1837" y="146"/>
                  <a:pt x="1710" y="73"/>
                </a:cubicBezTo>
                <a:cubicBezTo>
                  <a:pt x="1583" y="0"/>
                  <a:pt x="1309" y="80"/>
                  <a:pt x="1165" y="73"/>
                </a:cubicBezTo>
                <a:cubicBezTo>
                  <a:pt x="1021" y="66"/>
                  <a:pt x="901" y="35"/>
                  <a:pt x="848" y="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7020000" y="907920"/>
            <a:ext cx="1033560" cy="576360"/>
          </a:xfrm>
          <a:custGeom>
            <a:avLst/>
            <a:gdLst/>
            <a:ahLst/>
            <a:rect l="l" t="t" r="r" b="b"/>
            <a:pathLst>
              <a:path w="651" h="319">
                <a:moveTo>
                  <a:pt x="0" y="273"/>
                </a:moveTo>
                <a:cubicBezTo>
                  <a:pt x="219" y="296"/>
                  <a:pt x="439" y="319"/>
                  <a:pt x="545" y="273"/>
                </a:cubicBezTo>
                <a:cubicBezTo>
                  <a:pt x="651" y="227"/>
                  <a:pt x="620" y="46"/>
                  <a:pt x="6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7740720" y="1413000"/>
            <a:ext cx="695160" cy="1884240"/>
          </a:xfrm>
          <a:custGeom>
            <a:avLst/>
            <a:gdLst/>
            <a:ahLst/>
            <a:rect l="l" t="t" r="r" b="b"/>
            <a:pathLst>
              <a:path w="438" h="1187">
                <a:moveTo>
                  <a:pt x="30" y="0"/>
                </a:moveTo>
                <a:cubicBezTo>
                  <a:pt x="56" y="132"/>
                  <a:pt x="83" y="265"/>
                  <a:pt x="121" y="363"/>
                </a:cubicBezTo>
                <a:cubicBezTo>
                  <a:pt x="159" y="461"/>
                  <a:pt x="272" y="514"/>
                  <a:pt x="257" y="590"/>
                </a:cubicBezTo>
                <a:cubicBezTo>
                  <a:pt x="242" y="666"/>
                  <a:pt x="60" y="726"/>
                  <a:pt x="30" y="817"/>
                </a:cubicBezTo>
                <a:cubicBezTo>
                  <a:pt x="0" y="908"/>
                  <a:pt x="7" y="1081"/>
                  <a:pt x="75" y="1134"/>
                </a:cubicBezTo>
                <a:cubicBezTo>
                  <a:pt x="143" y="1187"/>
                  <a:pt x="378" y="1134"/>
                  <a:pt x="438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1"/>
          <p:cNvSpPr/>
          <p:nvPr/>
        </p:nvSpPr>
        <p:spPr>
          <a:xfrm>
            <a:off x="6588000" y="2276640"/>
            <a:ext cx="1812960" cy="1944360"/>
          </a:xfrm>
          <a:custGeom>
            <a:avLst/>
            <a:gdLst/>
            <a:ahLst/>
            <a:rect l="l" t="t" r="r" b="b"/>
            <a:pathLst>
              <a:path w="1142" h="1270">
                <a:moveTo>
                  <a:pt x="167" y="0"/>
                </a:moveTo>
                <a:cubicBezTo>
                  <a:pt x="216" y="374"/>
                  <a:pt x="265" y="748"/>
                  <a:pt x="257" y="952"/>
                </a:cubicBezTo>
                <a:cubicBezTo>
                  <a:pt x="249" y="1156"/>
                  <a:pt x="0" y="1180"/>
                  <a:pt x="121" y="1225"/>
                </a:cubicBezTo>
                <a:cubicBezTo>
                  <a:pt x="242" y="1270"/>
                  <a:pt x="824" y="1263"/>
                  <a:pt x="983" y="1225"/>
                </a:cubicBezTo>
                <a:cubicBezTo>
                  <a:pt x="1142" y="1187"/>
                  <a:pt x="1059" y="1036"/>
                  <a:pt x="1074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3780000" y="3213000"/>
            <a:ext cx="3168360" cy="936720"/>
          </a:xfrm>
          <a:custGeom>
            <a:avLst/>
            <a:gdLst/>
            <a:ahLst/>
            <a:rect l="l" t="t" r="r" b="b"/>
            <a:pathLst>
              <a:path w="2041" h="596">
                <a:moveTo>
                  <a:pt x="0" y="590"/>
                </a:moveTo>
                <a:cubicBezTo>
                  <a:pt x="185" y="575"/>
                  <a:pt x="771" y="596"/>
                  <a:pt x="1111" y="498"/>
                </a:cubicBezTo>
                <a:cubicBezTo>
                  <a:pt x="1451" y="400"/>
                  <a:pt x="1847" y="104"/>
                  <a:pt x="204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5148360" y="4076640"/>
            <a:ext cx="718920" cy="1584360"/>
          </a:xfrm>
          <a:custGeom>
            <a:avLst/>
            <a:gdLst/>
            <a:ahLst/>
            <a:rect l="l" t="t" r="r" b="b"/>
            <a:pathLst>
              <a:path w="453" h="998">
                <a:moveTo>
                  <a:pt x="0" y="0"/>
                </a:moveTo>
                <a:cubicBezTo>
                  <a:pt x="30" y="302"/>
                  <a:pt x="61" y="605"/>
                  <a:pt x="136" y="771"/>
                </a:cubicBezTo>
                <a:cubicBezTo>
                  <a:pt x="211" y="937"/>
                  <a:pt x="400" y="960"/>
                  <a:pt x="453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4"/>
          <p:cNvSpPr/>
          <p:nvPr/>
        </p:nvSpPr>
        <p:spPr>
          <a:xfrm>
            <a:off x="5292720" y="4149720"/>
            <a:ext cx="2592360" cy="647640"/>
          </a:xfrm>
          <a:custGeom>
            <a:avLst/>
            <a:gdLst/>
            <a:ahLst/>
            <a:rect l="l" t="t" r="r" b="b"/>
            <a:pathLst>
              <a:path w="1633" h="408">
                <a:moveTo>
                  <a:pt x="0" y="408"/>
                </a:moveTo>
                <a:cubicBezTo>
                  <a:pt x="272" y="374"/>
                  <a:pt x="544" y="340"/>
                  <a:pt x="816" y="272"/>
                </a:cubicBezTo>
                <a:cubicBezTo>
                  <a:pt x="1088" y="204"/>
                  <a:pt x="1505" y="45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 rot="20270400">
            <a:off x="4137480" y="309240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 rot="20270400">
            <a:off x="1332000" y="321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я при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 rot="18738000">
            <a:off x="1091880" y="21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 rot="21317400">
            <a:off x="2728800" y="2214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 rot="20270400">
            <a:off x="4586400" y="19569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 rot="182400">
            <a:off x="1186920" y="42926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084720" y="9079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стои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 rot="20270400">
            <a:off x="5041800" y="3866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 rot="21197400">
            <a:off x="5867280" y="4581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л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 rot="2931600">
            <a:off x="3901680" y="474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 rot="4620000">
            <a:off x="6608160" y="30668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 rot="4675800">
            <a:off x="7332480" y="20354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доме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3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692360" y="3141720"/>
            <a:ext cx="295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интаксический призн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роль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755640" y="5157720"/>
            <a:ext cx="32385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лежащее</a:t>
            </a:r>
            <a:endParaRPr b="1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4716360" y="522936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уемое</a:t>
            </a:r>
            <a:endParaRPr b="1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584280" y="1197000"/>
            <a:ext cx="8153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1258920" y="907920"/>
            <a:ext cx="6696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До скорых встреч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646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Из словаря Ожегова -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Лингвистика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ука о языке, языкозн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орфолог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раздел науки о языке, изучающий части речи и их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5"/>
          <p:cNvSpPr/>
          <p:nvPr/>
        </p:nvSpPr>
        <p:spPr>
          <a:xfrm flipH="1">
            <a:off x="900000" y="620640"/>
            <a:ext cx="7723440" cy="5661000"/>
          </a:xfrm>
          <a:custGeom>
            <a:avLst/>
            <a:gdLst/>
            <a:ahLst/>
            <a:rect l="l" t="t" r="r" b="b"/>
            <a:pathLst>
              <a:path w="4865" h="3566">
                <a:moveTo>
                  <a:pt x="484" y="106"/>
                </a:moveTo>
                <a:cubicBezTo>
                  <a:pt x="2024" y="118"/>
                  <a:pt x="1171" y="0"/>
                  <a:pt x="1627" y="158"/>
                </a:cubicBezTo>
                <a:cubicBezTo>
                  <a:pt x="1650" y="272"/>
                  <a:pt x="1762" y="254"/>
                  <a:pt x="1696" y="358"/>
                </a:cubicBezTo>
                <a:cubicBezTo>
                  <a:pt x="1731" y="376"/>
                  <a:pt x="1851" y="469"/>
                  <a:pt x="1792" y="498"/>
                </a:cubicBezTo>
                <a:cubicBezTo>
                  <a:pt x="1816" y="531"/>
                  <a:pt x="1550" y="734"/>
                  <a:pt x="1584" y="760"/>
                </a:cubicBezTo>
                <a:cubicBezTo>
                  <a:pt x="1679" y="833"/>
                  <a:pt x="1613" y="772"/>
                  <a:pt x="1689" y="848"/>
                </a:cubicBezTo>
                <a:cubicBezTo>
                  <a:pt x="1708" y="867"/>
                  <a:pt x="1740" y="863"/>
                  <a:pt x="1767" y="865"/>
                </a:cubicBezTo>
                <a:cubicBezTo>
                  <a:pt x="1819" y="869"/>
                  <a:pt x="1872" y="871"/>
                  <a:pt x="1924" y="874"/>
                </a:cubicBezTo>
                <a:cubicBezTo>
                  <a:pt x="2008" y="871"/>
                  <a:pt x="2093" y="870"/>
                  <a:pt x="2177" y="865"/>
                </a:cubicBezTo>
                <a:cubicBezTo>
                  <a:pt x="2230" y="862"/>
                  <a:pt x="2196" y="859"/>
                  <a:pt x="2230" y="839"/>
                </a:cubicBezTo>
                <a:cubicBezTo>
                  <a:pt x="2265" y="818"/>
                  <a:pt x="2323" y="818"/>
                  <a:pt x="2361" y="813"/>
                </a:cubicBezTo>
                <a:cubicBezTo>
                  <a:pt x="2426" y="786"/>
                  <a:pt x="2570" y="778"/>
                  <a:pt x="2570" y="778"/>
                </a:cubicBezTo>
                <a:cubicBezTo>
                  <a:pt x="2642" y="759"/>
                  <a:pt x="2568" y="781"/>
                  <a:pt x="2640" y="752"/>
                </a:cubicBezTo>
                <a:cubicBezTo>
                  <a:pt x="2657" y="745"/>
                  <a:pt x="2692" y="734"/>
                  <a:pt x="2692" y="734"/>
                </a:cubicBezTo>
                <a:cubicBezTo>
                  <a:pt x="2727" y="701"/>
                  <a:pt x="2786" y="693"/>
                  <a:pt x="2832" y="682"/>
                </a:cubicBezTo>
                <a:cubicBezTo>
                  <a:pt x="2892" y="667"/>
                  <a:pt x="2945" y="642"/>
                  <a:pt x="3006" y="629"/>
                </a:cubicBezTo>
                <a:cubicBezTo>
                  <a:pt x="3089" y="640"/>
                  <a:pt x="3161" y="663"/>
                  <a:pt x="3207" y="734"/>
                </a:cubicBezTo>
                <a:cubicBezTo>
                  <a:pt x="3218" y="778"/>
                  <a:pt x="3243" y="799"/>
                  <a:pt x="3286" y="813"/>
                </a:cubicBezTo>
                <a:cubicBezTo>
                  <a:pt x="3344" y="805"/>
                  <a:pt x="3406" y="809"/>
                  <a:pt x="3460" y="786"/>
                </a:cubicBezTo>
                <a:cubicBezTo>
                  <a:pt x="3507" y="766"/>
                  <a:pt x="3616" y="640"/>
                  <a:pt x="3635" y="594"/>
                </a:cubicBezTo>
                <a:cubicBezTo>
                  <a:pt x="3658" y="538"/>
                  <a:pt x="3664" y="486"/>
                  <a:pt x="3696" y="437"/>
                </a:cubicBezTo>
                <a:cubicBezTo>
                  <a:pt x="3716" y="343"/>
                  <a:pt x="3713" y="320"/>
                  <a:pt x="3809" y="298"/>
                </a:cubicBezTo>
                <a:cubicBezTo>
                  <a:pt x="3850" y="301"/>
                  <a:pt x="3891" y="299"/>
                  <a:pt x="3931" y="306"/>
                </a:cubicBezTo>
                <a:cubicBezTo>
                  <a:pt x="3953" y="310"/>
                  <a:pt x="3971" y="328"/>
                  <a:pt x="3993" y="333"/>
                </a:cubicBezTo>
                <a:cubicBezTo>
                  <a:pt x="4025" y="340"/>
                  <a:pt x="4089" y="350"/>
                  <a:pt x="4089" y="350"/>
                </a:cubicBezTo>
                <a:cubicBezTo>
                  <a:pt x="4147" y="381"/>
                  <a:pt x="4136" y="383"/>
                  <a:pt x="4115" y="446"/>
                </a:cubicBezTo>
                <a:cubicBezTo>
                  <a:pt x="4118" y="490"/>
                  <a:pt x="4116" y="534"/>
                  <a:pt x="4123" y="577"/>
                </a:cubicBezTo>
                <a:cubicBezTo>
                  <a:pt x="4133" y="644"/>
                  <a:pt x="4250" y="741"/>
                  <a:pt x="4307" y="769"/>
                </a:cubicBezTo>
                <a:cubicBezTo>
                  <a:pt x="4320" y="811"/>
                  <a:pt x="4337" y="853"/>
                  <a:pt x="4359" y="891"/>
                </a:cubicBezTo>
                <a:cubicBezTo>
                  <a:pt x="4363" y="898"/>
                  <a:pt x="4372" y="902"/>
                  <a:pt x="4377" y="909"/>
                </a:cubicBezTo>
                <a:cubicBezTo>
                  <a:pt x="4387" y="923"/>
                  <a:pt x="4396" y="937"/>
                  <a:pt x="4403" y="952"/>
                </a:cubicBezTo>
                <a:cubicBezTo>
                  <a:pt x="4436" y="1026"/>
                  <a:pt x="4401" y="987"/>
                  <a:pt x="4438" y="1022"/>
                </a:cubicBezTo>
                <a:cubicBezTo>
                  <a:pt x="4462" y="1071"/>
                  <a:pt x="4494" y="1112"/>
                  <a:pt x="4516" y="1162"/>
                </a:cubicBezTo>
                <a:cubicBezTo>
                  <a:pt x="4538" y="1211"/>
                  <a:pt x="4557" y="1263"/>
                  <a:pt x="4595" y="1301"/>
                </a:cubicBezTo>
                <a:cubicBezTo>
                  <a:pt x="4610" y="1365"/>
                  <a:pt x="4619" y="1430"/>
                  <a:pt x="4638" y="1493"/>
                </a:cubicBezTo>
                <a:cubicBezTo>
                  <a:pt x="4650" y="1576"/>
                  <a:pt x="4653" y="1645"/>
                  <a:pt x="4603" y="1712"/>
                </a:cubicBezTo>
                <a:cubicBezTo>
                  <a:pt x="4591" y="1729"/>
                  <a:pt x="4576" y="1744"/>
                  <a:pt x="4569" y="1764"/>
                </a:cubicBezTo>
                <a:cubicBezTo>
                  <a:pt x="4563" y="1781"/>
                  <a:pt x="4551" y="1816"/>
                  <a:pt x="4551" y="1816"/>
                </a:cubicBezTo>
                <a:cubicBezTo>
                  <a:pt x="4554" y="1842"/>
                  <a:pt x="4548" y="1871"/>
                  <a:pt x="4560" y="1895"/>
                </a:cubicBezTo>
                <a:cubicBezTo>
                  <a:pt x="4586" y="1947"/>
                  <a:pt x="4651" y="1970"/>
                  <a:pt x="4691" y="2008"/>
                </a:cubicBezTo>
                <a:cubicBezTo>
                  <a:pt x="4709" y="2067"/>
                  <a:pt x="4707" y="2120"/>
                  <a:pt x="4752" y="2165"/>
                </a:cubicBezTo>
                <a:cubicBezTo>
                  <a:pt x="4773" y="2242"/>
                  <a:pt x="4821" y="2305"/>
                  <a:pt x="4839" y="2384"/>
                </a:cubicBezTo>
                <a:cubicBezTo>
                  <a:pt x="4851" y="2439"/>
                  <a:pt x="4848" y="2495"/>
                  <a:pt x="4865" y="2549"/>
                </a:cubicBezTo>
                <a:cubicBezTo>
                  <a:pt x="4862" y="2581"/>
                  <a:pt x="4865" y="2614"/>
                  <a:pt x="4857" y="2645"/>
                </a:cubicBezTo>
                <a:cubicBezTo>
                  <a:pt x="4846" y="2688"/>
                  <a:pt x="4788" y="2704"/>
                  <a:pt x="4752" y="2715"/>
                </a:cubicBezTo>
                <a:cubicBezTo>
                  <a:pt x="4600" y="2762"/>
                  <a:pt x="4593" y="2768"/>
                  <a:pt x="4411" y="2776"/>
                </a:cubicBezTo>
                <a:cubicBezTo>
                  <a:pt x="4391" y="2779"/>
                  <a:pt x="4359" y="2766"/>
                  <a:pt x="4350" y="2785"/>
                </a:cubicBezTo>
                <a:cubicBezTo>
                  <a:pt x="4330" y="2827"/>
                  <a:pt x="4382" y="2902"/>
                  <a:pt x="4342" y="2925"/>
                </a:cubicBezTo>
                <a:cubicBezTo>
                  <a:pt x="4279" y="2962"/>
                  <a:pt x="4196" y="2919"/>
                  <a:pt x="4123" y="2916"/>
                </a:cubicBezTo>
                <a:cubicBezTo>
                  <a:pt x="4063" y="2884"/>
                  <a:pt x="3998" y="2867"/>
                  <a:pt x="3940" y="2829"/>
                </a:cubicBezTo>
                <a:cubicBezTo>
                  <a:pt x="3931" y="2817"/>
                  <a:pt x="3924" y="2804"/>
                  <a:pt x="3914" y="2794"/>
                </a:cubicBezTo>
                <a:cubicBezTo>
                  <a:pt x="3904" y="2784"/>
                  <a:pt x="3888" y="2779"/>
                  <a:pt x="3879" y="2768"/>
                </a:cubicBezTo>
                <a:cubicBezTo>
                  <a:pt x="3859" y="2745"/>
                  <a:pt x="3851" y="2715"/>
                  <a:pt x="3835" y="2689"/>
                </a:cubicBezTo>
                <a:cubicBezTo>
                  <a:pt x="3828" y="2648"/>
                  <a:pt x="3818" y="2608"/>
                  <a:pt x="3809" y="2567"/>
                </a:cubicBezTo>
                <a:cubicBezTo>
                  <a:pt x="3792" y="2579"/>
                  <a:pt x="3775" y="2592"/>
                  <a:pt x="3757" y="2602"/>
                </a:cubicBezTo>
                <a:cubicBezTo>
                  <a:pt x="3749" y="2606"/>
                  <a:pt x="3738" y="2604"/>
                  <a:pt x="3731" y="2610"/>
                </a:cubicBezTo>
                <a:cubicBezTo>
                  <a:pt x="3708" y="2628"/>
                  <a:pt x="3696" y="2659"/>
                  <a:pt x="3670" y="2672"/>
                </a:cubicBezTo>
                <a:cubicBezTo>
                  <a:pt x="3658" y="2678"/>
                  <a:pt x="3646" y="2682"/>
                  <a:pt x="3635" y="2689"/>
                </a:cubicBezTo>
                <a:cubicBezTo>
                  <a:pt x="3612" y="2704"/>
                  <a:pt x="3605" y="2734"/>
                  <a:pt x="3574" y="2741"/>
                </a:cubicBezTo>
                <a:cubicBezTo>
                  <a:pt x="3526" y="2752"/>
                  <a:pt x="3475" y="2747"/>
                  <a:pt x="3425" y="2750"/>
                </a:cubicBezTo>
                <a:cubicBezTo>
                  <a:pt x="3426" y="2766"/>
                  <a:pt x="3457" y="3004"/>
                  <a:pt x="3434" y="3047"/>
                </a:cubicBezTo>
                <a:cubicBezTo>
                  <a:pt x="3425" y="3063"/>
                  <a:pt x="3400" y="3061"/>
                  <a:pt x="3382" y="3064"/>
                </a:cubicBezTo>
                <a:cubicBezTo>
                  <a:pt x="3365" y="3067"/>
                  <a:pt x="3128" y="3081"/>
                  <a:pt x="3120" y="3082"/>
                </a:cubicBezTo>
                <a:cubicBezTo>
                  <a:pt x="3022" y="3112"/>
                  <a:pt x="2915" y="3091"/>
                  <a:pt x="2814" y="3117"/>
                </a:cubicBezTo>
                <a:cubicBezTo>
                  <a:pt x="2769" y="3147"/>
                  <a:pt x="2740" y="3188"/>
                  <a:pt x="2692" y="3213"/>
                </a:cubicBezTo>
                <a:cubicBezTo>
                  <a:pt x="2649" y="3279"/>
                  <a:pt x="2704" y="3202"/>
                  <a:pt x="2649" y="3256"/>
                </a:cubicBezTo>
                <a:cubicBezTo>
                  <a:pt x="2611" y="3293"/>
                  <a:pt x="2581" y="3340"/>
                  <a:pt x="2544" y="3378"/>
                </a:cubicBezTo>
                <a:cubicBezTo>
                  <a:pt x="2488" y="3436"/>
                  <a:pt x="2413" y="3476"/>
                  <a:pt x="2334" y="3492"/>
                </a:cubicBezTo>
                <a:cubicBezTo>
                  <a:pt x="2220" y="3566"/>
                  <a:pt x="2069" y="3516"/>
                  <a:pt x="1942" y="3483"/>
                </a:cubicBezTo>
                <a:cubicBezTo>
                  <a:pt x="1906" y="3456"/>
                  <a:pt x="1889" y="3450"/>
                  <a:pt x="1846" y="3440"/>
                </a:cubicBezTo>
                <a:cubicBezTo>
                  <a:pt x="1822" y="3416"/>
                  <a:pt x="1776" y="3361"/>
                  <a:pt x="1767" y="3335"/>
                </a:cubicBezTo>
                <a:cubicBezTo>
                  <a:pt x="1757" y="3306"/>
                  <a:pt x="1755" y="3286"/>
                  <a:pt x="1732" y="3265"/>
                </a:cubicBezTo>
                <a:cubicBezTo>
                  <a:pt x="1735" y="3181"/>
                  <a:pt x="1741" y="3096"/>
                  <a:pt x="1741" y="3012"/>
                </a:cubicBezTo>
                <a:cubicBezTo>
                  <a:pt x="1741" y="2893"/>
                  <a:pt x="1640" y="3024"/>
                  <a:pt x="1600" y="2933"/>
                </a:cubicBezTo>
                <a:cubicBezTo>
                  <a:pt x="1585" y="2900"/>
                  <a:pt x="1526" y="2993"/>
                  <a:pt x="1486" y="2976"/>
                </a:cubicBezTo>
                <a:cubicBezTo>
                  <a:pt x="1461" y="2966"/>
                  <a:pt x="1451" y="2896"/>
                  <a:pt x="1425" y="2889"/>
                </a:cubicBezTo>
                <a:cubicBezTo>
                  <a:pt x="1171" y="2901"/>
                  <a:pt x="1347" y="2854"/>
                  <a:pt x="1312" y="2863"/>
                </a:cubicBezTo>
                <a:cubicBezTo>
                  <a:pt x="1302" y="2923"/>
                  <a:pt x="1298" y="2837"/>
                  <a:pt x="1252" y="2881"/>
                </a:cubicBezTo>
                <a:cubicBezTo>
                  <a:pt x="1226" y="2880"/>
                  <a:pt x="883" y="2837"/>
                  <a:pt x="790" y="2898"/>
                </a:cubicBezTo>
                <a:cubicBezTo>
                  <a:pt x="770" y="2995"/>
                  <a:pt x="801" y="2977"/>
                  <a:pt x="746" y="2994"/>
                </a:cubicBezTo>
                <a:cubicBezTo>
                  <a:pt x="690" y="2982"/>
                  <a:pt x="636" y="2969"/>
                  <a:pt x="580" y="2960"/>
                </a:cubicBezTo>
                <a:cubicBezTo>
                  <a:pt x="461" y="2967"/>
                  <a:pt x="425" y="2977"/>
                  <a:pt x="310" y="2968"/>
                </a:cubicBezTo>
                <a:cubicBezTo>
                  <a:pt x="280" y="2940"/>
                  <a:pt x="243" y="2919"/>
                  <a:pt x="214" y="2890"/>
                </a:cubicBezTo>
                <a:cubicBezTo>
                  <a:pt x="196" y="2872"/>
                  <a:pt x="161" y="2837"/>
                  <a:pt x="161" y="2837"/>
                </a:cubicBezTo>
                <a:cubicBezTo>
                  <a:pt x="138" y="2718"/>
                  <a:pt x="144" y="2598"/>
                  <a:pt x="118" y="2480"/>
                </a:cubicBezTo>
                <a:cubicBezTo>
                  <a:pt x="106" y="2426"/>
                  <a:pt x="104" y="2377"/>
                  <a:pt x="74" y="2331"/>
                </a:cubicBezTo>
                <a:cubicBezTo>
                  <a:pt x="65" y="2295"/>
                  <a:pt x="61" y="2266"/>
                  <a:pt x="39" y="2235"/>
                </a:cubicBezTo>
                <a:cubicBezTo>
                  <a:pt x="36" y="2221"/>
                  <a:pt x="29" y="2207"/>
                  <a:pt x="30" y="2192"/>
                </a:cubicBezTo>
                <a:cubicBezTo>
                  <a:pt x="32" y="2157"/>
                  <a:pt x="31" y="2118"/>
                  <a:pt x="48" y="2087"/>
                </a:cubicBezTo>
                <a:cubicBezTo>
                  <a:pt x="78" y="2030"/>
                  <a:pt x="226" y="2013"/>
                  <a:pt x="283" y="1991"/>
                </a:cubicBezTo>
                <a:cubicBezTo>
                  <a:pt x="302" y="1937"/>
                  <a:pt x="297" y="1891"/>
                  <a:pt x="257" y="1851"/>
                </a:cubicBezTo>
                <a:cubicBezTo>
                  <a:pt x="233" y="1802"/>
                  <a:pt x="196" y="1753"/>
                  <a:pt x="153" y="1720"/>
                </a:cubicBezTo>
                <a:cubicBezTo>
                  <a:pt x="150" y="1703"/>
                  <a:pt x="152" y="1684"/>
                  <a:pt x="144" y="1668"/>
                </a:cubicBezTo>
                <a:cubicBezTo>
                  <a:pt x="139" y="1659"/>
                  <a:pt x="123" y="1659"/>
                  <a:pt x="118" y="1650"/>
                </a:cubicBezTo>
                <a:cubicBezTo>
                  <a:pt x="91" y="1602"/>
                  <a:pt x="95" y="1555"/>
                  <a:pt x="65" y="1511"/>
                </a:cubicBezTo>
                <a:cubicBezTo>
                  <a:pt x="52" y="1440"/>
                  <a:pt x="43" y="1361"/>
                  <a:pt x="22" y="1293"/>
                </a:cubicBezTo>
                <a:cubicBezTo>
                  <a:pt x="16" y="1194"/>
                  <a:pt x="0" y="1084"/>
                  <a:pt x="30" y="987"/>
                </a:cubicBezTo>
                <a:cubicBezTo>
                  <a:pt x="23" y="951"/>
                  <a:pt x="13" y="918"/>
                  <a:pt x="4" y="882"/>
                </a:cubicBezTo>
                <a:cubicBezTo>
                  <a:pt x="13" y="862"/>
                  <a:pt x="12" y="834"/>
                  <a:pt x="30" y="821"/>
                </a:cubicBezTo>
                <a:cubicBezTo>
                  <a:pt x="56" y="802"/>
                  <a:pt x="95" y="815"/>
                  <a:pt x="126" y="804"/>
                </a:cubicBezTo>
                <a:cubicBezTo>
                  <a:pt x="155" y="721"/>
                  <a:pt x="122" y="610"/>
                  <a:pt x="109" y="525"/>
                </a:cubicBezTo>
                <a:cubicBezTo>
                  <a:pt x="116" y="439"/>
                  <a:pt x="134" y="385"/>
                  <a:pt x="153" y="306"/>
                </a:cubicBezTo>
                <a:cubicBezTo>
                  <a:pt x="156" y="292"/>
                  <a:pt x="147" y="268"/>
                  <a:pt x="161" y="263"/>
                </a:cubicBezTo>
                <a:cubicBezTo>
                  <a:pt x="205" y="247"/>
                  <a:pt x="254" y="257"/>
                  <a:pt x="301" y="254"/>
                </a:cubicBezTo>
                <a:cubicBezTo>
                  <a:pt x="319" y="203"/>
                  <a:pt x="355" y="204"/>
                  <a:pt x="397" y="176"/>
                </a:cubicBezTo>
                <a:cubicBezTo>
                  <a:pt x="400" y="161"/>
                  <a:pt x="398" y="144"/>
                  <a:pt x="406" y="132"/>
                </a:cubicBezTo>
                <a:cubicBezTo>
                  <a:pt x="417" y="116"/>
                  <a:pt x="485" y="121"/>
                  <a:pt x="502" y="106"/>
                </a:cubicBezTo>
                <a:cubicBezTo>
                  <a:pt x="506" y="102"/>
                  <a:pt x="490" y="106"/>
                  <a:pt x="484" y="106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24000" y="476280"/>
            <a:ext cx="5256000" cy="792000"/>
          </a:xfrm>
          <a:custGeom>
            <a:avLst/>
            <a:gdLst>
              <a:gd name="textAreaLeft" fmla="*/ 791280 w 5256000"/>
              <a:gd name="textAreaRight" fmla="*/ 4464720 w 5256000"/>
              <a:gd name="textAreaTop" fmla="*/ 0 h 792000"/>
              <a:gd name="textAreaBottom" fmla="*/ 529920 h 792000"/>
            </a:gdLst>
            <a:ahLst/>
            <a:rect l="textAreaLeft" t="textAreaTop" r="textAreaRight" b="textAreaBottom"/>
            <a:pathLst>
              <a:path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20707"/>
                  <a:pt x="5533" y="21600"/>
                  <a:pt x="5113" y="21600"/>
                </a:cubicBezTo>
                <a:lnTo>
                  <a:pt x="0" y="21600"/>
                </a:lnTo>
                <a:lnTo>
                  <a:pt x="2750" y="14374"/>
                </a:lnTo>
                <a:lnTo>
                  <a:pt x="0" y="7147"/>
                </a:lnTo>
                <a:lnTo>
                  <a:pt x="3253" y="7147"/>
                </a:lnTo>
                <a:lnTo>
                  <a:pt x="3253" y="1787"/>
                </a:lnTo>
                <a:cubicBezTo>
                  <a:pt x="3253" y="893"/>
                  <a:pt x="3673" y="0"/>
                  <a:pt x="4093" y="0"/>
                </a:cubicBezTo>
                <a:lnTo>
                  <a:pt x="17507" y="0"/>
                </a:lnTo>
                <a:cubicBezTo>
                  <a:pt x="17927" y="0"/>
                  <a:pt x="18347" y="893"/>
                  <a:pt x="18347" y="1787"/>
                </a:cubicBezTo>
                <a:lnTo>
                  <a:pt x="18347" y="7147"/>
                </a:lnTo>
                <a:lnTo>
                  <a:pt x="21600" y="7147"/>
                </a:lnTo>
                <a:lnTo>
                  <a:pt x="18850" y="14374"/>
                </a:lnTo>
                <a:lnTo>
                  <a:pt x="21600" y="21600"/>
                </a:lnTo>
                <a:lnTo>
                  <a:pt x="16487" y="21600"/>
                </a:lnTo>
                <a:cubicBezTo>
                  <a:pt x="16067" y="21600"/>
                  <a:pt x="15647" y="20707"/>
                  <a:pt x="15647" y="19813"/>
                </a:cubicBezTo>
                <a:lnTo>
                  <a:pt x="15647" y="14453"/>
                </a:lnTo>
                <a:close/>
              </a:path>
              <a:path fill="darkenLess"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18920"/>
                  <a:pt x="5533" y="18027"/>
                  <a:pt x="5113" y="18027"/>
                </a:cubicBezTo>
                <a:lnTo>
                  <a:pt x="4093" y="18027"/>
                </a:lnTo>
                <a:cubicBezTo>
                  <a:pt x="3673" y="18027"/>
                  <a:pt x="3253" y="17133"/>
                  <a:pt x="3253" y="16240"/>
                </a:cubicBezTo>
                <a:cubicBezTo>
                  <a:pt x="3253" y="15346"/>
                  <a:pt x="3673" y="14453"/>
                  <a:pt x="4093" y="14453"/>
                </a:cubicBezTo>
                <a:close/>
              </a:path>
              <a:path fill="darkenLess" w="21600" h="21600">
                <a:moveTo>
                  <a:pt x="15647" y="14453"/>
                </a:moveTo>
                <a:lnTo>
                  <a:pt x="15647" y="19813"/>
                </a:lnTo>
                <a:cubicBezTo>
                  <a:pt x="15647" y="18920"/>
                  <a:pt x="16067" y="18027"/>
                  <a:pt x="16487" y="18027"/>
                </a:cubicBezTo>
                <a:lnTo>
                  <a:pt x="17507" y="18027"/>
                </a:lnTo>
                <a:cubicBezTo>
                  <a:pt x="17927" y="18027"/>
                  <a:pt x="18347" y="17133"/>
                  <a:pt x="18347" y="16240"/>
                </a:cubicBezTo>
                <a:cubicBezTo>
                  <a:pt x="18347" y="15346"/>
                  <a:pt x="17927" y="14453"/>
                  <a:pt x="17507" y="14453"/>
                </a:cubicBezTo>
                <a:close/>
              </a:path>
              <a:path fill="darkenLess" w="21600" h="21600">
                <a:moveTo>
                  <a:pt x="3253" y="16240"/>
                </a:moveTo>
                <a:lnTo>
                  <a:pt x="3253" y="7147"/>
                </a:lnTo>
              </a:path>
              <a:path fill="darkenLess" w="21600" h="21600">
                <a:moveTo>
                  <a:pt x="18347" y="16240"/>
                </a:moveTo>
                <a:lnTo>
                  <a:pt x="18347" y="7147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27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ров 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rc 9"/>
          <p:cNvSpPr/>
          <p:nvPr/>
        </p:nvSpPr>
        <p:spPr>
          <a:xfrm flipV="1">
            <a:off x="1403280" y="1627920"/>
            <a:ext cx="151128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1116000" y="2492280"/>
            <a:ext cx="2219400" cy="1765440"/>
          </a:xfrm>
          <a:custGeom>
            <a:avLst/>
            <a:gdLst/>
            <a:ahLst/>
            <a:rect l="l" t="t" r="r" b="b"/>
            <a:pathLst>
              <a:path w="1398" h="1112">
                <a:moveTo>
                  <a:pt x="998" y="0"/>
                </a:moveTo>
                <a:cubicBezTo>
                  <a:pt x="1107" y="87"/>
                  <a:pt x="1217" y="174"/>
                  <a:pt x="1270" y="272"/>
                </a:cubicBezTo>
                <a:cubicBezTo>
                  <a:pt x="1323" y="370"/>
                  <a:pt x="1398" y="462"/>
                  <a:pt x="1315" y="590"/>
                </a:cubicBezTo>
                <a:cubicBezTo>
                  <a:pt x="1232" y="718"/>
                  <a:pt x="937" y="976"/>
                  <a:pt x="771" y="1044"/>
                </a:cubicBezTo>
                <a:cubicBezTo>
                  <a:pt x="605" y="1112"/>
                  <a:pt x="445" y="1013"/>
                  <a:pt x="317" y="998"/>
                </a:cubicBezTo>
                <a:cubicBezTo>
                  <a:pt x="189" y="983"/>
                  <a:pt x="53" y="960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3132000" y="1844640"/>
            <a:ext cx="1584360" cy="1739880"/>
          </a:xfrm>
          <a:custGeom>
            <a:avLst/>
            <a:gdLst/>
            <a:ahLst/>
            <a:rect l="l" t="t" r="r" b="b"/>
            <a:pathLst>
              <a:path w="998" h="1096">
                <a:moveTo>
                  <a:pt x="0" y="1089"/>
                </a:moveTo>
                <a:cubicBezTo>
                  <a:pt x="264" y="1092"/>
                  <a:pt x="529" y="1096"/>
                  <a:pt x="680" y="998"/>
                </a:cubicBezTo>
                <a:cubicBezTo>
                  <a:pt x="831" y="900"/>
                  <a:pt x="854" y="665"/>
                  <a:pt x="907" y="499"/>
                </a:cubicBezTo>
                <a:cubicBezTo>
                  <a:pt x="960" y="333"/>
                  <a:pt x="983" y="83"/>
                  <a:pt x="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708360" y="3284640"/>
            <a:ext cx="803160" cy="2232000"/>
          </a:xfrm>
          <a:custGeom>
            <a:avLst/>
            <a:gdLst/>
            <a:ahLst/>
            <a:rect l="l" t="t" r="r" b="b"/>
            <a:pathLst>
              <a:path w="552" h="1444">
                <a:moveTo>
                  <a:pt x="450" y="0"/>
                </a:moveTo>
                <a:cubicBezTo>
                  <a:pt x="377" y="109"/>
                  <a:pt x="0" y="452"/>
                  <a:pt x="13" y="655"/>
                </a:cubicBezTo>
                <a:cubicBezTo>
                  <a:pt x="26" y="858"/>
                  <a:pt x="502" y="1086"/>
                  <a:pt x="527" y="1217"/>
                </a:cubicBezTo>
                <a:cubicBezTo>
                  <a:pt x="552" y="1348"/>
                  <a:pt x="224" y="1414"/>
                  <a:pt x="164" y="14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378320" y="1297080"/>
            <a:ext cx="3219480" cy="1944720"/>
          </a:xfrm>
          <a:custGeom>
            <a:avLst/>
            <a:gdLst/>
            <a:ahLst/>
            <a:rect l="l" t="t" r="r" b="b"/>
            <a:pathLst>
              <a:path w="2028" h="1225">
                <a:moveTo>
                  <a:pt x="0" y="1225"/>
                </a:moveTo>
                <a:cubicBezTo>
                  <a:pt x="185" y="1138"/>
                  <a:pt x="796" y="821"/>
                  <a:pt x="1117" y="702"/>
                </a:cubicBezTo>
                <a:cubicBezTo>
                  <a:pt x="1438" y="583"/>
                  <a:pt x="1830" y="615"/>
                  <a:pt x="1929" y="510"/>
                </a:cubicBezTo>
                <a:cubicBezTo>
                  <a:pt x="2028" y="405"/>
                  <a:pt x="1837" y="146"/>
                  <a:pt x="1710" y="73"/>
                </a:cubicBezTo>
                <a:cubicBezTo>
                  <a:pt x="1583" y="0"/>
                  <a:pt x="1309" y="80"/>
                  <a:pt x="1165" y="73"/>
                </a:cubicBezTo>
                <a:cubicBezTo>
                  <a:pt x="1021" y="66"/>
                  <a:pt x="901" y="35"/>
                  <a:pt x="848" y="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7020000" y="907920"/>
            <a:ext cx="1033560" cy="576360"/>
          </a:xfrm>
          <a:custGeom>
            <a:avLst/>
            <a:gdLst/>
            <a:ahLst/>
            <a:rect l="l" t="t" r="r" b="b"/>
            <a:pathLst>
              <a:path w="651" h="319">
                <a:moveTo>
                  <a:pt x="0" y="273"/>
                </a:moveTo>
                <a:cubicBezTo>
                  <a:pt x="219" y="296"/>
                  <a:pt x="439" y="319"/>
                  <a:pt x="545" y="273"/>
                </a:cubicBezTo>
                <a:cubicBezTo>
                  <a:pt x="651" y="227"/>
                  <a:pt x="620" y="46"/>
                  <a:pt x="6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7740720" y="1413000"/>
            <a:ext cx="695160" cy="1884240"/>
          </a:xfrm>
          <a:custGeom>
            <a:avLst/>
            <a:gdLst/>
            <a:ahLst/>
            <a:rect l="l" t="t" r="r" b="b"/>
            <a:pathLst>
              <a:path w="438" h="1187">
                <a:moveTo>
                  <a:pt x="30" y="0"/>
                </a:moveTo>
                <a:cubicBezTo>
                  <a:pt x="56" y="132"/>
                  <a:pt x="83" y="265"/>
                  <a:pt x="121" y="363"/>
                </a:cubicBezTo>
                <a:cubicBezTo>
                  <a:pt x="159" y="461"/>
                  <a:pt x="272" y="514"/>
                  <a:pt x="257" y="590"/>
                </a:cubicBezTo>
                <a:cubicBezTo>
                  <a:pt x="242" y="666"/>
                  <a:pt x="60" y="726"/>
                  <a:pt x="30" y="817"/>
                </a:cubicBezTo>
                <a:cubicBezTo>
                  <a:pt x="0" y="908"/>
                  <a:pt x="7" y="1081"/>
                  <a:pt x="75" y="1134"/>
                </a:cubicBezTo>
                <a:cubicBezTo>
                  <a:pt x="143" y="1187"/>
                  <a:pt x="378" y="1134"/>
                  <a:pt x="438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6588000" y="2276640"/>
            <a:ext cx="1812960" cy="1944360"/>
          </a:xfrm>
          <a:custGeom>
            <a:avLst/>
            <a:gdLst/>
            <a:ahLst/>
            <a:rect l="l" t="t" r="r" b="b"/>
            <a:pathLst>
              <a:path w="1142" h="1270">
                <a:moveTo>
                  <a:pt x="167" y="0"/>
                </a:moveTo>
                <a:cubicBezTo>
                  <a:pt x="216" y="374"/>
                  <a:pt x="265" y="748"/>
                  <a:pt x="257" y="952"/>
                </a:cubicBezTo>
                <a:cubicBezTo>
                  <a:pt x="249" y="1156"/>
                  <a:pt x="0" y="1180"/>
                  <a:pt x="121" y="1225"/>
                </a:cubicBezTo>
                <a:cubicBezTo>
                  <a:pt x="242" y="1270"/>
                  <a:pt x="824" y="1263"/>
                  <a:pt x="983" y="1225"/>
                </a:cubicBezTo>
                <a:cubicBezTo>
                  <a:pt x="1142" y="1187"/>
                  <a:pt x="1059" y="1036"/>
                  <a:pt x="1074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3780000" y="3213000"/>
            <a:ext cx="3168360" cy="936720"/>
          </a:xfrm>
          <a:custGeom>
            <a:avLst/>
            <a:gdLst/>
            <a:ahLst/>
            <a:rect l="l" t="t" r="r" b="b"/>
            <a:pathLst>
              <a:path w="2041" h="596">
                <a:moveTo>
                  <a:pt x="0" y="590"/>
                </a:moveTo>
                <a:cubicBezTo>
                  <a:pt x="185" y="575"/>
                  <a:pt x="771" y="596"/>
                  <a:pt x="1111" y="498"/>
                </a:cubicBezTo>
                <a:cubicBezTo>
                  <a:pt x="1451" y="400"/>
                  <a:pt x="1847" y="104"/>
                  <a:pt x="204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5148360" y="4076640"/>
            <a:ext cx="718920" cy="1584360"/>
          </a:xfrm>
          <a:custGeom>
            <a:avLst/>
            <a:gdLst/>
            <a:ahLst/>
            <a:rect l="l" t="t" r="r" b="b"/>
            <a:pathLst>
              <a:path w="453" h="998">
                <a:moveTo>
                  <a:pt x="0" y="0"/>
                </a:moveTo>
                <a:cubicBezTo>
                  <a:pt x="30" y="302"/>
                  <a:pt x="61" y="605"/>
                  <a:pt x="136" y="771"/>
                </a:cubicBezTo>
                <a:cubicBezTo>
                  <a:pt x="211" y="937"/>
                  <a:pt x="400" y="960"/>
                  <a:pt x="453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5292720" y="4149720"/>
            <a:ext cx="2592360" cy="647640"/>
          </a:xfrm>
          <a:custGeom>
            <a:avLst/>
            <a:gdLst/>
            <a:ahLst/>
            <a:rect l="l" t="t" r="r" b="b"/>
            <a:pathLst>
              <a:path w="1633" h="408">
                <a:moveTo>
                  <a:pt x="0" y="408"/>
                </a:moveTo>
                <a:cubicBezTo>
                  <a:pt x="272" y="374"/>
                  <a:pt x="544" y="340"/>
                  <a:pt x="816" y="272"/>
                </a:cubicBezTo>
                <a:cubicBezTo>
                  <a:pt x="1088" y="204"/>
                  <a:pt x="1505" y="45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 rot="20270400">
            <a:off x="4137480" y="309240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 rot="20270400">
            <a:off x="1332000" y="321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Имя при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 rot="18738000">
            <a:off x="1091880" y="21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 rot="21317400">
            <a:off x="2728800" y="2214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 rot="20270400">
            <a:off x="4586400" y="19569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 rot="182400">
            <a:off x="1186920" y="42926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6084720" y="9079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стои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 rot="20270400">
            <a:off x="5041800" y="3866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 rot="21197400">
            <a:off x="5867280" y="4581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едл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 rot="2931600">
            <a:off x="3901680" y="474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 rot="4620000">
            <a:off x="6608160" y="30668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</a:rPr>
              <a:t>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4675800">
            <a:off x="7332480" y="20354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Times New Roman"/>
              </a:rPr>
              <a:t>Междоме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Arial"/>
              </a:rPr>
              <a:t>1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92360" y="314172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Times New Roman"/>
              </a:rPr>
              <a:t>грамматическо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Times New Roman"/>
              </a:rPr>
              <a:t>значе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мя существительное -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187280" y="5229360"/>
            <a:ext cx="28814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?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5435640" y="5300640"/>
            <a:ext cx="3024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?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2" descr="Рисунок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00000" y="105264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ИМЯ СУЩЕСТВИТЕЛЬНОЕ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–</a:t>
            </a: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 часть речи, которая 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обозначает предмет и отвечает на вопросы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56000" y="1700280"/>
            <a:ext cx="43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35280" y="335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51640" y="3284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2882880" y="2868480"/>
            <a:ext cx="324000" cy="576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6319800" y="2862360"/>
            <a:ext cx="252360" cy="503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bel"/>
          <p:cNvPicPr/>
          <p:nvPr/>
        </p:nvPicPr>
        <p:blipFill>
          <a:blip r:embed="rId2"/>
          <a:stretch/>
        </p:blipFill>
        <p:spPr>
          <a:xfrm>
            <a:off x="900000" y="400536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LO"/>
          <p:cNvPicPr/>
          <p:nvPr/>
        </p:nvPicPr>
        <p:blipFill>
          <a:blip r:embed="rId3"/>
          <a:stretch/>
        </p:blipFill>
        <p:spPr>
          <a:xfrm>
            <a:off x="2556000" y="4149720"/>
            <a:ext cx="180000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755640" y="515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700360" y="522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bbanan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7164360" y="3284640"/>
            <a:ext cx="1568520" cy="190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book1"/>
          <p:cNvPicPr/>
          <p:nvPr/>
        </p:nvPicPr>
        <p:blipFill>
          <a:blip r:embed="rId5"/>
          <a:stretch/>
        </p:blipFill>
        <p:spPr>
          <a:xfrm>
            <a:off x="5076720" y="3933720"/>
            <a:ext cx="1793880" cy="1344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5076720" y="515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6948360" y="508464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ПА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Образуйте имена существительные: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т глаголов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бежать, кричать, прыгат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т прилагательных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интересный, сильный, добр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71640" y="691920"/>
            <a:ext cx="60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трывок из сказки Л.Кэррола «Алиса в Зазеркалье». 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000" y="2204640"/>
            <a:ext cx="504036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калось, хлив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р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ырялись по нав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рюкотали зелю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юмзики, в мов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image006"/>
          <p:cNvPicPr/>
          <p:nvPr/>
        </p:nvPicPr>
        <p:blipFill>
          <a:blip r:embed="rId1"/>
          <a:stretch/>
        </p:blipFill>
        <p:spPr>
          <a:xfrm>
            <a:off x="539640" y="476280"/>
            <a:ext cx="2157480" cy="316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image027"/>
          <p:cNvPicPr/>
          <p:nvPr/>
        </p:nvPicPr>
        <p:blipFill>
          <a:blip r:embed="rId2"/>
          <a:stretch/>
        </p:blipFill>
        <p:spPr>
          <a:xfrm>
            <a:off x="1692360" y="3141720"/>
            <a:ext cx="1927080" cy="2806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2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141720"/>
            <a:ext cx="2879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Морфологический призн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мя существительное -  число, род,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908000" y="537372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3203640" y="5084640"/>
            <a:ext cx="100656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468360" y="5084640"/>
            <a:ext cx="1224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4500720" y="5373720"/>
            <a:ext cx="107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д.ч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5867280" y="5300640"/>
            <a:ext cx="12970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.ч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1"/>
          <p:cNvSpPr txBox="1"/>
          <p:nvPr/>
        </p:nvSpPr>
        <p:spPr>
          <a:xfrm rot="1648800">
            <a:off x="7667640" y="3645000"/>
            <a:ext cx="6476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6656400" cy="356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53:23Z</dcterms:created>
  <dc:creator>Users</dc:creator>
  <dc:description/>
  <dc:language>en-US</dc:language>
  <cp:lastModifiedBy>Admin</cp:lastModifiedBy>
  <dcterms:modified xsi:type="dcterms:W3CDTF">2014-03-14T19:19:29Z</dcterms:modified>
  <cp:revision>35</cp:revision>
  <dc:subject/>
  <dc:title>Слайд 1</dc:title>
</cp:coreProperties>
</file>