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7.jpeg" ContentType="image/jpeg"/>
  <Override PartName="/ppt/media/image6.png" ContentType="image/png"/>
  <Override PartName="/ppt/media/image26.gif" ContentType="image/gif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27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6.gif" ContentType="image/gif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2.gif" ContentType="image/gif"/>
  <Override PartName="/ppt/media/image25.jpeg" ContentType="image/jpeg"/>
  <Override PartName="/ppt/media/image3.png" ContentType="image/png"/>
  <Override PartName="/ppt/media/image17.jpeg" ContentType="image/jpeg"/>
  <Override PartName="/ppt/media/image2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1726-0248-4791-86E4-AE88CF92B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BB84-D2F1-4A3E-B792-CB4AC0A9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9C0D-30A5-4B09-8CA3-4D48404C3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3C26-B8F2-4707-94E7-6529CE067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BE6C-4B7E-4837-8C96-6107CC70E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9580-D6E1-4BCA-B760-C794DF5F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580E-1E57-4465-BFB1-B0AF26BC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89F9-3211-46C2-B568-32C07479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3B9F-EB28-4D50-B41E-FB1B1FC1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CCB8-130E-4182-9738-0D55EA11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9347A-9C73-4AA2-B01F-809A3E65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56BF-8E30-4AD4-961E-A859F6C0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AA44-BC14-4129-A809-CF8CA47E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0786-15DA-4E23-AC3A-00809AE8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6E10-8DA7-4864-AA93-A5E75EF7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D854-6948-486F-A8F1-5740C81E5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6584-6F78-4396-879F-C1079C9EE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8558-62CD-4C74-B553-DBDE684D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DAF6-7E29-42BA-873A-61E2FD8F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B7FF-5732-40A1-AA26-B9BFE4D0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923E-5D10-4886-A8BC-E9F2C615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3CA4-A0DE-410B-B11E-74F3FBC9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ED4E-BF43-40EB-9596-BC744C49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3A3F-7B6F-4B7B-BB7B-A5190364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ffffff"/>
            </a:solidFill>
            <a:ln w="442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99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ffcc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19F4-9AC1-48A9-A553-A2A6445DB28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99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ffcc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020E-77FA-4132-A282-E84756B0DE5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image" Target="../media/image16.gi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6.gif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9.jpe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160" y="1828800"/>
            <a:ext cx="8359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>
              <a:spcBef>
                <a:spcPts val="901"/>
              </a:spcBef>
              <a:buClr>
                <a:srgbClr val="ff99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манда, футбольный, хоккейны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901"/>
              </a:spcBef>
              <a:buClr>
                <a:srgbClr val="ff99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асильева, Дмитрий, Иванов, Семен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901"/>
              </a:spcBef>
              <a:buClr>
                <a:srgbClr val="ff99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брый, солнце, веселый, зл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901"/>
              </a:spcBef>
              <a:buClr>
                <a:srgbClr val="ff99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беждать, радоваться, играть, молодёжь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Найдите «лишнее» слово: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2" name="Oval 5"/>
          <p:cNvSpPr/>
          <p:nvPr/>
        </p:nvSpPr>
        <p:spPr>
          <a:xfrm>
            <a:off x="1116000" y="1844640"/>
            <a:ext cx="2089080" cy="6494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0"/>
          <p:cNvSpPr/>
          <p:nvPr/>
        </p:nvSpPr>
        <p:spPr>
          <a:xfrm>
            <a:off x="3564000" y="2492280"/>
            <a:ext cx="2232000" cy="72072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2"/>
          <p:cNvSpPr/>
          <p:nvPr/>
        </p:nvSpPr>
        <p:spPr>
          <a:xfrm>
            <a:off x="2987640" y="3716280"/>
            <a:ext cx="1655640" cy="6494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3"/>
          <p:cNvSpPr/>
          <p:nvPr/>
        </p:nvSpPr>
        <p:spPr>
          <a:xfrm>
            <a:off x="1116000" y="4941720"/>
            <a:ext cx="2376360" cy="6494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3"/>
          <p:cNvSpPr/>
          <p:nvPr/>
        </p:nvSpPr>
        <p:spPr>
          <a:xfrm>
            <a:off x="250920" y="1052640"/>
            <a:ext cx="8642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Bernard MT Condensed"/>
              </a:rPr>
              <a:t>ИМЯ СУЩЕСТВИ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Bernard MT Condensed"/>
              </a:rPr>
              <a:t>ИЗМЕНЯЕТСЯ ПО ЧИСЛ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900000" y="2421000"/>
            <a:ext cx="30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ЕДИНСТВЕН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076720" y="234936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НОЖЕСТВЕН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SARDANA"/>
          <p:cNvPicPr/>
          <p:nvPr/>
        </p:nvPicPr>
        <p:blipFill>
          <a:blip r:embed="rId2"/>
          <a:stretch/>
        </p:blipFill>
        <p:spPr>
          <a:xfrm>
            <a:off x="7667640" y="4221000"/>
            <a:ext cx="1150920" cy="1090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REDRBUD"/>
          <p:cNvPicPr/>
          <p:nvPr/>
        </p:nvPicPr>
        <p:blipFill>
          <a:blip r:embed="rId3"/>
          <a:stretch/>
        </p:blipFill>
        <p:spPr>
          <a:xfrm>
            <a:off x="684360" y="4221000"/>
            <a:ext cx="990360" cy="11462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" descr="books2"/>
          <p:cNvPicPr/>
          <p:nvPr/>
        </p:nvPicPr>
        <p:blipFill>
          <a:blip r:embed="rId4"/>
          <a:stretch/>
        </p:blipFill>
        <p:spPr>
          <a:xfrm>
            <a:off x="6372360" y="5157720"/>
            <a:ext cx="1179360" cy="1042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" descr="BOOK02"/>
          <p:cNvPicPr/>
          <p:nvPr/>
        </p:nvPicPr>
        <p:blipFill>
          <a:blip r:embed="rId5"/>
          <a:stretch/>
        </p:blipFill>
        <p:spPr>
          <a:xfrm>
            <a:off x="1258920" y="5445000"/>
            <a:ext cx="1693800" cy="908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1" descr="bird4"/>
          <p:cNvPicPr/>
          <p:nvPr/>
        </p:nvPicPr>
        <p:blipFill>
          <a:blip r:embed="rId6"/>
          <a:stretch/>
        </p:blipFill>
        <p:spPr>
          <a:xfrm>
            <a:off x="6443640" y="3141720"/>
            <a:ext cx="1149480" cy="12222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2" descr="ЦЫПЛЕНОК"/>
          <p:cNvPicPr/>
          <p:nvPr/>
        </p:nvPicPr>
        <p:blipFill>
          <a:blip r:embed="rId7"/>
          <a:stretch/>
        </p:blipFill>
        <p:spPr>
          <a:xfrm>
            <a:off x="468360" y="3284640"/>
            <a:ext cx="1219320" cy="7938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3"/>
          <p:cNvSpPr/>
          <p:nvPr/>
        </p:nvSpPr>
        <p:spPr>
          <a:xfrm>
            <a:off x="1763640" y="3429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ЦЫПЛЁ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1908000" y="4437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ЦВ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3059280" y="52293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НИ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4500720" y="34290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ЦЫПЛЯ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7"/>
          <p:cNvSpPr/>
          <p:nvPr/>
        </p:nvSpPr>
        <p:spPr>
          <a:xfrm>
            <a:off x="5148360" y="443700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ЦВ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4932360" y="522936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9"/>
          <p:cNvSpPr/>
          <p:nvPr/>
        </p:nvSpPr>
        <p:spPr>
          <a:xfrm flipH="1">
            <a:off x="2700360" y="2133720"/>
            <a:ext cx="287280" cy="2872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0"/>
          <p:cNvSpPr/>
          <p:nvPr/>
        </p:nvSpPr>
        <p:spPr>
          <a:xfrm>
            <a:off x="5508720" y="2133720"/>
            <a:ext cx="215640" cy="2872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1" descr="Сова"/>
          <p:cNvPicPr/>
          <p:nvPr/>
        </p:nvPicPr>
        <p:blipFill>
          <a:blip r:embed="rId8"/>
          <a:stretch/>
        </p:blipFill>
        <p:spPr>
          <a:xfrm flipH="1">
            <a:off x="8191440" y="0"/>
            <a:ext cx="952560" cy="1413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26"/>
          <p:cNvGrpSpPr/>
          <p:nvPr/>
        </p:nvGrpSpPr>
        <p:grpSpPr>
          <a:xfrm>
            <a:off x="2124000" y="1916280"/>
            <a:ext cx="4825800" cy="4033440"/>
            <a:chOff x="2124000" y="1916280"/>
            <a:chExt cx="4825800" cy="4033440"/>
          </a:xfrm>
        </p:grpSpPr>
        <p:sp>
          <p:nvSpPr>
            <p:cNvPr id="204" name="AutoShape 5"/>
            <p:cNvSpPr/>
            <p:nvPr/>
          </p:nvSpPr>
          <p:spPr>
            <a:xfrm>
              <a:off x="2124000" y="1916280"/>
              <a:ext cx="1206720" cy="101988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6"/>
            <p:cNvSpPr/>
            <p:nvPr/>
          </p:nvSpPr>
          <p:spPr>
            <a:xfrm>
              <a:off x="2124000" y="2936160"/>
              <a:ext cx="1206720" cy="10209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7"/>
            <p:cNvSpPr/>
            <p:nvPr/>
          </p:nvSpPr>
          <p:spPr>
            <a:xfrm>
              <a:off x="3330720" y="1916280"/>
              <a:ext cx="1205280" cy="101988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8"/>
            <p:cNvSpPr/>
            <p:nvPr/>
          </p:nvSpPr>
          <p:spPr>
            <a:xfrm>
              <a:off x="3330720" y="2936160"/>
              <a:ext cx="1205280" cy="10209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0"/>
            <p:cNvSpPr/>
            <p:nvPr/>
          </p:nvSpPr>
          <p:spPr>
            <a:xfrm>
              <a:off x="4536360" y="1916280"/>
              <a:ext cx="1206720" cy="101988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12"/>
            <p:cNvSpPr/>
            <p:nvPr/>
          </p:nvSpPr>
          <p:spPr>
            <a:xfrm>
              <a:off x="4536360" y="2936160"/>
              <a:ext cx="1206720" cy="10209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16"/>
            <p:cNvSpPr/>
            <p:nvPr/>
          </p:nvSpPr>
          <p:spPr>
            <a:xfrm>
              <a:off x="5743440" y="1916280"/>
              <a:ext cx="1206360" cy="101988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17"/>
            <p:cNvSpPr/>
            <p:nvPr/>
          </p:nvSpPr>
          <p:spPr>
            <a:xfrm>
              <a:off x="5743440" y="2936160"/>
              <a:ext cx="1206360" cy="10209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19"/>
            <p:cNvGrpSpPr/>
            <p:nvPr/>
          </p:nvGrpSpPr>
          <p:grpSpPr>
            <a:xfrm>
              <a:off x="2124000" y="3957120"/>
              <a:ext cx="4825800" cy="1019880"/>
              <a:chOff x="2124000" y="3957120"/>
              <a:chExt cx="4825800" cy="1019880"/>
            </a:xfrm>
          </p:grpSpPr>
          <p:sp>
            <p:nvSpPr>
              <p:cNvPr id="213" name="AutoShape 9"/>
              <p:cNvSpPr/>
              <p:nvPr/>
            </p:nvSpPr>
            <p:spPr>
              <a:xfrm>
                <a:off x="3330720" y="3957120"/>
                <a:ext cx="1205280" cy="101988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AutoShape 11"/>
              <p:cNvSpPr/>
              <p:nvPr/>
            </p:nvSpPr>
            <p:spPr>
              <a:xfrm>
                <a:off x="2124000" y="3957120"/>
                <a:ext cx="1206720" cy="101988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AutoShape 13"/>
              <p:cNvSpPr/>
              <p:nvPr/>
            </p:nvSpPr>
            <p:spPr>
              <a:xfrm>
                <a:off x="4536360" y="3957120"/>
                <a:ext cx="1206720" cy="101988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AutoShape 18"/>
              <p:cNvSpPr/>
              <p:nvPr/>
            </p:nvSpPr>
            <p:spPr>
              <a:xfrm>
                <a:off x="5743440" y="3957120"/>
                <a:ext cx="1206360" cy="101988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Group 20"/>
            <p:cNvGrpSpPr/>
            <p:nvPr/>
          </p:nvGrpSpPr>
          <p:grpSpPr>
            <a:xfrm>
              <a:off x="2124000" y="4929840"/>
              <a:ext cx="4825800" cy="1019880"/>
              <a:chOff x="2124000" y="4929840"/>
              <a:chExt cx="4825800" cy="1019880"/>
            </a:xfrm>
          </p:grpSpPr>
          <p:sp>
            <p:nvSpPr>
              <p:cNvPr id="218" name="AutoShape 21"/>
              <p:cNvSpPr/>
              <p:nvPr/>
            </p:nvSpPr>
            <p:spPr>
              <a:xfrm>
                <a:off x="3330720" y="4929840"/>
                <a:ext cx="1205280" cy="101988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AutoShape 22"/>
              <p:cNvSpPr/>
              <p:nvPr/>
            </p:nvSpPr>
            <p:spPr>
              <a:xfrm>
                <a:off x="2124000" y="4929840"/>
                <a:ext cx="1206720" cy="101988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AutoShape 23"/>
              <p:cNvSpPr/>
              <p:nvPr/>
            </p:nvSpPr>
            <p:spPr>
              <a:xfrm>
                <a:off x="4536360" y="4929840"/>
                <a:ext cx="1206720" cy="101988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AutoShape 24"/>
              <p:cNvSpPr/>
              <p:nvPr/>
            </p:nvSpPr>
            <p:spPr>
              <a:xfrm>
                <a:off x="5743440" y="4929840"/>
                <a:ext cx="1206360" cy="101988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2" name="Text Box 27"/>
          <p:cNvSpPr/>
          <p:nvPr/>
        </p:nvSpPr>
        <p:spPr>
          <a:xfrm>
            <a:off x="324000" y="836640"/>
            <a:ext cx="86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Определи число им.существительных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AutoShape 5"/>
          <p:cNvSpPr/>
          <p:nvPr/>
        </p:nvSpPr>
        <p:spPr>
          <a:xfrm>
            <a:off x="1258920" y="404640"/>
            <a:ext cx="1603440" cy="1384560"/>
          </a:xfrm>
          <a:prstGeom prst="bevel">
            <a:avLst>
              <a:gd name="adj" fmla="val 12500"/>
            </a:avLst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1258920" y="1789200"/>
            <a:ext cx="1603440" cy="138420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7"/>
          <p:cNvSpPr/>
          <p:nvPr/>
        </p:nvSpPr>
        <p:spPr>
          <a:xfrm>
            <a:off x="2862360" y="404640"/>
            <a:ext cx="1600200" cy="13845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8"/>
          <p:cNvSpPr/>
          <p:nvPr/>
        </p:nvSpPr>
        <p:spPr>
          <a:xfrm>
            <a:off x="2862360" y="1789200"/>
            <a:ext cx="1600200" cy="1384200"/>
          </a:xfrm>
          <a:prstGeom prst="bevel">
            <a:avLst>
              <a:gd name="adj" fmla="val 12500"/>
            </a:avLst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9"/>
          <p:cNvSpPr/>
          <p:nvPr/>
        </p:nvSpPr>
        <p:spPr>
          <a:xfrm>
            <a:off x="4462560" y="404640"/>
            <a:ext cx="1601640" cy="13845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0"/>
          <p:cNvSpPr/>
          <p:nvPr/>
        </p:nvSpPr>
        <p:spPr>
          <a:xfrm>
            <a:off x="4462560" y="1789200"/>
            <a:ext cx="1601640" cy="1384200"/>
          </a:xfrm>
          <a:prstGeom prst="bevel">
            <a:avLst>
              <a:gd name="adj" fmla="val 12500"/>
            </a:avLst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1"/>
          <p:cNvSpPr/>
          <p:nvPr/>
        </p:nvSpPr>
        <p:spPr>
          <a:xfrm>
            <a:off x="6064200" y="404640"/>
            <a:ext cx="1603440" cy="1384560"/>
          </a:xfrm>
          <a:prstGeom prst="bevel">
            <a:avLst>
              <a:gd name="adj" fmla="val 12500"/>
            </a:avLst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2"/>
          <p:cNvSpPr/>
          <p:nvPr/>
        </p:nvSpPr>
        <p:spPr>
          <a:xfrm>
            <a:off x="6064200" y="1789200"/>
            <a:ext cx="1603440" cy="138420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4"/>
          <p:cNvSpPr/>
          <p:nvPr/>
        </p:nvSpPr>
        <p:spPr>
          <a:xfrm>
            <a:off x="2862360" y="3173400"/>
            <a:ext cx="1600200" cy="1384200"/>
          </a:xfrm>
          <a:prstGeom prst="bevel">
            <a:avLst>
              <a:gd name="adj" fmla="val 12500"/>
            </a:avLst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5"/>
          <p:cNvSpPr/>
          <p:nvPr/>
        </p:nvSpPr>
        <p:spPr>
          <a:xfrm>
            <a:off x="1258920" y="3173400"/>
            <a:ext cx="1603440" cy="138420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6"/>
          <p:cNvSpPr/>
          <p:nvPr/>
        </p:nvSpPr>
        <p:spPr>
          <a:xfrm>
            <a:off x="4462560" y="3173400"/>
            <a:ext cx="1601640" cy="1384200"/>
          </a:xfrm>
          <a:prstGeom prst="bevel">
            <a:avLst>
              <a:gd name="adj" fmla="val 12500"/>
            </a:avLst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7"/>
          <p:cNvSpPr/>
          <p:nvPr/>
        </p:nvSpPr>
        <p:spPr>
          <a:xfrm>
            <a:off x="6064200" y="3173400"/>
            <a:ext cx="1603440" cy="138420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9"/>
          <p:cNvSpPr/>
          <p:nvPr/>
        </p:nvSpPr>
        <p:spPr>
          <a:xfrm>
            <a:off x="2862360" y="4492800"/>
            <a:ext cx="1600200" cy="138420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20"/>
          <p:cNvSpPr/>
          <p:nvPr/>
        </p:nvSpPr>
        <p:spPr>
          <a:xfrm>
            <a:off x="1258920" y="4492800"/>
            <a:ext cx="1603440" cy="1384200"/>
          </a:xfrm>
          <a:prstGeom prst="bevel">
            <a:avLst>
              <a:gd name="adj" fmla="val 12500"/>
            </a:avLst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21"/>
          <p:cNvSpPr/>
          <p:nvPr/>
        </p:nvSpPr>
        <p:spPr>
          <a:xfrm>
            <a:off x="4462560" y="4492800"/>
            <a:ext cx="1601640" cy="138420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22"/>
          <p:cNvSpPr/>
          <p:nvPr/>
        </p:nvSpPr>
        <p:spPr>
          <a:xfrm>
            <a:off x="6064200" y="4492800"/>
            <a:ext cx="1603440" cy="1384200"/>
          </a:xfrm>
          <a:prstGeom prst="bevel">
            <a:avLst>
              <a:gd name="adj" fmla="val 12500"/>
            </a:avLst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250920" y="1052640"/>
            <a:ext cx="85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Lucida Handwriting"/>
              </a:rPr>
              <a:t>3 Р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Lucida Handwriting"/>
              </a:rPr>
              <a:t>ИМЕНИ СУЩЕСТВИТЕЛЬ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5"/>
          <p:cNvSpPr/>
          <p:nvPr/>
        </p:nvSpPr>
        <p:spPr>
          <a:xfrm flipH="1">
            <a:off x="1547640" y="2133720"/>
            <a:ext cx="1152720" cy="718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539640" y="2852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Bernard MT Condensed"/>
              </a:rPr>
              <a:t>ЖЕНСКИЙ  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4427640" y="2133720"/>
            <a:ext cx="0" cy="718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3492360" y="2852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Bernard MT Condensed"/>
              </a:rPr>
              <a:t>МУЖСКОЙ 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9"/>
          <p:cNvSpPr/>
          <p:nvPr/>
        </p:nvSpPr>
        <p:spPr>
          <a:xfrm>
            <a:off x="5940360" y="2133720"/>
            <a:ext cx="1079640" cy="64764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6372360" y="285264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Bernard MT Condensed"/>
              </a:rPr>
              <a:t>СРЕДНИЙ 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8" descr="Сова"/>
          <p:cNvPicPr/>
          <p:nvPr/>
        </p:nvPicPr>
        <p:blipFill>
          <a:blip r:embed="rId2"/>
          <a:stretch/>
        </p:blipFill>
        <p:spPr>
          <a:xfrm flipH="1">
            <a:off x="8174160" y="0"/>
            <a:ext cx="969840" cy="1440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9" descr="2"/>
          <p:cNvPicPr/>
          <p:nvPr/>
        </p:nvPicPr>
        <p:blipFill>
          <a:blip r:embed="rId3"/>
          <a:stretch/>
        </p:blipFill>
        <p:spPr>
          <a:xfrm>
            <a:off x="333360" y="3284640"/>
            <a:ext cx="2706840" cy="3168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0" descr="3"/>
          <p:cNvPicPr/>
          <p:nvPr/>
        </p:nvPicPr>
        <p:blipFill>
          <a:blip r:embed="rId4"/>
          <a:stretch/>
        </p:blipFill>
        <p:spPr>
          <a:xfrm>
            <a:off x="3203640" y="3284640"/>
            <a:ext cx="2816280" cy="3168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1" descr="4"/>
          <p:cNvPicPr/>
          <p:nvPr/>
        </p:nvPicPr>
        <p:blipFill>
          <a:blip r:embed="rId5"/>
          <a:stretch/>
        </p:blipFill>
        <p:spPr>
          <a:xfrm>
            <a:off x="6156360" y="3284640"/>
            <a:ext cx="2719440" cy="3168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79640" y="475920"/>
            <a:ext cx="5191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«ПУТАНИЦА»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3056040" cy="36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ЛЕОДО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ОРАВК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КЕР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ИН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кровать"/>
          <p:cNvPicPr/>
          <p:nvPr/>
        </p:nvPicPr>
        <p:blipFill>
          <a:blip r:embed="rId1"/>
          <a:stretch/>
        </p:blipFill>
        <p:spPr>
          <a:xfrm>
            <a:off x="3838680" y="3627360"/>
            <a:ext cx="1295280" cy="11318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дИВАН"/>
          <p:cNvPicPr/>
          <p:nvPr/>
        </p:nvPicPr>
        <p:blipFill>
          <a:blip r:embed="rId2"/>
          <a:stretch/>
        </p:blipFill>
        <p:spPr>
          <a:xfrm>
            <a:off x="3811680" y="2349360"/>
            <a:ext cx="1349280" cy="117972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6"/>
          <p:cNvSpPr/>
          <p:nvPr/>
        </p:nvSpPr>
        <p:spPr>
          <a:xfrm>
            <a:off x="5364000" y="1989000"/>
            <a:ext cx="2880000" cy="36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ОДЕЯ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КРОВ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КРЕС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ДИВ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7" descr="Юля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4010040" y="4788000"/>
            <a:ext cx="954000" cy="1191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Мышь умная"/>
          <p:cNvPicPr/>
          <p:nvPr/>
        </p:nvPicPr>
        <p:blipFill>
          <a:blip r:embed="rId1"/>
          <a:stretch/>
        </p:blipFill>
        <p:spPr>
          <a:xfrm>
            <a:off x="7020000" y="4221000"/>
            <a:ext cx="1515960" cy="1800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1" descr="Киса"/>
          <p:cNvPicPr/>
          <p:nvPr/>
        </p:nvPicPr>
        <p:blipFill>
          <a:blip r:embed="rId2"/>
          <a:stretch/>
        </p:blipFill>
        <p:spPr>
          <a:xfrm>
            <a:off x="1835280" y="476280"/>
            <a:ext cx="4917960" cy="5472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26" dur="5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dnttm"/>
          <p:cNvPicPr/>
          <p:nvPr/>
        </p:nvPicPr>
        <p:blipFill>
          <a:blip r:embed="rId1"/>
          <a:stretch/>
        </p:blipFill>
        <p:spPr>
          <a:xfrm>
            <a:off x="5724360" y="5445000"/>
            <a:ext cx="971640" cy="9813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533520" y="1828800"/>
          <a:ext cx="4000320" cy="4525920"/>
        </p:xfrm>
        <a:graphic>
          <a:graphicData uri="http://schemas.openxmlformats.org/drawingml/2006/table">
            <a:tbl>
              <a:tblPr/>
              <a:tblGrid>
                <a:gridCol w="2000160"/>
                <a:gridCol w="2000160"/>
              </a:tblGrid>
              <a:tr h="74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НИТЕЛЬНЫЙ  ПАДЕ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О? 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ДИТЕЛЬНЫЙ   ПАДЕЖ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О? ЧЕГО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ЕЛЬНЫЙ ПАДЕЖ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У? ЧЕМУ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НИТЕЛЬНЫЙ   ПАДЕ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О? ЧТО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ОРИТЕЛЬНЫЙ    ПАДЕ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ЕМ? ЧЕМ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ЛОЖНЫЙ    ПАДЕ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КОМ? О ЧЁМ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3" name="Picture 2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28"/>
          <p:cNvSpPr/>
          <p:nvPr/>
        </p:nvSpPr>
        <p:spPr>
          <a:xfrm>
            <a:off x="179280" y="119700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comic"/>
              </a:rPr>
              <a:t>ПАДЕЖИ ИМЕНИ СУЩЕСТВИТЕЛЬНОГО</a:t>
            </a:r>
            <a:r>
              <a:rPr b="1" lang="ru-RU" sz="3200" spc="-1" strike="noStrike">
                <a:solidFill>
                  <a:srgbClr val="000099"/>
                </a:solidFill>
                <a:latin typeface="comic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68360" y="1844640"/>
          <a:ext cx="8137440" cy="3529080"/>
        </p:xfrm>
        <a:graphic>
          <a:graphicData uri="http://schemas.openxmlformats.org/drawingml/2006/table">
            <a:tbl>
              <a:tblPr/>
              <a:tblGrid>
                <a:gridCol w="4681440"/>
                <a:gridCol w="3456000"/>
              </a:tblGrid>
              <a:tr h="61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ИМЕНИТЕЛЬНЫЙ ПАДЕ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50000">
                          <a:srgbClr val="ffffff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КТО? ЧТ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50000">
                          <a:srgbClr val="ffffff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</a:tr>
              <a:tr h="62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РОДИТЕЛЬНЫЙ   ПАДЕ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50000">
                          <a:srgbClr val="ffffff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КОГО? ЧЕГ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50000">
                          <a:srgbClr val="ffffff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ДАТЕЛЬНЫЙ   ПАДЕ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50000">
                          <a:srgbClr val="ffffff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КОМУ? ЧЕМУ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50000">
                          <a:srgbClr val="ffffff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</a:tr>
              <a:tr h="61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ВИНИТЕЛЬНЫЙ    ПАДЕ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50000">
                          <a:srgbClr val="ffffff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КОГО? ЧТ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50000">
                          <a:srgbClr val="ffffff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</a:tr>
              <a:tr h="58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ТВОРИТЕЛЬНЫЙ  ПАДЕ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50000">
                          <a:srgbClr val="ffffff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КЕМ? ЧЕ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50000">
                          <a:srgbClr val="ffffff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ПРЕДЛОЖНЫЙ ПАДЕ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50000">
                          <a:srgbClr val="ffffff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О КОМ? О ЧЕ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50000">
                          <a:srgbClr val="ffffff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pic>
        <p:nvPicPr>
          <p:cNvPr id="266" name="Picture 55" descr="Сова"/>
          <p:cNvPicPr/>
          <p:nvPr/>
        </p:nvPicPr>
        <p:blipFill>
          <a:blip r:embed="rId3"/>
          <a:stretch/>
        </p:blipFill>
        <p:spPr>
          <a:xfrm flipH="1">
            <a:off x="8174160" y="5418000"/>
            <a:ext cx="96984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Составь предложение:</a:t>
            </a:r>
            <a:endParaRPr b="0" lang="en-US" sz="5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9200" indent="17640">
              <a:lnSpc>
                <a:spcPct val="150000"/>
              </a:lnSpc>
              <a:spcBef>
                <a:spcPts val="924"/>
              </a:spcBef>
              <a:buClr>
                <a:srgbClr val="ff99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"/>
              </a:rPr>
              <a:t>И  КОСТЁР  НЕБОЛЬШОГО   СИДЕЛИ  </a:t>
            </a:r>
            <a:r>
              <a:rPr b="1" lang="ru-RU" sz="45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3700" spc="-1" strike="noStrike">
                <a:solidFill>
                  <a:srgbClr val="000000"/>
                </a:solidFill>
                <a:latin typeface="Arial"/>
              </a:rPr>
              <a:t>  СОБАКА  ОХОТНИК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79200" indent="17640">
              <a:lnSpc>
                <a:spcPct val="150000"/>
              </a:lnSpc>
              <a:spcBef>
                <a:spcPts val="924"/>
              </a:spcBef>
              <a:buClr>
                <a:srgbClr val="ff99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"/>
              </a:rPr>
              <a:t>СТОЛИЦА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ДИНА</a:t>
            </a:r>
            <a:r>
              <a:rPr b="1" lang="ru-RU" sz="3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КВА</a:t>
            </a:r>
            <a:r>
              <a:rPr b="1" lang="ru-RU" sz="3700" spc="-1" strike="noStrike">
                <a:solidFill>
                  <a:srgbClr val="000000"/>
                </a:solidFill>
                <a:latin typeface="Arial"/>
              </a:rPr>
              <a:t>  НАШЕЙ    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1-ое ПРЕДЛОЖЕНИЕ: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У небольшого кост-ра сидели охотник и собака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"/>
          <p:cNvSpPr/>
          <p:nvPr/>
        </p:nvSpPr>
        <p:spPr>
          <a:xfrm>
            <a:off x="4716360" y="3789360"/>
            <a:ext cx="28800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971640" y="4797360"/>
            <a:ext cx="237636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"/>
          <p:cNvSpPr/>
          <p:nvPr/>
        </p:nvSpPr>
        <p:spPr>
          <a:xfrm>
            <a:off x="2050920" y="3789360"/>
            <a:ext cx="24498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7"/>
          <p:cNvSpPr/>
          <p:nvPr/>
        </p:nvSpPr>
        <p:spPr>
          <a:xfrm>
            <a:off x="2050920" y="3933720"/>
            <a:ext cx="24498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2916360" y="2852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5724360" y="2852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су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"/>
          <p:cNvSpPr/>
          <p:nvPr/>
        </p:nvSpPr>
        <p:spPr>
          <a:xfrm>
            <a:off x="1042920" y="3860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су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imes New Roman"/>
              </a:rPr>
              <a:t>2-ое ПРЕДЛОЖЕНИЕ: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4640"/>
            <a:ext cx="815328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Москва – столица нашей Родины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4"/>
          <p:cNvSpPr/>
          <p:nvPr/>
        </p:nvSpPr>
        <p:spPr>
          <a:xfrm>
            <a:off x="4932360" y="3141720"/>
            <a:ext cx="280836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6"/>
          <p:cNvSpPr/>
          <p:nvPr/>
        </p:nvSpPr>
        <p:spPr>
          <a:xfrm>
            <a:off x="4932360" y="3284640"/>
            <a:ext cx="280836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7"/>
          <p:cNvSpPr/>
          <p:nvPr/>
        </p:nvSpPr>
        <p:spPr>
          <a:xfrm>
            <a:off x="1403280" y="3141720"/>
            <a:ext cx="26640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2340000" y="2060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су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0"/>
          <p:cNvSpPr/>
          <p:nvPr/>
        </p:nvSpPr>
        <p:spPr>
          <a:xfrm>
            <a:off x="5796000" y="2133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су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2"/>
          <p:cNvSpPr/>
          <p:nvPr/>
        </p:nvSpPr>
        <p:spPr>
          <a:xfrm flipH="1">
            <a:off x="900000" y="620640"/>
            <a:ext cx="7723440" cy="5661000"/>
          </a:xfrm>
          <a:custGeom>
            <a:avLst/>
            <a:gdLst/>
            <a:ahLst/>
            <a:rect l="l" t="t" r="r" b="b"/>
            <a:pathLst>
              <a:path w="4865" h="3566">
                <a:moveTo>
                  <a:pt x="484" y="106"/>
                </a:moveTo>
                <a:cubicBezTo>
                  <a:pt x="2024" y="118"/>
                  <a:pt x="1171" y="0"/>
                  <a:pt x="1627" y="158"/>
                </a:cubicBezTo>
                <a:cubicBezTo>
                  <a:pt x="1650" y="272"/>
                  <a:pt x="1762" y="254"/>
                  <a:pt x="1696" y="358"/>
                </a:cubicBezTo>
                <a:cubicBezTo>
                  <a:pt x="1731" y="376"/>
                  <a:pt x="1851" y="469"/>
                  <a:pt x="1792" y="498"/>
                </a:cubicBezTo>
                <a:cubicBezTo>
                  <a:pt x="1816" y="531"/>
                  <a:pt x="1550" y="734"/>
                  <a:pt x="1584" y="760"/>
                </a:cubicBezTo>
                <a:cubicBezTo>
                  <a:pt x="1679" y="833"/>
                  <a:pt x="1613" y="772"/>
                  <a:pt x="1689" y="848"/>
                </a:cubicBezTo>
                <a:cubicBezTo>
                  <a:pt x="1708" y="867"/>
                  <a:pt x="1740" y="863"/>
                  <a:pt x="1767" y="865"/>
                </a:cubicBezTo>
                <a:cubicBezTo>
                  <a:pt x="1819" y="869"/>
                  <a:pt x="1872" y="871"/>
                  <a:pt x="1924" y="874"/>
                </a:cubicBezTo>
                <a:cubicBezTo>
                  <a:pt x="2008" y="871"/>
                  <a:pt x="2093" y="870"/>
                  <a:pt x="2177" y="865"/>
                </a:cubicBezTo>
                <a:cubicBezTo>
                  <a:pt x="2230" y="862"/>
                  <a:pt x="2196" y="859"/>
                  <a:pt x="2230" y="839"/>
                </a:cubicBezTo>
                <a:cubicBezTo>
                  <a:pt x="2265" y="818"/>
                  <a:pt x="2323" y="818"/>
                  <a:pt x="2361" y="813"/>
                </a:cubicBezTo>
                <a:cubicBezTo>
                  <a:pt x="2426" y="786"/>
                  <a:pt x="2570" y="778"/>
                  <a:pt x="2570" y="778"/>
                </a:cubicBezTo>
                <a:cubicBezTo>
                  <a:pt x="2642" y="759"/>
                  <a:pt x="2568" y="781"/>
                  <a:pt x="2640" y="752"/>
                </a:cubicBezTo>
                <a:cubicBezTo>
                  <a:pt x="2657" y="745"/>
                  <a:pt x="2692" y="734"/>
                  <a:pt x="2692" y="734"/>
                </a:cubicBezTo>
                <a:cubicBezTo>
                  <a:pt x="2727" y="701"/>
                  <a:pt x="2786" y="693"/>
                  <a:pt x="2832" y="682"/>
                </a:cubicBezTo>
                <a:cubicBezTo>
                  <a:pt x="2892" y="667"/>
                  <a:pt x="2945" y="642"/>
                  <a:pt x="3006" y="629"/>
                </a:cubicBezTo>
                <a:cubicBezTo>
                  <a:pt x="3089" y="640"/>
                  <a:pt x="3161" y="663"/>
                  <a:pt x="3207" y="734"/>
                </a:cubicBezTo>
                <a:cubicBezTo>
                  <a:pt x="3218" y="778"/>
                  <a:pt x="3243" y="799"/>
                  <a:pt x="3286" y="813"/>
                </a:cubicBezTo>
                <a:cubicBezTo>
                  <a:pt x="3344" y="805"/>
                  <a:pt x="3406" y="809"/>
                  <a:pt x="3460" y="786"/>
                </a:cubicBezTo>
                <a:cubicBezTo>
                  <a:pt x="3507" y="766"/>
                  <a:pt x="3616" y="640"/>
                  <a:pt x="3635" y="594"/>
                </a:cubicBezTo>
                <a:cubicBezTo>
                  <a:pt x="3658" y="538"/>
                  <a:pt x="3664" y="486"/>
                  <a:pt x="3696" y="437"/>
                </a:cubicBezTo>
                <a:cubicBezTo>
                  <a:pt x="3716" y="343"/>
                  <a:pt x="3713" y="320"/>
                  <a:pt x="3809" y="298"/>
                </a:cubicBezTo>
                <a:cubicBezTo>
                  <a:pt x="3850" y="301"/>
                  <a:pt x="3891" y="299"/>
                  <a:pt x="3931" y="306"/>
                </a:cubicBezTo>
                <a:cubicBezTo>
                  <a:pt x="3953" y="310"/>
                  <a:pt x="3971" y="328"/>
                  <a:pt x="3993" y="333"/>
                </a:cubicBezTo>
                <a:cubicBezTo>
                  <a:pt x="4025" y="340"/>
                  <a:pt x="4089" y="350"/>
                  <a:pt x="4089" y="350"/>
                </a:cubicBezTo>
                <a:cubicBezTo>
                  <a:pt x="4147" y="381"/>
                  <a:pt x="4136" y="383"/>
                  <a:pt x="4115" y="446"/>
                </a:cubicBezTo>
                <a:cubicBezTo>
                  <a:pt x="4118" y="490"/>
                  <a:pt x="4116" y="534"/>
                  <a:pt x="4123" y="577"/>
                </a:cubicBezTo>
                <a:cubicBezTo>
                  <a:pt x="4133" y="644"/>
                  <a:pt x="4250" y="741"/>
                  <a:pt x="4307" y="769"/>
                </a:cubicBezTo>
                <a:cubicBezTo>
                  <a:pt x="4320" y="811"/>
                  <a:pt x="4337" y="853"/>
                  <a:pt x="4359" y="891"/>
                </a:cubicBezTo>
                <a:cubicBezTo>
                  <a:pt x="4363" y="898"/>
                  <a:pt x="4372" y="902"/>
                  <a:pt x="4377" y="909"/>
                </a:cubicBezTo>
                <a:cubicBezTo>
                  <a:pt x="4387" y="923"/>
                  <a:pt x="4396" y="937"/>
                  <a:pt x="4403" y="952"/>
                </a:cubicBezTo>
                <a:cubicBezTo>
                  <a:pt x="4436" y="1026"/>
                  <a:pt x="4401" y="987"/>
                  <a:pt x="4438" y="1022"/>
                </a:cubicBezTo>
                <a:cubicBezTo>
                  <a:pt x="4462" y="1071"/>
                  <a:pt x="4494" y="1112"/>
                  <a:pt x="4516" y="1162"/>
                </a:cubicBezTo>
                <a:cubicBezTo>
                  <a:pt x="4538" y="1211"/>
                  <a:pt x="4557" y="1263"/>
                  <a:pt x="4595" y="1301"/>
                </a:cubicBezTo>
                <a:cubicBezTo>
                  <a:pt x="4610" y="1365"/>
                  <a:pt x="4619" y="1430"/>
                  <a:pt x="4638" y="1493"/>
                </a:cubicBezTo>
                <a:cubicBezTo>
                  <a:pt x="4650" y="1576"/>
                  <a:pt x="4653" y="1645"/>
                  <a:pt x="4603" y="1712"/>
                </a:cubicBezTo>
                <a:cubicBezTo>
                  <a:pt x="4591" y="1729"/>
                  <a:pt x="4576" y="1744"/>
                  <a:pt x="4569" y="1764"/>
                </a:cubicBezTo>
                <a:cubicBezTo>
                  <a:pt x="4563" y="1781"/>
                  <a:pt x="4551" y="1816"/>
                  <a:pt x="4551" y="1816"/>
                </a:cubicBezTo>
                <a:cubicBezTo>
                  <a:pt x="4554" y="1842"/>
                  <a:pt x="4548" y="1871"/>
                  <a:pt x="4560" y="1895"/>
                </a:cubicBezTo>
                <a:cubicBezTo>
                  <a:pt x="4586" y="1947"/>
                  <a:pt x="4651" y="1970"/>
                  <a:pt x="4691" y="2008"/>
                </a:cubicBezTo>
                <a:cubicBezTo>
                  <a:pt x="4709" y="2067"/>
                  <a:pt x="4707" y="2120"/>
                  <a:pt x="4752" y="2165"/>
                </a:cubicBezTo>
                <a:cubicBezTo>
                  <a:pt x="4773" y="2242"/>
                  <a:pt x="4821" y="2305"/>
                  <a:pt x="4839" y="2384"/>
                </a:cubicBezTo>
                <a:cubicBezTo>
                  <a:pt x="4851" y="2439"/>
                  <a:pt x="4848" y="2495"/>
                  <a:pt x="4865" y="2549"/>
                </a:cubicBezTo>
                <a:cubicBezTo>
                  <a:pt x="4862" y="2581"/>
                  <a:pt x="4865" y="2614"/>
                  <a:pt x="4857" y="2645"/>
                </a:cubicBezTo>
                <a:cubicBezTo>
                  <a:pt x="4846" y="2688"/>
                  <a:pt x="4788" y="2704"/>
                  <a:pt x="4752" y="2715"/>
                </a:cubicBezTo>
                <a:cubicBezTo>
                  <a:pt x="4600" y="2762"/>
                  <a:pt x="4593" y="2768"/>
                  <a:pt x="4411" y="2776"/>
                </a:cubicBezTo>
                <a:cubicBezTo>
                  <a:pt x="4391" y="2779"/>
                  <a:pt x="4359" y="2766"/>
                  <a:pt x="4350" y="2785"/>
                </a:cubicBezTo>
                <a:cubicBezTo>
                  <a:pt x="4330" y="2827"/>
                  <a:pt x="4382" y="2902"/>
                  <a:pt x="4342" y="2925"/>
                </a:cubicBezTo>
                <a:cubicBezTo>
                  <a:pt x="4279" y="2962"/>
                  <a:pt x="4196" y="2919"/>
                  <a:pt x="4123" y="2916"/>
                </a:cubicBezTo>
                <a:cubicBezTo>
                  <a:pt x="4063" y="2884"/>
                  <a:pt x="3998" y="2867"/>
                  <a:pt x="3940" y="2829"/>
                </a:cubicBezTo>
                <a:cubicBezTo>
                  <a:pt x="3931" y="2817"/>
                  <a:pt x="3924" y="2804"/>
                  <a:pt x="3914" y="2794"/>
                </a:cubicBezTo>
                <a:cubicBezTo>
                  <a:pt x="3904" y="2784"/>
                  <a:pt x="3888" y="2779"/>
                  <a:pt x="3879" y="2768"/>
                </a:cubicBezTo>
                <a:cubicBezTo>
                  <a:pt x="3859" y="2745"/>
                  <a:pt x="3851" y="2715"/>
                  <a:pt x="3835" y="2689"/>
                </a:cubicBezTo>
                <a:cubicBezTo>
                  <a:pt x="3828" y="2648"/>
                  <a:pt x="3818" y="2608"/>
                  <a:pt x="3809" y="2567"/>
                </a:cubicBezTo>
                <a:cubicBezTo>
                  <a:pt x="3792" y="2579"/>
                  <a:pt x="3775" y="2592"/>
                  <a:pt x="3757" y="2602"/>
                </a:cubicBezTo>
                <a:cubicBezTo>
                  <a:pt x="3749" y="2606"/>
                  <a:pt x="3738" y="2604"/>
                  <a:pt x="3731" y="2610"/>
                </a:cubicBezTo>
                <a:cubicBezTo>
                  <a:pt x="3708" y="2628"/>
                  <a:pt x="3696" y="2659"/>
                  <a:pt x="3670" y="2672"/>
                </a:cubicBezTo>
                <a:cubicBezTo>
                  <a:pt x="3658" y="2678"/>
                  <a:pt x="3646" y="2682"/>
                  <a:pt x="3635" y="2689"/>
                </a:cubicBezTo>
                <a:cubicBezTo>
                  <a:pt x="3612" y="2704"/>
                  <a:pt x="3605" y="2734"/>
                  <a:pt x="3574" y="2741"/>
                </a:cubicBezTo>
                <a:cubicBezTo>
                  <a:pt x="3526" y="2752"/>
                  <a:pt x="3475" y="2747"/>
                  <a:pt x="3425" y="2750"/>
                </a:cubicBezTo>
                <a:cubicBezTo>
                  <a:pt x="3426" y="2766"/>
                  <a:pt x="3457" y="3004"/>
                  <a:pt x="3434" y="3047"/>
                </a:cubicBezTo>
                <a:cubicBezTo>
                  <a:pt x="3425" y="3063"/>
                  <a:pt x="3400" y="3061"/>
                  <a:pt x="3382" y="3064"/>
                </a:cubicBezTo>
                <a:cubicBezTo>
                  <a:pt x="3365" y="3067"/>
                  <a:pt x="3128" y="3081"/>
                  <a:pt x="3120" y="3082"/>
                </a:cubicBezTo>
                <a:cubicBezTo>
                  <a:pt x="3022" y="3112"/>
                  <a:pt x="2915" y="3091"/>
                  <a:pt x="2814" y="3117"/>
                </a:cubicBezTo>
                <a:cubicBezTo>
                  <a:pt x="2769" y="3147"/>
                  <a:pt x="2740" y="3188"/>
                  <a:pt x="2692" y="3213"/>
                </a:cubicBezTo>
                <a:cubicBezTo>
                  <a:pt x="2649" y="3279"/>
                  <a:pt x="2704" y="3202"/>
                  <a:pt x="2649" y="3256"/>
                </a:cubicBezTo>
                <a:cubicBezTo>
                  <a:pt x="2611" y="3293"/>
                  <a:pt x="2581" y="3340"/>
                  <a:pt x="2544" y="3378"/>
                </a:cubicBezTo>
                <a:cubicBezTo>
                  <a:pt x="2488" y="3436"/>
                  <a:pt x="2413" y="3476"/>
                  <a:pt x="2334" y="3492"/>
                </a:cubicBezTo>
                <a:cubicBezTo>
                  <a:pt x="2220" y="3566"/>
                  <a:pt x="2069" y="3516"/>
                  <a:pt x="1942" y="3483"/>
                </a:cubicBezTo>
                <a:cubicBezTo>
                  <a:pt x="1906" y="3456"/>
                  <a:pt x="1889" y="3450"/>
                  <a:pt x="1846" y="3440"/>
                </a:cubicBezTo>
                <a:cubicBezTo>
                  <a:pt x="1822" y="3416"/>
                  <a:pt x="1776" y="3361"/>
                  <a:pt x="1767" y="3335"/>
                </a:cubicBezTo>
                <a:cubicBezTo>
                  <a:pt x="1757" y="3306"/>
                  <a:pt x="1755" y="3286"/>
                  <a:pt x="1732" y="3265"/>
                </a:cubicBezTo>
                <a:cubicBezTo>
                  <a:pt x="1735" y="3181"/>
                  <a:pt x="1741" y="3096"/>
                  <a:pt x="1741" y="3012"/>
                </a:cubicBezTo>
                <a:cubicBezTo>
                  <a:pt x="1741" y="2893"/>
                  <a:pt x="1640" y="3024"/>
                  <a:pt x="1600" y="2933"/>
                </a:cubicBezTo>
                <a:cubicBezTo>
                  <a:pt x="1585" y="2900"/>
                  <a:pt x="1526" y="2993"/>
                  <a:pt x="1486" y="2976"/>
                </a:cubicBezTo>
                <a:cubicBezTo>
                  <a:pt x="1461" y="2966"/>
                  <a:pt x="1451" y="2896"/>
                  <a:pt x="1425" y="2889"/>
                </a:cubicBezTo>
                <a:cubicBezTo>
                  <a:pt x="1171" y="2901"/>
                  <a:pt x="1347" y="2854"/>
                  <a:pt x="1312" y="2863"/>
                </a:cubicBezTo>
                <a:cubicBezTo>
                  <a:pt x="1302" y="2923"/>
                  <a:pt x="1298" y="2837"/>
                  <a:pt x="1252" y="2881"/>
                </a:cubicBezTo>
                <a:cubicBezTo>
                  <a:pt x="1226" y="2880"/>
                  <a:pt x="883" y="2837"/>
                  <a:pt x="790" y="2898"/>
                </a:cubicBezTo>
                <a:cubicBezTo>
                  <a:pt x="770" y="2995"/>
                  <a:pt x="801" y="2977"/>
                  <a:pt x="746" y="2994"/>
                </a:cubicBezTo>
                <a:cubicBezTo>
                  <a:pt x="690" y="2982"/>
                  <a:pt x="636" y="2969"/>
                  <a:pt x="580" y="2960"/>
                </a:cubicBezTo>
                <a:cubicBezTo>
                  <a:pt x="461" y="2967"/>
                  <a:pt x="425" y="2977"/>
                  <a:pt x="310" y="2968"/>
                </a:cubicBezTo>
                <a:cubicBezTo>
                  <a:pt x="280" y="2940"/>
                  <a:pt x="243" y="2919"/>
                  <a:pt x="214" y="2890"/>
                </a:cubicBezTo>
                <a:cubicBezTo>
                  <a:pt x="196" y="2872"/>
                  <a:pt x="161" y="2837"/>
                  <a:pt x="161" y="2837"/>
                </a:cubicBezTo>
                <a:cubicBezTo>
                  <a:pt x="138" y="2718"/>
                  <a:pt x="144" y="2598"/>
                  <a:pt x="118" y="2480"/>
                </a:cubicBezTo>
                <a:cubicBezTo>
                  <a:pt x="106" y="2426"/>
                  <a:pt x="104" y="2377"/>
                  <a:pt x="74" y="2331"/>
                </a:cubicBezTo>
                <a:cubicBezTo>
                  <a:pt x="65" y="2295"/>
                  <a:pt x="61" y="2266"/>
                  <a:pt x="39" y="2235"/>
                </a:cubicBezTo>
                <a:cubicBezTo>
                  <a:pt x="36" y="2221"/>
                  <a:pt x="29" y="2207"/>
                  <a:pt x="30" y="2192"/>
                </a:cubicBezTo>
                <a:cubicBezTo>
                  <a:pt x="32" y="2157"/>
                  <a:pt x="31" y="2118"/>
                  <a:pt x="48" y="2087"/>
                </a:cubicBezTo>
                <a:cubicBezTo>
                  <a:pt x="78" y="2030"/>
                  <a:pt x="226" y="2013"/>
                  <a:pt x="283" y="1991"/>
                </a:cubicBezTo>
                <a:cubicBezTo>
                  <a:pt x="302" y="1937"/>
                  <a:pt x="297" y="1891"/>
                  <a:pt x="257" y="1851"/>
                </a:cubicBezTo>
                <a:cubicBezTo>
                  <a:pt x="233" y="1802"/>
                  <a:pt x="196" y="1753"/>
                  <a:pt x="153" y="1720"/>
                </a:cubicBezTo>
                <a:cubicBezTo>
                  <a:pt x="150" y="1703"/>
                  <a:pt x="152" y="1684"/>
                  <a:pt x="144" y="1668"/>
                </a:cubicBezTo>
                <a:cubicBezTo>
                  <a:pt x="139" y="1659"/>
                  <a:pt x="123" y="1659"/>
                  <a:pt x="118" y="1650"/>
                </a:cubicBezTo>
                <a:cubicBezTo>
                  <a:pt x="91" y="1602"/>
                  <a:pt x="95" y="1555"/>
                  <a:pt x="65" y="1511"/>
                </a:cubicBezTo>
                <a:cubicBezTo>
                  <a:pt x="52" y="1440"/>
                  <a:pt x="43" y="1361"/>
                  <a:pt x="22" y="1293"/>
                </a:cubicBezTo>
                <a:cubicBezTo>
                  <a:pt x="16" y="1194"/>
                  <a:pt x="0" y="1084"/>
                  <a:pt x="30" y="987"/>
                </a:cubicBezTo>
                <a:cubicBezTo>
                  <a:pt x="23" y="951"/>
                  <a:pt x="13" y="918"/>
                  <a:pt x="4" y="882"/>
                </a:cubicBezTo>
                <a:cubicBezTo>
                  <a:pt x="13" y="862"/>
                  <a:pt x="12" y="834"/>
                  <a:pt x="30" y="821"/>
                </a:cubicBezTo>
                <a:cubicBezTo>
                  <a:pt x="56" y="802"/>
                  <a:pt x="95" y="815"/>
                  <a:pt x="126" y="804"/>
                </a:cubicBezTo>
                <a:cubicBezTo>
                  <a:pt x="155" y="721"/>
                  <a:pt x="122" y="610"/>
                  <a:pt x="109" y="525"/>
                </a:cubicBezTo>
                <a:cubicBezTo>
                  <a:pt x="116" y="439"/>
                  <a:pt x="134" y="385"/>
                  <a:pt x="153" y="306"/>
                </a:cubicBezTo>
                <a:cubicBezTo>
                  <a:pt x="156" y="292"/>
                  <a:pt x="147" y="268"/>
                  <a:pt x="161" y="263"/>
                </a:cubicBezTo>
                <a:cubicBezTo>
                  <a:pt x="205" y="247"/>
                  <a:pt x="254" y="257"/>
                  <a:pt x="301" y="254"/>
                </a:cubicBezTo>
                <a:cubicBezTo>
                  <a:pt x="319" y="203"/>
                  <a:pt x="355" y="204"/>
                  <a:pt x="397" y="176"/>
                </a:cubicBezTo>
                <a:cubicBezTo>
                  <a:pt x="400" y="161"/>
                  <a:pt x="398" y="144"/>
                  <a:pt x="406" y="132"/>
                </a:cubicBezTo>
                <a:cubicBezTo>
                  <a:pt x="417" y="116"/>
                  <a:pt x="485" y="121"/>
                  <a:pt x="502" y="106"/>
                </a:cubicBezTo>
                <a:cubicBezTo>
                  <a:pt x="506" y="102"/>
                  <a:pt x="490" y="106"/>
                  <a:pt x="484" y="106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3"/>
          <p:cNvSpPr/>
          <p:nvPr/>
        </p:nvSpPr>
        <p:spPr>
          <a:xfrm>
            <a:off x="324000" y="476280"/>
            <a:ext cx="5256000" cy="792000"/>
          </a:xfrm>
          <a:custGeom>
            <a:avLst/>
            <a:gdLst>
              <a:gd name="textAreaLeft" fmla="*/ 791280 w 5256000"/>
              <a:gd name="textAreaRight" fmla="*/ 4464720 w 5256000"/>
              <a:gd name="textAreaTop" fmla="*/ 0 h 792000"/>
              <a:gd name="textAreaBottom" fmla="*/ 529920 h 792000"/>
            </a:gdLst>
            <a:ahLst/>
            <a:rect l="textAreaLeft" t="textAreaTop" r="textAreaRight" b="textAreaBottom"/>
            <a:pathLst>
              <a:path w="21600" h="21600">
                <a:moveTo>
                  <a:pt x="5953" y="14453"/>
                </a:moveTo>
                <a:lnTo>
                  <a:pt x="5953" y="19813"/>
                </a:lnTo>
                <a:cubicBezTo>
                  <a:pt x="5953" y="20707"/>
                  <a:pt x="5533" y="21600"/>
                  <a:pt x="5113" y="21600"/>
                </a:cubicBezTo>
                <a:lnTo>
                  <a:pt x="0" y="21600"/>
                </a:lnTo>
                <a:lnTo>
                  <a:pt x="2750" y="14374"/>
                </a:lnTo>
                <a:lnTo>
                  <a:pt x="0" y="7147"/>
                </a:lnTo>
                <a:lnTo>
                  <a:pt x="3253" y="7147"/>
                </a:lnTo>
                <a:lnTo>
                  <a:pt x="3253" y="1787"/>
                </a:lnTo>
                <a:cubicBezTo>
                  <a:pt x="3253" y="893"/>
                  <a:pt x="3673" y="0"/>
                  <a:pt x="4093" y="0"/>
                </a:cubicBezTo>
                <a:lnTo>
                  <a:pt x="17507" y="0"/>
                </a:lnTo>
                <a:cubicBezTo>
                  <a:pt x="17927" y="0"/>
                  <a:pt x="18347" y="893"/>
                  <a:pt x="18347" y="1787"/>
                </a:cubicBezTo>
                <a:lnTo>
                  <a:pt x="18347" y="7147"/>
                </a:lnTo>
                <a:lnTo>
                  <a:pt x="21600" y="7147"/>
                </a:lnTo>
                <a:lnTo>
                  <a:pt x="18850" y="14374"/>
                </a:lnTo>
                <a:lnTo>
                  <a:pt x="21600" y="21600"/>
                </a:lnTo>
                <a:lnTo>
                  <a:pt x="16487" y="21600"/>
                </a:lnTo>
                <a:cubicBezTo>
                  <a:pt x="16067" y="21600"/>
                  <a:pt x="15647" y="20707"/>
                  <a:pt x="15647" y="19813"/>
                </a:cubicBezTo>
                <a:lnTo>
                  <a:pt x="15647" y="14453"/>
                </a:lnTo>
                <a:close/>
              </a:path>
              <a:path fill="darkenLess" w="21600" h="21600">
                <a:moveTo>
                  <a:pt x="5953" y="14453"/>
                </a:moveTo>
                <a:lnTo>
                  <a:pt x="5953" y="19813"/>
                </a:lnTo>
                <a:cubicBezTo>
                  <a:pt x="5953" y="18920"/>
                  <a:pt x="5533" y="18027"/>
                  <a:pt x="5113" y="18027"/>
                </a:cubicBezTo>
                <a:lnTo>
                  <a:pt x="4093" y="18027"/>
                </a:lnTo>
                <a:cubicBezTo>
                  <a:pt x="3673" y="18027"/>
                  <a:pt x="3253" y="17133"/>
                  <a:pt x="3253" y="16240"/>
                </a:cubicBezTo>
                <a:cubicBezTo>
                  <a:pt x="3253" y="15346"/>
                  <a:pt x="3673" y="14453"/>
                  <a:pt x="4093" y="14453"/>
                </a:cubicBezTo>
                <a:close/>
              </a:path>
              <a:path fill="darkenLess" w="21600" h="21600">
                <a:moveTo>
                  <a:pt x="15647" y="14453"/>
                </a:moveTo>
                <a:lnTo>
                  <a:pt x="15647" y="19813"/>
                </a:lnTo>
                <a:cubicBezTo>
                  <a:pt x="15647" y="18920"/>
                  <a:pt x="16067" y="18027"/>
                  <a:pt x="16487" y="18027"/>
                </a:cubicBezTo>
                <a:lnTo>
                  <a:pt x="17507" y="18027"/>
                </a:lnTo>
                <a:cubicBezTo>
                  <a:pt x="17927" y="18027"/>
                  <a:pt x="18347" y="17133"/>
                  <a:pt x="18347" y="16240"/>
                </a:cubicBezTo>
                <a:cubicBezTo>
                  <a:pt x="18347" y="15346"/>
                  <a:pt x="17927" y="14453"/>
                  <a:pt x="17507" y="14453"/>
                </a:cubicBezTo>
                <a:close/>
              </a:path>
              <a:path fill="darkenLess" w="21600" h="21600">
                <a:moveTo>
                  <a:pt x="3253" y="16240"/>
                </a:moveTo>
                <a:lnTo>
                  <a:pt x="3253" y="7147"/>
                </a:lnTo>
              </a:path>
              <a:path fill="darkenLess" w="21600" h="21600">
                <a:moveTo>
                  <a:pt x="18347" y="16240"/>
                </a:moveTo>
                <a:lnTo>
                  <a:pt x="18347" y="7147"/>
                </a:lnTo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2700000"/>
          </a:gra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Остров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МОРФ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rc 4"/>
          <p:cNvSpPr/>
          <p:nvPr/>
        </p:nvSpPr>
        <p:spPr>
          <a:xfrm flipV="1">
            <a:off x="1403280" y="1627920"/>
            <a:ext cx="1511280" cy="1800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5"/>
          <p:cNvSpPr/>
          <p:nvPr/>
        </p:nvSpPr>
        <p:spPr>
          <a:xfrm>
            <a:off x="1116000" y="2492280"/>
            <a:ext cx="2219400" cy="1765440"/>
          </a:xfrm>
          <a:custGeom>
            <a:avLst/>
            <a:gdLst/>
            <a:ahLst/>
            <a:rect l="l" t="t" r="r" b="b"/>
            <a:pathLst>
              <a:path w="1398" h="1112">
                <a:moveTo>
                  <a:pt x="998" y="0"/>
                </a:moveTo>
                <a:cubicBezTo>
                  <a:pt x="1107" y="87"/>
                  <a:pt x="1217" y="174"/>
                  <a:pt x="1270" y="272"/>
                </a:cubicBezTo>
                <a:cubicBezTo>
                  <a:pt x="1323" y="370"/>
                  <a:pt x="1398" y="462"/>
                  <a:pt x="1315" y="590"/>
                </a:cubicBezTo>
                <a:cubicBezTo>
                  <a:pt x="1232" y="718"/>
                  <a:pt x="937" y="976"/>
                  <a:pt x="771" y="1044"/>
                </a:cubicBezTo>
                <a:cubicBezTo>
                  <a:pt x="605" y="1112"/>
                  <a:pt x="445" y="1013"/>
                  <a:pt x="317" y="998"/>
                </a:cubicBezTo>
                <a:cubicBezTo>
                  <a:pt x="189" y="983"/>
                  <a:pt x="53" y="960"/>
                  <a:pt x="0" y="9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6"/>
          <p:cNvSpPr/>
          <p:nvPr/>
        </p:nvSpPr>
        <p:spPr>
          <a:xfrm>
            <a:off x="3132000" y="1844640"/>
            <a:ext cx="1584360" cy="1739880"/>
          </a:xfrm>
          <a:custGeom>
            <a:avLst/>
            <a:gdLst/>
            <a:ahLst/>
            <a:rect l="l" t="t" r="r" b="b"/>
            <a:pathLst>
              <a:path w="998" h="1096">
                <a:moveTo>
                  <a:pt x="0" y="1089"/>
                </a:moveTo>
                <a:cubicBezTo>
                  <a:pt x="264" y="1092"/>
                  <a:pt x="529" y="1096"/>
                  <a:pt x="680" y="998"/>
                </a:cubicBezTo>
                <a:cubicBezTo>
                  <a:pt x="831" y="900"/>
                  <a:pt x="854" y="665"/>
                  <a:pt x="907" y="499"/>
                </a:cubicBezTo>
                <a:cubicBezTo>
                  <a:pt x="960" y="333"/>
                  <a:pt x="983" y="83"/>
                  <a:pt x="99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3708360" y="3284640"/>
            <a:ext cx="803160" cy="2232000"/>
          </a:xfrm>
          <a:custGeom>
            <a:avLst/>
            <a:gdLst/>
            <a:ahLst/>
            <a:rect l="l" t="t" r="r" b="b"/>
            <a:pathLst>
              <a:path w="552" h="1444">
                <a:moveTo>
                  <a:pt x="450" y="0"/>
                </a:moveTo>
                <a:cubicBezTo>
                  <a:pt x="377" y="109"/>
                  <a:pt x="0" y="452"/>
                  <a:pt x="13" y="655"/>
                </a:cubicBezTo>
                <a:cubicBezTo>
                  <a:pt x="26" y="858"/>
                  <a:pt x="502" y="1086"/>
                  <a:pt x="527" y="1217"/>
                </a:cubicBezTo>
                <a:cubicBezTo>
                  <a:pt x="552" y="1348"/>
                  <a:pt x="224" y="1414"/>
                  <a:pt x="164" y="14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8"/>
          <p:cNvSpPr/>
          <p:nvPr/>
        </p:nvSpPr>
        <p:spPr>
          <a:xfrm>
            <a:off x="4378320" y="1297080"/>
            <a:ext cx="3219480" cy="1944720"/>
          </a:xfrm>
          <a:custGeom>
            <a:avLst/>
            <a:gdLst/>
            <a:ahLst/>
            <a:rect l="l" t="t" r="r" b="b"/>
            <a:pathLst>
              <a:path w="2028" h="1225">
                <a:moveTo>
                  <a:pt x="0" y="1225"/>
                </a:moveTo>
                <a:cubicBezTo>
                  <a:pt x="185" y="1138"/>
                  <a:pt x="796" y="821"/>
                  <a:pt x="1117" y="702"/>
                </a:cubicBezTo>
                <a:cubicBezTo>
                  <a:pt x="1438" y="583"/>
                  <a:pt x="1830" y="615"/>
                  <a:pt x="1929" y="510"/>
                </a:cubicBezTo>
                <a:cubicBezTo>
                  <a:pt x="2028" y="405"/>
                  <a:pt x="1837" y="146"/>
                  <a:pt x="1710" y="73"/>
                </a:cubicBezTo>
                <a:cubicBezTo>
                  <a:pt x="1583" y="0"/>
                  <a:pt x="1309" y="80"/>
                  <a:pt x="1165" y="73"/>
                </a:cubicBezTo>
                <a:cubicBezTo>
                  <a:pt x="1021" y="66"/>
                  <a:pt x="901" y="35"/>
                  <a:pt x="848" y="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7020000" y="907920"/>
            <a:ext cx="1033560" cy="576360"/>
          </a:xfrm>
          <a:custGeom>
            <a:avLst/>
            <a:gdLst/>
            <a:ahLst/>
            <a:rect l="l" t="t" r="r" b="b"/>
            <a:pathLst>
              <a:path w="651" h="319">
                <a:moveTo>
                  <a:pt x="0" y="273"/>
                </a:moveTo>
                <a:cubicBezTo>
                  <a:pt x="219" y="296"/>
                  <a:pt x="439" y="319"/>
                  <a:pt x="545" y="273"/>
                </a:cubicBezTo>
                <a:cubicBezTo>
                  <a:pt x="651" y="227"/>
                  <a:pt x="620" y="46"/>
                  <a:pt x="63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0"/>
          <p:cNvSpPr/>
          <p:nvPr/>
        </p:nvSpPr>
        <p:spPr>
          <a:xfrm>
            <a:off x="7740720" y="1413000"/>
            <a:ext cx="695160" cy="1884240"/>
          </a:xfrm>
          <a:custGeom>
            <a:avLst/>
            <a:gdLst/>
            <a:ahLst/>
            <a:rect l="l" t="t" r="r" b="b"/>
            <a:pathLst>
              <a:path w="438" h="1187">
                <a:moveTo>
                  <a:pt x="30" y="0"/>
                </a:moveTo>
                <a:cubicBezTo>
                  <a:pt x="56" y="132"/>
                  <a:pt x="83" y="265"/>
                  <a:pt x="121" y="363"/>
                </a:cubicBezTo>
                <a:cubicBezTo>
                  <a:pt x="159" y="461"/>
                  <a:pt x="272" y="514"/>
                  <a:pt x="257" y="590"/>
                </a:cubicBezTo>
                <a:cubicBezTo>
                  <a:pt x="242" y="666"/>
                  <a:pt x="60" y="726"/>
                  <a:pt x="30" y="817"/>
                </a:cubicBezTo>
                <a:cubicBezTo>
                  <a:pt x="0" y="908"/>
                  <a:pt x="7" y="1081"/>
                  <a:pt x="75" y="1134"/>
                </a:cubicBezTo>
                <a:cubicBezTo>
                  <a:pt x="143" y="1187"/>
                  <a:pt x="378" y="1134"/>
                  <a:pt x="438" y="113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11"/>
          <p:cNvSpPr/>
          <p:nvPr/>
        </p:nvSpPr>
        <p:spPr>
          <a:xfrm>
            <a:off x="6588000" y="2276640"/>
            <a:ext cx="1812960" cy="1944360"/>
          </a:xfrm>
          <a:custGeom>
            <a:avLst/>
            <a:gdLst/>
            <a:ahLst/>
            <a:rect l="l" t="t" r="r" b="b"/>
            <a:pathLst>
              <a:path w="1142" h="1270">
                <a:moveTo>
                  <a:pt x="167" y="0"/>
                </a:moveTo>
                <a:cubicBezTo>
                  <a:pt x="216" y="374"/>
                  <a:pt x="265" y="748"/>
                  <a:pt x="257" y="952"/>
                </a:cubicBezTo>
                <a:cubicBezTo>
                  <a:pt x="249" y="1156"/>
                  <a:pt x="0" y="1180"/>
                  <a:pt x="121" y="1225"/>
                </a:cubicBezTo>
                <a:cubicBezTo>
                  <a:pt x="242" y="1270"/>
                  <a:pt x="824" y="1263"/>
                  <a:pt x="983" y="1225"/>
                </a:cubicBezTo>
                <a:cubicBezTo>
                  <a:pt x="1142" y="1187"/>
                  <a:pt x="1059" y="1036"/>
                  <a:pt x="1074" y="99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12"/>
          <p:cNvSpPr/>
          <p:nvPr/>
        </p:nvSpPr>
        <p:spPr>
          <a:xfrm>
            <a:off x="3780000" y="3213000"/>
            <a:ext cx="3168360" cy="936720"/>
          </a:xfrm>
          <a:custGeom>
            <a:avLst/>
            <a:gdLst/>
            <a:ahLst/>
            <a:rect l="l" t="t" r="r" b="b"/>
            <a:pathLst>
              <a:path w="2041" h="596">
                <a:moveTo>
                  <a:pt x="0" y="590"/>
                </a:moveTo>
                <a:cubicBezTo>
                  <a:pt x="185" y="575"/>
                  <a:pt x="771" y="596"/>
                  <a:pt x="1111" y="498"/>
                </a:cubicBezTo>
                <a:cubicBezTo>
                  <a:pt x="1451" y="400"/>
                  <a:pt x="1847" y="104"/>
                  <a:pt x="204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13"/>
          <p:cNvSpPr/>
          <p:nvPr/>
        </p:nvSpPr>
        <p:spPr>
          <a:xfrm>
            <a:off x="5148360" y="4076640"/>
            <a:ext cx="718920" cy="1584360"/>
          </a:xfrm>
          <a:custGeom>
            <a:avLst/>
            <a:gdLst/>
            <a:ahLst/>
            <a:rect l="l" t="t" r="r" b="b"/>
            <a:pathLst>
              <a:path w="453" h="998">
                <a:moveTo>
                  <a:pt x="0" y="0"/>
                </a:moveTo>
                <a:cubicBezTo>
                  <a:pt x="30" y="302"/>
                  <a:pt x="61" y="605"/>
                  <a:pt x="136" y="771"/>
                </a:cubicBezTo>
                <a:cubicBezTo>
                  <a:pt x="211" y="937"/>
                  <a:pt x="400" y="960"/>
                  <a:pt x="453" y="99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14"/>
          <p:cNvSpPr/>
          <p:nvPr/>
        </p:nvSpPr>
        <p:spPr>
          <a:xfrm>
            <a:off x="5292720" y="4149720"/>
            <a:ext cx="2592360" cy="647640"/>
          </a:xfrm>
          <a:custGeom>
            <a:avLst/>
            <a:gdLst/>
            <a:ahLst/>
            <a:rect l="l" t="t" r="r" b="b"/>
            <a:pathLst>
              <a:path w="1633" h="408">
                <a:moveTo>
                  <a:pt x="0" y="408"/>
                </a:moveTo>
                <a:cubicBezTo>
                  <a:pt x="272" y="374"/>
                  <a:pt x="544" y="340"/>
                  <a:pt x="816" y="272"/>
                </a:cubicBezTo>
                <a:cubicBezTo>
                  <a:pt x="1088" y="204"/>
                  <a:pt x="1505" y="45"/>
                  <a:pt x="163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5"/>
          <p:cNvSpPr/>
          <p:nvPr/>
        </p:nvSpPr>
        <p:spPr>
          <a:xfrm rot="20270400">
            <a:off x="4137480" y="3092400"/>
            <a:ext cx="29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мя существи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 rot="20270400">
            <a:off x="1332000" y="321264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мя прилагатель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 rot="18738000">
            <a:off x="1091880" y="216864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епричас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8"/>
          <p:cNvSpPr/>
          <p:nvPr/>
        </p:nvSpPr>
        <p:spPr>
          <a:xfrm rot="21317400">
            <a:off x="2728800" y="22143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час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9"/>
          <p:cNvSpPr/>
          <p:nvPr/>
        </p:nvSpPr>
        <p:spPr>
          <a:xfrm rot="20270400">
            <a:off x="4586400" y="195696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реч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0"/>
          <p:cNvSpPr/>
          <p:nvPr/>
        </p:nvSpPr>
        <p:spPr>
          <a:xfrm rot="182400">
            <a:off x="1186920" y="4292640"/>
            <a:ext cx="25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мя числи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1"/>
          <p:cNvSpPr/>
          <p:nvPr/>
        </p:nvSpPr>
        <p:spPr>
          <a:xfrm>
            <a:off x="6084720" y="907920"/>
            <a:ext cx="18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естоим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2"/>
          <p:cNvSpPr/>
          <p:nvPr/>
        </p:nvSpPr>
        <p:spPr>
          <a:xfrm rot="20270400">
            <a:off x="5041800" y="3866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ю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3"/>
          <p:cNvSpPr/>
          <p:nvPr/>
        </p:nvSpPr>
        <p:spPr>
          <a:xfrm rot="21197400">
            <a:off x="5867280" y="4581000"/>
            <a:ext cx="23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едло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 rot="2931600">
            <a:off x="3901680" y="4743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ла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5"/>
          <p:cNvSpPr/>
          <p:nvPr/>
        </p:nvSpPr>
        <p:spPr>
          <a:xfrm rot="4620000">
            <a:off x="6608160" y="3066840"/>
            <a:ext cx="18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аст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6"/>
          <p:cNvSpPr/>
          <p:nvPr/>
        </p:nvSpPr>
        <p:spPr>
          <a:xfrm rot="4675800">
            <a:off x="7332480" y="203544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еждомет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0000"/>
                </a:solidFill>
                <a:latin typeface="Arial"/>
              </a:rPr>
              <a:t>3 кит</a:t>
            </a:r>
            <a:endParaRPr b="0" lang="en-US" sz="7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1692360" y="3141720"/>
            <a:ext cx="29509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Синтаксический призн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роль в предлож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WordArt 5"/>
          <p:cNvSpPr txBox="1"/>
          <p:nvPr/>
        </p:nvSpPr>
        <p:spPr>
          <a:xfrm>
            <a:off x="755640" y="5157720"/>
            <a:ext cx="3238560" cy="7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длежащее</a:t>
            </a:r>
            <a:endParaRPr b="1" lang="en-US" sz="36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8" name="WordArt 6"/>
          <p:cNvSpPr txBox="1"/>
          <p:nvPr/>
        </p:nvSpPr>
        <p:spPr>
          <a:xfrm>
            <a:off x="4716360" y="5229360"/>
            <a:ext cx="29512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казуемое</a:t>
            </a:r>
            <a:endParaRPr b="1" lang="en-US" sz="36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89" name="Picture 7" descr=""/>
          <p:cNvPicPr/>
          <p:nvPr/>
        </p:nvPicPr>
        <p:blipFill>
          <a:blip r:embed="rId1"/>
          <a:stretch/>
        </p:blipFill>
        <p:spPr>
          <a:xfrm>
            <a:off x="584280" y="1197000"/>
            <a:ext cx="8153280" cy="3527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91" name="WordArt 13"/>
          <p:cNvSpPr txBox="1"/>
          <p:nvPr/>
        </p:nvSpPr>
        <p:spPr>
          <a:xfrm>
            <a:off x="1258920" y="907920"/>
            <a:ext cx="6696000" cy="5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До скорых встреч!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8153280" cy="4038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0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77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770" fill="hold"/>
                                        <p:tgtEl>
                                          <p:spTgt spid="2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0" dur="77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646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Из словаря Ожегова - 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403280" y="1700280"/>
            <a:ext cx="640080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Лингвистика </a:t>
            </a: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наука о языке, языкозн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Морфология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– раздел науки о языке, изучающий части речи и их фор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reeform 5"/>
          <p:cNvSpPr/>
          <p:nvPr/>
        </p:nvSpPr>
        <p:spPr>
          <a:xfrm flipH="1">
            <a:off x="900000" y="620640"/>
            <a:ext cx="7723440" cy="5661000"/>
          </a:xfrm>
          <a:custGeom>
            <a:avLst/>
            <a:gdLst/>
            <a:ahLst/>
            <a:rect l="l" t="t" r="r" b="b"/>
            <a:pathLst>
              <a:path w="4865" h="3566">
                <a:moveTo>
                  <a:pt x="484" y="106"/>
                </a:moveTo>
                <a:cubicBezTo>
                  <a:pt x="2024" y="118"/>
                  <a:pt x="1171" y="0"/>
                  <a:pt x="1627" y="158"/>
                </a:cubicBezTo>
                <a:cubicBezTo>
                  <a:pt x="1650" y="272"/>
                  <a:pt x="1762" y="254"/>
                  <a:pt x="1696" y="358"/>
                </a:cubicBezTo>
                <a:cubicBezTo>
                  <a:pt x="1731" y="376"/>
                  <a:pt x="1851" y="469"/>
                  <a:pt x="1792" y="498"/>
                </a:cubicBezTo>
                <a:cubicBezTo>
                  <a:pt x="1816" y="531"/>
                  <a:pt x="1550" y="734"/>
                  <a:pt x="1584" y="760"/>
                </a:cubicBezTo>
                <a:cubicBezTo>
                  <a:pt x="1679" y="833"/>
                  <a:pt x="1613" y="772"/>
                  <a:pt x="1689" y="848"/>
                </a:cubicBezTo>
                <a:cubicBezTo>
                  <a:pt x="1708" y="867"/>
                  <a:pt x="1740" y="863"/>
                  <a:pt x="1767" y="865"/>
                </a:cubicBezTo>
                <a:cubicBezTo>
                  <a:pt x="1819" y="869"/>
                  <a:pt x="1872" y="871"/>
                  <a:pt x="1924" y="874"/>
                </a:cubicBezTo>
                <a:cubicBezTo>
                  <a:pt x="2008" y="871"/>
                  <a:pt x="2093" y="870"/>
                  <a:pt x="2177" y="865"/>
                </a:cubicBezTo>
                <a:cubicBezTo>
                  <a:pt x="2230" y="862"/>
                  <a:pt x="2196" y="859"/>
                  <a:pt x="2230" y="839"/>
                </a:cubicBezTo>
                <a:cubicBezTo>
                  <a:pt x="2265" y="818"/>
                  <a:pt x="2323" y="818"/>
                  <a:pt x="2361" y="813"/>
                </a:cubicBezTo>
                <a:cubicBezTo>
                  <a:pt x="2426" y="786"/>
                  <a:pt x="2570" y="778"/>
                  <a:pt x="2570" y="778"/>
                </a:cubicBezTo>
                <a:cubicBezTo>
                  <a:pt x="2642" y="759"/>
                  <a:pt x="2568" y="781"/>
                  <a:pt x="2640" y="752"/>
                </a:cubicBezTo>
                <a:cubicBezTo>
                  <a:pt x="2657" y="745"/>
                  <a:pt x="2692" y="734"/>
                  <a:pt x="2692" y="734"/>
                </a:cubicBezTo>
                <a:cubicBezTo>
                  <a:pt x="2727" y="701"/>
                  <a:pt x="2786" y="693"/>
                  <a:pt x="2832" y="682"/>
                </a:cubicBezTo>
                <a:cubicBezTo>
                  <a:pt x="2892" y="667"/>
                  <a:pt x="2945" y="642"/>
                  <a:pt x="3006" y="629"/>
                </a:cubicBezTo>
                <a:cubicBezTo>
                  <a:pt x="3089" y="640"/>
                  <a:pt x="3161" y="663"/>
                  <a:pt x="3207" y="734"/>
                </a:cubicBezTo>
                <a:cubicBezTo>
                  <a:pt x="3218" y="778"/>
                  <a:pt x="3243" y="799"/>
                  <a:pt x="3286" y="813"/>
                </a:cubicBezTo>
                <a:cubicBezTo>
                  <a:pt x="3344" y="805"/>
                  <a:pt x="3406" y="809"/>
                  <a:pt x="3460" y="786"/>
                </a:cubicBezTo>
                <a:cubicBezTo>
                  <a:pt x="3507" y="766"/>
                  <a:pt x="3616" y="640"/>
                  <a:pt x="3635" y="594"/>
                </a:cubicBezTo>
                <a:cubicBezTo>
                  <a:pt x="3658" y="538"/>
                  <a:pt x="3664" y="486"/>
                  <a:pt x="3696" y="437"/>
                </a:cubicBezTo>
                <a:cubicBezTo>
                  <a:pt x="3716" y="343"/>
                  <a:pt x="3713" y="320"/>
                  <a:pt x="3809" y="298"/>
                </a:cubicBezTo>
                <a:cubicBezTo>
                  <a:pt x="3850" y="301"/>
                  <a:pt x="3891" y="299"/>
                  <a:pt x="3931" y="306"/>
                </a:cubicBezTo>
                <a:cubicBezTo>
                  <a:pt x="3953" y="310"/>
                  <a:pt x="3971" y="328"/>
                  <a:pt x="3993" y="333"/>
                </a:cubicBezTo>
                <a:cubicBezTo>
                  <a:pt x="4025" y="340"/>
                  <a:pt x="4089" y="350"/>
                  <a:pt x="4089" y="350"/>
                </a:cubicBezTo>
                <a:cubicBezTo>
                  <a:pt x="4147" y="381"/>
                  <a:pt x="4136" y="383"/>
                  <a:pt x="4115" y="446"/>
                </a:cubicBezTo>
                <a:cubicBezTo>
                  <a:pt x="4118" y="490"/>
                  <a:pt x="4116" y="534"/>
                  <a:pt x="4123" y="577"/>
                </a:cubicBezTo>
                <a:cubicBezTo>
                  <a:pt x="4133" y="644"/>
                  <a:pt x="4250" y="741"/>
                  <a:pt x="4307" y="769"/>
                </a:cubicBezTo>
                <a:cubicBezTo>
                  <a:pt x="4320" y="811"/>
                  <a:pt x="4337" y="853"/>
                  <a:pt x="4359" y="891"/>
                </a:cubicBezTo>
                <a:cubicBezTo>
                  <a:pt x="4363" y="898"/>
                  <a:pt x="4372" y="902"/>
                  <a:pt x="4377" y="909"/>
                </a:cubicBezTo>
                <a:cubicBezTo>
                  <a:pt x="4387" y="923"/>
                  <a:pt x="4396" y="937"/>
                  <a:pt x="4403" y="952"/>
                </a:cubicBezTo>
                <a:cubicBezTo>
                  <a:pt x="4436" y="1026"/>
                  <a:pt x="4401" y="987"/>
                  <a:pt x="4438" y="1022"/>
                </a:cubicBezTo>
                <a:cubicBezTo>
                  <a:pt x="4462" y="1071"/>
                  <a:pt x="4494" y="1112"/>
                  <a:pt x="4516" y="1162"/>
                </a:cubicBezTo>
                <a:cubicBezTo>
                  <a:pt x="4538" y="1211"/>
                  <a:pt x="4557" y="1263"/>
                  <a:pt x="4595" y="1301"/>
                </a:cubicBezTo>
                <a:cubicBezTo>
                  <a:pt x="4610" y="1365"/>
                  <a:pt x="4619" y="1430"/>
                  <a:pt x="4638" y="1493"/>
                </a:cubicBezTo>
                <a:cubicBezTo>
                  <a:pt x="4650" y="1576"/>
                  <a:pt x="4653" y="1645"/>
                  <a:pt x="4603" y="1712"/>
                </a:cubicBezTo>
                <a:cubicBezTo>
                  <a:pt x="4591" y="1729"/>
                  <a:pt x="4576" y="1744"/>
                  <a:pt x="4569" y="1764"/>
                </a:cubicBezTo>
                <a:cubicBezTo>
                  <a:pt x="4563" y="1781"/>
                  <a:pt x="4551" y="1816"/>
                  <a:pt x="4551" y="1816"/>
                </a:cubicBezTo>
                <a:cubicBezTo>
                  <a:pt x="4554" y="1842"/>
                  <a:pt x="4548" y="1871"/>
                  <a:pt x="4560" y="1895"/>
                </a:cubicBezTo>
                <a:cubicBezTo>
                  <a:pt x="4586" y="1947"/>
                  <a:pt x="4651" y="1970"/>
                  <a:pt x="4691" y="2008"/>
                </a:cubicBezTo>
                <a:cubicBezTo>
                  <a:pt x="4709" y="2067"/>
                  <a:pt x="4707" y="2120"/>
                  <a:pt x="4752" y="2165"/>
                </a:cubicBezTo>
                <a:cubicBezTo>
                  <a:pt x="4773" y="2242"/>
                  <a:pt x="4821" y="2305"/>
                  <a:pt x="4839" y="2384"/>
                </a:cubicBezTo>
                <a:cubicBezTo>
                  <a:pt x="4851" y="2439"/>
                  <a:pt x="4848" y="2495"/>
                  <a:pt x="4865" y="2549"/>
                </a:cubicBezTo>
                <a:cubicBezTo>
                  <a:pt x="4862" y="2581"/>
                  <a:pt x="4865" y="2614"/>
                  <a:pt x="4857" y="2645"/>
                </a:cubicBezTo>
                <a:cubicBezTo>
                  <a:pt x="4846" y="2688"/>
                  <a:pt x="4788" y="2704"/>
                  <a:pt x="4752" y="2715"/>
                </a:cubicBezTo>
                <a:cubicBezTo>
                  <a:pt x="4600" y="2762"/>
                  <a:pt x="4593" y="2768"/>
                  <a:pt x="4411" y="2776"/>
                </a:cubicBezTo>
                <a:cubicBezTo>
                  <a:pt x="4391" y="2779"/>
                  <a:pt x="4359" y="2766"/>
                  <a:pt x="4350" y="2785"/>
                </a:cubicBezTo>
                <a:cubicBezTo>
                  <a:pt x="4330" y="2827"/>
                  <a:pt x="4382" y="2902"/>
                  <a:pt x="4342" y="2925"/>
                </a:cubicBezTo>
                <a:cubicBezTo>
                  <a:pt x="4279" y="2962"/>
                  <a:pt x="4196" y="2919"/>
                  <a:pt x="4123" y="2916"/>
                </a:cubicBezTo>
                <a:cubicBezTo>
                  <a:pt x="4063" y="2884"/>
                  <a:pt x="3998" y="2867"/>
                  <a:pt x="3940" y="2829"/>
                </a:cubicBezTo>
                <a:cubicBezTo>
                  <a:pt x="3931" y="2817"/>
                  <a:pt x="3924" y="2804"/>
                  <a:pt x="3914" y="2794"/>
                </a:cubicBezTo>
                <a:cubicBezTo>
                  <a:pt x="3904" y="2784"/>
                  <a:pt x="3888" y="2779"/>
                  <a:pt x="3879" y="2768"/>
                </a:cubicBezTo>
                <a:cubicBezTo>
                  <a:pt x="3859" y="2745"/>
                  <a:pt x="3851" y="2715"/>
                  <a:pt x="3835" y="2689"/>
                </a:cubicBezTo>
                <a:cubicBezTo>
                  <a:pt x="3828" y="2648"/>
                  <a:pt x="3818" y="2608"/>
                  <a:pt x="3809" y="2567"/>
                </a:cubicBezTo>
                <a:cubicBezTo>
                  <a:pt x="3792" y="2579"/>
                  <a:pt x="3775" y="2592"/>
                  <a:pt x="3757" y="2602"/>
                </a:cubicBezTo>
                <a:cubicBezTo>
                  <a:pt x="3749" y="2606"/>
                  <a:pt x="3738" y="2604"/>
                  <a:pt x="3731" y="2610"/>
                </a:cubicBezTo>
                <a:cubicBezTo>
                  <a:pt x="3708" y="2628"/>
                  <a:pt x="3696" y="2659"/>
                  <a:pt x="3670" y="2672"/>
                </a:cubicBezTo>
                <a:cubicBezTo>
                  <a:pt x="3658" y="2678"/>
                  <a:pt x="3646" y="2682"/>
                  <a:pt x="3635" y="2689"/>
                </a:cubicBezTo>
                <a:cubicBezTo>
                  <a:pt x="3612" y="2704"/>
                  <a:pt x="3605" y="2734"/>
                  <a:pt x="3574" y="2741"/>
                </a:cubicBezTo>
                <a:cubicBezTo>
                  <a:pt x="3526" y="2752"/>
                  <a:pt x="3475" y="2747"/>
                  <a:pt x="3425" y="2750"/>
                </a:cubicBezTo>
                <a:cubicBezTo>
                  <a:pt x="3426" y="2766"/>
                  <a:pt x="3457" y="3004"/>
                  <a:pt x="3434" y="3047"/>
                </a:cubicBezTo>
                <a:cubicBezTo>
                  <a:pt x="3425" y="3063"/>
                  <a:pt x="3400" y="3061"/>
                  <a:pt x="3382" y="3064"/>
                </a:cubicBezTo>
                <a:cubicBezTo>
                  <a:pt x="3365" y="3067"/>
                  <a:pt x="3128" y="3081"/>
                  <a:pt x="3120" y="3082"/>
                </a:cubicBezTo>
                <a:cubicBezTo>
                  <a:pt x="3022" y="3112"/>
                  <a:pt x="2915" y="3091"/>
                  <a:pt x="2814" y="3117"/>
                </a:cubicBezTo>
                <a:cubicBezTo>
                  <a:pt x="2769" y="3147"/>
                  <a:pt x="2740" y="3188"/>
                  <a:pt x="2692" y="3213"/>
                </a:cubicBezTo>
                <a:cubicBezTo>
                  <a:pt x="2649" y="3279"/>
                  <a:pt x="2704" y="3202"/>
                  <a:pt x="2649" y="3256"/>
                </a:cubicBezTo>
                <a:cubicBezTo>
                  <a:pt x="2611" y="3293"/>
                  <a:pt x="2581" y="3340"/>
                  <a:pt x="2544" y="3378"/>
                </a:cubicBezTo>
                <a:cubicBezTo>
                  <a:pt x="2488" y="3436"/>
                  <a:pt x="2413" y="3476"/>
                  <a:pt x="2334" y="3492"/>
                </a:cubicBezTo>
                <a:cubicBezTo>
                  <a:pt x="2220" y="3566"/>
                  <a:pt x="2069" y="3516"/>
                  <a:pt x="1942" y="3483"/>
                </a:cubicBezTo>
                <a:cubicBezTo>
                  <a:pt x="1906" y="3456"/>
                  <a:pt x="1889" y="3450"/>
                  <a:pt x="1846" y="3440"/>
                </a:cubicBezTo>
                <a:cubicBezTo>
                  <a:pt x="1822" y="3416"/>
                  <a:pt x="1776" y="3361"/>
                  <a:pt x="1767" y="3335"/>
                </a:cubicBezTo>
                <a:cubicBezTo>
                  <a:pt x="1757" y="3306"/>
                  <a:pt x="1755" y="3286"/>
                  <a:pt x="1732" y="3265"/>
                </a:cubicBezTo>
                <a:cubicBezTo>
                  <a:pt x="1735" y="3181"/>
                  <a:pt x="1741" y="3096"/>
                  <a:pt x="1741" y="3012"/>
                </a:cubicBezTo>
                <a:cubicBezTo>
                  <a:pt x="1741" y="2893"/>
                  <a:pt x="1640" y="3024"/>
                  <a:pt x="1600" y="2933"/>
                </a:cubicBezTo>
                <a:cubicBezTo>
                  <a:pt x="1585" y="2900"/>
                  <a:pt x="1526" y="2993"/>
                  <a:pt x="1486" y="2976"/>
                </a:cubicBezTo>
                <a:cubicBezTo>
                  <a:pt x="1461" y="2966"/>
                  <a:pt x="1451" y="2896"/>
                  <a:pt x="1425" y="2889"/>
                </a:cubicBezTo>
                <a:cubicBezTo>
                  <a:pt x="1171" y="2901"/>
                  <a:pt x="1347" y="2854"/>
                  <a:pt x="1312" y="2863"/>
                </a:cubicBezTo>
                <a:cubicBezTo>
                  <a:pt x="1302" y="2923"/>
                  <a:pt x="1298" y="2837"/>
                  <a:pt x="1252" y="2881"/>
                </a:cubicBezTo>
                <a:cubicBezTo>
                  <a:pt x="1226" y="2880"/>
                  <a:pt x="883" y="2837"/>
                  <a:pt x="790" y="2898"/>
                </a:cubicBezTo>
                <a:cubicBezTo>
                  <a:pt x="770" y="2995"/>
                  <a:pt x="801" y="2977"/>
                  <a:pt x="746" y="2994"/>
                </a:cubicBezTo>
                <a:cubicBezTo>
                  <a:pt x="690" y="2982"/>
                  <a:pt x="636" y="2969"/>
                  <a:pt x="580" y="2960"/>
                </a:cubicBezTo>
                <a:cubicBezTo>
                  <a:pt x="461" y="2967"/>
                  <a:pt x="425" y="2977"/>
                  <a:pt x="310" y="2968"/>
                </a:cubicBezTo>
                <a:cubicBezTo>
                  <a:pt x="280" y="2940"/>
                  <a:pt x="243" y="2919"/>
                  <a:pt x="214" y="2890"/>
                </a:cubicBezTo>
                <a:cubicBezTo>
                  <a:pt x="196" y="2872"/>
                  <a:pt x="161" y="2837"/>
                  <a:pt x="161" y="2837"/>
                </a:cubicBezTo>
                <a:cubicBezTo>
                  <a:pt x="138" y="2718"/>
                  <a:pt x="144" y="2598"/>
                  <a:pt x="118" y="2480"/>
                </a:cubicBezTo>
                <a:cubicBezTo>
                  <a:pt x="106" y="2426"/>
                  <a:pt x="104" y="2377"/>
                  <a:pt x="74" y="2331"/>
                </a:cubicBezTo>
                <a:cubicBezTo>
                  <a:pt x="65" y="2295"/>
                  <a:pt x="61" y="2266"/>
                  <a:pt x="39" y="2235"/>
                </a:cubicBezTo>
                <a:cubicBezTo>
                  <a:pt x="36" y="2221"/>
                  <a:pt x="29" y="2207"/>
                  <a:pt x="30" y="2192"/>
                </a:cubicBezTo>
                <a:cubicBezTo>
                  <a:pt x="32" y="2157"/>
                  <a:pt x="31" y="2118"/>
                  <a:pt x="48" y="2087"/>
                </a:cubicBezTo>
                <a:cubicBezTo>
                  <a:pt x="78" y="2030"/>
                  <a:pt x="226" y="2013"/>
                  <a:pt x="283" y="1991"/>
                </a:cubicBezTo>
                <a:cubicBezTo>
                  <a:pt x="302" y="1937"/>
                  <a:pt x="297" y="1891"/>
                  <a:pt x="257" y="1851"/>
                </a:cubicBezTo>
                <a:cubicBezTo>
                  <a:pt x="233" y="1802"/>
                  <a:pt x="196" y="1753"/>
                  <a:pt x="153" y="1720"/>
                </a:cubicBezTo>
                <a:cubicBezTo>
                  <a:pt x="150" y="1703"/>
                  <a:pt x="152" y="1684"/>
                  <a:pt x="144" y="1668"/>
                </a:cubicBezTo>
                <a:cubicBezTo>
                  <a:pt x="139" y="1659"/>
                  <a:pt x="123" y="1659"/>
                  <a:pt x="118" y="1650"/>
                </a:cubicBezTo>
                <a:cubicBezTo>
                  <a:pt x="91" y="1602"/>
                  <a:pt x="95" y="1555"/>
                  <a:pt x="65" y="1511"/>
                </a:cubicBezTo>
                <a:cubicBezTo>
                  <a:pt x="52" y="1440"/>
                  <a:pt x="43" y="1361"/>
                  <a:pt x="22" y="1293"/>
                </a:cubicBezTo>
                <a:cubicBezTo>
                  <a:pt x="16" y="1194"/>
                  <a:pt x="0" y="1084"/>
                  <a:pt x="30" y="987"/>
                </a:cubicBezTo>
                <a:cubicBezTo>
                  <a:pt x="23" y="951"/>
                  <a:pt x="13" y="918"/>
                  <a:pt x="4" y="882"/>
                </a:cubicBezTo>
                <a:cubicBezTo>
                  <a:pt x="13" y="862"/>
                  <a:pt x="12" y="834"/>
                  <a:pt x="30" y="821"/>
                </a:cubicBezTo>
                <a:cubicBezTo>
                  <a:pt x="56" y="802"/>
                  <a:pt x="95" y="815"/>
                  <a:pt x="126" y="804"/>
                </a:cubicBezTo>
                <a:cubicBezTo>
                  <a:pt x="155" y="721"/>
                  <a:pt x="122" y="610"/>
                  <a:pt x="109" y="525"/>
                </a:cubicBezTo>
                <a:cubicBezTo>
                  <a:pt x="116" y="439"/>
                  <a:pt x="134" y="385"/>
                  <a:pt x="153" y="306"/>
                </a:cubicBezTo>
                <a:cubicBezTo>
                  <a:pt x="156" y="292"/>
                  <a:pt x="147" y="268"/>
                  <a:pt x="161" y="263"/>
                </a:cubicBezTo>
                <a:cubicBezTo>
                  <a:pt x="205" y="247"/>
                  <a:pt x="254" y="257"/>
                  <a:pt x="301" y="254"/>
                </a:cubicBezTo>
                <a:cubicBezTo>
                  <a:pt x="319" y="203"/>
                  <a:pt x="355" y="204"/>
                  <a:pt x="397" y="176"/>
                </a:cubicBezTo>
                <a:cubicBezTo>
                  <a:pt x="400" y="161"/>
                  <a:pt x="398" y="144"/>
                  <a:pt x="406" y="132"/>
                </a:cubicBezTo>
                <a:cubicBezTo>
                  <a:pt x="417" y="116"/>
                  <a:pt x="485" y="121"/>
                  <a:pt x="502" y="106"/>
                </a:cubicBezTo>
                <a:cubicBezTo>
                  <a:pt x="506" y="102"/>
                  <a:pt x="490" y="106"/>
                  <a:pt x="484" y="106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324000" y="476280"/>
            <a:ext cx="5256000" cy="792000"/>
          </a:xfrm>
          <a:custGeom>
            <a:avLst/>
            <a:gdLst>
              <a:gd name="textAreaLeft" fmla="*/ 791280 w 5256000"/>
              <a:gd name="textAreaRight" fmla="*/ 4464720 w 5256000"/>
              <a:gd name="textAreaTop" fmla="*/ 0 h 792000"/>
              <a:gd name="textAreaBottom" fmla="*/ 529920 h 792000"/>
            </a:gdLst>
            <a:ahLst/>
            <a:rect l="textAreaLeft" t="textAreaTop" r="textAreaRight" b="textAreaBottom"/>
            <a:pathLst>
              <a:path w="21600" h="21600">
                <a:moveTo>
                  <a:pt x="5953" y="14453"/>
                </a:moveTo>
                <a:lnTo>
                  <a:pt x="5953" y="19813"/>
                </a:lnTo>
                <a:cubicBezTo>
                  <a:pt x="5953" y="20707"/>
                  <a:pt x="5533" y="21600"/>
                  <a:pt x="5113" y="21600"/>
                </a:cubicBezTo>
                <a:lnTo>
                  <a:pt x="0" y="21600"/>
                </a:lnTo>
                <a:lnTo>
                  <a:pt x="2750" y="14374"/>
                </a:lnTo>
                <a:lnTo>
                  <a:pt x="0" y="7147"/>
                </a:lnTo>
                <a:lnTo>
                  <a:pt x="3253" y="7147"/>
                </a:lnTo>
                <a:lnTo>
                  <a:pt x="3253" y="1787"/>
                </a:lnTo>
                <a:cubicBezTo>
                  <a:pt x="3253" y="893"/>
                  <a:pt x="3673" y="0"/>
                  <a:pt x="4093" y="0"/>
                </a:cubicBezTo>
                <a:lnTo>
                  <a:pt x="17507" y="0"/>
                </a:lnTo>
                <a:cubicBezTo>
                  <a:pt x="17927" y="0"/>
                  <a:pt x="18347" y="893"/>
                  <a:pt x="18347" y="1787"/>
                </a:cubicBezTo>
                <a:lnTo>
                  <a:pt x="18347" y="7147"/>
                </a:lnTo>
                <a:lnTo>
                  <a:pt x="21600" y="7147"/>
                </a:lnTo>
                <a:lnTo>
                  <a:pt x="18850" y="14374"/>
                </a:lnTo>
                <a:lnTo>
                  <a:pt x="21600" y="21600"/>
                </a:lnTo>
                <a:lnTo>
                  <a:pt x="16487" y="21600"/>
                </a:lnTo>
                <a:cubicBezTo>
                  <a:pt x="16067" y="21600"/>
                  <a:pt x="15647" y="20707"/>
                  <a:pt x="15647" y="19813"/>
                </a:cubicBezTo>
                <a:lnTo>
                  <a:pt x="15647" y="14453"/>
                </a:lnTo>
                <a:close/>
              </a:path>
              <a:path fill="darkenLess" w="21600" h="21600">
                <a:moveTo>
                  <a:pt x="5953" y="14453"/>
                </a:moveTo>
                <a:lnTo>
                  <a:pt x="5953" y="19813"/>
                </a:lnTo>
                <a:cubicBezTo>
                  <a:pt x="5953" y="18920"/>
                  <a:pt x="5533" y="18027"/>
                  <a:pt x="5113" y="18027"/>
                </a:cubicBezTo>
                <a:lnTo>
                  <a:pt x="4093" y="18027"/>
                </a:lnTo>
                <a:cubicBezTo>
                  <a:pt x="3673" y="18027"/>
                  <a:pt x="3253" y="17133"/>
                  <a:pt x="3253" y="16240"/>
                </a:cubicBezTo>
                <a:cubicBezTo>
                  <a:pt x="3253" y="15346"/>
                  <a:pt x="3673" y="14453"/>
                  <a:pt x="4093" y="14453"/>
                </a:cubicBezTo>
                <a:close/>
              </a:path>
              <a:path fill="darkenLess" w="21600" h="21600">
                <a:moveTo>
                  <a:pt x="15647" y="14453"/>
                </a:moveTo>
                <a:lnTo>
                  <a:pt x="15647" y="19813"/>
                </a:lnTo>
                <a:cubicBezTo>
                  <a:pt x="15647" y="18920"/>
                  <a:pt x="16067" y="18027"/>
                  <a:pt x="16487" y="18027"/>
                </a:cubicBezTo>
                <a:lnTo>
                  <a:pt x="17507" y="18027"/>
                </a:lnTo>
                <a:cubicBezTo>
                  <a:pt x="17927" y="18027"/>
                  <a:pt x="18347" y="17133"/>
                  <a:pt x="18347" y="16240"/>
                </a:cubicBezTo>
                <a:cubicBezTo>
                  <a:pt x="18347" y="15346"/>
                  <a:pt x="17927" y="14453"/>
                  <a:pt x="17507" y="14453"/>
                </a:cubicBezTo>
                <a:close/>
              </a:path>
              <a:path fill="darkenLess" w="21600" h="21600">
                <a:moveTo>
                  <a:pt x="3253" y="16240"/>
                </a:moveTo>
                <a:lnTo>
                  <a:pt x="3253" y="7147"/>
                </a:lnTo>
              </a:path>
              <a:path fill="darkenLess" w="21600" h="21600">
                <a:moveTo>
                  <a:pt x="18347" y="16240"/>
                </a:moveTo>
                <a:lnTo>
                  <a:pt x="18347" y="7147"/>
                </a:lnTo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2700000"/>
          </a:gra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Остров МОРФ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rc 9"/>
          <p:cNvSpPr/>
          <p:nvPr/>
        </p:nvSpPr>
        <p:spPr>
          <a:xfrm flipV="1">
            <a:off x="1403280" y="1627920"/>
            <a:ext cx="1511280" cy="1800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11"/>
          <p:cNvSpPr/>
          <p:nvPr/>
        </p:nvSpPr>
        <p:spPr>
          <a:xfrm>
            <a:off x="1116000" y="2492280"/>
            <a:ext cx="2219400" cy="1765440"/>
          </a:xfrm>
          <a:custGeom>
            <a:avLst/>
            <a:gdLst/>
            <a:ahLst/>
            <a:rect l="l" t="t" r="r" b="b"/>
            <a:pathLst>
              <a:path w="1398" h="1112">
                <a:moveTo>
                  <a:pt x="998" y="0"/>
                </a:moveTo>
                <a:cubicBezTo>
                  <a:pt x="1107" y="87"/>
                  <a:pt x="1217" y="174"/>
                  <a:pt x="1270" y="272"/>
                </a:cubicBezTo>
                <a:cubicBezTo>
                  <a:pt x="1323" y="370"/>
                  <a:pt x="1398" y="462"/>
                  <a:pt x="1315" y="590"/>
                </a:cubicBezTo>
                <a:cubicBezTo>
                  <a:pt x="1232" y="718"/>
                  <a:pt x="937" y="976"/>
                  <a:pt x="771" y="1044"/>
                </a:cubicBezTo>
                <a:cubicBezTo>
                  <a:pt x="605" y="1112"/>
                  <a:pt x="445" y="1013"/>
                  <a:pt x="317" y="998"/>
                </a:cubicBezTo>
                <a:cubicBezTo>
                  <a:pt x="189" y="983"/>
                  <a:pt x="53" y="960"/>
                  <a:pt x="0" y="9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2"/>
          <p:cNvSpPr/>
          <p:nvPr/>
        </p:nvSpPr>
        <p:spPr>
          <a:xfrm>
            <a:off x="3132000" y="1844640"/>
            <a:ext cx="1584360" cy="1739880"/>
          </a:xfrm>
          <a:custGeom>
            <a:avLst/>
            <a:gdLst/>
            <a:ahLst/>
            <a:rect l="l" t="t" r="r" b="b"/>
            <a:pathLst>
              <a:path w="998" h="1096">
                <a:moveTo>
                  <a:pt x="0" y="1089"/>
                </a:moveTo>
                <a:cubicBezTo>
                  <a:pt x="264" y="1092"/>
                  <a:pt x="529" y="1096"/>
                  <a:pt x="680" y="998"/>
                </a:cubicBezTo>
                <a:cubicBezTo>
                  <a:pt x="831" y="900"/>
                  <a:pt x="854" y="665"/>
                  <a:pt x="907" y="499"/>
                </a:cubicBezTo>
                <a:cubicBezTo>
                  <a:pt x="960" y="333"/>
                  <a:pt x="983" y="83"/>
                  <a:pt x="99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13"/>
          <p:cNvSpPr/>
          <p:nvPr/>
        </p:nvSpPr>
        <p:spPr>
          <a:xfrm>
            <a:off x="3708360" y="3284640"/>
            <a:ext cx="803160" cy="2232000"/>
          </a:xfrm>
          <a:custGeom>
            <a:avLst/>
            <a:gdLst/>
            <a:ahLst/>
            <a:rect l="l" t="t" r="r" b="b"/>
            <a:pathLst>
              <a:path w="552" h="1444">
                <a:moveTo>
                  <a:pt x="450" y="0"/>
                </a:moveTo>
                <a:cubicBezTo>
                  <a:pt x="377" y="109"/>
                  <a:pt x="0" y="452"/>
                  <a:pt x="13" y="655"/>
                </a:cubicBezTo>
                <a:cubicBezTo>
                  <a:pt x="26" y="858"/>
                  <a:pt x="502" y="1086"/>
                  <a:pt x="527" y="1217"/>
                </a:cubicBezTo>
                <a:cubicBezTo>
                  <a:pt x="552" y="1348"/>
                  <a:pt x="224" y="1414"/>
                  <a:pt x="164" y="14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14"/>
          <p:cNvSpPr/>
          <p:nvPr/>
        </p:nvSpPr>
        <p:spPr>
          <a:xfrm>
            <a:off x="4378320" y="1297080"/>
            <a:ext cx="3219480" cy="1944720"/>
          </a:xfrm>
          <a:custGeom>
            <a:avLst/>
            <a:gdLst/>
            <a:ahLst/>
            <a:rect l="l" t="t" r="r" b="b"/>
            <a:pathLst>
              <a:path w="2028" h="1225">
                <a:moveTo>
                  <a:pt x="0" y="1225"/>
                </a:moveTo>
                <a:cubicBezTo>
                  <a:pt x="185" y="1138"/>
                  <a:pt x="796" y="821"/>
                  <a:pt x="1117" y="702"/>
                </a:cubicBezTo>
                <a:cubicBezTo>
                  <a:pt x="1438" y="583"/>
                  <a:pt x="1830" y="615"/>
                  <a:pt x="1929" y="510"/>
                </a:cubicBezTo>
                <a:cubicBezTo>
                  <a:pt x="2028" y="405"/>
                  <a:pt x="1837" y="146"/>
                  <a:pt x="1710" y="73"/>
                </a:cubicBezTo>
                <a:cubicBezTo>
                  <a:pt x="1583" y="0"/>
                  <a:pt x="1309" y="80"/>
                  <a:pt x="1165" y="73"/>
                </a:cubicBezTo>
                <a:cubicBezTo>
                  <a:pt x="1021" y="66"/>
                  <a:pt x="901" y="35"/>
                  <a:pt x="848" y="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15"/>
          <p:cNvSpPr/>
          <p:nvPr/>
        </p:nvSpPr>
        <p:spPr>
          <a:xfrm>
            <a:off x="7020000" y="907920"/>
            <a:ext cx="1033560" cy="576360"/>
          </a:xfrm>
          <a:custGeom>
            <a:avLst/>
            <a:gdLst/>
            <a:ahLst/>
            <a:rect l="l" t="t" r="r" b="b"/>
            <a:pathLst>
              <a:path w="651" h="319">
                <a:moveTo>
                  <a:pt x="0" y="273"/>
                </a:moveTo>
                <a:cubicBezTo>
                  <a:pt x="219" y="296"/>
                  <a:pt x="439" y="319"/>
                  <a:pt x="545" y="273"/>
                </a:cubicBezTo>
                <a:cubicBezTo>
                  <a:pt x="651" y="227"/>
                  <a:pt x="620" y="46"/>
                  <a:pt x="63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16"/>
          <p:cNvSpPr/>
          <p:nvPr/>
        </p:nvSpPr>
        <p:spPr>
          <a:xfrm>
            <a:off x="7740720" y="1413000"/>
            <a:ext cx="695160" cy="1884240"/>
          </a:xfrm>
          <a:custGeom>
            <a:avLst/>
            <a:gdLst/>
            <a:ahLst/>
            <a:rect l="l" t="t" r="r" b="b"/>
            <a:pathLst>
              <a:path w="438" h="1187">
                <a:moveTo>
                  <a:pt x="30" y="0"/>
                </a:moveTo>
                <a:cubicBezTo>
                  <a:pt x="56" y="132"/>
                  <a:pt x="83" y="265"/>
                  <a:pt x="121" y="363"/>
                </a:cubicBezTo>
                <a:cubicBezTo>
                  <a:pt x="159" y="461"/>
                  <a:pt x="272" y="514"/>
                  <a:pt x="257" y="590"/>
                </a:cubicBezTo>
                <a:cubicBezTo>
                  <a:pt x="242" y="666"/>
                  <a:pt x="60" y="726"/>
                  <a:pt x="30" y="817"/>
                </a:cubicBezTo>
                <a:cubicBezTo>
                  <a:pt x="0" y="908"/>
                  <a:pt x="7" y="1081"/>
                  <a:pt x="75" y="1134"/>
                </a:cubicBezTo>
                <a:cubicBezTo>
                  <a:pt x="143" y="1187"/>
                  <a:pt x="378" y="1134"/>
                  <a:pt x="438" y="113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17"/>
          <p:cNvSpPr/>
          <p:nvPr/>
        </p:nvSpPr>
        <p:spPr>
          <a:xfrm>
            <a:off x="6588000" y="2276640"/>
            <a:ext cx="1812960" cy="1944360"/>
          </a:xfrm>
          <a:custGeom>
            <a:avLst/>
            <a:gdLst/>
            <a:ahLst/>
            <a:rect l="l" t="t" r="r" b="b"/>
            <a:pathLst>
              <a:path w="1142" h="1270">
                <a:moveTo>
                  <a:pt x="167" y="0"/>
                </a:moveTo>
                <a:cubicBezTo>
                  <a:pt x="216" y="374"/>
                  <a:pt x="265" y="748"/>
                  <a:pt x="257" y="952"/>
                </a:cubicBezTo>
                <a:cubicBezTo>
                  <a:pt x="249" y="1156"/>
                  <a:pt x="0" y="1180"/>
                  <a:pt x="121" y="1225"/>
                </a:cubicBezTo>
                <a:cubicBezTo>
                  <a:pt x="242" y="1270"/>
                  <a:pt x="824" y="1263"/>
                  <a:pt x="983" y="1225"/>
                </a:cubicBezTo>
                <a:cubicBezTo>
                  <a:pt x="1142" y="1187"/>
                  <a:pt x="1059" y="1036"/>
                  <a:pt x="1074" y="99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8"/>
          <p:cNvSpPr/>
          <p:nvPr/>
        </p:nvSpPr>
        <p:spPr>
          <a:xfrm>
            <a:off x="3780000" y="3213000"/>
            <a:ext cx="3168360" cy="936720"/>
          </a:xfrm>
          <a:custGeom>
            <a:avLst/>
            <a:gdLst/>
            <a:ahLst/>
            <a:rect l="l" t="t" r="r" b="b"/>
            <a:pathLst>
              <a:path w="2041" h="596">
                <a:moveTo>
                  <a:pt x="0" y="590"/>
                </a:moveTo>
                <a:cubicBezTo>
                  <a:pt x="185" y="575"/>
                  <a:pt x="771" y="596"/>
                  <a:pt x="1111" y="498"/>
                </a:cubicBezTo>
                <a:cubicBezTo>
                  <a:pt x="1451" y="400"/>
                  <a:pt x="1847" y="104"/>
                  <a:pt x="204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19"/>
          <p:cNvSpPr/>
          <p:nvPr/>
        </p:nvSpPr>
        <p:spPr>
          <a:xfrm>
            <a:off x="5148360" y="4076640"/>
            <a:ext cx="718920" cy="1584360"/>
          </a:xfrm>
          <a:custGeom>
            <a:avLst/>
            <a:gdLst/>
            <a:ahLst/>
            <a:rect l="l" t="t" r="r" b="b"/>
            <a:pathLst>
              <a:path w="453" h="998">
                <a:moveTo>
                  <a:pt x="0" y="0"/>
                </a:moveTo>
                <a:cubicBezTo>
                  <a:pt x="30" y="302"/>
                  <a:pt x="61" y="605"/>
                  <a:pt x="136" y="771"/>
                </a:cubicBezTo>
                <a:cubicBezTo>
                  <a:pt x="211" y="937"/>
                  <a:pt x="400" y="960"/>
                  <a:pt x="453" y="99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20"/>
          <p:cNvSpPr/>
          <p:nvPr/>
        </p:nvSpPr>
        <p:spPr>
          <a:xfrm>
            <a:off x="5292720" y="4149720"/>
            <a:ext cx="2592360" cy="647640"/>
          </a:xfrm>
          <a:custGeom>
            <a:avLst/>
            <a:gdLst/>
            <a:ahLst/>
            <a:rect l="l" t="t" r="r" b="b"/>
            <a:pathLst>
              <a:path w="1633" h="408">
                <a:moveTo>
                  <a:pt x="0" y="408"/>
                </a:moveTo>
                <a:cubicBezTo>
                  <a:pt x="272" y="374"/>
                  <a:pt x="544" y="340"/>
                  <a:pt x="816" y="272"/>
                </a:cubicBezTo>
                <a:cubicBezTo>
                  <a:pt x="1088" y="204"/>
                  <a:pt x="1505" y="45"/>
                  <a:pt x="163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1"/>
          <p:cNvSpPr/>
          <p:nvPr/>
        </p:nvSpPr>
        <p:spPr>
          <a:xfrm rot="20270400">
            <a:off x="4137480" y="3092400"/>
            <a:ext cx="29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Имя существи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2"/>
          <p:cNvSpPr/>
          <p:nvPr/>
        </p:nvSpPr>
        <p:spPr>
          <a:xfrm rot="20270400">
            <a:off x="1332000" y="321264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imes New Roman"/>
              </a:rPr>
              <a:t>Имя прилагатель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3"/>
          <p:cNvSpPr/>
          <p:nvPr/>
        </p:nvSpPr>
        <p:spPr>
          <a:xfrm rot="18738000">
            <a:off x="1091880" y="216864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Деепричас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4"/>
          <p:cNvSpPr/>
          <p:nvPr/>
        </p:nvSpPr>
        <p:spPr>
          <a:xfrm rot="21317400">
            <a:off x="2728800" y="22143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Причас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5"/>
          <p:cNvSpPr/>
          <p:nvPr/>
        </p:nvSpPr>
        <p:spPr>
          <a:xfrm rot="20270400">
            <a:off x="4586400" y="195696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Нареч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6"/>
          <p:cNvSpPr/>
          <p:nvPr/>
        </p:nvSpPr>
        <p:spPr>
          <a:xfrm rot="182400">
            <a:off x="1186920" y="4292640"/>
            <a:ext cx="25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мя числи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7"/>
          <p:cNvSpPr/>
          <p:nvPr/>
        </p:nvSpPr>
        <p:spPr>
          <a:xfrm>
            <a:off x="6084720" y="907920"/>
            <a:ext cx="18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естоим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8"/>
          <p:cNvSpPr/>
          <p:nvPr/>
        </p:nvSpPr>
        <p:spPr>
          <a:xfrm rot="20270400">
            <a:off x="5041800" y="3866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Сою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9"/>
          <p:cNvSpPr/>
          <p:nvPr/>
        </p:nvSpPr>
        <p:spPr>
          <a:xfrm rot="21197400">
            <a:off x="5867280" y="4581000"/>
            <a:ext cx="23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Предло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0"/>
          <p:cNvSpPr/>
          <p:nvPr/>
        </p:nvSpPr>
        <p:spPr>
          <a:xfrm rot="2931600">
            <a:off x="3901680" y="4743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Times New Roman"/>
              </a:rPr>
              <a:t>Гла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1"/>
          <p:cNvSpPr/>
          <p:nvPr/>
        </p:nvSpPr>
        <p:spPr>
          <a:xfrm rot="4620000">
            <a:off x="6608160" y="3066840"/>
            <a:ext cx="18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00"/>
                </a:solidFill>
                <a:latin typeface="Times New Roman"/>
              </a:rPr>
              <a:t>Част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2"/>
          <p:cNvSpPr/>
          <p:nvPr/>
        </p:nvSpPr>
        <p:spPr>
          <a:xfrm rot="4675800">
            <a:off x="7332480" y="203544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Times New Roman"/>
              </a:rPr>
              <a:t>Междомет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4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animClr clrSpc="rgb">
                                      <p:cBhvr>
                                        <p:cTn id="5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set>
                                      <p:cBhvr>
                                        <p:cTn id="5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01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00"/>
                </a:solidFill>
                <a:latin typeface="Arial"/>
              </a:rPr>
              <a:t>1 кит</a:t>
            </a:r>
            <a:endParaRPr b="0" lang="en-US" sz="7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1692360" y="3141720"/>
            <a:ext cx="287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0000"/>
                </a:solidFill>
                <a:latin typeface="Times New Roman"/>
              </a:rPr>
              <a:t>грамматическо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0000"/>
                </a:solidFill>
                <a:latin typeface="Times New Roman"/>
              </a:rPr>
              <a:t>значени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Имя существительное - ПРЕДМ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6"/>
          <p:cNvSpPr txBox="1"/>
          <p:nvPr/>
        </p:nvSpPr>
        <p:spPr>
          <a:xfrm>
            <a:off x="1187280" y="5229360"/>
            <a:ext cx="288144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ТО?</a:t>
            </a:r>
            <a:endParaRPr b="0" lang="en-US" sz="36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" name="WordArt 7"/>
          <p:cNvSpPr txBox="1"/>
          <p:nvPr/>
        </p:nvSpPr>
        <p:spPr>
          <a:xfrm>
            <a:off x="5435640" y="5300640"/>
            <a:ext cx="302400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ТО?</a:t>
            </a:r>
            <a:endParaRPr b="0" lang="en-US" sz="36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2" name="Picture 8" descr=""/>
          <p:cNvPicPr/>
          <p:nvPr/>
        </p:nvPicPr>
        <p:blipFill>
          <a:blip r:embed="rId1"/>
          <a:stretch/>
        </p:blipFill>
        <p:spPr>
          <a:xfrm>
            <a:off x="533520" y="1557360"/>
            <a:ext cx="8153280" cy="3311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2" descr="Рисунок2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900000" y="1052640"/>
            <a:ext cx="763272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comic"/>
              </a:rPr>
              <a:t>ИМЯ СУЩЕСТВИТЕЛЬНОЕ</a:t>
            </a:r>
            <a:r>
              <a:rPr b="1" lang="en-US" sz="4000" spc="-1" strike="noStrike">
                <a:solidFill>
                  <a:srgbClr val="6600cc"/>
                </a:solidFill>
                <a:latin typeface="comic"/>
              </a:rPr>
              <a:t> –</a:t>
            </a:r>
            <a:r>
              <a:rPr b="1" lang="ru-RU" sz="4000" spc="-1" strike="noStrike">
                <a:solidFill>
                  <a:srgbClr val="6600cc"/>
                </a:solidFill>
                <a:latin typeface="comic"/>
              </a:rPr>
              <a:t> часть речи, которая </a:t>
            </a:r>
            <a:r>
              <a:rPr b="1" lang="en-US" sz="4000" spc="-1" strike="noStrike">
                <a:solidFill>
                  <a:srgbClr val="6600cc"/>
                </a:solidFill>
                <a:latin typeface="comic"/>
              </a:rPr>
              <a:t> </a:t>
            </a:r>
            <a:r>
              <a:rPr b="1" lang="ru-RU" sz="4000" spc="-1" strike="noStrike">
                <a:solidFill>
                  <a:srgbClr val="6600cc"/>
                </a:solidFill>
                <a:latin typeface="comic"/>
              </a:rPr>
              <a:t>обозначает предмет и отвечает на вопросы</a:t>
            </a:r>
            <a:r>
              <a:rPr b="1" lang="en-US" sz="4000" spc="-1" strike="noStrike">
                <a:solidFill>
                  <a:srgbClr val="6600cc"/>
                </a:solidFill>
                <a:latin typeface="com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556000" y="1700280"/>
            <a:ext cx="439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835280" y="335772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КТ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5651640" y="328464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ЧТ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7"/>
          <p:cNvSpPr/>
          <p:nvPr/>
        </p:nvSpPr>
        <p:spPr>
          <a:xfrm flipH="1">
            <a:off x="2882880" y="2868480"/>
            <a:ext cx="324000" cy="57636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8"/>
          <p:cNvSpPr/>
          <p:nvPr/>
        </p:nvSpPr>
        <p:spPr>
          <a:xfrm>
            <a:off x="6319800" y="2862360"/>
            <a:ext cx="252360" cy="50328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9" descr="bel"/>
          <p:cNvPicPr/>
          <p:nvPr/>
        </p:nvPicPr>
        <p:blipFill>
          <a:blip r:embed="rId2"/>
          <a:stretch/>
        </p:blipFill>
        <p:spPr>
          <a:xfrm>
            <a:off x="900000" y="4005360"/>
            <a:ext cx="943200" cy="1143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LO"/>
          <p:cNvPicPr/>
          <p:nvPr/>
        </p:nvPicPr>
        <p:blipFill>
          <a:blip r:embed="rId3"/>
          <a:stretch/>
        </p:blipFill>
        <p:spPr>
          <a:xfrm>
            <a:off x="2556000" y="4149720"/>
            <a:ext cx="1800000" cy="10033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1"/>
          <p:cNvSpPr/>
          <p:nvPr/>
        </p:nvSpPr>
        <p:spPr>
          <a:xfrm>
            <a:off x="755640" y="5157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Bernard MT Condensed"/>
              </a:rPr>
              <a:t>БЕ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2700360" y="5229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Bernard MT Condensed"/>
              </a:rPr>
              <a:t>МА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3" descr="bbanan"/>
          <p:cNvPicPr/>
          <p:nvPr/>
        </p:nvPicPr>
        <p:blipFill>
          <a:blip r:embed="rId4">
            <a:lum bright="-18000"/>
          </a:blip>
          <a:stretch/>
        </p:blipFill>
        <p:spPr>
          <a:xfrm>
            <a:off x="7164360" y="3284640"/>
            <a:ext cx="1568520" cy="1900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4" descr="book1"/>
          <p:cNvPicPr/>
          <p:nvPr/>
        </p:nvPicPr>
        <p:blipFill>
          <a:blip r:embed="rId5"/>
          <a:stretch/>
        </p:blipFill>
        <p:spPr>
          <a:xfrm>
            <a:off x="5076720" y="3933720"/>
            <a:ext cx="1793880" cy="13446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5"/>
          <p:cNvSpPr/>
          <p:nvPr/>
        </p:nvSpPr>
        <p:spPr>
          <a:xfrm>
            <a:off x="5076720" y="5157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Bernard MT Condensed"/>
              </a:rPr>
              <a:t>КНИ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6948360" y="5084640"/>
            <a:ext cx="17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Bernard MT Condensed"/>
              </a:rPr>
              <a:t>ПАЛЬ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72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22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imes New Roman"/>
              </a:rPr>
              <a:t>Образуйте имена существительные:</a:t>
            </a:r>
            <a:endParaRPr b="0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99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от глаголов: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                     бежать, кричать, прыгать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99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от прилагательных: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интересный, сильный, добры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771640" y="691920"/>
            <a:ext cx="6050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Отрывок из сказки Л.Кэррола «Алиса в Зазеркалье». </a:t>
            </a:r>
            <a:endParaRPr b="0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ff99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708000" y="2204640"/>
            <a:ext cx="5040360" cy="35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аркалось, хлив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шарь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ырялись по нав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хрюкотали зелюк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мюмзики, в мове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image006"/>
          <p:cNvPicPr/>
          <p:nvPr/>
        </p:nvPicPr>
        <p:blipFill>
          <a:blip r:embed="rId1"/>
          <a:stretch/>
        </p:blipFill>
        <p:spPr>
          <a:xfrm>
            <a:off x="539640" y="476280"/>
            <a:ext cx="2157480" cy="3168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image027"/>
          <p:cNvPicPr/>
          <p:nvPr/>
        </p:nvPicPr>
        <p:blipFill>
          <a:blip r:embed="rId2"/>
          <a:stretch/>
        </p:blipFill>
        <p:spPr>
          <a:xfrm>
            <a:off x="1692360" y="3141720"/>
            <a:ext cx="1927080" cy="28065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0000"/>
                </a:solidFill>
                <a:latin typeface="Arial"/>
              </a:rPr>
              <a:t>2 кит</a:t>
            </a:r>
            <a:endParaRPr b="0" lang="en-US" sz="7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692360" y="3141720"/>
            <a:ext cx="28796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Морфологический призн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Имя существительное -  число, род, паде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WordArt 5"/>
          <p:cNvSpPr txBox="1"/>
          <p:nvPr/>
        </p:nvSpPr>
        <p:spPr>
          <a:xfrm>
            <a:off x="1908000" y="5373720"/>
            <a:ext cx="122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.р.</a:t>
            </a:r>
            <a:endParaRPr b="0" lang="en-US" sz="36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8" name="WordArt 6"/>
          <p:cNvSpPr txBox="1"/>
          <p:nvPr/>
        </p:nvSpPr>
        <p:spPr>
          <a:xfrm>
            <a:off x="3203640" y="5084640"/>
            <a:ext cx="100656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р.р.</a:t>
            </a:r>
            <a:endParaRPr b="0" lang="en-US" sz="36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9" name="WordArt 7"/>
          <p:cNvSpPr txBox="1"/>
          <p:nvPr/>
        </p:nvSpPr>
        <p:spPr>
          <a:xfrm>
            <a:off x="468360" y="5084640"/>
            <a:ext cx="122400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ж.р.</a:t>
            </a:r>
            <a:endParaRPr b="0" lang="en-US" sz="36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0" name="WordArt 9"/>
          <p:cNvSpPr txBox="1"/>
          <p:nvPr/>
        </p:nvSpPr>
        <p:spPr>
          <a:xfrm>
            <a:off x="4500720" y="5373720"/>
            <a:ext cx="1079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ед.ч.</a:t>
            </a:r>
            <a:endParaRPr b="0" lang="en-US" sz="36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1" name="WordArt 10"/>
          <p:cNvSpPr txBox="1"/>
          <p:nvPr/>
        </p:nvSpPr>
        <p:spPr>
          <a:xfrm>
            <a:off x="5867280" y="5300640"/>
            <a:ext cx="129708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н.ч.</a:t>
            </a:r>
            <a:endParaRPr b="0" lang="en-US" sz="36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WordArt 11"/>
          <p:cNvSpPr txBox="1"/>
          <p:nvPr/>
        </p:nvSpPr>
        <p:spPr>
          <a:xfrm rot="1648800">
            <a:off x="7667640" y="3645000"/>
            <a:ext cx="647640" cy="22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.п.</a:t>
            </a:r>
            <a:endParaRPr b="0" lang="en-US" sz="3600" spc="1" strike="noStrike">
              <a:ln w="324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.п.</a:t>
            </a:r>
            <a:endParaRPr b="0" lang="en-US" sz="3600" spc="1" strike="noStrike">
              <a:ln w="324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.п.</a:t>
            </a:r>
            <a:endParaRPr b="0" lang="en-US" sz="3600" spc="1" strike="noStrike">
              <a:ln w="324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.п.</a:t>
            </a:r>
            <a:endParaRPr b="0" lang="en-US" sz="3600" spc="1" strike="noStrike">
              <a:ln w="324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.п.</a:t>
            </a:r>
            <a:endParaRPr b="0" lang="en-US" sz="3600" spc="1" strike="noStrike">
              <a:ln w="324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.п.</a:t>
            </a:r>
            <a:endParaRPr b="0" lang="en-US" sz="3600" spc="1" strike="noStrike">
              <a:ln w="324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3" name="Picture 12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6656400" cy="3560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8:53:23Z</dcterms:created>
  <dc:creator>Users</dc:creator>
  <dc:description/>
  <dc:language>en-US</dc:language>
  <cp:lastModifiedBy>Admin</cp:lastModifiedBy>
  <dcterms:modified xsi:type="dcterms:W3CDTF">2014-03-14T19:19:29Z</dcterms:modified>
  <cp:revision>35</cp:revision>
  <dc:subject/>
  <dc:title>Слайд 1</dc:title>
</cp:coreProperties>
</file>