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335A-3CAB-4FF5-B52C-55D4275F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7C15-1555-4950-8157-8D88CAD1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0B48-B8E9-4EBA-9433-BAED0206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0812-DD45-451D-89D3-A5B14D3B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89AE-9805-4A9F-B7DB-D3481DF5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0476-FA14-4D45-8B5F-D0DA4AFD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D96C-EAE1-4D83-88B9-29A53106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12C-66CA-4630-A8BE-D6C53AD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980E-279E-4878-BFC6-84D3BA9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A495-24CA-4F28-B518-922C1EA8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0451-DA8F-484E-9ABD-3A9A9ABF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5F1C-2A6E-4560-A95C-3415C725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8906-ADF9-47DF-829A-0D22AF88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FA9-9E06-4A1F-A199-1101A78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3417-C217-4DF9-90E6-C7B36D9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76F8-47F4-4D87-A4F4-DACDD8E0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C47A-FAF8-4EAA-B8FF-2A7869E0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48E1-D6E1-475C-B4D6-356ADA79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CCBC-757E-4F65-9DE5-60E5BE49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BE94-E884-4AE0-A135-C92B70E4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CA80-E52E-4596-A80C-E4D026EE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865C-A0DC-4362-B7FE-08905D0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F05C-CCBD-41D7-84A3-D81C276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A13C-EB72-44C5-8436-B88AC54C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F6A-3973-497C-8A9A-97808D6B93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5E62-ECB9-405E-8CF4-19B73C4698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52480" y="44953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533520" y="380880"/>
            <a:ext cx="807696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Использование игровых технологии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762120" y="1905120"/>
            <a:ext cx="769608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 обучении баскетболу как средство развития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03" name="WordArt 16"/>
          <p:cNvSpPr txBox="1"/>
          <p:nvPr/>
        </p:nvSpPr>
        <p:spPr>
          <a:xfrm>
            <a:off x="2590920" y="2971800"/>
            <a:ext cx="380988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двигательной активности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7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ст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3733920" y="1600200"/>
            <a:ext cx="5175000" cy="205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сканирование0020"/>
          <p:cNvPicPr/>
          <p:nvPr/>
        </p:nvPicPr>
        <p:blipFill>
          <a:blip r:embed="rId2"/>
          <a:stretch/>
        </p:blipFill>
        <p:spPr>
          <a:xfrm>
            <a:off x="304920" y="4419720"/>
            <a:ext cx="5333760" cy="2243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0" y="2057400"/>
            <a:ext cx="372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Передача мяча от груди двумя рук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15280" y="48769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едение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Увлекательная спортивная игра, прекрасное средство всестороннего развит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733560" cy="64771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533520" y="380880"/>
            <a:ext cx="1752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лассификация ведения мяча и обводка сопер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685800" y="1981080"/>
            <a:ext cx="7924680" cy="4496040"/>
            <a:chOff x="685800" y="1981080"/>
            <a:chExt cx="7924680" cy="4496040"/>
          </a:xfrm>
        </p:grpSpPr>
        <p:sp>
          <p:nvSpPr>
            <p:cNvPr id="112" name="AutoShape 6"/>
            <p:cNvSpPr/>
            <p:nvPr/>
          </p:nvSpPr>
          <p:spPr>
            <a:xfrm>
              <a:off x="685800" y="1981080"/>
              <a:ext cx="79246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3187440" y="2125800"/>
              <a:ext cx="29368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Ведение мяч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996480" y="2996280"/>
              <a:ext cx="293688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С высоким отскоком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5347080" y="2996280"/>
              <a:ext cx="293688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С низким отскоком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84096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Со зрительным контролем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70576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Без зрительного контроля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488124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Со зрительным контролем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6745680" y="386640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Без зрительного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400" spc="-1" strike="noStrike">
                  <a:solidFill>
                    <a:srgbClr val="000514"/>
                  </a:solidFill>
                  <a:latin typeface="Garamond"/>
                </a:rPr>
                <a:t>контроля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171960" y="4881600"/>
              <a:ext cx="293688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514"/>
                  </a:solidFill>
                  <a:latin typeface="Garamond"/>
                </a:rPr>
                <a:t>Обводка соперник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84096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изменением высоты отскока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80944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изменением направления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477756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изменением скорост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45680" y="5751720"/>
              <a:ext cx="1708920" cy="5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Garamond"/>
                </a:rPr>
                <a:t>С поворотом и переводом мяча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cxnSp>
          <p:nvCxnSpPr>
            <p:cNvPr id="125" name="AutoShape 19"/>
            <p:cNvCxnSpPr>
              <a:stCxn id="114" idx="3"/>
              <a:endCxn id="115" idx="1"/>
            </p:cNvCxnSpPr>
            <p:nvPr/>
          </p:nvCxnSpPr>
          <p:spPr>
            <a:xfrm>
              <a:off x="3933000" y="3224880"/>
              <a:ext cx="14144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AutoShape 20"/>
            <p:cNvCxnSpPr>
              <a:stCxn id="114" idx="3"/>
              <a:endCxn id="120" idx="0"/>
            </p:cNvCxnSpPr>
            <p:nvPr/>
          </p:nvCxnSpPr>
          <p:spPr>
            <a:xfrm>
              <a:off x="3933360" y="3224880"/>
              <a:ext cx="707760" cy="1657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AutoShape 21"/>
            <p:cNvCxnSpPr>
              <a:stCxn id="113" idx="2"/>
              <a:endCxn id="114" idx="0"/>
            </p:cNvCxnSpPr>
            <p:nvPr/>
          </p:nvCxnSpPr>
          <p:spPr>
            <a:xfrm flipH="1">
              <a:off x="2464920" y="2582640"/>
              <a:ext cx="219132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AutoShape 22"/>
            <p:cNvCxnSpPr>
              <a:stCxn id="113" idx="2"/>
              <a:endCxn id="115" idx="0"/>
            </p:cNvCxnSpPr>
            <p:nvPr/>
          </p:nvCxnSpPr>
          <p:spPr>
            <a:xfrm>
              <a:off x="4655520" y="2582640"/>
              <a:ext cx="216036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AutoShape 23"/>
            <p:cNvCxnSpPr>
              <a:stCxn id="114" idx="2"/>
              <a:endCxn id="116" idx="0"/>
            </p:cNvCxnSpPr>
            <p:nvPr/>
          </p:nvCxnSpPr>
          <p:spPr>
            <a:xfrm flipH="1">
              <a:off x="1695240" y="3453120"/>
              <a:ext cx="76968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AutoShape 24"/>
            <p:cNvCxnSpPr>
              <a:stCxn id="114" idx="2"/>
              <a:endCxn id="117" idx="0"/>
            </p:cNvCxnSpPr>
            <p:nvPr/>
          </p:nvCxnSpPr>
          <p:spPr>
            <a:xfrm>
              <a:off x="2464560" y="3453120"/>
              <a:ext cx="109620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25"/>
            <p:cNvCxnSpPr>
              <a:stCxn id="115" idx="2"/>
              <a:endCxn id="118" idx="0"/>
            </p:cNvCxnSpPr>
            <p:nvPr/>
          </p:nvCxnSpPr>
          <p:spPr>
            <a:xfrm flipH="1">
              <a:off x="5735160" y="3453120"/>
              <a:ext cx="108036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26"/>
            <p:cNvCxnSpPr>
              <a:stCxn id="115" idx="2"/>
              <a:endCxn id="119" idx="0"/>
            </p:cNvCxnSpPr>
            <p:nvPr/>
          </p:nvCxnSpPr>
          <p:spPr>
            <a:xfrm>
              <a:off x="6815520" y="3453120"/>
              <a:ext cx="78552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27"/>
            <p:cNvCxnSpPr>
              <a:stCxn id="120" idx="2"/>
              <a:endCxn id="122" idx="0"/>
            </p:cNvCxnSpPr>
            <p:nvPr/>
          </p:nvCxnSpPr>
          <p:spPr>
            <a:xfrm flipH="1">
              <a:off x="3663360" y="5338440"/>
              <a:ext cx="97704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28"/>
            <p:cNvCxnSpPr>
              <a:stCxn id="120" idx="2"/>
              <a:endCxn id="123" idx="0"/>
            </p:cNvCxnSpPr>
            <p:nvPr/>
          </p:nvCxnSpPr>
          <p:spPr>
            <a:xfrm>
              <a:off x="4640040" y="5338440"/>
              <a:ext cx="99252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29"/>
            <p:cNvCxnSpPr>
              <a:stCxn id="120" idx="2"/>
              <a:endCxn id="124" idx="0"/>
            </p:cNvCxnSpPr>
            <p:nvPr/>
          </p:nvCxnSpPr>
          <p:spPr>
            <a:xfrm>
              <a:off x="4640400" y="5338440"/>
              <a:ext cx="296064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30"/>
            <p:cNvCxnSpPr>
              <a:stCxn id="120" idx="2"/>
              <a:endCxn id="121" idx="0"/>
            </p:cNvCxnSpPr>
            <p:nvPr/>
          </p:nvCxnSpPr>
          <p:spPr>
            <a:xfrm flipH="1">
              <a:off x="1694880" y="5338440"/>
              <a:ext cx="2945160" cy="41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РАЖНЕНИЯ И ИГРЫ С ВЕДЕНИЕМ МЯЧ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оначальное; обуч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Ведение мяча на мест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Ведение мяча вокруг себ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Ведение мяча, продвигаясь шаг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гры: «Мотоциклисты», «Скажи, какой цвет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сканирование0019"/>
          <p:cNvPicPr/>
          <p:nvPr/>
        </p:nvPicPr>
        <p:blipFill>
          <a:blip r:embed="rId1"/>
          <a:stretch/>
        </p:blipFill>
        <p:spPr>
          <a:xfrm>
            <a:off x="457200" y="1523880"/>
            <a:ext cx="472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Игры, способствующие совершенствованию </a:t>
            </a:r>
            <a:br>
              <a:rPr sz="40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ведению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Круговая охота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На своей половине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Кто быстрее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С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вумя мячами навстречу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хника ловл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хника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РАЖНЕНИЯ И ИГРЫ С ПЕРЕДАЧЕЙ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44197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воначальное обучени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 Передача мяча двумя руками от груди в стенку и ловя е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 Передача мяча двумя руками от груди стоя на месте пар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. Передача мяча двумя руками от груди при движении пар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. Передача мяча одной рукой от груди в движении после ловли е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гры: «10 передач», «Мяч водящему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762120" y="1447920"/>
            <a:ext cx="7772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гры для передачи и ловл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Встречные передачи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Мяч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среднему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25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ередач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Салки и мяч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Не давай мяч водящему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1</cp:lastModifiedBy>
  <dcterms:modified xsi:type="dcterms:W3CDTF">2014-12-26T09:44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