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1BDC-B3A7-4D23-B151-E2455384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91B7-1B7B-43A7-8147-D994E962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67C1-C69C-4DC7-A346-9775CB19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14AC-6C35-491B-8225-8AAB33CA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C4E7-E4CB-4FF5-A1FE-D0360AB6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B49B-4BC6-4AF3-BEF6-8D8B60DE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F366-FC64-45C4-92F5-392C9800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28C0-89A4-424D-A981-A5B338AE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F874-7EBC-4E52-8F23-0D9C6CDD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1D3F-D5FE-4E39-BDCE-EBEAD4B4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5AEF-EC88-4D0B-ABC0-36EA85D9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AA1B-AE3B-4EE1-80D9-C0E7F422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8314-FCEE-4738-B3D5-90D7639F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14E2-7C03-42BF-8B01-1B434AD6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C1C8-28DE-4826-89EB-24C33E98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2E32-AD07-4EB5-982C-FAEB9073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0964-DD2C-4F0F-AEED-55C5A42E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610B-0BAF-41EB-957F-FA1A8737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A0C8-E1F9-4A51-851C-238AA529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FDA0-F4EA-4AA2-9E5E-5C3620E9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4897-A632-4567-960C-73648D55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6343-FF8E-46E3-8F55-C0FC9986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9285-042C-4BFB-8818-5BBCBC1F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2A0A-336D-4EE4-9453-B8942BEF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446B-05C1-402D-9FE7-3F2B09E0EF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3859-90AF-436C-84E4-89222862A2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752480" y="44953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WordArt 12"/>
          <p:cNvSpPr txBox="1"/>
          <p:nvPr/>
        </p:nvSpPr>
        <p:spPr>
          <a:xfrm>
            <a:off x="533520" y="380880"/>
            <a:ext cx="807696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Использование игровых технологии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02" name="WordArt 14"/>
          <p:cNvSpPr txBox="1"/>
          <p:nvPr/>
        </p:nvSpPr>
        <p:spPr>
          <a:xfrm>
            <a:off x="762120" y="1905120"/>
            <a:ext cx="769608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в обучении баскетболу как средство развития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03" name="WordArt 16"/>
          <p:cNvSpPr txBox="1"/>
          <p:nvPr/>
        </p:nvSpPr>
        <p:spPr>
          <a:xfrm>
            <a:off x="2590920" y="2971800"/>
            <a:ext cx="380988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двигательной активности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04" name="Рисунок 1" descr=""/>
          <p:cNvPicPr/>
          <p:nvPr/>
        </p:nvPicPr>
        <p:blipFill>
          <a:blip r:embed="rId7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ст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4" descr="сканирование0018"/>
          <p:cNvPicPr/>
          <p:nvPr/>
        </p:nvPicPr>
        <p:blipFill>
          <a:blip r:embed="rId1"/>
          <a:stretch/>
        </p:blipFill>
        <p:spPr>
          <a:xfrm>
            <a:off x="3733920" y="1600200"/>
            <a:ext cx="5175000" cy="205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сканирование0020"/>
          <p:cNvPicPr/>
          <p:nvPr/>
        </p:nvPicPr>
        <p:blipFill>
          <a:blip r:embed="rId2"/>
          <a:stretch/>
        </p:blipFill>
        <p:spPr>
          <a:xfrm>
            <a:off x="304920" y="4419720"/>
            <a:ext cx="5333760" cy="2243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0" y="2057400"/>
            <a:ext cx="372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Передача мяча от груди двумя рук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15280" y="48769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Ведение мя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Увлекательная спортивная игра, прекрасное средство всестороннего развит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733560" cy="64771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>
            <a:off x="533520" y="380880"/>
            <a:ext cx="175248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скетб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лассификация ведения мяча и обводка соперн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685800" y="1981080"/>
            <a:ext cx="7924680" cy="4496040"/>
            <a:chOff x="685800" y="1981080"/>
            <a:chExt cx="7924680" cy="4496040"/>
          </a:xfrm>
        </p:grpSpPr>
        <p:sp>
          <p:nvSpPr>
            <p:cNvPr id="112" name="AutoShape 6"/>
            <p:cNvSpPr/>
            <p:nvPr/>
          </p:nvSpPr>
          <p:spPr>
            <a:xfrm>
              <a:off x="685800" y="1981080"/>
              <a:ext cx="792468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3187440" y="2125800"/>
              <a:ext cx="29368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514"/>
                  </a:solidFill>
                  <a:latin typeface="Garamond"/>
                </a:rPr>
                <a:t>Ведение мяча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996480" y="2996280"/>
              <a:ext cx="293688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514"/>
                  </a:solidFill>
                  <a:latin typeface="Garamond"/>
                </a:rPr>
                <a:t>С высоким отскоком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5347080" y="2996280"/>
              <a:ext cx="293688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514"/>
                  </a:solidFill>
                  <a:latin typeface="Garamond"/>
                </a:rPr>
                <a:t>С низким отскоком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840960" y="386640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514"/>
                  </a:solidFill>
                  <a:latin typeface="Garamond"/>
                </a:rPr>
                <a:t>Со зрительным контролем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705760" y="386640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514"/>
                  </a:solidFill>
                  <a:latin typeface="Garamond"/>
                </a:rPr>
                <a:t>Без зрительного контроля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4881240" y="386640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514"/>
                  </a:solidFill>
                  <a:latin typeface="Garamond"/>
                </a:rPr>
                <a:t>Со зрительным контролем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6745680" y="386640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514"/>
                  </a:solidFill>
                  <a:latin typeface="Garamond"/>
                </a:rPr>
                <a:t>Без зрительного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400" spc="-1" strike="noStrike">
                  <a:solidFill>
                    <a:srgbClr val="000514"/>
                  </a:solidFill>
                  <a:latin typeface="Garamond"/>
                </a:rPr>
                <a:t>контроля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3171960" y="4881600"/>
              <a:ext cx="293688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514"/>
                  </a:solidFill>
                  <a:latin typeface="Garamond"/>
                </a:rPr>
                <a:t>Обводка соперника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840960" y="575172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Garamond"/>
                </a:rPr>
                <a:t>С изменением высоты отскока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809440" y="575172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Garamond"/>
                </a:rPr>
                <a:t>С изменением направления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4777560" y="575172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Garamond"/>
                </a:rPr>
                <a:t>С изменением скорости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45680" y="575172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Garamond"/>
                </a:rPr>
                <a:t>С поворотом и переводом мяча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cxnSp>
          <p:nvCxnSpPr>
            <p:cNvPr id="125" name="AutoShape 19"/>
            <p:cNvCxnSpPr>
              <a:stCxn id="114" idx="3"/>
              <a:endCxn id="115" idx="1"/>
            </p:cNvCxnSpPr>
            <p:nvPr/>
          </p:nvCxnSpPr>
          <p:spPr>
            <a:xfrm>
              <a:off x="3933000" y="3224880"/>
              <a:ext cx="141444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" name="AutoShape 20"/>
            <p:cNvCxnSpPr>
              <a:stCxn id="114" idx="3"/>
              <a:endCxn id="120" idx="0"/>
            </p:cNvCxnSpPr>
            <p:nvPr/>
          </p:nvCxnSpPr>
          <p:spPr>
            <a:xfrm>
              <a:off x="3933360" y="3224880"/>
              <a:ext cx="707760" cy="1657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AutoShape 21"/>
            <p:cNvCxnSpPr>
              <a:stCxn id="113" idx="2"/>
              <a:endCxn id="114" idx="0"/>
            </p:cNvCxnSpPr>
            <p:nvPr/>
          </p:nvCxnSpPr>
          <p:spPr>
            <a:xfrm flipH="1">
              <a:off x="2464920" y="2582640"/>
              <a:ext cx="219132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AutoShape 22"/>
            <p:cNvCxnSpPr>
              <a:stCxn id="113" idx="2"/>
              <a:endCxn id="115" idx="0"/>
            </p:cNvCxnSpPr>
            <p:nvPr/>
          </p:nvCxnSpPr>
          <p:spPr>
            <a:xfrm>
              <a:off x="4655520" y="2582640"/>
              <a:ext cx="216036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AutoShape 23"/>
            <p:cNvCxnSpPr>
              <a:stCxn id="114" idx="2"/>
              <a:endCxn id="116" idx="0"/>
            </p:cNvCxnSpPr>
            <p:nvPr/>
          </p:nvCxnSpPr>
          <p:spPr>
            <a:xfrm flipH="1">
              <a:off x="1695240" y="3453120"/>
              <a:ext cx="76968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AutoShape 24"/>
            <p:cNvCxnSpPr>
              <a:stCxn id="114" idx="2"/>
              <a:endCxn id="117" idx="0"/>
            </p:cNvCxnSpPr>
            <p:nvPr/>
          </p:nvCxnSpPr>
          <p:spPr>
            <a:xfrm>
              <a:off x="2464560" y="3453120"/>
              <a:ext cx="109620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AutoShape 25"/>
            <p:cNvCxnSpPr>
              <a:stCxn id="115" idx="2"/>
              <a:endCxn id="118" idx="0"/>
            </p:cNvCxnSpPr>
            <p:nvPr/>
          </p:nvCxnSpPr>
          <p:spPr>
            <a:xfrm flipH="1">
              <a:off x="5735160" y="3453120"/>
              <a:ext cx="108036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AutoShape 26"/>
            <p:cNvCxnSpPr>
              <a:stCxn id="115" idx="2"/>
              <a:endCxn id="119" idx="0"/>
            </p:cNvCxnSpPr>
            <p:nvPr/>
          </p:nvCxnSpPr>
          <p:spPr>
            <a:xfrm>
              <a:off x="6815520" y="3453120"/>
              <a:ext cx="78552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AutoShape 27"/>
            <p:cNvCxnSpPr>
              <a:stCxn id="120" idx="2"/>
              <a:endCxn id="122" idx="0"/>
            </p:cNvCxnSpPr>
            <p:nvPr/>
          </p:nvCxnSpPr>
          <p:spPr>
            <a:xfrm flipH="1">
              <a:off x="3663360" y="5338440"/>
              <a:ext cx="97704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28"/>
            <p:cNvCxnSpPr>
              <a:stCxn id="120" idx="2"/>
              <a:endCxn id="123" idx="0"/>
            </p:cNvCxnSpPr>
            <p:nvPr/>
          </p:nvCxnSpPr>
          <p:spPr>
            <a:xfrm>
              <a:off x="4640040" y="5338440"/>
              <a:ext cx="99252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AutoShape 29"/>
            <p:cNvCxnSpPr>
              <a:stCxn id="120" idx="2"/>
              <a:endCxn id="124" idx="0"/>
            </p:cNvCxnSpPr>
            <p:nvPr/>
          </p:nvCxnSpPr>
          <p:spPr>
            <a:xfrm>
              <a:off x="4640400" y="5338440"/>
              <a:ext cx="296064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30"/>
            <p:cNvCxnSpPr>
              <a:stCxn id="120" idx="2"/>
              <a:endCxn id="121" idx="0"/>
            </p:cNvCxnSpPr>
            <p:nvPr/>
          </p:nvCxnSpPr>
          <p:spPr>
            <a:xfrm flipH="1">
              <a:off x="1694880" y="5338440"/>
              <a:ext cx="294516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ПРАЖНЕНИЯ И ИГРЫ С ВЕДЕНИЕМ МЯЧ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3760" y="18288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воначальное; обучени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Ведение мяча на мест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Ведение мяча вокруг себ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Ведение мяча, продвигаясь шаг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гры: «Мотоциклисты», «Скажи, какой цвет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сканирование0019"/>
          <p:cNvPicPr/>
          <p:nvPr/>
        </p:nvPicPr>
        <p:blipFill>
          <a:blip r:embed="rId1"/>
          <a:stretch/>
        </p:blipFill>
        <p:spPr>
          <a:xfrm>
            <a:off x="457200" y="1523880"/>
            <a:ext cx="4722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Игры, способствующие совершенствованию </a:t>
            </a:r>
            <a:br>
              <a:rPr sz="4000"/>
            </a:b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ведению мя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Круговая охота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На своей половине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Кто быстрее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«С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вумя мячами навстречу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хника ловл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хника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ПРАЖНЕНИЯ И ИГРЫ С ПЕРЕДАЧЕЙ МЯ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44197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воначальное обучение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. Передача мяча двумя руками от груди в стенку и ловя ег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. Передача мяча двумя руками от груди стоя на месте пара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. Передача мяча двумя руками от груди при движении пара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4. Передача мяча одной рукой от груди в движении после ловли ег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гры: «10 передач», «Мяч водящему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сканирование0018"/>
          <p:cNvPicPr/>
          <p:nvPr/>
        </p:nvPicPr>
        <p:blipFill>
          <a:blip r:embed="rId1"/>
          <a:stretch/>
        </p:blipFill>
        <p:spPr>
          <a:xfrm>
            <a:off x="762120" y="1447920"/>
            <a:ext cx="7772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гры для передачи и ловл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Встречные передачи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Мяч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среднему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«25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ередач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Салки и мяч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Не давай мяч водящему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1</cp:lastModifiedBy>
  <dcterms:modified xsi:type="dcterms:W3CDTF">2014-12-26T09:44:0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