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DC64-E05D-428E-AB31-6A68F7CEE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6047-74D2-4B93-835E-6F1E9E7E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6B99-3202-4D27-A47E-F9CB1A8C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C7BF7-F193-4483-A209-D3B63B463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45B14-D3F8-43F0-AA44-52FA7A915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42864-8DCF-4E63-A219-0D6F556A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242D7-26B0-4549-A171-6A06C457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531CE-076C-4ECA-A598-ABC16D52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E6E27-7DCF-406D-902D-79AC3FF9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BE694-E92B-4E54-BEA4-E55FB26F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181D5-9996-4AE6-9EF5-5578E468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C4CE-B5B8-4E70-AAB7-CE852985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3EBC3-EA72-4EBB-817E-85C8F9AC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D5277-FF1A-435D-8645-B8A0271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AC6C7-62E1-4710-AA3A-714B75A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1FDCF-7C23-45E4-89EE-0AA254B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5D9F5-BCE7-4490-85E7-E65051E562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15D1-5E58-4966-8421-756D4711C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F8E7-39E5-48D8-97FC-B9A47217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96CA-2218-4C2B-822F-1C5B24A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218B-E879-4D94-8B15-30F6C6A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2892-21E1-442A-816E-FC60F299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CAA7-E4D5-44BE-AB14-F0C30F37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A518-79AC-48BE-B58C-6D460CD0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722E-09A2-4FB3-A3FC-AA875E33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7DF0-25DA-4A01-B45E-EB58A260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4258-4580-4448-82C0-D7D7997C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9EE8-7E12-4322-AD20-4A540B5C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3307-96EE-4E6F-9821-A8F1A07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AC7E-DBAB-4377-8AE8-295319D64C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2D75-1ED7-4B62-ACFE-6C838924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ADBB-9A22-427E-A3BB-C470146F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0A31-455A-4526-8C65-6A28FEA4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2486-639D-4746-8506-67993EA0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3A2F-3E3D-41ED-8862-0345427B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AC83-10D4-43DB-83F6-F578633B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4BDC2-06CF-40F3-A6FC-E61163FCE4A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55D71-2E2F-41FA-B514-5522421E4D9B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A732E-5C16-43DD-833A-8D8B9E22DD9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863640" y="1079640"/>
            <a:ext cx="6264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6000"/>
            </a:b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Выполнила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орозова Екатерина Юрьевна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БДОУ № 82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1</cp:lastModifiedBy>
  <dcterms:modified xsi:type="dcterms:W3CDTF">2018-02-20T12:55:08Z</dcterms:modified>
  <cp:revision>6</cp:revision>
  <dc:subject/>
  <dc:title>Слайд 1</dc:title>
</cp:coreProperties>
</file>