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C246-F04D-4F59-BA8B-69F03244B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A65B-6371-46B9-A712-7BB3F29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99E8-A626-4905-A72E-ACA8D56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E6DE-E1BE-447A-A8D4-4AE97B2CD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AE6E-BD55-4E58-BFA6-4ECE7313B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B7D1F-44BA-4497-97AA-F178FFD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41BE6-CBE8-4644-897C-691BF18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10E39-FD7D-4F79-8ACA-9D6BDA2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427B8-1C23-4A0F-9402-40C50709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8F3DE-FE9A-4671-A847-A726E873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A3A7-43E0-4858-B2ED-3879FA71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3C8F-DE97-4540-92CF-51455AAF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4CC50-5D21-4680-B6FC-F6A4BB88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A3E4B-6305-4492-A5ED-9BFE4C02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8893-E4FE-43B1-A9A0-C57FD42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5F650-FC86-4B3A-B453-E27E35B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9C6C-F790-4B44-AC67-F7335EE53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33F4-C1BF-4B86-B9C1-19C1F1FCE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955-A491-4160-81E1-675BEEE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537F-9EA3-480F-A42E-C5C0504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2A28-E702-43D6-8EEF-6122346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BB37-B965-4F43-ABFE-68C7D412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7435-D6EB-46B2-A1A1-771C88B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F8B-83AC-48DB-B0F7-59AC696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523-729E-483F-A5C6-6CEE0EC5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E48A-D992-476C-B66C-FDE90F9D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212C-D157-47EE-AA98-AF0DE24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83D-DE07-4980-A491-B769F75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3EB4-41FE-498B-8775-7C6815C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BA5-BD6A-4F23-958D-AB7FA35FA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8CDA-0985-4310-8CF0-DAEFEC4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6D7A-C296-4723-B507-0F662AA9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DBA6-C0C6-40E2-A178-9FC9E0C1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5CCA-F584-4656-99E8-FCECCF91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20FF-54F5-485A-9E08-28C036E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EE8E-2ACC-43E7-A97C-14CB64C1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C3228-7ACC-4E44-8B5F-67ADFCF51C0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A32E6-65ED-47C4-A2A9-75F1FED04B8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DF189-AB8D-4CCD-8E25-C7228B3DC50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розова Екатерина Юрье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БДОУ № 82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18-02-20T12:55:08Z</dcterms:modified>
  <cp:revision>6</cp:revision>
  <dc:subject/>
  <dc:title>Слайд 1</dc:title>
</cp:coreProperties>
</file>