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362-8956-4557-8A16-4855A0C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406-B930-4C60-BB5F-BB06A0EF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8F9-9F35-4F81-899B-DBF9902E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84C-FFFC-4017-8E8D-5143EE51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E50-DFE4-4C33-905B-A40E08D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282-8D12-4094-A4B9-2D0B6710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DE3-7B65-46BF-8760-22B1304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21B-0FD3-4695-9F1F-0A294446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B2A-D327-466D-A74E-7B33B1DC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EE1-9E86-495B-B955-5791524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C2B-648D-44D8-82F6-29E5139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65B-515E-4BD4-9BF5-03818A1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AD8B-1B1C-43F9-A2D8-D7D3F42A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77;&#1082;&#1089;&#1077;&#1077;&#1074;&#1082;&#1072;_(&#1040;&#1083;&#1077;&#1082;&#1089;&#1077;&#1077;&#1074;&#1089;&#1082;&#1080;&#1081;_&#1088;&#1072;&#1081;&#1086;&#1085;,_&#1057;&#1072;&#1084;&#1072;&#1088;&#1089;&#1082;&#1072;&#1103;_&#1086;&#1073;&#1083;&#1072;&#1089;&#1090;&#1100;)" TargetMode="External"/><Relationship Id="rId2" Type="http://schemas.openxmlformats.org/officeDocument/2006/relationships/hyperlink" Target="http://ru.wikipedia.org/wiki/1928" TargetMode="External"/><Relationship Id="rId3" Type="http://schemas.openxmlformats.org/officeDocument/2006/relationships/hyperlink" Target="http://ru.wikipedia.org/wiki/1910" TargetMode="External"/><Relationship Id="rId4" Type="http://schemas.openxmlformats.org/officeDocument/2006/relationships/hyperlink" Target="http://ru.wikipedia.org/wiki/&#1042;&#1062;&#1048;&#1050;" TargetMode="External"/><Relationship Id="rId5" Type="http://schemas.openxmlformats.org/officeDocument/2006/relationships/hyperlink" Target="http://ru.wikipedia.org/wiki/16_&#1080;&#1102;&#1083;&#1103;" TargetMode="External"/><Relationship Id="rId6" Type="http://schemas.openxmlformats.org/officeDocument/2006/relationships/hyperlink" Target="http://ru.wikipedia.org/wiki/1928" TargetMode="External"/><Relationship Id="rId7" Type="http://schemas.openxmlformats.org/officeDocument/2006/relationships/hyperlink" Target="http://ru.wikipedia.org/wiki/1924" TargetMode="External"/><Relationship Id="rId8" Type="http://schemas.openxmlformats.org/officeDocument/2006/relationships/hyperlink" Target="http://ru.wikipedia.org/wiki/1928" TargetMode="External"/><Relationship Id="rId9" Type="http://schemas.openxmlformats.org/officeDocument/2006/relationships/hyperlink" Target="http://ru.wikipedia.org/wiki/1929" TargetMode="External"/><Relationship Id="rId10" Type="http://schemas.openxmlformats.org/officeDocument/2006/relationships/hyperlink" Target="http://ru.wikipedia.org/wiki/1933" TargetMode="External"/><Relationship Id="rId11" Type="http://schemas.openxmlformats.org/officeDocument/2006/relationships/hyperlink" Target="http://ru.wikipedia.org/wiki/1937" TargetMode="External"/><Relationship Id="rId12" Type="http://schemas.openxmlformats.org/officeDocument/2006/relationships/hyperlink" Target="http://ru.wikipedia.org/wiki/1959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5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77;&#1082;&#1089;&#1077;&#1077;&#1074;&#1089;&#1082;&#1080;&#1081;_&#1088;&#1072;&#1081;&#1086;&#1085;_(&#1057;&#1072;&#1084;&#1072;&#1088;&#1089;&#1082;&#1072;&#1103;_&#1086;&#1073;&#1083;&#1072;&#1089;&#1090;&#1100;)#cite_note-3" TargetMode="External"/><Relationship Id="rId2" Type="http://schemas.openxmlformats.org/officeDocument/2006/relationships/hyperlink" Target="http://ru.wikipedia.org/w/index.php?title=&#1040;&#1074;&#1072;&#1085;&#1075;&#1072;&#1088;&#1076;_(&#1087;&#1086;&#1089;&#1105;&#1083;&#1086;&#1082;,_&#1057;&#1072;&#1084;&#1072;&#1088;&#1089;&#1082;&#1072;&#1103;_&#1086;&#1073;&#1083;&#1072;&#1089;&#1090;&#1100;)&amp;action=edit&amp;redlink=1" TargetMode="External"/><Relationship Id="rId3" Type="http://schemas.openxmlformats.org/officeDocument/2006/relationships/hyperlink" Target="http://ru.wikipedia.org/w/index.php?title=&#1055;&#1077;&#1088;&#1074;&#1086;&#1082;&#1086;&#1084;&#1084;&#1091;&#1085;&#1072;&#1088;&#1089;&#1082;&#1080;&#1081;&amp;action=edit&amp;redlink=1" TargetMode="External"/><Relationship Id="rId4" Type="http://schemas.openxmlformats.org/officeDocument/2006/relationships/hyperlink" Target="http://ru.wikipedia.org/w/index.php?title=&#1057;&#1077;&#1076;&#1099;&#1096;&#1080;&amp;action=edit&amp;redlink=1" TargetMode="External"/><Relationship Id="rId5" Type="http://schemas.openxmlformats.org/officeDocument/2006/relationships/hyperlink" Target="http://ru.wikipedia.org/w/index.php?title=&#1040;&#1085;&#1090;&#1086;&#1085;&#1086;&#1074;&#1082;&#1072;_(&#1057;&#1072;&#1084;&#1072;&#1088;&#1089;&#1082;&#1072;&#1103;_&#1086;&#1073;&#1083;&#1072;&#1089;&#1090;&#1100;)&amp;action=edit&amp;redlink=1" TargetMode="External"/><Relationship Id="rId6" Type="http://schemas.openxmlformats.org/officeDocument/2006/relationships/hyperlink" Target="http://ru.wikipedia.org/w/index.php?title=&#1054;&#1089;&#1080;&#1087;&#1086;&#1074;&#1082;&#1072;_(&#1057;&#1072;&#1084;&#1072;&#1088;&#1089;&#1082;&#1072;&#1103;_&#1086;&#1073;&#1083;&#1072;&#1089;&#1090;&#1100;)&amp;action=edit&amp;redlink=1" TargetMode="External"/><Relationship Id="rId7" Type="http://schemas.openxmlformats.org/officeDocument/2006/relationships/hyperlink" Target="http://ru.wikipedia.org/w/index.php?title=&#1055;&#1072;&#1074;&#1083;&#1086;&#1074;&#1082;&#1072;_(&#1057;&#1072;&#1084;&#1072;&#1088;&#1089;&#1082;&#1072;&#1103;_&#1086;&#1073;&#1083;&#1072;&#1089;&#1090;&#1100;)&amp;action=edit&amp;redlink=1" TargetMode="External"/><Relationship Id="rId8" Type="http://schemas.openxmlformats.org/officeDocument/2006/relationships/hyperlink" Target="http://ru.wikipedia.org/w/index.php?title=&#1040;&#1083;&#1077;&#1082;&#1089;&#1077;&#1077;&#1074;&#1082;&#1072;_(&#1040;&#1083;&#1077;&#1082;&#1089;&#1077;&#1077;&#1074;&#1089;&#1082;&#1080;&#1081;_&#1088;&#1072;&#1081;&#1086;&#1085;_&#1057;&#1072;&#1084;&#1072;&#1088;&#1089;&#1082;&#1086;&#1081;_&#1086;&#1073;&#1083;&#1072;&#1089;&#1090;&#1080;)&amp;action=edit&amp;redlink=1" TargetMode="External"/><Relationship Id="rId9" Type="http://schemas.openxmlformats.org/officeDocument/2006/relationships/hyperlink" Target="http://ru.wikipedia.org/w/index.php?title=&#1053;&#1077;&#1089;&#1084;&#1077;&#1103;&#1085;&#1086;&#1074;&#1082;&#1072;_(&#1057;&#1072;&#1084;&#1072;&#1088;&#1089;&#1082;&#1072;&#1103;_&#1086;&#1073;&#1083;&#1072;&#1089;&#1090;&#1100;)&amp;action=edit&amp;redlink=1" TargetMode="External"/><Relationship Id="rId10" Type="http://schemas.openxmlformats.org/officeDocument/2006/relationships/hyperlink" Target="http://ru.wikipedia.org/w/index.php?title=&#1053;&#1086;&#1074;&#1086;&#1090;&#1088;&#1086;&#1077;&#1074;&#1082;&#1072;_(&#1057;&#1072;&#1084;&#1072;&#1088;&#1089;&#1082;&#1072;&#1103;_&#1086;&#1073;&#1083;&#1072;&#1089;&#1090;&#1100;)&amp;action=edit&amp;redlink=1" TargetMode="External"/><Relationship Id="rId11" Type="http://schemas.openxmlformats.org/officeDocument/2006/relationships/hyperlink" Target="http://ru.wikipedia.org/wiki/&#1048;&#1083;&#1100;&#1080;&#1095;&#1077;&#1074;&#1089;&#1082;&#1080;&#1081;" TargetMode="External"/><Relationship Id="rId12" Type="http://schemas.openxmlformats.org/officeDocument/2006/relationships/hyperlink" Target="http://ru.wikipedia.org/w/index.php?title=&#1051;&#1077;&#1085;&#1080;&#1085;&#1075;&#1088;&#1072;&#1076;&#1089;&#1082;&#1080;&#1081;_(&#1057;&#1072;&#1084;&#1072;&#1088;&#1089;&#1082;&#1072;&#1103;_&#1086;&#1073;&#1083;&#1072;&#1089;&#1090;&#1100;)&amp;action=edit&amp;redlink=1" TargetMode="External"/><Relationship Id="rId13" Type="http://schemas.openxmlformats.org/officeDocument/2006/relationships/hyperlink" Target="http://ru.wikipedia.org/wiki/&#1057;&#1091;&#1073;&#1073;&#1086;&#1090;&#1080;&#1085;&#1089;&#1082;&#1080;&#1081;" TargetMode="External"/><Relationship Id="rId14" Type="http://schemas.openxmlformats.org/officeDocument/2006/relationships/hyperlink" Target="http://ru.wikipedia.org/w/index.php?title=&#1057;&#1091;&#1093;&#1072;&#1103;_&#1042;&#1077;&#1090;&#1083;&#1103;&#1085;&#1082;&#1072;&amp;action=edit&amp;redlink=1" TargetMode="External"/><Relationship Id="rId15" Type="http://schemas.openxmlformats.org/officeDocument/2006/relationships/hyperlink" Target="http://ru.wikipedia.org/w/index.php?title=&#1057;&#1091;&#1093;&#1072;&#1103;_&#1042;&#1077;&#1090;&#1083;&#1103;&#1085;&#1082;&#1072;&amp;action=edit&amp;redlink=1" TargetMode="External"/><Relationship Id="rId16" Type="http://schemas.openxmlformats.org/officeDocument/2006/relationships/hyperlink" Target="http://ru.wikipedia.org/w/index.php?title=&#1043;&#1072;&#1074;&#1088;&#1080;&#1083;&#1086;&#1074;&#1082;&#1072;_(&#1057;&#1072;&#1084;&#1072;&#1088;&#1089;&#1082;&#1072;&#1103;_&#1086;&#1073;&#1083;&#1072;&#1089;&#1090;&#1100;)&amp;action=edit&amp;redlink=1" TargetMode="External"/><Relationship Id="rId17" Type="http://schemas.openxmlformats.org/officeDocument/2006/relationships/hyperlink" Target="http://ru.wikipedia.org/w/index.php?title=&#1055;&#1072;&#1090;&#1088;&#1086;&#1074;&#1082;&#1072;&amp;action=edit&amp;redlink=1" TargetMode="External"/><Relationship Id="rId18" Type="http://schemas.openxmlformats.org/officeDocument/2006/relationships/hyperlink" Target="http://ru.wikipedia.org/wiki/&#1043;&#1072;&#1074;&#1088;&#1080;&#1083;&#1086;&#1074;&#1089;&#1082;&#1080;&#1081;" TargetMode="External"/><Relationship Id="rId19" Type="http://schemas.openxmlformats.org/officeDocument/2006/relationships/hyperlink" Target="http://ru.wikipedia.org/w/index.php?title=&#1051;&#1100;&#1074;&#1072;_&#1058;&#1086;&#1083;&#1089;&#1090;&#1086;&#1075;&#1086;_(&#1087;&#1086;&#1089;&#1077;&#1083;&#1086;&#1082;,_&#1057;&#1072;&#1084;&#1072;&#1088;&#1089;&#1082;&#1072;&#1103;_&#1086;&#1073;&#1083;&#1072;&#1089;&#1090;&#1100;)&amp;action=edit&amp;redlink=1" TargetMode="External"/><Relationship Id="rId20" Type="http://schemas.openxmlformats.org/officeDocument/2006/relationships/hyperlink" Target="http://ru.wikipedia.org/w/index.php?title=&#1064;&#1072;&#1088;&#1080;&#1087;&#1086;&#1074;&#1082;&#1072;_(&#1057;&#1072;&#1084;&#1072;&#1088;&#1089;&#1082;&#1072;&#1103;_&#1086;&#1073;&#1083;&#1072;&#1089;&#1090;&#1100;)&amp;action=edit&amp;redlink=1" TargetMode="External"/><Relationship Id="rId21" Type="http://schemas.openxmlformats.org/officeDocument/2006/relationships/hyperlink" Target="http://ru.wikipedia.org/w/index.php?title=&#1043;&#1077;&#1088;&#1072;&#1089;&#1080;&#1084;&#1086;&#1074;&#1082;&#1072;_(&#1057;&#1072;&#1084;&#1072;&#1088;&#1089;&#1082;&#1072;&#1103;_&#1086;&#1073;&#1083;&#1072;&#1089;&#1090;&#1100;)&amp;action=edit&amp;redlink=1" TargetMode="External"/><Relationship Id="rId22" Type="http://schemas.openxmlformats.org/officeDocument/2006/relationships/hyperlink" Target="http://ru.wikipedia.org/w/index.php?title=&#1050;&#1086;&#1088;&#1085;&#1077;&#1077;&#1074;&#1082;&#1072;_(&#1057;&#1072;&#1084;&#1072;&#1088;&#1089;&#1082;&#1072;&#1103;_&#1086;&#1073;&#1083;&#1072;&#1089;&#1090;&#1100;)&amp;action=edit&amp;redlink=1" TargetMode="External"/><Relationship Id="rId23" Type="http://schemas.openxmlformats.org/officeDocument/2006/relationships/hyperlink" Target="http://ru.wikipedia.org/w/index.php?title=&#1044;&#1072;&#1083;&#1100;&#1085;&#1080;&#1081;_(&#1057;&#1072;&#1084;&#1072;&#1088;&#1089;&#1082;&#1072;&#1103;_&#1086;&#1073;&#1083;&#1072;&#1089;&#1090;&#1100;)&amp;action=edit&amp;redlink=1" TargetMode="External"/><Relationship Id="rId24" Type="http://schemas.openxmlformats.org/officeDocument/2006/relationships/hyperlink" Target="http://ru.wikipedia.org/w/index.php?title=&#1051;&#1077;&#1090;&#1085;&#1080;&#1082;&#1086;&#1074;&#1086;&amp;action=edit&amp;redlink=1" TargetMode="External"/><Relationship Id="rId25" Type="http://schemas.openxmlformats.org/officeDocument/2006/relationships/hyperlink" Target="http://ru.wikipedia.org/w/index.php?title=&#1043;&#1086;&#1088;&#1103;&#1081;&#1085;&#1086;&#1074;&#1082;&#1072;&amp;action=edit&amp;redlink=1" TargetMode="External"/><Relationship Id="rId26" Type="http://schemas.openxmlformats.org/officeDocument/2006/relationships/hyperlink" Target="http://ru.wikipedia.org/wiki/&#1050;&#1072;&#1083;&#1072;&#1096;&#1080;&#1085;&#1086;&#1074;&#1082;&#1072;" TargetMode="External"/><Relationship Id="rId27" Type="http://schemas.openxmlformats.org/officeDocument/2006/relationships/hyperlink" Target="http://ru.wikipedia.org/w/index.php?title=&#1054;&#1088;&#1077;&#1093;&#1086;&#1074;&#1082;&#1072;_(&#1057;&#1072;&#1084;&#1072;&#1088;&#1089;&#1082;&#1072;&#1103;_&#1086;&#1073;&#1083;&#1072;&#1089;&#1090;&#1100;)&amp;action=edit&amp;redlink=1" TargetMode="External"/><Relationship Id="rId28" Type="http://schemas.openxmlformats.org/officeDocument/2006/relationships/hyperlink" Target="http://ru.wikipedia.org/wiki/&#1055;&#1091;&#1096;&#1082;&#1072;&#1088;&#1082;&#1072;" TargetMode="External"/><Relationship Id="rId29" Type="http://schemas.openxmlformats.org/officeDocument/2006/relationships/hyperlink" Target="http://ru.wikipedia.org/w/index.php?title=&#1057;&#1072;&#1084;&#1086;&#1074;&#1086;&#1083;&#1100;&#1085;&#1086;-&#1048;&#1074;&#1072;&#1085;&#1086;&#1074;&#1082;&#1072;&amp;action=edit&amp;redlink=1" TargetMode="External"/><Relationship Id="rId30" Type="http://schemas.openxmlformats.org/officeDocument/2006/relationships/hyperlink" Target="http://ru.wikipedia.org/wiki/&#1057;&#1083;&#1072;&#1074;&#1080;&#1085;&#1082;&#1072;" TargetMode="External"/><Relationship Id="rId3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X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марская обл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http://samara-apk.ru/images/mun/map.jpg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зей-усадьба Толстого в Алексеевском районе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лексеевском районе в период с 1862 по 1883 гг неоднократно бывал великий русский писатель Лев Николаевич Толстой. Имен здесь, в своих имениях, обдумывались им герои и пейзажи, уточнялись сюжетная линия и детали произведений, известных мировой литературе: «Война и мир», «Воскресение», создавались знаменитые произведения для детей: «Арифметика», «Сказки и легенды»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чение 20 лет он побывал здесь 10 раз, и прожил, в общей сложности, 384 дня. Трижды приезжал со своей семь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ых дней своего пребывания в степном крае Лев Николаевич Толстой был очарован красотой природы и почувствовал глубокую симпатию к степнякам – кочующим башкирам и русским переселенцам. Привело его сюда отнюдь не праздное любопытство. Проблемы со здоровьем были нешуточные, требовалось подлечиться. Лечиться граф решил кумысом: в то время зарождалось такое направление в медиц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Лечение и пребывание в Самарском крае пошло графу на пользу, и он купил имение, а потом и второе, куда приезжал в летнее время. Купив имение, Толстой построил на своей земле конезавод, где собрал лучшие экземпляры породистых лошадок. В дни приезда графа в имение проводились народные гуляния, ярмарки и спортивные состязания. Особой популярностью у жителей близлежащих сел пользовались скачки, которые устраивались ежегодно в день имение Льва Николаевича.Ежегодно в середине июля проводятся Скачки на приз графа Л.Н.Толстого - скачки на местных лошадях на 10 верст, посвященные памяти писателя. Мероприятие сопровождается народными гуляниями, спортивными и развлекательными програм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ихотворение Федора Вострикова, посвященное жизни Льва Толстого в степном Заволжь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тепь была в его судьб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ынью дикой, зноем, рож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звала его к себ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хал раз – и задержал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купил. Поставил д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раву край степной каз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 трижды был с семьей пот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зьями стали и калмы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шкир и русский, и кирги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вал в землянках, в Каралы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аммеда пил кумыс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дя в Гавриловку с поклон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стьян от голода спаса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чтал, предсказывал и вери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тепь заплещется в пруд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евятнадцатого ве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ядущий праведно гляде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ядел взволнованней и строж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роком, графом, мужиком 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тал Заволжским степня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еведческий музей – усадьба Л.Н.Толст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1" descr="http://alexadm63.ru/city/museum/zdanie_muzei_smal.jpg"/>
          <p:cNvPicPr/>
          <p:nvPr/>
        </p:nvPicPr>
        <p:blipFill>
          <a:blip r:embed="rId1"/>
          <a:stretch/>
        </p:blipFill>
        <p:spPr>
          <a:xfrm>
            <a:off x="395280" y="134784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8" descr="алексеевский район (7)"/>
          <p:cNvPicPr/>
          <p:nvPr/>
        </p:nvPicPr>
        <p:blipFill>
          <a:blip r:embed="rId1"/>
          <a:stretch/>
        </p:blipFill>
        <p:spPr>
          <a:xfrm>
            <a:off x="2217600" y="333360"/>
            <a:ext cx="45151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9" descr="алексеевский район (12)"/>
          <p:cNvPicPr/>
          <p:nvPr/>
        </p:nvPicPr>
        <p:blipFill>
          <a:blip r:embed="rId1"/>
          <a:stretch/>
        </p:blipFill>
        <p:spPr>
          <a:xfrm>
            <a:off x="1176480" y="476280"/>
            <a:ext cx="678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0" descr="алексеевский район (13)"/>
          <p:cNvPicPr/>
          <p:nvPr/>
        </p:nvPicPr>
        <p:blipFill>
          <a:blip r:embed="rId1"/>
          <a:stretch/>
        </p:blipFill>
        <p:spPr>
          <a:xfrm>
            <a:off x="1979640" y="333360"/>
            <a:ext cx="48243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рода Самар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ят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зран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гулёв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н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окуйбышев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тябрь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д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хвистне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паев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ксеевский райо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Герб"/>
          <p:cNvPicPr/>
          <p:nvPr/>
        </p:nvPicPr>
        <p:blipFill>
          <a:blip r:embed="rId1"/>
          <a:stretch/>
        </p:blipFill>
        <p:spPr>
          <a:xfrm>
            <a:off x="1908000" y="1773360"/>
            <a:ext cx="51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ативный центр — село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лексеев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евский район расположен на юго-востоке Самарской области в 130 километрах от областного центра, в 70 километрах от железной дороги и станции Богатое. В настоящее время территория района составляет 1890 км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 образован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у на территории нынешнего района насчитывалось 16 сел, 11 деревень и 22 хутора. Дворов было 6411, в которых проживало 46,5 тыс. человек, из них 23 тыс. мужчин и 23,5 тыс. женщин. На данной территории имелось 17 действующих церквей, 30 церковно-приходских и земских школ, 2 боль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ение на карте Алексеевского района было утверждено Постановлением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Ц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т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6 ию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а. До этого его населенные пункты входили в состав Бузулукского уезда. Впервые в районе появились: трактор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телефон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, радио и кино (передвижка)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92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комбайн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93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электричество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93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, телевизор —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95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мография[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еление района составляет 13,3 тыс. человек. Всего насчитывается 28 населённых пун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ативное устройство[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января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00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было образовано 5 сельских поселений в пределах муниципального района Алексеевский Сама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ие посе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Авангард (посёл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вангар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ервокоммунар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еды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то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сип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авл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Алексеевка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лексее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Несмея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Новотрое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ёл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Ильиче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Ленинград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Субботин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Сух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Ветля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Гавриловка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Гаврил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ат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ёл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Гаврил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Льва Толст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Шарип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Герасимовка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Герасим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Корнее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ёлок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Даль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поселение Летниково (сёл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Летнико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Горяй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Калаши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Орех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Пушкар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Самовольно-Иван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Слави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ели Алексеевского района гордятся тем, что во второй половине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ека в их родных местах неоднократно бывал великий русский писатель Л. Н. Толстой. Он приезжал по совету врачей лечиться кумысом, который искусно делали башкиры на Каралыке. Впервые Лев Николаевич приехал сюда в мае 1862 года. В течение 20 лет он побывал здесь 10 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год подряд проводятся в районе «Степные скачки» — конно-спортивный праздник посвященный памяти Л. Н. 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примечательности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адьба Л. Н. Толстого, где он проживал летом 1875 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http://ic.pics.livejournal.com/mi_udivljaem/49556856/173095/173095_original.jpg"/>
          <p:cNvPicPr/>
          <p:nvPr/>
        </p:nvPicPr>
        <p:blipFill>
          <a:blip r:embed="rId1"/>
          <a:stretch/>
        </p:blipFill>
        <p:spPr>
          <a:xfrm>
            <a:off x="1176480" y="692280"/>
            <a:ext cx="6789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http://hellosamara.ru/photos/regions/shentalinsky_2.jpg"/>
          <p:cNvPicPr/>
          <p:nvPr/>
        </p:nvPicPr>
        <p:blipFill>
          <a:blip r:embed="rId1"/>
          <a:stretch/>
        </p:blipFill>
        <p:spPr>
          <a:xfrm>
            <a:off x="950760" y="836640"/>
            <a:ext cx="72424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9T15:56:34Z</dcterms:created>
  <dc:creator>Галина</dc:creator>
  <dc:description/>
  <dc:language>en-US</dc:language>
  <cp:lastModifiedBy>Галина</cp:lastModifiedBy>
  <dcterms:modified xsi:type="dcterms:W3CDTF">2013-06-29T15:56:42Z</dcterms:modified>
  <cp:revision>1</cp:revision>
  <dc:subject/>
  <dc:title>Самарская область</dc:title>
</cp:coreProperties>
</file>