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1FF-306F-42EB-BC67-609FB7BD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E9F-73D0-4C32-9DCB-C906049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CD7-D620-43D1-A10C-49705D1E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905-8266-4044-A84D-23F4296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B12-8DB8-46C9-881E-4708C710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E32C-7E96-461B-B2E0-9E444E6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E50-7259-4B61-8E4B-B9C56B4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3CF-12AA-4112-AE06-FCF3B91A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6EDA-7999-43D3-82FA-BE971DA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7D2C-1CA3-4B88-BCBE-6897597E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C132-F897-4C04-899F-3876800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7D2-56D3-48D6-86B1-BECB53D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6EBC-C953-45F3-AC4E-3287D60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EA52-0AD7-473B-BA45-B8F824D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A4D0-E0B8-488D-B3EC-0E0638D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C7B6-1342-4AA4-B302-CF98F3AE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B48-F3D1-4F80-8F67-71044B79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A2C-83CD-4210-ADB9-4269185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5BA-A038-4412-9A37-DADA78C4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FEC-4338-4B0B-80F1-1EF2173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C65-4483-456E-A601-AC993F17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682-DDBB-4115-AD99-83CC9C5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E48-1A2C-4200-803D-B108CC2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BF8-4E06-4AE4-B785-9EC332C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C56-E06B-46FE-8CBE-0027D47E94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0172-D0DB-4E7F-91B2-205147252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УГОЛОК ЭКСПЕРИМЕНТ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одготовительная груп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спитатель:Терёшкина Татьяна    Вячеслав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ГБОУ СОШ № 1056 корпус 2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дошкольное отделение г.Москв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Picture 4" descr="5b628f566d6a6a5eaaf27c360f798f43"/>
          <p:cNvPicPr/>
          <p:nvPr/>
        </p:nvPicPr>
        <p:blipFill>
          <a:blip r:embed="rId1"/>
          <a:stretch/>
        </p:blipFill>
        <p:spPr>
          <a:xfrm>
            <a:off x="900000" y="1484280"/>
            <a:ext cx="6324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обору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боры-помощни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кроскоп, лупы, увеличительные стек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сы, безме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сочные, механические час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ас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тновский метр, линейки, треугольник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&amp;mcy;&amp;icy;&amp;kcy;&amp;rcy;&amp;ocy;&amp;scy;&amp;kcy;&amp;ocy;&amp;pcy; «&amp;Bcy;&amp;icy;&amp;ocy;&amp;mcy;-2»"/>
          <p:cNvPicPr/>
          <p:nvPr/>
        </p:nvPicPr>
        <p:blipFill>
          <a:blip r:embed="rId1"/>
          <a:stretch/>
        </p:blipFill>
        <p:spPr>
          <a:xfrm>
            <a:off x="7380360" y="2637000"/>
            <a:ext cx="1571400" cy="26413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42008_html_198403d6_enl"/>
          <p:cNvPicPr/>
          <p:nvPr/>
        </p:nvPicPr>
        <p:blipFill>
          <a:blip r:embed="rId2"/>
          <a:stretch/>
        </p:blipFill>
        <p:spPr>
          <a:xfrm>
            <a:off x="6948360" y="76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123018b"/>
          <p:cNvPicPr/>
          <p:nvPr/>
        </p:nvPicPr>
        <p:blipFill>
          <a:blip r:embed="rId3"/>
          <a:stretch/>
        </p:blipFill>
        <p:spPr>
          <a:xfrm>
            <a:off x="3635280" y="5445000"/>
            <a:ext cx="130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стимулирующ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ообразные сосуды из различных материалов (пластмасса, стекло, металл, керамика) разной конфигурации и объем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ита, воронки разного размера и материа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иродный материал: камешки, глина, песок, ракушки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ишки, перья, мох, листь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утилизированный материал: проволока, кусочки кож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ха, ткани, пластмассы, пробк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технические материалы: гайки, скрепки, болты, гвоздики и др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.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ые виды бумаги: обычная, картон, наждачная, копировальна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красители: пищевые и непищевые (гуашь, акварельные краски  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медицинские материалы: пипетки, колбы, деревянные палочки, шприцы (без игл), мерные ложки мензурки, резиновые груш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очие материалы: зеркала, воздушные шары, масло, мука, соль, сахар, цветные и прозрачные стекла, 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284199195_11949852971136319017provette_architetto_fran_01"/>
          <p:cNvPicPr/>
          <p:nvPr/>
        </p:nvPicPr>
        <p:blipFill>
          <a:blip r:embed="rId1"/>
          <a:stretch/>
        </p:blipFill>
        <p:spPr>
          <a:xfrm>
            <a:off x="7236000" y="2060640"/>
            <a:ext cx="17398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в младшей группе должны быт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 для среднего возрас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ллекции:  семена разных растений, шишки, камешки, коллекции "Подарки :" (зимы, весны, осени), "Ткани",  "Бумага", "Пуговицы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камни", чудеса из стекла" и др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есок, г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абор игрушек резиновых и пластмассовых для игр в вод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атериалы для игр с мыльной пено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расители - пищевые и непищевые (гуашь, акварельные краски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семена бобов, фасоли, гор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екоторые пищевые продукты (сахар, соль, крахмал, му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</a:t>
            </a:r>
            <a:br>
              <a:rPr sz="3500"/>
            </a:b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Старший дошкольный возрас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схемы, таблицы, модели с алгоритмами выполн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ерии картин с изображением природных сообщ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, атла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олле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Часы бывают разные:",  "Изделия из камня".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рший возра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ито, воро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ловинки мыльниц, формы для льда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леенчатые фартуки, нарукавники, резиновые перчатки, тряпки ;    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стенд "О чем хочу узнать завтра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ичные блокноты детей для фиксации результатов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рточки-подсказки (разрешающие - запрещающие знаки) "Что можно, что нельзя"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персонажи, наделённые определенными чертами - ("Незнайка") от имени которого моделируется проблемная ситу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дение фиксации детского экспериментир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тека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ые блокноты де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-стенд- « О чем хочу узнать завт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под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?id=352858999-62-72&amp;n=21"/>
          <p:cNvPicPr/>
          <p:nvPr/>
        </p:nvPicPr>
        <p:blipFill>
          <a:blip r:embed="rId1"/>
          <a:stretch/>
        </p:blipFill>
        <p:spPr>
          <a:xfrm>
            <a:off x="4716360" y="450864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сновная задача ДОУ - поддержать и развить в ребенке интерес к исследованиям, открытиям, создать необходимые для этого условия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е сочетание материалов и оборудования в уголке экспериментир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уголка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ервичных естественнонаучных представл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люд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зн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ност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ребования при оборудовании уголка экспериментир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cer\Desktop\Camera\IMG_20141212_160837.jpg"/>
          <p:cNvPicPr/>
          <p:nvPr/>
        </p:nvPicPr>
        <p:blipFill>
          <a:blip r:embed="rId1"/>
          <a:stretch/>
        </p:blipFill>
        <p:spPr>
          <a:xfrm>
            <a:off x="4716360" y="3213000"/>
            <a:ext cx="38991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должны быть выделены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место для постоянной выставки, где размещают музей, различные коллекции. Экспонаты, редкие предметы (раковины, камни, кристаллы, перья и т. п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место для приб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, "бросового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место для проведения опы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место для неструктурированных материалов (песок, вода, опилки, стружка, пенопласт и др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олок экспериментирования делится на следующие компонент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дидактический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оборудования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стимулирующ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30034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дактический компон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вательные кни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ла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тические альбо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ии картин с изображением природных сооб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ы, таблицы, модели с алгоритмами выполнения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горитмы выполне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  опытов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Для уголка экспериментирования"/>
          <p:cNvPicPr/>
          <p:nvPr/>
        </p:nvPicPr>
        <p:blipFill>
          <a:blip r:embed="rId1"/>
          <a:stretch/>
        </p:blipFill>
        <p:spPr>
          <a:xfrm>
            <a:off x="611280" y="1916280"/>
            <a:ext cx="41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77cf528e7cf32f034214ca790c186ff"/>
          <p:cNvPicPr/>
          <p:nvPr/>
        </p:nvPicPr>
        <p:blipFill>
          <a:blip r:embed="rId2"/>
          <a:stretch/>
        </p:blipFill>
        <p:spPr>
          <a:xfrm>
            <a:off x="4788000" y="2997360"/>
            <a:ext cx="4140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хема выполнения опы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img3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9b8461fc2550d00c1af1fede6f5be0d9"/>
          <p:cNvPicPr/>
          <p:nvPr/>
        </p:nvPicPr>
        <p:blipFill>
          <a:blip r:embed="rId1"/>
          <a:stretch/>
        </p:blipFill>
        <p:spPr>
          <a:xfrm>
            <a:off x="826920" y="148428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User</cp:lastModifiedBy>
  <dcterms:modified xsi:type="dcterms:W3CDTF">2018-04-11T17:16:15Z</dcterms:modified>
  <cp:revision>14</cp:revision>
  <dc:subject/>
  <dc:title>Уголок экспериментирования в детском саду</dc:title>
</cp:coreProperties>
</file>