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11.png" ContentType="image/pn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86E3F-1C77-4B30-97FD-9B82809FA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B4892-CF06-480D-87ED-6FDA83FEF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42288-1E69-43E1-9243-34D313E04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6F67C-62B5-44ED-8103-3B27FFAAA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28BFD-C8A6-49ED-B975-CB859E7F2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552B3-4DB0-411D-ADEC-C546AFA52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3F109-42C4-4555-A610-100B37719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EE0D7-6A1B-44F9-8378-9653F25A8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1DD5C-F157-4965-92F7-1CD46AF9A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3A292-831A-4D6E-88F0-B62336B16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8E0E3-8CA1-4FC1-97AB-0727658DC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81929-143F-4E67-95FE-6D81197BC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AB0A7-AB11-4100-9C64-247B1F5DF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E19AE-9FA5-43C2-8B0A-56A5E47EC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71667-9FA9-4E2B-A907-889C6D773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DF56D-A2E8-470C-8646-286A67402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5FDFC-A0DD-4F16-A75C-85CFCFEA1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A9F1F-B73A-488E-94ED-C6D9E940F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2DB0F-C3D6-46D5-A750-0E00361EF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C1A20-B190-45B3-8562-A1A3ADF85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5AD2F-DC51-4DED-91B2-5BB8B3687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E1EF6-17D1-408B-97DB-CF9326B00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BE080-82DC-47F9-9D00-9A0157ACC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5E1B0-C24A-4BFB-8B1B-F109C14A5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BBF75-E51E-4987-A26B-D744D88C67DD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CBE72-3A1A-443C-A9FC-BC519D3566F4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Arial"/>
              </a:rPr>
              <a:t>УГОЛОК ЭКСПЕРИМЕНТИРОВА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2060"/>
                </a:solidFill>
                <a:latin typeface="Arial"/>
              </a:rPr>
              <a:t>Подготовительная групп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Воспитатель:Терёшкина Татьяна    Вячеславов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900"/>
            </a:br>
            <a:br>
              <a:rPr sz="3900"/>
            </a:br>
            <a:br>
              <a:rPr sz="3900"/>
            </a:br>
            <a:br>
              <a:rPr sz="3900"/>
            </a:br>
            <a:br>
              <a:rPr sz="3900"/>
            </a:br>
            <a:br>
              <a:rPr sz="3900"/>
            </a:br>
            <a:br>
              <a:rPr sz="3900"/>
            </a:br>
            <a:br>
              <a:rPr sz="3900"/>
            </a:br>
            <a:br>
              <a:rPr sz="3900"/>
            </a:br>
            <a:r>
              <a:rPr b="1" lang="ru-RU" sz="3200" spc="-1" strike="noStrike">
                <a:solidFill>
                  <a:srgbClr val="330066"/>
                </a:solidFill>
                <a:latin typeface="Arial"/>
              </a:rPr>
              <a:t>ГБОУ СОШ № 1056 корпус 2</a:t>
            </a:r>
            <a:br>
              <a:rPr sz="3200"/>
            </a:br>
            <a:r>
              <a:rPr b="1" lang="ru-RU" sz="3200" spc="-1" strike="noStrike">
                <a:solidFill>
                  <a:srgbClr val="330066"/>
                </a:solidFill>
                <a:latin typeface="Arial"/>
              </a:rPr>
              <a:t>дошкольное отделение г.Москва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правила поведения в уголке экспериментирования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72" name="Picture 4" descr="5b628f566d6a6a5eaaf27c360f798f43"/>
          <p:cNvPicPr/>
          <p:nvPr/>
        </p:nvPicPr>
        <p:blipFill>
          <a:blip r:embed="rId1"/>
          <a:stretch/>
        </p:blipFill>
        <p:spPr>
          <a:xfrm>
            <a:off x="900000" y="1484280"/>
            <a:ext cx="632484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Компонент оборудования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риборы-помощники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микроскоп, лупы, увеличительные стекла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есы, безмен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есочные, механические часы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компас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магниты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ортновский метр, линейки, треугольник т.д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5" descr="&amp;mcy;&amp;icy;&amp;kcy;&amp;rcy;&amp;ocy;&amp;scy;&amp;kcy;&amp;ocy;&amp;pcy; «&amp;Bcy;&amp;icy;&amp;ocy;&amp;mcy;-2»"/>
          <p:cNvPicPr/>
          <p:nvPr/>
        </p:nvPicPr>
        <p:blipFill>
          <a:blip r:embed="rId1"/>
          <a:stretch/>
        </p:blipFill>
        <p:spPr>
          <a:xfrm>
            <a:off x="7380360" y="2637000"/>
            <a:ext cx="1571400" cy="2641320"/>
          </a:xfrm>
          <a:prstGeom prst="rect">
            <a:avLst/>
          </a:prstGeom>
          <a:ln w="0">
            <a:noFill/>
          </a:ln>
        </p:spPr>
      </p:pic>
      <p:sp>
        <p:nvSpPr>
          <p:cNvPr id="176" name="AutoShape 7"/>
          <p:cNvSpPr/>
          <p:nvPr/>
        </p:nvSpPr>
        <p:spPr>
          <a:xfrm>
            <a:off x="155520" y="46080"/>
            <a:ext cx="4667400" cy="458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9"/>
          <p:cNvSpPr/>
          <p:nvPr/>
        </p:nvSpPr>
        <p:spPr>
          <a:xfrm>
            <a:off x="155520" y="46080"/>
            <a:ext cx="4667400" cy="458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11" descr="42008_html_198403d6_enl"/>
          <p:cNvPicPr/>
          <p:nvPr/>
        </p:nvPicPr>
        <p:blipFill>
          <a:blip r:embed="rId2"/>
          <a:stretch/>
        </p:blipFill>
        <p:spPr>
          <a:xfrm>
            <a:off x="6948360" y="765000"/>
            <a:ext cx="1727280" cy="180036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3" descr="123018b"/>
          <p:cNvPicPr/>
          <p:nvPr/>
        </p:nvPicPr>
        <p:blipFill>
          <a:blip r:embed="rId3"/>
          <a:stretch/>
        </p:blipFill>
        <p:spPr>
          <a:xfrm>
            <a:off x="3635280" y="5445000"/>
            <a:ext cx="1301760" cy="14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Компонент стимулирующий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- разнообразные сосуды из различных материалов (пластмасса, стекло, металл, керамика) разной конфигурации и объема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Сита, воронки разного размера и материала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- природный материал: камешки, глина, песок, ракушки,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шишки, перья, мох, листья и др.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- утилизированный материал: проволока, кусочки кожи,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меха, ткани, пластмассы, пробки и др.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- технические материалы: гайки, скрепки, болты, гвоздики и др</a:t>
            </a:r>
            <a:r>
              <a:rPr b="1" i="1" lang="ru-RU" sz="1900" spc="-1" strike="noStrike">
                <a:solidFill>
                  <a:srgbClr val="000000"/>
                </a:solidFill>
                <a:latin typeface="Arial"/>
              </a:rPr>
              <a:t>.;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- разные виды бумаги: обычная, картон, наждачная, копировальная и др.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- красители: пищевые и непищевые (гуашь, акварельные краски  )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- медицинские материалы: пипетки, колбы, деревянные палочки, шприцы (без игл), мерные ложки мензурки, резиновые груши и др.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- прочие материалы: зеркала, воздушные шары, масло, мука, соль, сахар, цветные и прозрачные стекла,  и др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4" descr="1284199195_11949852971136319017provette_architetto_fran_01"/>
          <p:cNvPicPr/>
          <p:nvPr/>
        </p:nvPicPr>
        <p:blipFill>
          <a:blip r:embed="rId1"/>
          <a:stretch/>
        </p:blipFill>
        <p:spPr>
          <a:xfrm>
            <a:off x="7236000" y="2060640"/>
            <a:ext cx="1739880" cy="14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650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330066"/>
                </a:solidFill>
                <a:latin typeface="Arial"/>
              </a:rPr>
              <a:t>В уголке экспериментальной деятельности  в младшей группе должны быть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- книги познавательного характера для среднего возраста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- тематические альбомы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- коллекции:  семена разных растений, шишки, камешки, коллекции "Подарки :" (зимы, весны, осени), "Ткани",  "Бумага", "Пуговицы"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- Мини-музей (тематика различна, например "камни", чудеса из стекла" и др.)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- Песок, глина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- набор игрушек резиновых и пластмассовых для игр в воде;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- материалы для игр с мыльной пеной,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- красители - пищевые и непищевые (гуашь, акварельные краски и др.)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- семена бобов, фасоли, гороха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- некоторые пищевые продукты (сахар, соль, крахмал, мука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68000" y="33336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330066"/>
                </a:solidFill>
                <a:latin typeface="Arial"/>
              </a:rPr>
              <a:t>В уголке экспериментальной деятельности</a:t>
            </a:r>
            <a:br>
              <a:rPr sz="3500"/>
            </a:br>
            <a:r>
              <a:rPr b="1" lang="ru-RU" sz="3500" spc="-1" strike="noStrike" u="sng">
                <a:solidFill>
                  <a:srgbClr val="330066"/>
                </a:solidFill>
                <a:uFillTx/>
                <a:latin typeface="Arial"/>
              </a:rPr>
              <a:t>Старший дошкольный возраст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-  схемы, таблицы, модели с алгоритмами выполнения опытов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- серии картин с изображением природных сообществ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- книги познавательного характера, атласы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- тематические альбомы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- коллекции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- мини-музей (тематика различна, например "Часы бывают разные:",  "Изделия из камня".   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Старший возраст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- сито, воронк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- половинки мыльниц, формы для льда 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- клеенчатые фартуки, нарукавники, резиновые перчатки, тряпки ;       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- мини-стенд "О чем хочу узнать завтра"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- личные блокноты детей для фиксации результатов опытов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- карточки-подсказки (разрешающие - запрещающие знаки) "Что можно, что нельзя" 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-  персонажи, наделённые определенными чертами - ("Незнайка") от имени которого моделируется проблемная ситуация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Ведение фиксации детского экспериментирования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Дневни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Картотека опыто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хем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Личные блокноты дете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Мини-стенд- « О чем хочу узнать завтра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Карточки подсказк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5" descr="i?id=352858999-62-72&amp;n=21"/>
          <p:cNvPicPr/>
          <p:nvPr/>
        </p:nvPicPr>
        <p:blipFill>
          <a:blip r:embed="rId1"/>
          <a:stretch/>
        </p:blipFill>
        <p:spPr>
          <a:xfrm>
            <a:off x="4716360" y="4508640"/>
            <a:ext cx="3384720" cy="21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23640" y="549360"/>
            <a:ext cx="7543800" cy="201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0066"/>
                </a:solidFill>
                <a:latin typeface="Arial"/>
              </a:rPr>
              <a:t>Основная задача ДОУ - поддержать и развить в ребенке интерес к исследованиям, открытиям, создать необходимые для этого условия</a:t>
            </a:r>
            <a:r>
              <a:rPr b="1" lang="ru-RU" sz="35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68360" y="3068280"/>
            <a:ext cx="8229600" cy="325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рамотное сочетание материалов и оборудования в уголке экспериментирования способствуют овладению детьми средствами познавательной деятельности, способам действий, обследованию объектов, расширению познавательного опыта.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задачи уголка экспериментирования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95280" y="184428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развитие первичных естественнонаучных представлений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наблюдательности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любознательности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активности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мыслительных операций (анализ, сравнение, обобщение, классификация, наблюдение) 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формирование умений комплексно обследовать предмет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2082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330066"/>
                </a:solidFill>
                <a:latin typeface="Arial"/>
              </a:rPr>
              <a:t>Требования при оборудовании уголка экспериментирования в группе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безопасность для жизни и здоровья детей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достаточность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   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доступност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расположе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2" descr="C:\Users\acer\Desktop\Camera\IMG_20141212_160837.jpg"/>
          <p:cNvPicPr/>
          <p:nvPr/>
        </p:nvPicPr>
        <p:blipFill>
          <a:blip r:embed="rId1"/>
          <a:stretch/>
        </p:blipFill>
        <p:spPr>
          <a:xfrm>
            <a:off x="4716360" y="3213000"/>
            <a:ext cx="3899160" cy="27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650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330066"/>
                </a:solidFill>
                <a:latin typeface="Arial"/>
              </a:rPr>
              <a:t>В уголке экспериментальной деятельности  должны быть выделены: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1) место для постоянной выставки, где размещают музей, различные коллекции. Экспонаты, редкие предметы (раковины, камни, кристаллы, перья и т. п.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2) место для приборов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Место для хранения материалов (природного, "бросового"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3) место для проведения опытов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4) место для неструктурированных материалов (песок, вода, опилки, стружка, пенопласт и др.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68000" y="620280"/>
            <a:ext cx="754380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330066"/>
                </a:solidFill>
                <a:latin typeface="Arial"/>
              </a:rPr>
              <a:t>Уголок экспериментирования делится на следующие компоненты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42100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Компонент дидактический 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   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Компонент оборудования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      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Компонент стимулирующи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6" descr=""/>
          <p:cNvPicPr/>
          <p:nvPr/>
        </p:nvPicPr>
        <p:blipFill>
          <a:blip r:embed="rId1"/>
          <a:stretch/>
        </p:blipFill>
        <p:spPr>
          <a:xfrm>
            <a:off x="5940360" y="2276640"/>
            <a:ext cx="3003480" cy="425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Дидактический компонент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ознавательные книг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атлас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Тематические альбом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ерии картин с изображением природных сообщест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хемы, таблицы, модели с алгоритмами выполнения опыто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Алгоритмы выполнения </a:t>
            </a:r>
            <a:br>
              <a:rPr sz="3900"/>
            </a:b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               опытов       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64" name="Picture 4" descr="Для уголка экспериментирования"/>
          <p:cNvPicPr/>
          <p:nvPr/>
        </p:nvPicPr>
        <p:blipFill>
          <a:blip r:embed="rId1"/>
          <a:stretch/>
        </p:blipFill>
        <p:spPr>
          <a:xfrm>
            <a:off x="611280" y="1916280"/>
            <a:ext cx="4105080" cy="31683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5" descr="277cf528e7cf32f034214ca790c186ff"/>
          <p:cNvPicPr/>
          <p:nvPr/>
        </p:nvPicPr>
        <p:blipFill>
          <a:blip r:embed="rId2"/>
          <a:stretch/>
        </p:blipFill>
        <p:spPr>
          <a:xfrm>
            <a:off x="4788000" y="2997360"/>
            <a:ext cx="4140000" cy="276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Схема выполнения опытов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755640" y="1773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5" descr="img3"/>
          <p:cNvPicPr/>
          <p:nvPr/>
        </p:nvPicPr>
        <p:blipFill>
          <a:blip r:embed="rId1"/>
          <a:stretch/>
        </p:blipFill>
        <p:spPr>
          <a:xfrm>
            <a:off x="1116000" y="1916280"/>
            <a:ext cx="6696000" cy="42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правила поведения в уголке экспериментирования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70" name="Picture 4" descr="9b8461fc2550d00c1af1fede6f5be0d9"/>
          <p:cNvPicPr/>
          <p:nvPr/>
        </p:nvPicPr>
        <p:blipFill>
          <a:blip r:embed="rId1"/>
          <a:stretch/>
        </p:blipFill>
        <p:spPr>
          <a:xfrm>
            <a:off x="826920" y="1484280"/>
            <a:ext cx="655344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06T12:07:31Z</dcterms:created>
  <dc:creator>OEM</dc:creator>
  <dc:description/>
  <dc:language>en-US</dc:language>
  <cp:lastModifiedBy>User</cp:lastModifiedBy>
  <dcterms:modified xsi:type="dcterms:W3CDTF">2018-04-11T17:16:15Z</dcterms:modified>
  <cp:revision>14</cp:revision>
  <dc:subject/>
  <dc:title>Уголок экспериментирования в детском саду</dc:title>
</cp:coreProperties>
</file>