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3E6-0F5C-47D5-A6A7-951EFE27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D4C-D8CE-4B83-810E-54E707F3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842-D6CC-4BBD-9507-311D1EA0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8B7-628C-4E1F-B975-4717D543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1B0-C8D4-4488-B97C-077295C3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034-4D4D-4ABF-8CFA-956A3A2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D3E-7A07-4CDA-8B4F-98A8713C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CEA-D6FC-49E7-B59E-566B82F9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677-DBB7-4A64-9070-48FA884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1C8-D4D4-4854-AAF1-F776BE2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DF5-8100-477C-BB84-72371D4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5B1-8F06-4B05-812A-EBDB24DA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538-D5A7-4D27-93B8-1D636AFDF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nstras.lt/uploads/wallpapers/show/%5B1%5D_13_Jul_11/7148_14210_cvety_zemlya_nebo_trava_1920x1200_wwwgdefonr.jpg" TargetMode="External"/><Relationship Id="rId2" Type="http://schemas.openxmlformats.org/officeDocument/2006/relationships/hyperlink" Target="http://lenagold.narod.ru/fon/clipart/g/glob/glob42.png" TargetMode="External"/><Relationship Id="rId3" Type="http://schemas.openxmlformats.org/officeDocument/2006/relationships/hyperlink" Target="http://nashakopilka.ucoz.ru/_pu/9/5692181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РОДИТЕЛЬСКОЕ СОБР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« Как  развивать самостоятельность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младших  школьник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 flipV="1" rot="10800000">
            <a:off x="539280" y="3991680"/>
            <a:ext cx="748836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шаблон презентации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интернет – ресурсы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которые использовались для создания шаблона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артинка для фон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Земной ша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вето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 flipV="1" rot="10800000">
            <a:off x="785880" y="1356840"/>
            <a:ext cx="748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.Б. Гиппенрей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бщаться с ребёнком. К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Тот человек, которого ты любишь во мне,                                                                                                                                                                                                              конечно, лучше меня: я не такой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Но ты люби, и я постараюсь быть лучше себя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                                                  М.М.Пришв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90071109"/>
          <p:cNvPicPr/>
          <p:nvPr/>
        </p:nvPicPr>
        <p:blipFill>
          <a:blip r:embed="rId1"/>
          <a:stretch/>
        </p:blipFill>
        <p:spPr>
          <a:xfrm>
            <a:off x="2201760" y="2592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ь - это психическое состояние личности, включающее в себя: способность ставить перед собой задачу; способность удерживать в памяти конечную цель действия и организовывать свои действия ; способность совершать  действия без посторонней помощи, соотносить полученный результат с исходным намер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21597c52317"/>
          <p:cNvPicPr/>
          <p:nvPr/>
        </p:nvPicPr>
        <p:blipFill>
          <a:blip r:embed="rId1"/>
          <a:stretch/>
        </p:blipFill>
        <p:spPr>
          <a:xfrm>
            <a:off x="4211640" y="4365720"/>
            <a:ext cx="2854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268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 в дело, которым занят ребенок, если он не просит помощи. Своим невмешательством вы будете сообщать ему: «С тобой все в порядке! Ты, конечно, справишься!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kraskizhizni.com/images/img15/problemy-u-pyatiklassnikov.jpg"/>
          <p:cNvPicPr/>
          <p:nvPr/>
        </p:nvPicPr>
        <p:blipFill>
          <a:blip r:embed="rId1"/>
          <a:stretch/>
        </p:blipFill>
        <p:spPr>
          <a:xfrm>
            <a:off x="1332000" y="3716280"/>
            <a:ext cx="4762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ребенку трудно ,и он готов принять вашу помощь, обязательно помогите е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. Возьмите на себя только то, что он не может выполнить сам, остальное предоставьте делать ему само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 мере освоения ребенком новых    действий постепенно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епенно, но неуклонно снимайте с себя заботу и ответственность за личные дела вашего ребенка и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supermammy.ru/wp-content/uploads/2017/03/shkolnik-delaet-uroki-2407.jpg"/>
          <p:cNvPicPr/>
          <p:nvPr/>
        </p:nvPicPr>
        <p:blipFill>
          <a:blip r:embed="rId1"/>
          <a:stretch/>
        </p:blipFill>
        <p:spPr>
          <a:xfrm>
            <a:off x="1042920" y="3213000"/>
            <a:ext cx="6269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Ты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такие фразы, где встречаются местоимения «ты», причем они создают впечатление вашей абсолютной правоты и неправоты другого человека: «Ты всегда оставляешь в комнате грязь». В результате ребенок чувствует, что он плохой, и обижа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Я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гда вы говорите лишь о том, чего вы хотите, что чувствуете. «Я очень устала и огорчена, что ты не успел сделать домашнее задание к моему приходу. Как мы можем решить эту проблему? » Этот способ менее конфликт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ружелюбный тон общ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воляйте вашему ребенку встречаться с отрицательными последствиями своих действий (или своего бездействия). Только тогда он будет взрослеть и становиться «сознательным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uchni.com.ua/pars_docs/refs/21/20588/20588_html_1115de60.png"/>
          <p:cNvPicPr/>
          <p:nvPr/>
        </p:nvPicPr>
        <p:blipFill>
          <a:blip r:embed="rId1"/>
          <a:stretch/>
        </p:blipFill>
        <p:spPr>
          <a:xfrm>
            <a:off x="1476360" y="360684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к  развивать самостоятельность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, если не прося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йте, когда тру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еличивайте ответственность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вольте детям допускать и совершать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http://detskieradosti.ru/_fr/6/5832849.jpg"/>
          <p:cNvPicPr/>
          <p:nvPr/>
        </p:nvPicPr>
        <p:blipFill>
          <a:blip r:embed="rId1"/>
          <a:stretch/>
        </p:blipFill>
        <p:spPr>
          <a:xfrm>
            <a:off x="2778120" y="4076640"/>
            <a:ext cx="445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Кабинет 2</cp:lastModifiedBy>
  <dcterms:modified xsi:type="dcterms:W3CDTF">2018-02-28T12:11:29Z</dcterms:modified>
  <cp:revision>69</cp:revision>
  <dc:subject/>
  <dc:title>Слайд 1</dc:title>
</cp:coreProperties>
</file>