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761-1575-4D97-B1AB-BA689ACE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7ED-0CBA-4AA1-96B9-F09B4E98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02D-14F8-498D-BC8C-44AD1998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529-80A4-46E2-B8B5-FD9A4094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CD7-0F82-473D-9900-516FE192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CAD-3FD1-472A-9587-0D9612B5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8FE-BFF8-4BA0-8FB2-AC8FCD07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73C-E26E-43D4-B287-06BF3357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6AB-7D29-4361-A5BC-AF1BCE91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9EB-3004-47FE-8620-020BCA45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8C9-F784-45E1-849C-F9F78117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561-DAAD-4545-A924-1144216B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870D-6A2D-4010-A95A-4059D7930F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onstras.lt/uploads/wallpapers/show/%5B1%5D_13_Jul_11/7148_14210_cvety_zemlya_nebo_trava_1920x1200_wwwgdefonr.jpg" TargetMode="External"/><Relationship Id="rId2" Type="http://schemas.openxmlformats.org/officeDocument/2006/relationships/hyperlink" Target="http://lenagold.narod.ru/fon/clipart/g/glob/glob42.png" TargetMode="External"/><Relationship Id="rId3" Type="http://schemas.openxmlformats.org/officeDocument/2006/relationships/hyperlink" Target="http://nashakopilka.ucoz.ru/_pu/9/56921812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222268"/>
                </a:solidFill>
                <a:latin typeface="Times New Roman"/>
              </a:rPr>
              <a:t>РОДИТЕЛЬСКОЕ СОБРАНИЕ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« Как  развивать самостоятельность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младших  школьников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 flipV="1" rot="10800000">
            <a:off x="539280" y="3991680"/>
            <a:ext cx="748836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шаблон презентации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интернет – ресурсы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которые использовались для создания шаблона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Картинка для фона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Земной ша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Цвето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 flipV="1" rot="10800000">
            <a:off x="785880" y="1356840"/>
            <a:ext cx="7488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.Б. Гиппенрейте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Общаться с ребёнком. Ка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Тот человек, которого ты любишь во мне,                                                                                                                                                                                                              конечно, лучше меня: я не такой.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Но ты люби, и я постараюсь быть лучше себя.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                                                   М.М.Пришв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90071109"/>
          <p:cNvPicPr/>
          <p:nvPr/>
        </p:nvPicPr>
        <p:blipFill>
          <a:blip r:embed="rId1"/>
          <a:stretch/>
        </p:blipFill>
        <p:spPr>
          <a:xfrm>
            <a:off x="2201760" y="2592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44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о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ь - это психическое состояние личности, включающее в себя: способность ставить перед собой задачу; способность удерживать в памяти конечную цель действия и организовывать свои действия ; способность совершать  действия без посторонней помощи, соотносить полученный результат с исходным намерени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21597c52317"/>
          <p:cNvPicPr/>
          <p:nvPr/>
        </p:nvPicPr>
        <p:blipFill>
          <a:blip r:embed="rId1"/>
          <a:stretch/>
        </p:blipFill>
        <p:spPr>
          <a:xfrm>
            <a:off x="4211640" y="4365720"/>
            <a:ext cx="28544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авило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268280"/>
            <a:ext cx="822960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вмешивайтесь в дело, которым занят ребенок, если он не просит помощи. Своим невмешательством вы будете сообщать ему: «С тобой все в порядке! Ты, конечно, справишься!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kraskizhizni.com/images/img15/problemy-u-pyatiklassnikov.jpg"/>
          <p:cNvPicPr/>
          <p:nvPr/>
        </p:nvPicPr>
        <p:blipFill>
          <a:blip r:embed="rId1"/>
          <a:stretch/>
        </p:blipFill>
        <p:spPr>
          <a:xfrm>
            <a:off x="1332000" y="3716280"/>
            <a:ext cx="47624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68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ребенку трудно ,и он готов принять вашу помощь, обязательно помогите е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. Возьмите на себя только то, что он не может выполнить сам, остальное предоставьте делать ему самом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 мере освоения ребенком новых    действий постепенно передавайте их 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епенно, но неуклонно снимайте с себя заботу и ответственность за личные дела вашего ребенка и передавайте их 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http://supermammy.ru/wp-content/uploads/2017/03/shkolnik-delaet-uroki-2407.jpg"/>
          <p:cNvPicPr/>
          <p:nvPr/>
        </p:nvPicPr>
        <p:blipFill>
          <a:blip r:embed="rId1"/>
          <a:stretch/>
        </p:blipFill>
        <p:spPr>
          <a:xfrm>
            <a:off x="1042920" y="3213000"/>
            <a:ext cx="62690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643040"/>
            <a:ext cx="822960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Ты-высказывания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такие фразы, где встречаются местоимения «ты», причем они создают впечатление вашей абсолютной правоты и неправоты другого человека: «Ты всегда оставляешь в комнате грязь». В результате ребенок чувствует, что он плохой, и обижае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Я-высказывания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когда вы говорите лишь о том, чего вы хотите, что чувствуете. «Я очень устала и огорчена, что ты не успел сделать домашнее задание к моему приходу. Как мы можем решить эту проблему? » Этот способ менее конфликте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ружелюбный тон общ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1966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зволяйте вашему ребенку встречаться с отрицательными последствиями своих действий (или своего бездействия). Только тогда он будет взрослеть и становиться «сознательным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http://uchni.com.ua/pars_docs/refs/21/20588/20588_html_1115de60.png"/>
          <p:cNvPicPr/>
          <p:nvPr/>
        </p:nvPicPr>
        <p:blipFill>
          <a:blip r:embed="rId1"/>
          <a:stretch/>
        </p:blipFill>
        <p:spPr>
          <a:xfrm>
            <a:off x="1476360" y="3606840"/>
            <a:ext cx="4286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Как  развивать самостоятельность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вмешивайтесь, если не прося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айте, когда тру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еличивайте ответственность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вольте детям допускать и совершать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http://detskieradosti.ru/_fr/6/5832849.jpg"/>
          <p:cNvPicPr/>
          <p:nvPr/>
        </p:nvPicPr>
        <p:blipFill>
          <a:blip r:embed="rId1"/>
          <a:stretch/>
        </p:blipFill>
        <p:spPr>
          <a:xfrm>
            <a:off x="2778120" y="4076640"/>
            <a:ext cx="4456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Кабинет 2</cp:lastModifiedBy>
  <dcterms:modified xsi:type="dcterms:W3CDTF">2018-02-28T12:11:29Z</dcterms:modified>
  <cp:revision>69</cp:revision>
  <dc:subject/>
  <dc:title>Слайд 1</dc:title>
</cp:coreProperties>
</file>