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97738-2DEF-4890-B652-FB18A6E13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57B36-70B1-4075-8B8B-9A2725E93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B8B9B-9B5D-4140-9294-2EDB93C88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ABFCE-4EE6-4324-87E2-8589DA865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732D3-8F33-4054-8121-5AE8C96C5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2451D-00FB-4781-B8CE-9FB26AB28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313D4-CBD2-4813-B32A-D0BFA49BB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917F6-85C6-449B-AC05-BD847E7CA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9BE2C-E216-4241-B505-09491043B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F0998-3971-42CD-A2F9-B775F6760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74C08-EBBE-4C7B-A683-A7936762D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30C48-B0AC-460D-8200-E47F83EAC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F684C-CDCE-453D-95ED-B78EA736880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onstras.lt/uploads/wallpapers/show/%5B1%5D_13_Jul_11/7148_14210_cvety_zemlya_nebo_trava_1920x1200_wwwgdefonr.jpg" TargetMode="External"/><Relationship Id="rId2" Type="http://schemas.openxmlformats.org/officeDocument/2006/relationships/hyperlink" Target="http://lenagold.narod.ru/fon/clipart/g/glob/glob42.png" TargetMode="External"/><Relationship Id="rId3" Type="http://schemas.openxmlformats.org/officeDocument/2006/relationships/hyperlink" Target="http://nashakopilka.ucoz.ru/_pu/9/56921812.jpg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ru-RU" sz="2400" spc="-1" strike="noStrike">
                <a:solidFill>
                  <a:srgbClr val="222268"/>
                </a:solidFill>
                <a:latin typeface="Times New Roman"/>
              </a:rPr>
              <a:t>РОДИТЕЛЬСКОЕ СОБРАНИЕ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2268"/>
                </a:solidFill>
                <a:latin typeface="Times New Roman"/>
              </a:rPr>
              <a:t>« Как  развивать самостоятельность у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2268"/>
                </a:solidFill>
                <a:latin typeface="Times New Roman"/>
              </a:rPr>
              <a:t>младших  школьников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5"/>
          <p:cNvSpPr/>
          <p:nvPr/>
        </p:nvSpPr>
        <p:spPr>
          <a:xfrm flipV="1" rot="10800000">
            <a:off x="539280" y="3991680"/>
            <a:ext cx="7488360" cy="22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шаблон презентации: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00" spc="-1" strike="noStrike">
                <a:solidFill>
                  <a:srgbClr val="000000"/>
                </a:solidFill>
                <a:latin typeface="Times New Roman"/>
              </a:rPr>
              <a:t>Ранько Елена Алексеевна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00" spc="-1" strike="noStrike">
                <a:solidFill>
                  <a:srgbClr val="000000"/>
                </a:solidFill>
                <a:latin typeface="Times New Roman"/>
              </a:rPr>
              <a:t>учитель начальных классов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00" spc="-1" strike="noStrike">
                <a:solidFill>
                  <a:srgbClr val="000000"/>
                </a:solidFill>
                <a:latin typeface="Times New Roman"/>
              </a:rPr>
              <a:t>МАОУ лицей №2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ru-RU" sz="900" spc="-1" strike="noStrike">
                <a:solidFill>
                  <a:srgbClr val="000000"/>
                </a:solidFill>
                <a:latin typeface="Times New Roman"/>
              </a:rPr>
              <a:t>г. Иваново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900" spc="-1" strike="noStrike">
                <a:solidFill>
                  <a:srgbClr val="000000"/>
                </a:solidFill>
                <a:latin typeface="Times New Roman"/>
              </a:rPr>
              <a:t>интернет – ресурсы</a:t>
            </a:r>
            <a:r>
              <a:rPr b="0" i="1" lang="ru-RU" sz="9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900" spc="-1" strike="noStrike">
                <a:solidFill>
                  <a:srgbClr val="000000"/>
                </a:solidFill>
                <a:latin typeface="Times New Roman"/>
              </a:rPr>
              <a:t>которые использовались для создания шаблона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 u="sng">
                <a:solidFill>
                  <a:srgbClr val="800000"/>
                </a:solidFill>
                <a:uFillTx/>
                <a:latin typeface="Times New Roman"/>
                <a:hlinkClick r:id="rId1"/>
              </a:rPr>
              <a:t>Картинка для фона</a:t>
            </a: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 u="sng">
                <a:solidFill>
                  <a:srgbClr val="800000"/>
                </a:solidFill>
                <a:uFillTx/>
                <a:latin typeface="Times New Roman"/>
                <a:hlinkClick r:id="rId2"/>
              </a:rPr>
              <a:t>Земной шар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 u="sng">
                <a:solidFill>
                  <a:srgbClr val="800000"/>
                </a:solidFill>
                <a:uFillTx/>
                <a:latin typeface="Times New Roman"/>
                <a:hlinkClick r:id="rId3"/>
              </a:rPr>
              <a:t>Цветок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5"/>
          <p:cNvSpPr/>
          <p:nvPr/>
        </p:nvSpPr>
        <p:spPr>
          <a:xfrm flipV="1" rot="10800000">
            <a:off x="785880" y="1356840"/>
            <a:ext cx="7488000" cy="24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Литература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Ю.Б. Гиппенрейтер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«Общаться с ребёнком. Как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Calibri"/>
              </a:rPr>
              <a:t>Тот человек, которого ты любишь во мне,                                                                                                                                                                                                              конечно, лучше меня: я не такой. </a:t>
            </a:r>
            <a:br>
              <a:rPr sz="2400"/>
            </a:br>
            <a:r>
              <a:rPr b="1" lang="ru-RU" sz="2400" spc="-1" strike="noStrike">
                <a:solidFill>
                  <a:srgbClr val="ff3300"/>
                </a:solidFill>
                <a:latin typeface="Calibri"/>
              </a:rPr>
              <a:t>Но ты люби, и я постараюсь быть лучше себя. </a:t>
            </a:r>
            <a:br>
              <a:rPr sz="2400"/>
            </a:br>
            <a:r>
              <a:rPr b="1" lang="ru-RU" sz="2400" spc="-1" strike="noStrike">
                <a:solidFill>
                  <a:srgbClr val="ff3300"/>
                </a:solidFill>
                <a:latin typeface="Calibri"/>
              </a:rPr>
              <a:t>                                                    М.М.Пришви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Picture 7" descr="90071109"/>
          <p:cNvPicPr/>
          <p:nvPr/>
        </p:nvPicPr>
        <p:blipFill>
          <a:blip r:embed="rId1"/>
          <a:stretch/>
        </p:blipFill>
        <p:spPr>
          <a:xfrm>
            <a:off x="2201760" y="2592360"/>
            <a:ext cx="4762440" cy="31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79280" y="333360"/>
            <a:ext cx="8445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Times New Roman"/>
              </a:rPr>
              <a:t>  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амостоятельност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ь - это психическое состояние личности, включающее в себя: способность ставить перед собой задачу; способность удерживать в памяти конечную цель действия и организовывать свои действия ; способность совершать  действия без посторонней помощи, соотносить полученный результат с исходным намерением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6" descr="c21597c52317"/>
          <p:cNvPicPr/>
          <p:nvPr/>
        </p:nvPicPr>
        <p:blipFill>
          <a:blip r:embed="rId1"/>
          <a:stretch/>
        </p:blipFill>
        <p:spPr>
          <a:xfrm>
            <a:off x="4211640" y="4365720"/>
            <a:ext cx="2854440" cy="214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Правило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395280" y="1268280"/>
            <a:ext cx="8229600" cy="269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Не вмешивайтесь в дело, которым занят ребенок, если он не просит помощи. Своим невмешательством вы будете сообщать ему: «С тобой все в порядке! Ты, конечно, справишься!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5" descr="http://www.kraskizhizni.com/images/img15/problemy-u-pyatiklassnikov.jpg"/>
          <p:cNvPicPr/>
          <p:nvPr/>
        </p:nvPicPr>
        <p:blipFill>
          <a:blip r:embed="rId1"/>
          <a:stretch/>
        </p:blipFill>
        <p:spPr>
          <a:xfrm>
            <a:off x="1332000" y="3716280"/>
            <a:ext cx="4762440" cy="26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</a:rPr>
              <a:t>Правило 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57168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Если ребенку трудно ,и он готов принять вашу помощь, обязательно помогите ему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1. Возьмите на себя только то, что он не может выполнить сам, остальное предоставьте делать ему самому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. По мере освоения ребенком новых    действий постепенно передавайте их ему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858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</a:rPr>
              <a:t>Правило 3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599840"/>
            <a:ext cx="8229600" cy="22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остепенно, но неуклонно снимайте с себя заботу и ответственность за личные дела вашего ребенка и передавайте их ему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5" descr="http://supermammy.ru/wp-content/uploads/2017/03/shkolnik-delaet-uroki-2407.jpg"/>
          <p:cNvPicPr/>
          <p:nvPr/>
        </p:nvPicPr>
        <p:blipFill>
          <a:blip r:embed="rId1"/>
          <a:stretch/>
        </p:blipFill>
        <p:spPr>
          <a:xfrm>
            <a:off x="1042920" y="3213000"/>
            <a:ext cx="6269040" cy="309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395280" y="1643040"/>
            <a:ext cx="8229600" cy="37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Times New Roman"/>
              </a:rPr>
              <a:t>«Ты-высказывания»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- такие фразы, где встречаются местоимения «ты», причем они создают впечатление вашей абсолютной правоты и неправоты другого человека: «Ты всегда оставляешь в комнате грязь». В результате ребенок чувствует, что он плохой, и обижается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Times New Roman"/>
              </a:rPr>
              <a:t>«Я-высказывания»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- это когда вы говорите лишь о том, чего вы хотите, что чувствуете. «Я очень устала и огорчена, что ты не успел сделать домашнее задание к моему приходу. Как мы можем решить эту проблему? » Этот способ менее конфликтен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Заголовок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Дружелюбный тон общени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</a:rPr>
              <a:t>Правило 4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395280" y="1196640"/>
            <a:ext cx="8229600" cy="22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озволяйте вашему ребенку встречаться с отрицательными последствиями своих действий (или своего бездействия). Только тогда он будет взрослеть и становиться «сознательным»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5" descr="http://uchni.com.ua/pars_docs/refs/21/20588/20588_html_1115de60.png"/>
          <p:cNvPicPr/>
          <p:nvPr/>
        </p:nvPicPr>
        <p:blipFill>
          <a:blip r:embed="rId1"/>
          <a:stretch/>
        </p:blipFill>
        <p:spPr>
          <a:xfrm>
            <a:off x="1476360" y="3606840"/>
            <a:ext cx="4286160" cy="28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Times New Roman"/>
              </a:rPr>
              <a:t>Как  развивать самостоятельность</a:t>
            </a:r>
            <a:r>
              <a:rPr b="1" lang="en-US" sz="4400" spc="-1" strike="noStrike">
                <a:solidFill>
                  <a:srgbClr val="800000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262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е вмешивайтесь, если не просят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могайте, когда трудно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величивайте ответственность ребенк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звольте детям допускать и совершать ошибк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5" descr="http://detskieradosti.ru/_fr/6/5832849.jpg"/>
          <p:cNvPicPr/>
          <p:nvPr/>
        </p:nvPicPr>
        <p:blipFill>
          <a:blip r:embed="rId1"/>
          <a:stretch/>
        </p:blipFill>
        <p:spPr>
          <a:xfrm>
            <a:off x="2778120" y="4076640"/>
            <a:ext cx="445608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6T20:41:41Z</dcterms:created>
  <dc:creator>Елена</dc:creator>
  <dc:description/>
  <dc:language>en-US</dc:language>
  <cp:lastModifiedBy>Кабинет 2</cp:lastModifiedBy>
  <dcterms:modified xsi:type="dcterms:W3CDTF">2018-02-28T12:11:29Z</dcterms:modified>
  <cp:revision>69</cp:revision>
  <dc:subject/>
  <dc:title>Слайд 1</dc:title>
</cp:coreProperties>
</file>