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B47-1A05-46CA-B7D9-B6BD9F79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B48-7B57-4E27-A52D-F257F2F7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B98-7CE6-4192-A466-18D7331C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774-01D5-4F9A-8011-EF3BC6B8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8DE8-915D-4DF5-B5BC-19932B8E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14E0-403A-4B6D-B150-8D14E83C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1CDB-64D3-4965-A913-D1F13762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937E-7548-4143-94CB-911065A1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51D0-B3B3-42B8-973F-90E9DCAD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2913-1DED-4F1A-90E3-69F71654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6918-9E11-4A7A-B352-05EFCBF4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2D7-BCC5-4C35-B6B3-208C88DE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7B81-5647-4D0F-A433-40353975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4EF5-0519-4091-9BDF-62CB8630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EDE2-8DEA-473E-959A-740F8DA3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0125-CC1A-466D-B2F4-B65E7D12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85BA-1D22-42D2-86F1-F477D2B2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AB4-76EA-428D-9494-49CFE1F8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276-D951-4F8F-9EA8-E0539E3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B50-B07C-4B3F-AF28-5FD5599B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3C4-3F9E-4905-A08F-39A1F6AA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2B1-8528-4F41-BBFD-755E6FEE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008-D145-44D5-869E-0C17280A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C35-F8B4-4B2C-8811-96F629CC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20B5-F347-4035-9CA9-E6845A76C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CCB3-238E-4207-98DC-EFE6752EB6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385120" cy="20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Техника безопасности при занятиях легкой атлетикой.</a:t>
            </a:r>
            <a:r>
              <a:rPr b="1" lang="ru-RU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00045099"/>
          <p:cNvPicPr/>
          <p:nvPr/>
        </p:nvPicPr>
        <p:blipFill>
          <a:blip r:embed="rId1"/>
          <a:stretch/>
        </p:blipFill>
        <p:spPr>
          <a:xfrm>
            <a:off x="0" y="3645000"/>
            <a:ext cx="2141640" cy="321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39937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230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6000"/>
          </a:solidFill>
          <a:ln w="38160">
            <a:solidFill>
              <a:srgbClr val="f0f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0. При групповом старте не толкаться локтями, не наступать на пятки впереди бегущего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5" descr="00045000"/>
          <p:cNvPicPr/>
          <p:nvPr/>
        </p:nvPicPr>
        <p:blipFill>
          <a:blip r:embed="rId1"/>
          <a:stretch/>
        </p:blipFill>
        <p:spPr>
          <a:xfrm>
            <a:off x="1476360" y="1828800"/>
            <a:ext cx="766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1. Во время бега на длинные дистанции уметь правильно распределять силы по дистанции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(не начинать быстро)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5" descr="00045317"/>
          <p:cNvPicPr/>
          <p:nvPr/>
        </p:nvPicPr>
        <p:blipFill>
          <a:blip r:embed="rId1"/>
          <a:stretch/>
        </p:blipFill>
        <p:spPr>
          <a:xfrm>
            <a:off x="5508720" y="2276640"/>
            <a:ext cx="3635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75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2. После финиша следует перейти на ходьбу до полного восстановления дыхания, нельзя резко останавливаться, садиться или ложитьс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5" descr="00044998"/>
          <p:cNvPicPr/>
          <p:nvPr/>
        </p:nvPicPr>
        <p:blipFill>
          <a:blip r:embed="rId1"/>
          <a:stretch/>
        </p:blipFill>
        <p:spPr>
          <a:xfrm>
            <a:off x="3492360" y="3125880"/>
            <a:ext cx="5651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467160" cy="592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3. Не выполнять прыжки на неровный, рыхлый или скользкий грунт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5" descr="07272006132401"/>
          <p:cNvPicPr/>
          <p:nvPr/>
        </p:nvPicPr>
        <p:blipFill>
          <a:blip r:embed="rId1"/>
          <a:stretch/>
        </p:blipFill>
        <p:spPr>
          <a:xfrm>
            <a:off x="4064040" y="1700280"/>
            <a:ext cx="48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346716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4. Соблюдать очередность выполнения попыток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5" descr="neft"/>
          <p:cNvPicPr/>
          <p:nvPr/>
        </p:nvPicPr>
        <p:blipFill>
          <a:blip r:embed="rId1"/>
          <a:stretch/>
        </p:blipFill>
        <p:spPr>
          <a:xfrm>
            <a:off x="3780000" y="1863720"/>
            <a:ext cx="53640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5. Не переходить места, на которых проводятся занятия по метан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5" descr="big_1219130183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619520" cy="51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6. Выполнять метания только по команде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untitled"/>
          <p:cNvPicPr/>
          <p:nvPr/>
        </p:nvPicPr>
        <p:blipFill>
          <a:blip r:embed="rId1"/>
          <a:stretch/>
        </p:blipFill>
        <p:spPr>
          <a:xfrm>
            <a:off x="4932360" y="1773360"/>
            <a:ext cx="4211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5267160" cy="541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7. Перед выполнением метания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посмотреть, нет ли людей в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зоне приземления снаряд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5" descr="IMG_0036_01"/>
          <p:cNvPicPr/>
          <p:nvPr/>
        </p:nvPicPr>
        <p:blipFill>
          <a:blip r:embed="rId1"/>
          <a:stretch/>
        </p:blipFill>
        <p:spPr>
          <a:xfrm>
            <a:off x="5076720" y="1052640"/>
            <a:ext cx="4067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4978440" cy="34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8. Не стоять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 рядом с метающи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5" descr="IMG_0029_01"/>
          <p:cNvPicPr/>
          <p:nvPr/>
        </p:nvPicPr>
        <p:blipFill>
          <a:blip r:embed="rId1"/>
          <a:stretch/>
        </p:blipFill>
        <p:spPr>
          <a:xfrm>
            <a:off x="4932360" y="836640"/>
            <a:ext cx="4211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9. Не стоять в поле (коридоре), где приземляются метательные снаряд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5" descr="29791"/>
          <p:cNvPicPr/>
          <p:nvPr/>
        </p:nvPicPr>
        <p:blipFill>
          <a:blip r:embed="rId1"/>
          <a:stretch/>
        </p:blipFill>
        <p:spPr>
          <a:xfrm>
            <a:off x="3564000" y="1849320"/>
            <a:ext cx="5580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. Соблюдать дисциплину в ходе заняти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8" descr="25202"/>
          <p:cNvPicPr/>
          <p:nvPr/>
        </p:nvPicPr>
        <p:blipFill>
          <a:blip r:embed="rId1"/>
          <a:stretch/>
        </p:blipFill>
        <p:spPr>
          <a:xfrm>
            <a:off x="4000680" y="3000240"/>
            <a:ext cx="5143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0. Не ловить метательные снаряд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5" descr="B-sp-005-vl"/>
          <p:cNvPicPr/>
          <p:nvPr/>
        </p:nvPicPr>
        <p:blipFill>
          <a:blip r:embed="rId1"/>
          <a:stretch/>
        </p:blipFill>
        <p:spPr>
          <a:xfrm>
            <a:off x="2987640" y="1933560"/>
            <a:ext cx="6156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1. Не передавать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 метательные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снаряды броско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5" descr="p16_imga1268"/>
          <p:cNvPicPr/>
          <p:nvPr/>
        </p:nvPicPr>
        <p:blipFill>
          <a:blip r:embed="rId1"/>
          <a:stretch/>
        </p:blipFill>
        <p:spPr>
          <a:xfrm>
            <a:off x="4859280" y="1052640"/>
            <a:ext cx="4284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5338800" cy="661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2. Не выходить в поле (коридор) за метательными снарядами без разрешения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11" descr="IMG_0046_01"/>
          <p:cNvPicPr/>
          <p:nvPr/>
        </p:nvPicPr>
        <p:blipFill>
          <a:blip r:embed="rId1"/>
          <a:stretch/>
        </p:blipFill>
        <p:spPr>
          <a:xfrm>
            <a:off x="5076720" y="1557360"/>
            <a:ext cx="40672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3. При падении сгруппироваться во избежание получения травм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5" descr="foto"/>
          <p:cNvPicPr/>
          <p:nvPr/>
        </p:nvPicPr>
        <p:blipFill>
          <a:blip r:embed="rId1"/>
          <a:stretch/>
        </p:blipFill>
        <p:spPr>
          <a:xfrm>
            <a:off x="5830920" y="1916280"/>
            <a:ext cx="3313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24. При плохом самочувствии или травме немедленно сообщить учител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Picture 10" descr="00045020"/>
          <p:cNvPicPr/>
          <p:nvPr/>
        </p:nvPicPr>
        <p:blipFill>
          <a:blip r:embed="rId1"/>
          <a:stretch/>
        </p:blipFill>
        <p:spPr>
          <a:xfrm>
            <a:off x="0" y="3760920"/>
            <a:ext cx="4572000" cy="30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15183"/>
          <p:cNvPicPr/>
          <p:nvPr/>
        </p:nvPicPr>
        <p:blipFill>
          <a:blip r:embed="rId2"/>
          <a:stretch/>
        </p:blipFill>
        <p:spPr>
          <a:xfrm>
            <a:off x="5076720" y="1628640"/>
            <a:ext cx="3927600" cy="2610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6000"/>
          </a:solidFill>
          <a:ln w="38160">
            <a:solidFill>
              <a:srgbClr val="f0f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. Заниматься в спортивной обуви и форме, соответствующей погодным условия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15" descr="00045450"/>
          <p:cNvPicPr/>
          <p:nvPr/>
        </p:nvPicPr>
        <p:blipFill>
          <a:blip r:embed="rId1"/>
          <a:stretch/>
        </p:blipFill>
        <p:spPr>
          <a:xfrm>
            <a:off x="5769000" y="1844640"/>
            <a:ext cx="337500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3. Заниматься легкой атлетикой только в местах, названных учителем, в поле его зрени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127039_image_large"/>
          <p:cNvPicPr/>
          <p:nvPr/>
        </p:nvPicPr>
        <p:blipFill>
          <a:blip r:embed="rId1"/>
          <a:stretch/>
        </p:blipFill>
        <p:spPr>
          <a:xfrm>
            <a:off x="3995640" y="1844640"/>
            <a:ext cx="514836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2602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4.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Приступать к выполнению легкоатлетических упражнений только после разминк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1" descr="tanci"/>
          <p:cNvPicPr/>
          <p:nvPr/>
        </p:nvPicPr>
        <p:blipFill>
          <a:blip r:embed="rId1"/>
          <a:stretch/>
        </p:blipFill>
        <p:spPr>
          <a:xfrm>
            <a:off x="3348000" y="765000"/>
            <a:ext cx="5796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5. Не бежать навстречу общему движению учащихся на беговой дорожке (бег по кругу стадиона осуществлять только в направлении против часовой стрелк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5" descr="1022533_1198833106"/>
          <p:cNvPicPr/>
          <p:nvPr/>
        </p:nvPicPr>
        <p:blipFill>
          <a:blip r:embed="rId1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4259160" cy="505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6. Бежать короткие (спринтерские дистанции) только по своей дорожк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00045132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4259160" cy="541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7. Во время бега не смотреть под ноги, на своего соперник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5" descr="00045188"/>
          <p:cNvPicPr/>
          <p:nvPr/>
        </p:nvPicPr>
        <p:blipFill>
          <a:blip r:embed="rId1"/>
          <a:stretch/>
        </p:blipFill>
        <p:spPr>
          <a:xfrm>
            <a:off x="4716360" y="1844640"/>
            <a:ext cx="4427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8. Не допускать стопорящей (резкой) остановки после финиш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5" descr="00044968"/>
          <p:cNvPicPr/>
          <p:nvPr/>
        </p:nvPicPr>
        <p:blipFill>
          <a:blip r:embed="rId1"/>
          <a:stretch/>
        </p:blipFill>
        <p:spPr>
          <a:xfrm>
            <a:off x="5457960" y="1844640"/>
            <a:ext cx="3686040" cy="5013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500040" y="2214720"/>
            <a:ext cx="471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9. Не перебегать (пересекать) дорожку во время бега «соревнующихс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42:24Z</dcterms:created>
  <dc:creator>user</dc:creator>
  <dc:description/>
  <dc:language>en-US</dc:language>
  <cp:lastModifiedBy>Бос1</cp:lastModifiedBy>
  <dcterms:modified xsi:type="dcterms:W3CDTF">2017-05-05T09:20:10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c0000000000010250300207f7000400038000</vt:lpwstr>
  </property>
</Properties>
</file>