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A32-885E-42E0-90F6-28BEC9C8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C9E-6395-4E24-A46F-EFAF2B46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D3A-09BB-48C2-BD7E-7FB21A2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8D7-3D2B-4B3B-9ECB-000A56F0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4F4-91F4-47F2-9606-F511A719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629-41C0-40E8-82DF-B55969FC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DDF8-6474-46C3-9FD2-5E25D044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7A87-3E3C-4AED-BDD1-096B4DB5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23C-BB87-4149-A6B4-C9F6214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5281-FF82-438A-BA66-F639144F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B5C-6384-436B-B577-5AADB6B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85E-828A-43E7-A1F5-915E9EC0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D9E-09D9-4C8D-A496-E12DC97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933-CA50-4FE1-9761-AB2906C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7E7E-2ADE-4EF8-A527-683596D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A4F-33F0-40C1-96B3-0D37530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1F6-FEA6-468F-AF71-03CCEA69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BE4-ADC1-47DF-9CEB-979DDBD4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DC8-84E1-42A8-B94E-1C337EE2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FF5-96DA-4CEE-921F-FD05BF7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D1F-7DFC-4321-AA78-2C15E16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C7D-6057-49AA-9549-3383907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31D-DC48-408E-995A-5D45BCF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2F4-6366-4EDB-9971-5FC61F5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B574-AB08-40BB-B25E-A63965E80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AC6-4E9A-4D14-93C0-630E5E2C0F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.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00045317"/>
          <p:cNvPicPr/>
          <p:nvPr/>
        </p:nvPicPr>
        <p:blipFill>
          <a:blip r:embed="rId1"/>
          <a:stretch/>
        </p:blipFill>
        <p:spPr>
          <a:xfrm>
            <a:off x="5508720" y="2276640"/>
            <a:ext cx="3635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467160" cy="59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1700280"/>
            <a:ext cx="48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46716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5" descr="neft"/>
          <p:cNvPicPr/>
          <p:nvPr/>
        </p:nvPicPr>
        <p:blipFill>
          <a:blip r:embed="rId1"/>
          <a:stretch/>
        </p:blipFill>
        <p:spPr>
          <a:xfrm>
            <a:off x="3780000" y="1863720"/>
            <a:ext cx="5364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untitled"/>
          <p:cNvPicPr/>
          <p:nvPr/>
        </p:nvPicPr>
        <p:blipFill>
          <a:blip r:embed="rId1"/>
          <a:stretch/>
        </p:blipFill>
        <p:spPr>
          <a:xfrm>
            <a:off x="4932360" y="1773360"/>
            <a:ext cx="421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5267160" cy="541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посмотреть, нет ли людей в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5" descr="IMG_0036_01"/>
          <p:cNvPicPr/>
          <p:nvPr/>
        </p:nvPicPr>
        <p:blipFill>
          <a:blip r:embed="rId1"/>
          <a:stretch/>
        </p:blipFill>
        <p:spPr>
          <a:xfrm>
            <a:off x="5076720" y="1052640"/>
            <a:ext cx="406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978440" cy="34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5" descr="IMG_0029_01"/>
          <p:cNvPicPr/>
          <p:nvPr/>
        </p:nvPicPr>
        <p:blipFill>
          <a:blip r:embed="rId1"/>
          <a:stretch/>
        </p:blipFill>
        <p:spPr>
          <a:xfrm>
            <a:off x="4932360" y="836640"/>
            <a:ext cx="4211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 метательные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p16_imga1268"/>
          <p:cNvPicPr/>
          <p:nvPr/>
        </p:nvPicPr>
        <p:blipFill>
          <a:blip r:embed="rId1"/>
          <a:stretch/>
        </p:blipFill>
        <p:spPr>
          <a:xfrm>
            <a:off x="4859280" y="1052640"/>
            <a:ext cx="428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5338800" cy="661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11" descr="IMG_0046_01"/>
          <p:cNvPicPr/>
          <p:nvPr/>
        </p:nvPicPr>
        <p:blipFill>
          <a:blip r:embed="rId1"/>
          <a:stretch/>
        </p:blipFill>
        <p:spPr>
          <a:xfrm>
            <a:off x="5076720" y="1557360"/>
            <a:ext cx="4067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127039_image_large"/>
          <p:cNvPicPr/>
          <p:nvPr/>
        </p:nvPicPr>
        <p:blipFill>
          <a:blip r:embed="rId1"/>
          <a:stretch/>
        </p:blipFill>
        <p:spPr>
          <a:xfrm>
            <a:off x="3995640" y="1844640"/>
            <a:ext cx="514836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2602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tanci"/>
          <p:cNvPicPr/>
          <p:nvPr/>
        </p:nvPicPr>
        <p:blipFill>
          <a:blip r:embed="rId1"/>
          <a:stretch/>
        </p:blipFill>
        <p:spPr>
          <a:xfrm>
            <a:off x="3348000" y="765000"/>
            <a:ext cx="5796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259160" cy="50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259160" cy="541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5" descr="00045188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00040" y="2214720"/>
            <a:ext cx="47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Бос1</cp:lastModifiedBy>
  <dcterms:modified xsi:type="dcterms:W3CDTF">2017-05-05T09:20:10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