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D298-0E97-4BE2-BE0F-444BA33AC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E004-5032-4E54-A60A-74760A0A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6935-E020-4B29-8F6C-04C9D3B2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9936-4CB8-42FA-B19A-A6DC1890F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D565-FE0C-44F3-8B94-413ADC83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115C-C836-4E26-90FF-237B1F15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8C72-57F4-4773-BE86-9229A5F8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E6E5-610B-432B-9650-BA1DD025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07F9-962A-41EF-943E-6BD86085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FBFB-F71D-4595-9DF8-38C5E9AC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3C24-A2B0-4A29-A833-53CC3591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04A5-4044-4FD1-ABD4-581536A4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7E88-9BA5-4ECF-A799-23B51A14BB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195640" y="262080"/>
            <a:ext cx="65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ниципальное бюджетное дошкольное образовательное учреждение детский сад №24 комбинированного ви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2627280" y="2211120"/>
            <a:ext cx="60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формационн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ворческий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знавательны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е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МА:  «Деревня и мы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1042920" y="4606560"/>
            <a:ext cx="90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кт  подготовили воспитатели МБДОУ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детского сада № 24 комбинированного вид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Михальченкова Юлия Александро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фонина Елена Владимиро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1403280" y="201240"/>
            <a:ext cx="734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Times New Roman"/>
              </a:rPr>
              <a:t>Реализуя проект,  дети смогли во всех видах деятельности: рисовании, лепке, аппликации отобразить свои впечатления, создать сюжет, изобразить его согласно тематике. У детей развились творческие способности, воображение, мышление, интерес к окружающем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Times New Roman"/>
              </a:rPr>
              <a:t>Родители воспитанников через участие в проекте смогли помочь детям усвоить речевой материал, используемый в работе. Приняли участие в занятиях, развлечениях. Проект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особствовал сплочению детского коллектива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реплению культурных связей между педагогами и семьями воспитаннико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C:\Users\Администратор\Desktop\проект деревня и мы\ф\IMG-20180120-WA0055.jpg"/>
          <p:cNvPicPr/>
          <p:nvPr/>
        </p:nvPicPr>
        <p:blipFill>
          <a:blip r:embed="rId1"/>
          <a:stretch/>
        </p:blipFill>
        <p:spPr>
          <a:xfrm>
            <a:off x="1908000" y="3068640"/>
            <a:ext cx="665964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2268360" y="197640"/>
            <a:ext cx="6550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аспорт проек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ект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ревня и 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ип проекта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о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ворческий, познаватель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ект  подготовила 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оспитатели  средней группы Михальченкова Ю.А., Афонина Е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должительность проекта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госрочный  (с 11.09.2017г. -по 26.01.2018г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озрастная группа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ети средней групп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астники проекта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ети 4-5 лет, воспитатели, родители, физкультурный и музыкальный работн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2340000" y="1995480"/>
            <a:ext cx="66247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Актуальность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едущим замыслом проекта является приобщение ребенка к истории и культуре деревни; пополнение знаний детей о деревне, воспитание уважения к традициям и обычаям, развитие потребности детей в освоении окружающего мира путем изучения культурного наследия, с участием родителей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Знакомство с русской народной культурой, в частности, с устным народным творчеством, обрядовыми праздниками, народно-прикладным искусством, развивает интерес и внимание к окружающему миру, народному слову и народным обычаям, воспитывает художественный вкус, а также многому учит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1871640" y="3284640"/>
            <a:ext cx="709308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Развивается речь, формируются нравственные привычки, обогащаются знания о природе. Доступные по форме и содержанию заклички, приговорки, дразнилки легко запоминаются и могут широко использоваться детьми в играх. Они забавляют ребёнка и, вместе с тем, обучают навыкам поведен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риобщение детей к истокам народной культуры не потеряло своего значения и в настоящее врем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И мы хотим, чтобы дети выросли любящими свою Родину, свой народ и культуру. Именно поэтому мы серьезно задумались над проблемой приобщения детей к истокам русской народной культуры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грузить детей в атмосферу старины способствовала поездка в музей «Русской избы» в этнографический парк музей «ЭТНОМИР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Проблема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ля развития полноценной личности ребенка важно  приобщение его  к культуре своего народа, поскольку оно воспитывает уважение, гордость за нашу Родину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       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Отсюда вытекает важная проблема: пробудить в ребенке  чувства и  желания, которые помогут ему в дальнейшем познать   народную  культуру,  быт, традиции родного края   и быть полноценно  развитой личностью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1979640" y="5589720"/>
            <a:ext cx="698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ормировать у детей представления о быте, традициях русского народа и жизни человека в деревн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2627280" y="223200"/>
            <a:ext cx="615636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знакомить детей с устройством русской избы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накомить детей с бытом, традициями русского народа и условиями жизни человека в деревн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знакомить с многообразием предметов домашнего обихода, их названиями и назначением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знакомить с русским народным костюмом, народными инструментам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ширять словарный запас: изба, кровля, сруб, ухват, ушат, люлька, прялка, лавка, сундук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учение малых фольклорных форм (сказки, песенки, потешки, пословицы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накомство с русскими народными хороводными играм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звать положительные эмоции, интерес к русской народной культур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спитывать любовь и уважение к истории своего народ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ипотез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общение детей к истокам народной культуры, знакомство их с устным народным творчеством, декоративно-прикладным искусством, предметами национального быта – будет способствовать развитию духовно-нравственных качеств, чувства патриотизма и любви к Родин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жидаемые результаты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Данный проект пополнит знания детей о культуре и быте предков, поможет прикоснуться к наследию прошлого русского народ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627280" y="101160"/>
            <a:ext cx="583236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ЛАН РЕАЛИЗАЦИИ ПРОЕКТА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этап: Подготовительн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ажным условием по ознакомлению детей с жизнью и бытом русского народа является тесная связь с родителями. Главная задача педагога привлечь родителей к участию и выполнению творческих работ с детьми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сбор информации, подготовка наглядного материал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консультации для родителей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создание в группе макета «Русской избы», «Деревенский двор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создание фотоальбомов «Русский национальный костюм», «Золотая хохлома», «Дымковская и Филимоновская игрушки», «Городецкие узоры», «Русские народные игры», «Народные праздники», «Персонажи русских сказок»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</a:rPr>
              <a:t>- подбор мультфильмов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</a:rPr>
              <a:t>- подбор русских народных подвижных игр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</a:rPr>
              <a:t>- подбор сюжетно-ролевых игр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подбор дидактических игр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C:\Users\Администратор\Desktop\проект деревня и мы\ф\IMG_20180119_100233.jpg"/>
          <p:cNvPicPr/>
          <p:nvPr/>
        </p:nvPicPr>
        <p:blipFill>
          <a:blip r:embed="rId1"/>
          <a:stretch/>
        </p:blipFill>
        <p:spPr>
          <a:xfrm>
            <a:off x="1908000" y="3500280"/>
            <a:ext cx="2322720" cy="3097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:\Users\Администратор\Desktop\фот\IMG-20180201-WA0036.jpg"/>
          <p:cNvPicPr/>
          <p:nvPr/>
        </p:nvPicPr>
        <p:blipFill>
          <a:blip r:embed="rId2"/>
          <a:stretch/>
        </p:blipFill>
        <p:spPr>
          <a:xfrm>
            <a:off x="4500720" y="4005360"/>
            <a:ext cx="42670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2195640" y="270720"/>
            <a:ext cx="6697440" cy="222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11111"/>
                </a:solidFill>
                <a:latin typeface="Times New Roman"/>
              </a:rPr>
              <a:t>2 Этап: Основной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работа с детьми (организация совместной деятельности, проведение бесед, лепка, аппликация, рисование чтение художественной литературы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работа с родителями (организация совместной деятельности родителей и детей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поездка в музей на экскурсию совместно с родителям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учивание потешек, закличек, поговорок, считалок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</a:rPr>
              <a:t>- музыкальная деятельность: слушание народных песен (аудиозапись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</a:rPr>
              <a:t>- сюжетно-ролевые игры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</a:rPr>
              <a:t>- Подвижные игры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</a:rPr>
              <a:t>- Дидактические игры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C:\Users\Администратор\Desktop\проект деревня и мы\ф\20171107_100031.jpg"/>
          <p:cNvPicPr/>
          <p:nvPr/>
        </p:nvPicPr>
        <p:blipFill>
          <a:blip r:embed="rId1"/>
          <a:stretch/>
        </p:blipFill>
        <p:spPr>
          <a:xfrm>
            <a:off x="611280" y="2997360"/>
            <a:ext cx="4217760" cy="2371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Администратор\Desktop\проект деревня и мы\ф\20171108_100818.jpg"/>
          <p:cNvPicPr/>
          <p:nvPr/>
        </p:nvPicPr>
        <p:blipFill>
          <a:blip r:embed="rId2"/>
          <a:stretch/>
        </p:blipFill>
        <p:spPr>
          <a:xfrm>
            <a:off x="6372360" y="2492280"/>
            <a:ext cx="2376360" cy="3889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Администратор\Desktop\проект деревня и мы\ф\20171114_103114.jpg"/>
          <p:cNvPicPr/>
          <p:nvPr/>
        </p:nvPicPr>
        <p:blipFill>
          <a:blip r:embed="rId3"/>
          <a:stretch/>
        </p:blipFill>
        <p:spPr>
          <a:xfrm>
            <a:off x="4211640" y="3213000"/>
            <a:ext cx="1863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" descr="C:\Users\Администратор\Desktop\Новая папка\IMG_20180129_173211_HDR.jpg"/>
          <p:cNvPicPr/>
          <p:nvPr/>
        </p:nvPicPr>
        <p:blipFill>
          <a:blip r:embed="rId1"/>
          <a:stretch/>
        </p:blipFill>
        <p:spPr>
          <a:xfrm>
            <a:off x="5796000" y="3357720"/>
            <a:ext cx="2521080" cy="321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Users\Администратор\Desktop\проект деревня и мы\ф\IMG-20180117-WA0016.jpg"/>
          <p:cNvPicPr/>
          <p:nvPr/>
        </p:nvPicPr>
        <p:blipFill>
          <a:blip r:embed="rId2"/>
          <a:stretch/>
        </p:blipFill>
        <p:spPr>
          <a:xfrm>
            <a:off x="4643280" y="476280"/>
            <a:ext cx="4348440" cy="244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C:\Users\Администратор\Desktop\фот\IMG-20180131-WA0004.jpg"/>
          <p:cNvPicPr/>
          <p:nvPr/>
        </p:nvPicPr>
        <p:blipFill>
          <a:blip r:embed="rId3"/>
          <a:stretch/>
        </p:blipFill>
        <p:spPr>
          <a:xfrm>
            <a:off x="250920" y="476280"/>
            <a:ext cx="4221000" cy="2376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Администратор\Desktop\проект деревня и мы\ф\20171204_102025.jpg"/>
          <p:cNvPicPr/>
          <p:nvPr/>
        </p:nvPicPr>
        <p:blipFill>
          <a:blip r:embed="rId4"/>
          <a:stretch/>
        </p:blipFill>
        <p:spPr>
          <a:xfrm>
            <a:off x="755640" y="3573360"/>
            <a:ext cx="45115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55280" y="260280"/>
            <a:ext cx="838836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ездка в этнографический парк музей «ЭТНОМИР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C:\Users\Администратор\Desktop\проект деревня и мы\ф\IMG_0280.JPG"/>
          <p:cNvPicPr/>
          <p:nvPr/>
        </p:nvPicPr>
        <p:blipFill>
          <a:blip r:embed="rId1"/>
          <a:stretch/>
        </p:blipFill>
        <p:spPr>
          <a:xfrm>
            <a:off x="611280" y="620640"/>
            <a:ext cx="3840120" cy="2881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C:\Users\Администратор\Desktop\проект деревня и мы\ф\IMG-20171029-WA0031.jpg"/>
          <p:cNvPicPr/>
          <p:nvPr/>
        </p:nvPicPr>
        <p:blipFill>
          <a:blip r:embed="rId2"/>
          <a:stretch/>
        </p:blipFill>
        <p:spPr>
          <a:xfrm>
            <a:off x="4716360" y="620640"/>
            <a:ext cx="4091040" cy="3068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Администратор\Desktop\проект деревня и мы\ф\IMG_20180119_100750_HDR.jpg"/>
          <p:cNvPicPr/>
          <p:nvPr/>
        </p:nvPicPr>
        <p:blipFill>
          <a:blip r:embed="rId3"/>
          <a:stretch/>
        </p:blipFill>
        <p:spPr>
          <a:xfrm>
            <a:off x="755640" y="3933720"/>
            <a:ext cx="3262320" cy="244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Администратор\Desktop\проект деревня и мы\ф\IMG_20180119_101030_HDR.jpg"/>
          <p:cNvPicPr/>
          <p:nvPr/>
        </p:nvPicPr>
        <p:blipFill>
          <a:blip r:embed="rId4"/>
          <a:stretch/>
        </p:blipFill>
        <p:spPr>
          <a:xfrm>
            <a:off x="4788000" y="3789360"/>
            <a:ext cx="36496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2268360" y="340560"/>
            <a:ext cx="568836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Times New Roman"/>
              </a:rPr>
              <a:t>3 Этап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ключитель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Диагностика полученных знаний дете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Викторина по русским народным сказкам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узыкальное развлечение «Русские народные игры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выставка рабо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лакат «Деревня и мы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C:\Users\Администратор\Desktop\проект деревня и мы\ф\IMG_20180115_172233.jpg"/>
          <p:cNvPicPr/>
          <p:nvPr/>
        </p:nvPicPr>
        <p:blipFill>
          <a:blip r:embed="rId1"/>
          <a:stretch/>
        </p:blipFill>
        <p:spPr>
          <a:xfrm>
            <a:off x="2627280" y="2349360"/>
            <a:ext cx="5905440" cy="40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Администратор\Desktop\проект деревня и мы\ф\IMG-20180119-WA0031.jpg"/>
          <p:cNvPicPr/>
          <p:nvPr/>
        </p:nvPicPr>
        <p:blipFill>
          <a:blip r:embed="rId1"/>
          <a:stretch/>
        </p:blipFill>
        <p:spPr>
          <a:xfrm>
            <a:off x="2700360" y="3500280"/>
            <a:ext cx="5467320" cy="3078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Users\Администратор\Desktop\проект деревня и мы\ф\IMG-20180119-WA0038.jpg"/>
          <p:cNvPicPr/>
          <p:nvPr/>
        </p:nvPicPr>
        <p:blipFill>
          <a:blip r:embed="rId2"/>
          <a:stretch/>
        </p:blipFill>
        <p:spPr>
          <a:xfrm>
            <a:off x="1763640" y="404640"/>
            <a:ext cx="48592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DNA7 X64</cp:lastModifiedBy>
  <dcterms:modified xsi:type="dcterms:W3CDTF">2018-04-12T19:26:10Z</dcterms:modified>
  <cp:revision>66</cp:revision>
  <dc:subject/>
  <dc:title>Слайд 1</dc:title>
</cp:coreProperties>
</file>