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54E-0A10-49EF-8C6C-39D16611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468-BB90-4F0B-950F-5BD3F97D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EED-EE69-4551-8F9A-2B8A2169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40D-3D0C-427C-A1E2-137C18A3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2DC-3AC8-4E99-8757-CF8498F5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DE1-92E0-4958-AB81-CF0E45F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107-CDDF-4AA2-925F-CD4DE94B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8F1-B75C-4972-B62B-294469A1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6A9-FB78-4E05-AD9B-7887B2F7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D02-72E6-4A37-9D85-61223241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E1A-2A74-4DDA-B655-85E38534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3DE-DBFB-40E4-82E2-00E997B9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3DD5-44E5-4355-96B0-58CE03855A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195640" y="26208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образовательное учреждение детский сад №24 комбинированного ви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627280" y="221112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вательн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«Деревня и м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042920" y="460656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  подготовили воспитатели МБДОУ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детского сада № 24 комбинированного вид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Михальченкова Юлия Александ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фонина Елена Владими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403280" y="20124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</a:rPr>
              <a:t>Реализуя проект,  дети смогли во всех видах деятельности: рисовании, лепке, аппликации отобразить свои впечатления, создать сюжет, изобразить его согласно тематике. У детей развились творческие способности, воображение, мышление, интерес к окружающе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</a:rPr>
              <a:t>Родители воспитанников через участие в проекте смогли помочь детям усвоить речевой материал, используемый в работе. Приняли участие в занятиях, развлечениях. Проек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собствовал сплочению детского коллектив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реплению культурных связей между педагогами и семьями воспитанник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:\Users\Администратор\Desktop\проект деревня и мы\ф\IMG-20180120-WA0055.jpg"/>
          <p:cNvPicPr/>
          <p:nvPr/>
        </p:nvPicPr>
        <p:blipFill>
          <a:blip r:embed="rId1"/>
          <a:stretch/>
        </p:blipFill>
        <p:spPr>
          <a:xfrm>
            <a:off x="1908000" y="3068640"/>
            <a:ext cx="66596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268360" y="197640"/>
            <a:ext cx="6550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спорт про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ня и 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ип проекта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ворческий, познавате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  подготовила 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оспитатели  средней группы Михальченкова Ю.А., Афонина Е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ельность проект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срочный  (с 11.09.2017г. -по 26.01.2018г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растная групп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ти средней групп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ники проек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ти 4-5 лет, воспитатели, родители, физкультурный и музыкальный работн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340000" y="1995480"/>
            <a:ext cx="66247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ктуальность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едущим замыслом проекта является приобщение ребенка к истории и культуре деревни; пополнение знаний детей о деревне, воспитание уважения к традициям и обычаям, развитие потребности детей в освоении окружающего мира путем изучения культурного наследия, с участием родителей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Знакомство с русской народной культурой, в частности, с устным народным творчеством, обрядовыми праздниками, народно-прикладным искусством, развивает интерес и внимание к окружающему миру, народному слову и народным обычаям, воспитывает художественный вкус, а также многому учит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1871640" y="3284640"/>
            <a:ext cx="70930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звивается речь, формируются нравственные привычки, обогащаются знания о природе. Доступные по форме и содержанию заклички, приговорки, дразнилки легко запоминаются и могут широко использоваться детьми в играх. Они забавляют ребёнка и, вместе с тем, обучают навыкам повед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общение детей к истокам народной культуры не потеряло своего значения и в настоящее врем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И мы хотим, чтобы дети выросли любящими свою Родину, свой народ и культуру. Именно поэтому мы серьезно задумались над проблемой приобщения детей к истокам русской народной культур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грузить детей в атмосферу старины способствовала поездка в музей «Русской избы» в этнографический парк музей «ЭТНОМИР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роблем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развития полноценной личности ребенка важно  приобщение его  к культуре своего народа, поскольку оно воспитывает уважение, гордость за нашу Родину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       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тсюда вытекает важная проблема: пробудить в ребенке  чувства и  желания, которые помогут ему в дальнейшем познать   народную  культуру,  быт, традиции родного края   и быть полноценно  развитой личностью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1979640" y="558972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ть у детей представления о быте, традициях русского народа и жизни человека в дерев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627280" y="223200"/>
            <a:ext cx="615636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накомить детей с устройством русской изб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комить детей с бытом, традициями русского народа и условиями жизни человека в дерев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накомить с многообразием предметов домашнего обихода, их названиями и назначением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накомить с русским народным костюмом, народными инструмента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ширять словарный запас: изба, кровля, сруб, ухват, ушат, люлька, прялка, лавка, сундук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е малых фольклорных форм (сказки, песенки, потешки, пословиц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комство с русскими народными хороводными игра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звать положительные эмоции, интерес к русской народной культу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ывать любовь и уважение к истории своего наро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ипоте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общение детей к истокам народной культуры, знакомство их с устным народным творчеством, декоративно-прикладным искусством, предметами национального быта – будет способствовать развитию духовно-нравственных качеств, чувства патриотизма и любви к Роди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жидаемые результат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Данный проект пополнит знания детей о культуре и быте предков, поможет прикоснуться к наследию прошлого русского нар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627280" y="101160"/>
            <a:ext cx="58323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АН РЕАЛИЗАЦИИ ПРОЕКТ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этап: Подготовитель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жным условием по ознакомлению детей с жизнью и бытом русского народа является тесная связь с родителями. Главная задача педагога привлечь родителей к участию и выполнению творческих работ с детьм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бор информации, подготовка наглядного материа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консультации для родителе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оздание в группе макета «Русской избы», «Деревенский двор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оздание фотоальбомов «Русский национальный костюм», «Золотая хохлома», «Дымковская и Филимоновская игрушки», «Городецкие узоры», «Русские народные игры», «Народные праздники», «Персонажи русских сказок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подбор мультфильмов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подбор русских народных подвижных игр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подбор сюжетно-ролевых игр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подбор дидактических иг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C:\Users\Администратор\Desktop\проект деревня и мы\ф\IMG_20180119_100233.jpg"/>
          <p:cNvPicPr/>
          <p:nvPr/>
        </p:nvPicPr>
        <p:blipFill>
          <a:blip r:embed="rId1"/>
          <a:stretch/>
        </p:blipFill>
        <p:spPr>
          <a:xfrm>
            <a:off x="1908000" y="3500280"/>
            <a:ext cx="2322720" cy="309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Администратор\Desktop\фот\IMG-20180201-WA0036.jpg"/>
          <p:cNvPicPr/>
          <p:nvPr/>
        </p:nvPicPr>
        <p:blipFill>
          <a:blip r:embed="rId2"/>
          <a:stretch/>
        </p:blipFill>
        <p:spPr>
          <a:xfrm>
            <a:off x="4500720" y="4005360"/>
            <a:ext cx="4267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95640" y="270720"/>
            <a:ext cx="669744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11111"/>
                </a:solidFill>
                <a:latin typeface="Times New Roman"/>
              </a:rPr>
              <a:t>2 Этап: Основн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абота с детьми (организация совместной деятельности, проведение бесед, лепка, аппликация, рисование чтение художественной литератур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абота с родителями (организация совместной деятельности родителей и детей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поездка в музей на экскурсию совместно с родителя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учивание потешек, закличек, поговорок, считало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музыкальная деятельность: слушание народных песен (аудиозапись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сюжетно-ролевые игры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Подвижные игр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</a:rPr>
              <a:t>- Дидактические игр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Users\Администратор\Desktop\проект деревня и мы\ф\20171107_100031.jpg"/>
          <p:cNvPicPr/>
          <p:nvPr/>
        </p:nvPicPr>
        <p:blipFill>
          <a:blip r:embed="rId1"/>
          <a:stretch/>
        </p:blipFill>
        <p:spPr>
          <a:xfrm>
            <a:off x="611280" y="2997360"/>
            <a:ext cx="4217760" cy="23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Администратор\Desktop\проект деревня и мы\ф\20171108_100818.jpg"/>
          <p:cNvPicPr/>
          <p:nvPr/>
        </p:nvPicPr>
        <p:blipFill>
          <a:blip r:embed="rId2"/>
          <a:stretch/>
        </p:blipFill>
        <p:spPr>
          <a:xfrm>
            <a:off x="6372360" y="2492280"/>
            <a:ext cx="2376360" cy="388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Администратор\Desktop\проект деревня и мы\ф\20171114_103114.jpg"/>
          <p:cNvPicPr/>
          <p:nvPr/>
        </p:nvPicPr>
        <p:blipFill>
          <a:blip r:embed="rId3"/>
          <a:stretch/>
        </p:blipFill>
        <p:spPr>
          <a:xfrm>
            <a:off x="4211640" y="3213000"/>
            <a:ext cx="1863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C:\Users\Администратор\Desktop\Новая папка\IMG_20180129_173211_HDR.jpg"/>
          <p:cNvPicPr/>
          <p:nvPr/>
        </p:nvPicPr>
        <p:blipFill>
          <a:blip r:embed="rId1"/>
          <a:stretch/>
        </p:blipFill>
        <p:spPr>
          <a:xfrm>
            <a:off x="5796000" y="3357720"/>
            <a:ext cx="2521080" cy="32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Администратор\Desktop\проект деревня и мы\ф\IMG-20180117-WA0016.jpg"/>
          <p:cNvPicPr/>
          <p:nvPr/>
        </p:nvPicPr>
        <p:blipFill>
          <a:blip r:embed="rId2"/>
          <a:stretch/>
        </p:blipFill>
        <p:spPr>
          <a:xfrm>
            <a:off x="4643280" y="476280"/>
            <a:ext cx="434844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Администратор\Desktop\фот\IMG-20180131-WA0004.jpg"/>
          <p:cNvPicPr/>
          <p:nvPr/>
        </p:nvPicPr>
        <p:blipFill>
          <a:blip r:embed="rId3"/>
          <a:stretch/>
        </p:blipFill>
        <p:spPr>
          <a:xfrm>
            <a:off x="250920" y="476280"/>
            <a:ext cx="4221000" cy="23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Администратор\Desktop\проект деревня и мы\ф\20171204_102025.jpg"/>
          <p:cNvPicPr/>
          <p:nvPr/>
        </p:nvPicPr>
        <p:blipFill>
          <a:blip r:embed="rId4"/>
          <a:stretch/>
        </p:blipFill>
        <p:spPr>
          <a:xfrm>
            <a:off x="755640" y="3573360"/>
            <a:ext cx="45115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5280" y="260280"/>
            <a:ext cx="83883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ездка в этнографический парк музей «ЭТНОМИР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:\Users\Администратор\Desktop\проект деревня и мы\ф\IMG_0280.JPG"/>
          <p:cNvPicPr/>
          <p:nvPr/>
        </p:nvPicPr>
        <p:blipFill>
          <a:blip r:embed="rId1"/>
          <a:stretch/>
        </p:blipFill>
        <p:spPr>
          <a:xfrm>
            <a:off x="611280" y="62064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Администратор\Desktop\проект деревня и мы\ф\IMG-20171029-WA0031.jpg"/>
          <p:cNvPicPr/>
          <p:nvPr/>
        </p:nvPicPr>
        <p:blipFill>
          <a:blip r:embed="rId2"/>
          <a:stretch/>
        </p:blipFill>
        <p:spPr>
          <a:xfrm>
            <a:off x="4716360" y="620640"/>
            <a:ext cx="4091040" cy="306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Администратор\Desktop\проект деревня и мы\ф\IMG_20180119_100750_HDR.jpg"/>
          <p:cNvPicPr/>
          <p:nvPr/>
        </p:nvPicPr>
        <p:blipFill>
          <a:blip r:embed="rId3"/>
          <a:stretch/>
        </p:blipFill>
        <p:spPr>
          <a:xfrm>
            <a:off x="755640" y="3933720"/>
            <a:ext cx="326232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Администратор\Desktop\проект деревня и мы\ф\IMG_20180119_101030_HDR.jpg"/>
          <p:cNvPicPr/>
          <p:nvPr/>
        </p:nvPicPr>
        <p:blipFill>
          <a:blip r:embed="rId4"/>
          <a:stretch/>
        </p:blipFill>
        <p:spPr>
          <a:xfrm>
            <a:off x="4788000" y="3789360"/>
            <a:ext cx="3649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268360" y="340560"/>
            <a:ext cx="5688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</a:rPr>
              <a:t>3 Этап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лючите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Диагностика полученных знаний дет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икторина по русским народным сказка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зыкальное развлечение «Русские народные игры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ыставка рабо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лакат «Деревня и мы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C:\Users\Администратор\Desktop\проект деревня и мы\ф\IMG_20180115_172233.jpg"/>
          <p:cNvPicPr/>
          <p:nvPr/>
        </p:nvPicPr>
        <p:blipFill>
          <a:blip r:embed="rId1"/>
          <a:stretch/>
        </p:blipFill>
        <p:spPr>
          <a:xfrm>
            <a:off x="2627280" y="2349360"/>
            <a:ext cx="590544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Администратор\Desktop\проект деревня и мы\ф\IMG-20180119-WA0031.jpg"/>
          <p:cNvPicPr/>
          <p:nvPr/>
        </p:nvPicPr>
        <p:blipFill>
          <a:blip r:embed="rId1"/>
          <a:stretch/>
        </p:blipFill>
        <p:spPr>
          <a:xfrm>
            <a:off x="2700360" y="3500280"/>
            <a:ext cx="5467320" cy="307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Администратор\Desktop\проект деревня и мы\ф\IMG-20180119-WA0038.jpg"/>
          <p:cNvPicPr/>
          <p:nvPr/>
        </p:nvPicPr>
        <p:blipFill>
          <a:blip r:embed="rId2"/>
          <a:stretch/>
        </p:blipFill>
        <p:spPr>
          <a:xfrm>
            <a:off x="1763640" y="404640"/>
            <a:ext cx="4859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DNA7 X64</cp:lastModifiedBy>
  <dcterms:modified xsi:type="dcterms:W3CDTF">2018-04-12T19:26:10Z</dcterms:modified>
  <cp:revision>66</cp:revision>
  <dc:subject/>
  <dc:title>Слайд 1</dc:title>
</cp:coreProperties>
</file>