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066-1E6F-441E-9CA9-34C31CEE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3B8-E410-4420-B1F7-0A68B61D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555-F9A7-4668-9C6B-147AE86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50E-4712-417E-87B6-475E938B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EBF8-2ED7-4DEC-AB35-DA47B986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676-EA61-4C85-87E8-299F5A7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D76-F798-4A26-8023-F7FC668C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57B7-A1B3-40D4-82B9-8C55DF08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835B-6F7C-44F0-89C1-695EC2E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E98E-19FC-4EC4-B2BA-DC88DAE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159-5186-481B-BBBC-1CC9115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875-B0D1-4503-B8C1-4BF2CFD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65AE-6D70-41F5-9971-B60438D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91C-BA5B-41A6-B812-57FF3BD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222-B611-49DC-B014-D2BC5C4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1950-6D5F-449C-A3F1-7B5E51D6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F49-52D3-4330-A0C3-B8CE1A9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DFE8-10E5-4AAD-BC8C-38B4D806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CF4D-329A-40B5-B68E-EC6BED1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036D-C167-47BA-9C87-98F7B71F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DE5B-D87D-43D8-B9EF-F7BB403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FC1C-88DA-40A8-89EF-A8B6079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DF6-8100-4095-96F5-E2B3E727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C049-E074-49F3-995C-9D7D0336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570E-1FE5-4470-B6D7-5BB4316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57FC-195D-47AB-8E07-E8742C7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B6F3-B759-47F6-9C19-CB8DBC53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3B69-657F-4F85-93D7-193C0DD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4CF6-335A-498E-82B0-AF213DF4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427D-2B85-4380-94B8-D2E90DD9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4CEF-20FA-4860-A51A-CF43B795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5E50-5F4F-436E-91DC-6993B6A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D3DA-0C8C-47AD-8888-B855C32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90E-7D56-4FEF-BF33-E86A6516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6A79-00B7-4FCF-B123-08F5032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F1FD-20DB-4618-A2A2-0E6F4AE8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583E-1084-446B-9D30-E02DF03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4A72-300B-4B54-BE33-BB4637E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FE84-913C-4F7E-8E8F-BD5F15F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15DA-7C9C-4464-B3B7-ABBDAFD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5383-F2AB-4BE6-B4C7-8EAC626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6888-CCFB-44E3-9D50-775E554D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642D-B1E6-4378-B8EB-D6551B82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46D5-213D-4B28-8FFA-1E7AD2AB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A39-A2D0-45CB-A393-AC26767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10E0-DB4B-4FA4-AE6F-EA8EC4B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2D00D-AF0F-42F8-8A54-329535C8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9D37-E14F-4951-98A9-5E48DA8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7A1D-C06B-4A9C-BB14-52158B2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49F8-9D0E-46A1-BB8F-1743CE50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1F5F-CB17-422D-8148-9070236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5E65-0C27-4077-821D-87B99D17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BC11-41A1-49BD-B043-8224418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4F43-851E-494A-978B-F85CC4FE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5070-9CFA-41D7-A996-7818E656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255-E3DC-4534-B468-E5FC1368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8FAAE-12A9-4215-81A5-4986FE64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6E1-50AD-4670-9F99-625DD67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CAD-2669-477A-8891-AEFFB30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B74-2EC0-4AF7-B152-E4EEBD60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7EAE-30B1-433D-B0B4-C159C811D8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3971880"/>
                <a:gd name="textAreaBottom" fmla="*/ 3972240 h 3971880"/>
              </a:gdLst>
              <a:ahLst/>
              <a:rect l="textAreaLeft" t="textAreaTop" r="textAreaRight" b="textAreaBottom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3862440"/>
                <a:gd name="textAreaBottom" fmla="*/ 3862800 h 3862440"/>
              </a:gdLst>
              <a:ahLst/>
              <a:rect l="textAreaLeft" t="textAreaTop" r="textAreaRight" b="textAreaBottom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3081240"/>
                <a:gd name="textAreaBottom" fmla="*/ 3081600 h 3081240"/>
              </a:gdLst>
              <a:ahLst/>
              <a:rect l="textAreaLeft" t="textAreaTop" r="textAreaRight" b="textAreaBottom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>
                <a:gd name="textAreaLeft" fmla="*/ 0 w 3340440"/>
                <a:gd name="textAreaRight" fmla="*/ 3340800 w 33404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>
                <a:gd name="textAreaLeft" fmla="*/ 0 w 2661120"/>
                <a:gd name="textAreaRight" fmla="*/ 2661480 w 2661120"/>
                <a:gd name="textAreaTop" fmla="*/ 0 h 3085920"/>
                <a:gd name="textAreaBottom" fmla="*/ 3086280 h 3085920"/>
              </a:gdLst>
              <a:ahLst/>
              <a:rect l="textAreaLeft" t="textAreaTop" r="textAreaRight" b="textAreaBottom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>
              <a:gd name="textAreaLeft" fmla="*/ 0 w 362160"/>
              <a:gd name="textAreaRight" fmla="*/ 362520 w 362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>
              <a:gd name="textAreaLeft" fmla="*/ 0 w 61920"/>
              <a:gd name="textAreaRight" fmla="*/ 62280 w 619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B1B2-284D-44AE-9369-3247FC1C2D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DB1-73ED-4D5B-9756-86614E4DAF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F28-44A9-423F-B9FC-1376110961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735C-FD8D-4F94-9827-DA55168BC9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vk.com/away.php?to=http%3A%2F%2Ftapemark.narod.ru%2Fles%2Findex.html&amp;cc_key=" TargetMode="External"/><Relationship Id="rId2" Type="http://schemas.openxmlformats.org/officeDocument/2006/relationships/hyperlink" Target="https://vk.com/away.php?to=https%3A%2F%2Fcyberleninka.ru%2Farticle%2Fn%2Ftekstil-i-teksty-semiotika-nadpisey-na-futbolkah&amp;cc_key=" TargetMode="External"/><Relationship Id="rId3" Type="http://schemas.openxmlformats.org/officeDocument/2006/relationships/hyperlink" Target="https://vk.com/away.php?to=https%3A%2F%2Fcyberleninka.ru%2Farticle%2Fn%2Fverbalno-ikonicheskie-teksty-na-predmetah-odezhdy-germenevtika-i-pragmatika&amp;cc_key=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19280" y="1268280"/>
            <a:ext cx="691344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равнительно-сопоставительный анализ содержания английских и русских надписей на футболк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419280" y="4221000"/>
            <a:ext cx="511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ил: Голованов Ростисла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еник 10 «В» кла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учный руководитель: Орлова Е.  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английского язы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619280" y="341280"/>
            <a:ext cx="720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 «Средняя общеобразовательная школа №1 им. М.А. Бухтуева» г. Кызыла Республики Тыв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XII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еспубликанская научно-практическая конференция учащихся «Шаг в будущее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4500720" y="630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ызыл, 201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Содержимое 4" descr=""/>
          <p:cNvPicPr/>
          <p:nvPr/>
        </p:nvPicPr>
        <p:blipFill>
          <a:blip r:embed="rId1"/>
          <a:stretch/>
        </p:blipFill>
        <p:spPr>
          <a:xfrm>
            <a:off x="6143760" y="285840"/>
            <a:ext cx="2342880" cy="3124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5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228600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57184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"/>
          <p:cNvPicPr/>
          <p:nvPr/>
        </p:nvPicPr>
        <p:blipFill>
          <a:blip r:embed="rId4"/>
          <a:stretch/>
        </p:blipFill>
        <p:spPr>
          <a:xfrm>
            <a:off x="3571920" y="150012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5"/>
          <a:stretch/>
        </p:blipFill>
        <p:spPr>
          <a:xfrm>
            <a:off x="1071720" y="642960"/>
            <a:ext cx="2286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4" descr=""/>
          <p:cNvPicPr/>
          <p:nvPr/>
        </p:nvPicPr>
        <p:blipFill>
          <a:blip r:embed="rId1"/>
          <a:stretch/>
        </p:blipFill>
        <p:spPr>
          <a:xfrm>
            <a:off x="6072120" y="500040"/>
            <a:ext cx="2500560" cy="29005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"/>
          <p:cNvPicPr/>
          <p:nvPr/>
        </p:nvPicPr>
        <p:blipFill>
          <a:blip r:embed="rId2"/>
          <a:stretch/>
        </p:blipFill>
        <p:spPr>
          <a:xfrm>
            <a:off x="1357200" y="3786120"/>
            <a:ext cx="2357640" cy="2900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6" descr=""/>
          <p:cNvPicPr/>
          <p:nvPr/>
        </p:nvPicPr>
        <p:blipFill>
          <a:blip r:embed="rId3"/>
          <a:stretch/>
        </p:blipFill>
        <p:spPr>
          <a:xfrm>
            <a:off x="3714840" y="2000160"/>
            <a:ext cx="2357280" cy="2800440"/>
          </a:xfrm>
          <a:prstGeom prst="rect">
            <a:avLst/>
          </a:prstGeom>
          <a:ln w="0">
            <a:noFill/>
          </a:ln>
        </p:spPr>
      </p:pic>
      <p:pic>
        <p:nvPicPr>
          <p:cNvPr id="283" name="Содержимое 7" descr=""/>
          <p:cNvPicPr/>
          <p:nvPr/>
        </p:nvPicPr>
        <p:blipFill>
          <a:blip r:embed="rId4"/>
          <a:stretch/>
        </p:blipFill>
        <p:spPr>
          <a:xfrm>
            <a:off x="1071720" y="357120"/>
            <a:ext cx="2342880" cy="31244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8" descr=""/>
          <p:cNvPicPr/>
          <p:nvPr/>
        </p:nvPicPr>
        <p:blipFill>
          <a:blip r:embed="rId5"/>
          <a:stretch/>
        </p:blipFill>
        <p:spPr>
          <a:xfrm>
            <a:off x="6072120" y="385776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Объект 6"/>
          <p:cNvGraphicFramePr/>
          <p:nvPr/>
        </p:nvGraphicFramePr>
        <p:xfrm>
          <a:off x="417600" y="498600"/>
          <a:ext cx="341316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98600"/>
                    <a:ext cx="34131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Диаграмма 14"/>
          <p:cNvGraphicFramePr/>
          <p:nvPr/>
        </p:nvGraphicFramePr>
        <p:xfrm>
          <a:off x="5241960" y="498600"/>
          <a:ext cx="3581280" cy="371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Диаграмма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1960" y="498600"/>
                    <a:ext cx="358128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Диаграмма 18"/>
          <p:cNvGraphicFramePr/>
          <p:nvPr/>
        </p:nvGraphicFramePr>
        <p:xfrm>
          <a:off x="2505240" y="3449520"/>
          <a:ext cx="4349520" cy="3125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0" name="Диаграмма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5240" y="3449520"/>
                    <a:ext cx="43495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82800" y="2060640"/>
            <a:ext cx="7704000" cy="33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илу лингвокультурологических особенностей,  надписи на футболках на русском и английском языках мало схожи, поэтому наша гипотеза не вер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 же большинство людей не задумываются, что написано на их одежде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82800" y="1844640"/>
            <a:ext cx="77040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 Головушкина М.В., Воячек О.С. Англоязычные надписи на одежде как элемент молодежной субкультуры // Язык. Право. Общество: сб. ст. III Междунар. науч.-практ. конф. (г. Пенза, 13 – 14 мая 2015 г.). Пенза, 2015. С. 266 – 268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 Пешохина В.С. Говорящие футболки // Юный ученый. 2016. № 4 (07). С. 18 – 19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 Степанов Ю.С. Семиотика // Лингвистический энциклопедический словарь [Электронный ресурс] / Под ред. В.Н. Ярцевой. Электрон. дан. М., 1990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1"/>
              </a:rPr>
              <a:t>http://tapemark.narod.ru/les/index.html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 Халиков М.М. Текстиль и тексты: семиотика надписей на футболках // Научная электронная библиотека «КиберЛенинка» [Электронный ресурс] = CyberLeninka. Электрон. дан. М., 2015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2"/>
              </a:rPr>
              <a:t>https://cyberleninka.ru/article/n/tekstil-i-teksty-se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 Шарифуллин Б.Я. Вербально-иконические тексты на предметах одежды: герменевтика и прагматика // Научная электронная библиотека «КиберЛенинка» [Электронный ресурс] = CyberLeninka. Электрон. дан. М., 2013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3"/>
              </a:rPr>
              <a:t>https://cyberleninka.ru/article/n/verbalno-ikonichesk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 Penney J. KEVIN07: Cool Politics, Consumer Citizenship, and the Specter of ʻAmericanizationʼ in Australia // ResearchGate [Электронный ресурс] : Discover scientific knowledge, and make your research visible. Электрон. дан. Берлин, 2011. Режим доступа: https://www.researchgate.net/publication/230040806_KE.., свободный. Загл. с экрана. 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Используемые сайты: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 https://ru.aliexpress.com/ Интернет – магазин модной одежды и обуви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 https://www.wildberries.ru/ Интеренет- магазин модной одежды и обуви</a:t>
            </a:r>
            <a:r>
              <a:rPr b="1" lang="ru-RU" sz="1300" spc="-1" strike="noStrike">
                <a:solidFill>
                  <a:srgbClr val="000000"/>
                </a:solidFill>
                <a:latin typeface="Corbel"/>
              </a:rPr>
              <a:t>Лингвистический энциклопедический словарь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tapemark.narod.ru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4360" y="764640"/>
            <a:ext cx="77040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Рисунок 3" descr=""/>
          <p:cNvPicPr/>
          <p:nvPr/>
        </p:nvPicPr>
        <p:blipFill>
          <a:blip r:embed="rId1"/>
          <a:stretch/>
        </p:blipFill>
        <p:spPr>
          <a:xfrm>
            <a:off x="2556000" y="2225520"/>
            <a:ext cx="410976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98280" y="2276640"/>
            <a:ext cx="7705800" cy="33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ь  и классифицировать содержание популярных в современном мире английских и русских надписей на футболк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ить содержание каждой анализируемой надписи на футбол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лассифицировать анализируемые английские надписи по тематическому принцип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лассифицировать анализируемые русские надписи по тематическому принцип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явить сходства и различия в содержании анализируемых английских и русских надписей на футбол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2133360"/>
            <a:ext cx="7704000" cy="38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ы предполагаем, что в силу современной глобализации русские и английские надписи на футболках имеют одинаковые зна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же, я предположил, что большинство людей, которые носят одежду с английскими надписями никогда не задумывались, что на них написа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82800" y="2204640"/>
            <a:ext cx="770400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ключается в том, что не все знают, какую смысловую нагрузку несут надписи на одежде выполненные на английском языке, что это не только цвет и шрифт на прикольной картинке. Для Российского школьника неприемлемо носить футболки содержащие непристойные, нецензурные и тем более оскорбляющие достоинство нашей страны надпис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8" descr="ф.jpg"/>
          <p:cNvPicPr/>
          <p:nvPr/>
        </p:nvPicPr>
        <p:blipFill>
          <a:blip r:embed="rId1"/>
          <a:stretch/>
        </p:blipFill>
        <p:spPr>
          <a:xfrm>
            <a:off x="5580000" y="1406520"/>
            <a:ext cx="2882880" cy="399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406160"/>
            <a:ext cx="4686480" cy="34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ежда является также знаком, который может читаться окружающими как текст, характеризующий вкус ее обладател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4" descr=""/>
          <p:cNvPicPr/>
          <p:nvPr/>
        </p:nvPicPr>
        <p:blipFill>
          <a:blip r:embed="rId1"/>
          <a:stretch/>
        </p:blipFill>
        <p:spPr>
          <a:xfrm>
            <a:off x="5429160" y="0"/>
            <a:ext cx="3214800" cy="37828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1058760" y="571680"/>
            <a:ext cx="2727360" cy="2895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3"/>
          <a:stretch/>
        </p:blipFill>
        <p:spPr>
          <a:xfrm>
            <a:off x="1000080" y="3643200"/>
            <a:ext cx="2714760" cy="2853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"/>
          <p:cNvPicPr/>
          <p:nvPr/>
        </p:nvPicPr>
        <p:blipFill>
          <a:blip r:embed="rId4"/>
          <a:stretch/>
        </p:blipFill>
        <p:spPr>
          <a:xfrm>
            <a:off x="6072120" y="3571920"/>
            <a:ext cx="2857680" cy="3085920"/>
          </a:xfrm>
          <a:prstGeom prst="rect">
            <a:avLst/>
          </a:prstGeom>
          <a:ln w="0">
            <a:noFill/>
          </a:ln>
        </p:spPr>
      </p:pic>
      <p:pic>
        <p:nvPicPr>
          <p:cNvPr id="264" name="Объект 7" descr=""/>
          <p:cNvPicPr/>
          <p:nvPr/>
        </p:nvPicPr>
        <p:blipFill>
          <a:blip r:embed="rId5"/>
          <a:stretch/>
        </p:blipFill>
        <p:spPr>
          <a:xfrm>
            <a:off x="3786120" y="1643040"/>
            <a:ext cx="20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4" descr=""/>
          <p:cNvPicPr/>
          <p:nvPr/>
        </p:nvPicPr>
        <p:blipFill>
          <a:blip r:embed="rId1"/>
          <a:stretch/>
        </p:blipFill>
        <p:spPr>
          <a:xfrm>
            <a:off x="6429240" y="214200"/>
            <a:ext cx="2495520" cy="3286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"/>
          <p:cNvPicPr/>
          <p:nvPr/>
        </p:nvPicPr>
        <p:blipFill>
          <a:blip r:embed="rId2"/>
          <a:stretch/>
        </p:blipFill>
        <p:spPr>
          <a:xfrm>
            <a:off x="1571760" y="3206880"/>
            <a:ext cx="3357360" cy="3651120"/>
          </a:xfrm>
          <a:prstGeom prst="rect">
            <a:avLst/>
          </a:prstGeom>
          <a:ln w="0">
            <a:noFill/>
          </a:ln>
        </p:spPr>
      </p:pic>
      <p:pic>
        <p:nvPicPr>
          <p:cNvPr id="267" name="Объект 4" descr=""/>
          <p:cNvPicPr/>
          <p:nvPr/>
        </p:nvPicPr>
        <p:blipFill>
          <a:blip r:embed="rId3"/>
          <a:stretch/>
        </p:blipFill>
        <p:spPr>
          <a:xfrm>
            <a:off x="1000080" y="357120"/>
            <a:ext cx="2643120" cy="33228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"/>
          <p:cNvPicPr/>
          <p:nvPr/>
        </p:nvPicPr>
        <p:blipFill>
          <a:blip r:embed="rId4"/>
          <a:stretch/>
        </p:blipFill>
        <p:spPr>
          <a:xfrm>
            <a:off x="5643720" y="3571920"/>
            <a:ext cx="2852640" cy="30909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"/>
          <p:cNvPicPr/>
          <p:nvPr/>
        </p:nvPicPr>
        <p:blipFill>
          <a:blip r:embed="rId5"/>
          <a:stretch/>
        </p:blipFill>
        <p:spPr>
          <a:xfrm>
            <a:off x="3643200" y="0"/>
            <a:ext cx="26434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4" descr=""/>
          <p:cNvPicPr/>
          <p:nvPr/>
        </p:nvPicPr>
        <p:blipFill>
          <a:blip r:embed="rId1"/>
          <a:stretch/>
        </p:blipFill>
        <p:spPr>
          <a:xfrm>
            <a:off x="6215040" y="3429000"/>
            <a:ext cx="2357640" cy="2960640"/>
          </a:xfrm>
          <a:prstGeom prst="rect">
            <a:avLst/>
          </a:prstGeom>
          <a:ln w="0">
            <a:noFill/>
          </a:ln>
        </p:spPr>
      </p:pic>
      <p:pic>
        <p:nvPicPr>
          <p:cNvPr id="271" name="Объект 4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2954520" cy="33955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"/>
          <p:cNvPicPr/>
          <p:nvPr/>
        </p:nvPicPr>
        <p:blipFill>
          <a:blip r:embed="rId3"/>
          <a:stretch/>
        </p:blipFill>
        <p:spPr>
          <a:xfrm>
            <a:off x="3857760" y="7142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"/>
          <p:cNvPicPr/>
          <p:nvPr/>
        </p:nvPicPr>
        <p:blipFill>
          <a:blip r:embed="rId4"/>
          <a:stretch/>
        </p:blipFill>
        <p:spPr>
          <a:xfrm>
            <a:off x="2000160" y="3929040"/>
            <a:ext cx="2500560" cy="271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"/>
          <p:cNvPicPr/>
          <p:nvPr/>
        </p:nvPicPr>
        <p:blipFill>
          <a:blip r:embed="rId5"/>
          <a:stretch/>
        </p:blipFill>
        <p:spPr>
          <a:xfrm>
            <a:off x="6500880" y="642960"/>
            <a:ext cx="2357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3:47:02Z</dcterms:created>
  <dc:creator>User</dc:creator>
  <dc:description/>
  <dc:language>en-US</dc:language>
  <cp:lastModifiedBy>User</cp:lastModifiedBy>
  <dcterms:modified xsi:type="dcterms:W3CDTF">2018-03-03T14:50:24Z</dcterms:modified>
  <cp:revision>254</cp:revision>
  <dc:subject/>
  <dc:title>Слайд 1</dc:title>
</cp:coreProperties>
</file>