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C66-520D-4473-A22B-C0FF6202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FD97-78EB-46CB-8B8D-F459D7EC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ED7E-661D-4AFF-B17C-D8D72060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5C7-3118-4283-AE5E-87056096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823C-4F48-483E-BC2E-F2EB2293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8724-F6CF-43C2-A3A6-4168D1F7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0C50-22C9-4C31-9BE1-13810714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712C-594C-4BFC-8D6B-7474CF70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B2F9-E679-47CC-A9D1-21B662D3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7595-9E5E-45EF-B73D-A4BC6CEA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5DE1-B24C-4D9B-9049-A13D49BA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217-98F5-41F8-8941-A9E5EE74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B4E1-0909-4E1A-9DA1-C3E42D19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DB46-9E58-4E94-B2BC-1A9E18D8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1D62-4C9A-4090-B03A-B1548C73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1B51-167B-4576-B269-268479F7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B57F-A94E-4817-B94D-A36BCAD2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333AC-A87D-4B03-BE29-3448B1D9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84D90-992F-4ED6-B30D-092777B9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87499-2661-4518-84BE-B179896D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826E5-3928-419D-B1A8-A36E7FF4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6787-AB09-4286-82D8-F8DE6945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32AA-A347-4959-A8EF-D5255D09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4B833-F9E2-4925-95B8-6431D117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F27B3-ED6A-4414-8459-6C26BF33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0F799-69E9-4A83-843B-35B0C291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649E4-0654-46CA-9ED8-223B5666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7DBEC-CC3E-481C-9707-FEDF1337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AB82F-3900-4F67-A84A-CC1301AC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D1922-40BC-417A-A217-5C0F6CD5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6B14F-2614-42F0-96B5-4A55F895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7CC40-07E0-4FD3-9665-330C1ADD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862FC-601B-4982-B786-80CB8EDE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78C-FF92-469F-BCDD-B7D0850D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0F75B-0AD4-4639-913D-F695CBB1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1F1B6-BBFF-4B74-B811-3AA5A0BE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6AF95-FDB3-4146-B786-FAD4D522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BDFA3-E6C4-4DD7-A07D-AAB802BB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9E436-1EE6-4EA8-80F9-10BF2390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D92D6-5965-48AC-BC50-082973F3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78CBB-6D27-45AB-8E86-54445101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B7877-C7A0-4559-9D04-C21015D2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C04A9-F0DC-4BD3-B713-92CCFE5C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F4FEF-D584-4AA7-8BE3-1EE861C7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CEE-3D51-4DD3-BE8F-9B50010B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6C637-E3AE-4C38-9B63-7DDCA1B9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6BB8A-DD53-40F6-BB88-B9C93D5D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1DF74-8713-4434-AD48-333C206F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29231-9DA3-4D43-A00C-420C74BB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CD713-63EC-45CB-B60F-7ED60210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91334-65B5-4B1B-A6D4-66748839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83E4C-B7E2-4406-A812-71F64DE3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84D37-9F9C-43A6-85EC-FE844E3B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96E93-83D9-441A-9F99-9B61DDF1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6A7E3-4968-4D3B-B719-60561F37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E7BD-4E27-41BB-A226-5EA905E6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B6A26-B794-41A2-85A1-08BD707E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B14-0DF4-4BF3-8CDE-F2A85323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D2C9-63AF-4AF8-A390-F93FCFC2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955-E543-4504-886E-8FAD701E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5291280"/>
                <a:gd name="textAreaBottom" fmla="*/ 5291640 h 5291280"/>
              </a:gdLst>
              <a:ahLst/>
              <a:rect l="textAreaLeft" t="textAreaTop" r="textAreaRight" b="textAreaBottom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4624560"/>
                <a:gd name="textAreaBottom" fmla="*/ 4624920 h 4624560"/>
              </a:gdLst>
              <a:ahLst/>
              <a:rect l="textAreaLeft" t="textAreaTop" r="textAreaRight" b="textAreaBottom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195200"/>
                <a:gd name="textAreaBottom" fmla="*/ 1195200 h 1195200"/>
              </a:gdLst>
              <a:ahLst/>
              <a:rect l="textAreaLeft" t="textAreaTop" r="textAreaRight" b="textAreaBottom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>
                <a:gd name="textAreaLeft" fmla="*/ 0 w 1487520"/>
                <a:gd name="textAreaRight" fmla="*/ 1487880 w 148752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>
                <a:gd name="textAreaLeft" fmla="*/ 0 w 2131920"/>
                <a:gd name="textAreaRight" fmla="*/ 2132280 w 21319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>
                <a:gd name="textAreaLeft" fmla="*/ 0 w 1378080"/>
                <a:gd name="textAreaRight" fmla="*/ 1378440 w 137808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4DF5-721E-41A3-A50E-13FA07D8EA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>
                <a:gd name="textAreaLeft" fmla="*/ 0 w 1365480"/>
                <a:gd name="textAreaRight" fmla="*/ 1365840 w 1365480"/>
                <a:gd name="textAreaTop" fmla="*/ 0 h 3971880"/>
                <a:gd name="textAreaBottom" fmla="*/ 3972240 h 3971880"/>
              </a:gdLst>
              <a:ahLst/>
              <a:rect l="textAreaLeft" t="textAreaTop" r="textAreaRight" b="textAreaBottom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>
                <a:gd name="textAreaLeft" fmla="*/ 0 w 1336680"/>
                <a:gd name="textAreaRight" fmla="*/ 1337040 w 1336680"/>
                <a:gd name="textAreaTop" fmla="*/ 0 h 3862440"/>
                <a:gd name="textAreaBottom" fmla="*/ 3862800 h 3862440"/>
              </a:gdLst>
              <a:ahLst/>
              <a:rect l="textAreaLeft" t="textAreaTop" r="textAreaRight" b="textAreaBottom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>
                <a:gd name="textAreaLeft" fmla="*/ 0 w 1936800"/>
                <a:gd name="textAreaRight" fmla="*/ 1937160 w 1936800"/>
                <a:gd name="textAreaTop" fmla="*/ 0 h 3081240"/>
                <a:gd name="textAreaBottom" fmla="*/ 3081600 h 3081240"/>
              </a:gdLst>
              <a:ahLst/>
              <a:rect l="textAreaLeft" t="textAreaTop" r="textAreaRight" b="textAreaBottom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>
                <a:gd name="textAreaLeft" fmla="*/ 0 w 2373480"/>
                <a:gd name="textAreaRight" fmla="*/ 2373840 w 2373480"/>
                <a:gd name="textAreaTop" fmla="*/ 0 h 2971800"/>
                <a:gd name="textAreaBottom" fmla="*/ 2972160 h 2971800"/>
              </a:gdLst>
              <a:ahLst/>
              <a:rect l="textAreaLeft" t="textAreaTop" r="textAreaRight" b="textAreaBottom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>
                <a:gd name="textAreaLeft" fmla="*/ 0 w 3340440"/>
                <a:gd name="textAreaRight" fmla="*/ 3340800 w 3340440"/>
                <a:gd name="textAreaTop" fmla="*/ 0 h 2976480"/>
                <a:gd name="textAreaBottom" fmla="*/ 2976840 h 2976480"/>
              </a:gdLst>
              <a:ahLst/>
              <a:rect l="textAreaLeft" t="textAreaTop" r="textAreaRight" b="textAreaBottom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>
                <a:gd name="textAreaLeft" fmla="*/ 0 w 2661120"/>
                <a:gd name="textAreaRight" fmla="*/ 2661480 w 2661120"/>
                <a:gd name="textAreaTop" fmla="*/ 0 h 3085920"/>
                <a:gd name="textAreaBottom" fmla="*/ 3086280 h 3085920"/>
              </a:gdLst>
              <a:ahLst/>
              <a:rect l="textAreaLeft" t="textAreaTop" r="textAreaRight" b="textAreaBottom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>
              <a:gd name="textAreaLeft" fmla="*/ 0 w 362160"/>
              <a:gd name="textAreaRight" fmla="*/ 362520 w 3621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>
              <a:gd name="textAreaLeft" fmla="*/ 0 w 61920"/>
              <a:gd name="textAreaRight" fmla="*/ 62280 w 6192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B3C0-6B8B-4ED2-ABF8-74D1A97D85C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5291280"/>
                <a:gd name="textAreaBottom" fmla="*/ 5291640 h 5291280"/>
              </a:gdLst>
              <a:ahLst/>
              <a:rect l="textAreaLeft" t="textAreaTop" r="textAreaRight" b="textAreaBottom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4624560"/>
                <a:gd name="textAreaBottom" fmla="*/ 4624920 h 4624560"/>
              </a:gdLst>
              <a:ahLst/>
              <a:rect l="textAreaLeft" t="textAreaTop" r="textAreaRight" b="textAreaBottom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195200"/>
                <a:gd name="textAreaBottom" fmla="*/ 1195200 h 1195200"/>
              </a:gdLst>
              <a:ahLst/>
              <a:rect l="textAreaLeft" t="textAreaTop" r="textAreaRight" b="textAreaBottom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>
                <a:gd name="textAreaLeft" fmla="*/ 0 w 1487520"/>
                <a:gd name="textAreaRight" fmla="*/ 1487880 w 148752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>
                <a:gd name="textAreaLeft" fmla="*/ 0 w 2131920"/>
                <a:gd name="textAreaRight" fmla="*/ 2132280 w 21319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>
                <a:gd name="textAreaLeft" fmla="*/ 0 w 1378080"/>
                <a:gd name="textAreaRight" fmla="*/ 1378440 w 137808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CF88-96E4-4C2B-9766-5C43ADA602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5291280"/>
                <a:gd name="textAreaBottom" fmla="*/ 5291640 h 5291280"/>
              </a:gdLst>
              <a:ahLst/>
              <a:rect l="textAreaLeft" t="textAreaTop" r="textAreaRight" b="textAreaBottom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4624560"/>
                <a:gd name="textAreaBottom" fmla="*/ 4624920 h 4624560"/>
              </a:gdLst>
              <a:ahLst/>
              <a:rect l="textAreaLeft" t="textAreaTop" r="textAreaRight" b="textAreaBottom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195200"/>
                <a:gd name="textAreaBottom" fmla="*/ 1195200 h 1195200"/>
              </a:gdLst>
              <a:ahLst/>
              <a:rect l="textAreaLeft" t="textAreaTop" r="textAreaRight" b="textAreaBottom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>
                <a:gd name="textAreaLeft" fmla="*/ 0 w 1487520"/>
                <a:gd name="textAreaRight" fmla="*/ 1487880 w 148752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>
                <a:gd name="textAreaLeft" fmla="*/ 0 w 2131920"/>
                <a:gd name="textAreaRight" fmla="*/ 2132280 w 21319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>
                <a:gd name="textAreaLeft" fmla="*/ 0 w 1378080"/>
                <a:gd name="textAreaRight" fmla="*/ 1378440 w 137808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5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C45D-EA78-446D-BEEE-6C81C72680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5291280"/>
                <a:gd name="textAreaBottom" fmla="*/ 5291640 h 5291280"/>
              </a:gdLst>
              <a:ahLst/>
              <a:rect l="textAreaLeft" t="textAreaTop" r="textAreaRight" b="textAreaBottom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4624560"/>
                <a:gd name="textAreaBottom" fmla="*/ 4624920 h 4624560"/>
              </a:gdLst>
              <a:ahLst/>
              <a:rect l="textAreaLeft" t="textAreaTop" r="textAreaRight" b="textAreaBottom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195200"/>
                <a:gd name="textAreaBottom" fmla="*/ 1195200 h 1195200"/>
              </a:gdLst>
              <a:ahLst/>
              <a:rect l="textAreaLeft" t="textAreaTop" r="textAreaRight" b="textAreaBottom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>
                <a:gd name="textAreaLeft" fmla="*/ 0 w 1487520"/>
                <a:gd name="textAreaRight" fmla="*/ 1487880 w 148752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>
                <a:gd name="textAreaLeft" fmla="*/ 0 w 2131920"/>
                <a:gd name="textAreaRight" fmla="*/ 2132280 w 21319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>
                <a:gd name="textAreaLeft" fmla="*/ 0 w 1378080"/>
                <a:gd name="textAreaRight" fmla="*/ 1378440 w 137808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0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0EFD-82CF-4AFB-B812-51E7A54D94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vk.com/away.php?to=http%3A%2F%2Ftapemark.narod.ru%2Fles%2Findex.html&amp;cc_key=" TargetMode="External"/><Relationship Id="rId2" Type="http://schemas.openxmlformats.org/officeDocument/2006/relationships/hyperlink" Target="https://vk.com/away.php?to=https%3A%2F%2Fcyberleninka.ru%2Farticle%2Fn%2Ftekstil-i-teksty-semiotika-nadpisey-na-futbolkah&amp;cc_key=" TargetMode="External"/><Relationship Id="rId3" Type="http://schemas.openxmlformats.org/officeDocument/2006/relationships/hyperlink" Target="https://vk.com/away.php?to=https%3A%2F%2Fcyberleninka.ru%2Farticle%2Fn%2Fverbalno-ikonicheskie-teksty-na-predmetah-odezhdy-germenevtika-i-pragmatika&amp;cc_key=" TargetMode="External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19280" y="1268280"/>
            <a:ext cx="6913440" cy="26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Сравнительно-сопоставительный анализ содержания английских и русских надписей на футболка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419280" y="4221000"/>
            <a:ext cx="5113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полнил: Голованов Ростислав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ченик 10 «В» класс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учный руководитель: Орлова Е.  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читель английского язык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1619280" y="341280"/>
            <a:ext cx="7200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Муниципальное бюджетное общеобразовательное учреждение «Средняя общеобразовательная школа №1 им. М.А. Бухтуева» г. Кызыла Республики Тыв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XII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Республиканская научно-практическая конференция учащихся «Шаг в будущее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4500720" y="6308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ызыл, 2018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Содержимое 4" descr=""/>
          <p:cNvPicPr/>
          <p:nvPr/>
        </p:nvPicPr>
        <p:blipFill>
          <a:blip r:embed="rId1"/>
          <a:stretch/>
        </p:blipFill>
        <p:spPr>
          <a:xfrm>
            <a:off x="6143760" y="285840"/>
            <a:ext cx="2342880" cy="312408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5" descr=""/>
          <p:cNvPicPr/>
          <p:nvPr/>
        </p:nvPicPr>
        <p:blipFill>
          <a:blip r:embed="rId2"/>
          <a:stretch/>
        </p:blipFill>
        <p:spPr>
          <a:xfrm>
            <a:off x="1214280" y="3643200"/>
            <a:ext cx="2286000" cy="282888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6" descr=""/>
          <p:cNvPicPr/>
          <p:nvPr/>
        </p:nvPicPr>
        <p:blipFill>
          <a:blip r:embed="rId3"/>
          <a:stretch/>
        </p:blipFill>
        <p:spPr>
          <a:xfrm>
            <a:off x="6072120" y="3786120"/>
            <a:ext cx="2571840" cy="271476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7" descr=""/>
          <p:cNvPicPr/>
          <p:nvPr/>
        </p:nvPicPr>
        <p:blipFill>
          <a:blip r:embed="rId4"/>
          <a:stretch/>
        </p:blipFill>
        <p:spPr>
          <a:xfrm>
            <a:off x="3571920" y="1500120"/>
            <a:ext cx="2428920" cy="307188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8" descr=""/>
          <p:cNvPicPr/>
          <p:nvPr/>
        </p:nvPicPr>
        <p:blipFill>
          <a:blip r:embed="rId5"/>
          <a:stretch/>
        </p:blipFill>
        <p:spPr>
          <a:xfrm>
            <a:off x="1071720" y="642960"/>
            <a:ext cx="2286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Рисунок 4" descr=""/>
          <p:cNvPicPr/>
          <p:nvPr/>
        </p:nvPicPr>
        <p:blipFill>
          <a:blip r:embed="rId1"/>
          <a:stretch/>
        </p:blipFill>
        <p:spPr>
          <a:xfrm>
            <a:off x="6072120" y="500040"/>
            <a:ext cx="2500560" cy="29005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5" descr=""/>
          <p:cNvPicPr/>
          <p:nvPr/>
        </p:nvPicPr>
        <p:blipFill>
          <a:blip r:embed="rId2"/>
          <a:stretch/>
        </p:blipFill>
        <p:spPr>
          <a:xfrm>
            <a:off x="1357200" y="3786120"/>
            <a:ext cx="2357640" cy="29005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6" descr=""/>
          <p:cNvPicPr/>
          <p:nvPr/>
        </p:nvPicPr>
        <p:blipFill>
          <a:blip r:embed="rId3"/>
          <a:stretch/>
        </p:blipFill>
        <p:spPr>
          <a:xfrm>
            <a:off x="3714840" y="2000160"/>
            <a:ext cx="2357280" cy="2800440"/>
          </a:xfrm>
          <a:prstGeom prst="rect">
            <a:avLst/>
          </a:prstGeom>
          <a:ln w="0">
            <a:noFill/>
          </a:ln>
        </p:spPr>
      </p:pic>
      <p:pic>
        <p:nvPicPr>
          <p:cNvPr id="283" name="Содержимое 7" descr=""/>
          <p:cNvPicPr/>
          <p:nvPr/>
        </p:nvPicPr>
        <p:blipFill>
          <a:blip r:embed="rId4"/>
          <a:stretch/>
        </p:blipFill>
        <p:spPr>
          <a:xfrm>
            <a:off x="1071720" y="357120"/>
            <a:ext cx="2342880" cy="312444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8" descr=""/>
          <p:cNvPicPr/>
          <p:nvPr/>
        </p:nvPicPr>
        <p:blipFill>
          <a:blip r:embed="rId5"/>
          <a:stretch/>
        </p:blipFill>
        <p:spPr>
          <a:xfrm>
            <a:off x="6072120" y="3857760"/>
            <a:ext cx="24289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Объект 6"/>
          <p:cNvGraphicFramePr/>
          <p:nvPr/>
        </p:nvGraphicFramePr>
        <p:xfrm>
          <a:off x="417600" y="498600"/>
          <a:ext cx="341316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498600"/>
                    <a:ext cx="341316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Диаграмма 14"/>
          <p:cNvGraphicFramePr/>
          <p:nvPr/>
        </p:nvGraphicFramePr>
        <p:xfrm>
          <a:off x="5241960" y="498600"/>
          <a:ext cx="3581280" cy="3717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8" name="Диаграмма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41960" y="498600"/>
                    <a:ext cx="3581280" cy="37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Диаграмма 18"/>
          <p:cNvGraphicFramePr/>
          <p:nvPr/>
        </p:nvGraphicFramePr>
        <p:xfrm>
          <a:off x="2505240" y="3449520"/>
          <a:ext cx="4349520" cy="3125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90" name="Диаграмма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5240" y="3449520"/>
                    <a:ext cx="434952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82800" y="2060640"/>
            <a:ext cx="7704000" cy="33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силу лингвокультурологических особенностей,  надписи на футболках на русском и английском языках мало схожи, поэтому наша гипотеза не вер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ак же большинство людей не задумываются, что написано на их одежде.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Список литературы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82800" y="1844640"/>
            <a:ext cx="770400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1.  Головушкина М.В., Воячек О.С. Англоязычные надписи на одежде как элемент молодежной субкультуры // Язык. Право. Общество: сб. ст. III Междунар. науч.-практ. конф. (г. Пенза, 13 – 14 мая 2015 г.). Пенза, 2015. С. 266 – 268. 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2.  Пешохина В.С. Говорящие футболки // Юный ученый. 2016. № 4 (07). С. 18 – 19. 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3.  Степанов Ю.С. Семиотика // Лингвистический энциклопедический словарь [Электронный ресурс] / Под ред. В.Н. Ярцевой. Электрон. дан. М., 1990. Режим доступа: </a:t>
            </a:r>
            <a:r>
              <a:rPr b="0" lang="ru-RU" sz="1300" spc="-1" strike="noStrike" u="sng">
                <a:solidFill>
                  <a:srgbClr val="3085ed"/>
                </a:solidFill>
                <a:uFillTx/>
                <a:latin typeface="Corbel"/>
                <a:hlinkClick r:id="rId1"/>
              </a:rPr>
              <a:t>http://tapemark.narod.ru/les/index.html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, свободный. Загл. с экрана. 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4.  Халиков М.М. Текстиль и тексты: семиотика надписей на футболках // Научная электронная библиотека «КиберЛенинка» [Электронный ресурс] = CyberLeninka. Электрон. дан. М., 2015. Режим доступа: </a:t>
            </a:r>
            <a:r>
              <a:rPr b="0" lang="ru-RU" sz="1300" spc="-1" strike="noStrike" u="sng">
                <a:solidFill>
                  <a:srgbClr val="3085ed"/>
                </a:solidFill>
                <a:uFillTx/>
                <a:latin typeface="Corbel"/>
                <a:hlinkClick r:id="rId2"/>
              </a:rPr>
              <a:t>https://cyberleninka.ru/article/n/tekstil-i-teksty-se..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, свободный. Загл. с экрана. 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5.  Шарифуллин Б.Я. Вербально-иконические тексты на предметах одежды: герменевтика и прагматика // Научная электронная библиотека «КиберЛенинка» [Электронный ресурс] = CyberLeninka. Электрон. дан. М., 2013. Режим доступа: </a:t>
            </a:r>
            <a:r>
              <a:rPr b="0" lang="ru-RU" sz="1300" spc="-1" strike="noStrike" u="sng">
                <a:solidFill>
                  <a:srgbClr val="3085ed"/>
                </a:solidFill>
                <a:uFillTx/>
                <a:latin typeface="Corbel"/>
                <a:hlinkClick r:id="rId3"/>
              </a:rPr>
              <a:t>https://cyberleninka.ru/article/n/verbalno-ikonichesk..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, свободный. Загл. с экрана. 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6.  Penney J. KEVIN07: Cool Politics, Consumer Citizenship, and the Specter of ʻAmericanizationʼ in Australia // ResearchGate [Электронный ресурс] : Discover scientific knowledge, and make your research visible. Электрон. дан. Берлин, 2011. Режим доступа: https://www.researchgate.net/publication/230040806_KE.., свободный. Загл. с экрана. 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Используемые сайты: 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1. https://ru.aliexpress.com/ Интернет – магазин модной одежды и обуви 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2. https://www.wildberries.ru/ Интеренет- магазин модной одежды и обуви</a:t>
            </a:r>
            <a:r>
              <a:rPr b="1" lang="ru-RU" sz="1300" spc="-1" strike="noStrike">
                <a:solidFill>
                  <a:srgbClr val="000000"/>
                </a:solidFill>
                <a:latin typeface="Corbel"/>
              </a:rPr>
              <a:t>Лингвистический энциклопедический словарь..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tapemark.narod.ru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684360" y="764640"/>
            <a:ext cx="7704000" cy="14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6" name="Рисунок 3" descr=""/>
          <p:cNvPicPr/>
          <p:nvPr/>
        </p:nvPicPr>
        <p:blipFill>
          <a:blip r:embed="rId1"/>
          <a:stretch/>
        </p:blipFill>
        <p:spPr>
          <a:xfrm>
            <a:off x="2556000" y="2225520"/>
            <a:ext cx="410976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98280" y="2276640"/>
            <a:ext cx="7705800" cy="33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равнить  и классифицировать содержание популярных в современном мире английских и русских надписей на футболка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Задачи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пределить содержание каждой анализируемой надписи на футболке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лассифицировать анализируемые английские надписи по тематическому принципу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лассифицировать анализируемые русские надписи по тематическому принципу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ыявить сходства и различия в содержании анализируемых английских и русских надписей на футболк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Гипотез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82800" y="2133360"/>
            <a:ext cx="7704000" cy="38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ы предполагаем, что в силу современной глобализации русские и английские надписи на футболках имеют одинаковые значен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акже, я предположил, что большинство людей, которые носят одежду с английскими надписями никогда не задумывались, что на них написано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82800" y="2204640"/>
            <a:ext cx="7704000" cy="37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ключается в том, что не все знают, какую смысловую нагрузку несут надписи на одежде выполненные на английском языке, что это не только цвет и шрифт на прикольной картинке. Для Российского школьника неприемлемо носить футболки содержащие непристойные, нецензурные и тем более оскорбляющие достоинство нашей страны надпис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Содержимое 8" descr="ф.jpg"/>
          <p:cNvPicPr/>
          <p:nvPr/>
        </p:nvPicPr>
        <p:blipFill>
          <a:blip r:embed="rId1"/>
          <a:stretch/>
        </p:blipFill>
        <p:spPr>
          <a:xfrm>
            <a:off x="5580000" y="1406520"/>
            <a:ext cx="2882880" cy="3992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406160"/>
            <a:ext cx="4686480" cy="34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дежда является также знаком, который может читаться окружающими как текст, характеризующий вкус ее обладател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Рисунок 4" descr=""/>
          <p:cNvPicPr/>
          <p:nvPr/>
        </p:nvPicPr>
        <p:blipFill>
          <a:blip r:embed="rId1"/>
          <a:stretch/>
        </p:blipFill>
        <p:spPr>
          <a:xfrm>
            <a:off x="5429160" y="0"/>
            <a:ext cx="3214800" cy="378288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4" descr=""/>
          <p:cNvPicPr/>
          <p:nvPr/>
        </p:nvPicPr>
        <p:blipFill>
          <a:blip r:embed="rId2"/>
          <a:stretch/>
        </p:blipFill>
        <p:spPr>
          <a:xfrm>
            <a:off x="1058760" y="571680"/>
            <a:ext cx="2727360" cy="28954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4" descr=""/>
          <p:cNvPicPr/>
          <p:nvPr/>
        </p:nvPicPr>
        <p:blipFill>
          <a:blip r:embed="rId3"/>
          <a:stretch/>
        </p:blipFill>
        <p:spPr>
          <a:xfrm>
            <a:off x="1000080" y="3643200"/>
            <a:ext cx="2714760" cy="285300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"/>
          <p:cNvPicPr/>
          <p:nvPr/>
        </p:nvPicPr>
        <p:blipFill>
          <a:blip r:embed="rId4"/>
          <a:stretch/>
        </p:blipFill>
        <p:spPr>
          <a:xfrm>
            <a:off x="6072120" y="3571920"/>
            <a:ext cx="2857680" cy="3085920"/>
          </a:xfrm>
          <a:prstGeom prst="rect">
            <a:avLst/>
          </a:prstGeom>
          <a:ln w="0">
            <a:noFill/>
          </a:ln>
        </p:spPr>
      </p:pic>
      <p:pic>
        <p:nvPicPr>
          <p:cNvPr id="264" name="Объект 7" descr=""/>
          <p:cNvPicPr/>
          <p:nvPr/>
        </p:nvPicPr>
        <p:blipFill>
          <a:blip r:embed="rId5"/>
          <a:stretch/>
        </p:blipFill>
        <p:spPr>
          <a:xfrm>
            <a:off x="3786120" y="1643040"/>
            <a:ext cx="20718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Объект 4" descr=""/>
          <p:cNvPicPr/>
          <p:nvPr/>
        </p:nvPicPr>
        <p:blipFill>
          <a:blip r:embed="rId1"/>
          <a:stretch/>
        </p:blipFill>
        <p:spPr>
          <a:xfrm>
            <a:off x="6429240" y="214200"/>
            <a:ext cx="2495520" cy="328608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4" descr=""/>
          <p:cNvPicPr/>
          <p:nvPr/>
        </p:nvPicPr>
        <p:blipFill>
          <a:blip r:embed="rId2"/>
          <a:stretch/>
        </p:blipFill>
        <p:spPr>
          <a:xfrm>
            <a:off x="1571760" y="3206880"/>
            <a:ext cx="3357360" cy="3651120"/>
          </a:xfrm>
          <a:prstGeom prst="rect">
            <a:avLst/>
          </a:prstGeom>
          <a:ln w="0">
            <a:noFill/>
          </a:ln>
        </p:spPr>
      </p:pic>
      <p:pic>
        <p:nvPicPr>
          <p:cNvPr id="267" name="Объект 4" descr=""/>
          <p:cNvPicPr/>
          <p:nvPr/>
        </p:nvPicPr>
        <p:blipFill>
          <a:blip r:embed="rId3"/>
          <a:stretch/>
        </p:blipFill>
        <p:spPr>
          <a:xfrm>
            <a:off x="1000080" y="357120"/>
            <a:ext cx="2643120" cy="33228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4" descr=""/>
          <p:cNvPicPr/>
          <p:nvPr/>
        </p:nvPicPr>
        <p:blipFill>
          <a:blip r:embed="rId4"/>
          <a:stretch/>
        </p:blipFill>
        <p:spPr>
          <a:xfrm>
            <a:off x="5643720" y="3571920"/>
            <a:ext cx="2852640" cy="309096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4" descr=""/>
          <p:cNvPicPr/>
          <p:nvPr/>
        </p:nvPicPr>
        <p:blipFill>
          <a:blip r:embed="rId5"/>
          <a:stretch/>
        </p:blipFill>
        <p:spPr>
          <a:xfrm>
            <a:off x="3643200" y="0"/>
            <a:ext cx="264348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Объект 4" descr=""/>
          <p:cNvPicPr/>
          <p:nvPr/>
        </p:nvPicPr>
        <p:blipFill>
          <a:blip r:embed="rId1"/>
          <a:stretch/>
        </p:blipFill>
        <p:spPr>
          <a:xfrm>
            <a:off x="6215040" y="3429000"/>
            <a:ext cx="2357640" cy="2960640"/>
          </a:xfrm>
          <a:prstGeom prst="rect">
            <a:avLst/>
          </a:prstGeom>
          <a:ln w="0">
            <a:noFill/>
          </a:ln>
        </p:spPr>
      </p:pic>
      <p:pic>
        <p:nvPicPr>
          <p:cNvPr id="271" name="Объект 4" descr=""/>
          <p:cNvPicPr/>
          <p:nvPr/>
        </p:nvPicPr>
        <p:blipFill>
          <a:blip r:embed="rId2"/>
          <a:stretch/>
        </p:blipFill>
        <p:spPr>
          <a:xfrm>
            <a:off x="1214280" y="428760"/>
            <a:ext cx="2954520" cy="33955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6" descr=""/>
          <p:cNvPicPr/>
          <p:nvPr/>
        </p:nvPicPr>
        <p:blipFill>
          <a:blip r:embed="rId3"/>
          <a:stretch/>
        </p:blipFill>
        <p:spPr>
          <a:xfrm>
            <a:off x="3857760" y="714240"/>
            <a:ext cx="2857320" cy="322920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7" descr=""/>
          <p:cNvPicPr/>
          <p:nvPr/>
        </p:nvPicPr>
        <p:blipFill>
          <a:blip r:embed="rId4"/>
          <a:stretch/>
        </p:blipFill>
        <p:spPr>
          <a:xfrm>
            <a:off x="2000160" y="3929040"/>
            <a:ext cx="2500560" cy="271476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8" descr=""/>
          <p:cNvPicPr/>
          <p:nvPr/>
        </p:nvPicPr>
        <p:blipFill>
          <a:blip r:embed="rId5"/>
          <a:stretch/>
        </p:blipFill>
        <p:spPr>
          <a:xfrm>
            <a:off x="6500880" y="642960"/>
            <a:ext cx="23572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9T13:47:02Z</dcterms:created>
  <dc:creator>User</dc:creator>
  <dc:description/>
  <dc:language>en-US</dc:language>
  <cp:lastModifiedBy>User</cp:lastModifiedBy>
  <dcterms:modified xsi:type="dcterms:W3CDTF">2018-03-03T14:50:24Z</dcterms:modified>
  <cp:revision>254</cp:revision>
  <dc:subject/>
  <dc:title>Слайд 1</dc:title>
</cp:coreProperties>
</file>