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0AED-DED0-41EE-B8D3-E0466A99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93BB-18FD-4DF4-8F69-E6256632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DD82-44CA-44E7-B73B-7F6A7B962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4716-D473-459F-9C5F-4F0EFCEF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CD63-936A-4F1F-8BCD-420B8244B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74E7-CCD1-4590-AAD7-008F82E1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B1E4-75D6-4E63-B9AB-D01650C4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1769-4DBD-4133-8BE9-D9129464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687C-EE2E-4FFC-AE95-CDA8ED77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F2A9-0FF3-499B-93DC-81ACD58E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674B-1DDF-4DD1-B300-8118EF40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1DDA-BA54-4485-BFF5-2D778BE7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EC7C-4903-46C7-93B2-D78047B0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EA1F-4424-4516-94FE-2EB39E75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B69C-53B1-4C3B-8C0D-6B845321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7EC7-0957-44F6-8125-40405F416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0170-5859-467A-B2E7-E76E1D45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C8863-BDB6-4FD0-91E5-66E6D9504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A26B2-9774-4726-A140-AD398368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978BE-893F-49F9-8BA3-ED91B760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D866D-3902-4E16-B53B-AA44A300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D474F-6B47-4406-B526-E4E9677A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546D-6DA2-411B-8B66-50607B19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9A7EE-CB5F-48BF-A42A-D8626D5F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B92CB-DFD1-4B86-8E16-73915071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89F8F-8112-4204-83B5-937442A3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2FCEF-12BA-4310-B6AB-1DAC59E2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2C213-B2C3-4D6D-89ED-6E2A490D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D30E1-8A3C-4397-BE8C-73D109B82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32624-66B7-43C3-887D-F65655EE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FCB2E-AD26-480D-BA8D-FDB607C3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9AC5F-89FB-4D75-8AEA-B99EE826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C83B9-671F-415E-B340-F9BEE3D1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780E-B184-4465-820B-57517CA3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AA6EF-200E-4FA9-9AF4-292B3163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2E47F-077A-4C67-8640-4E1F7CC3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6685C-6A21-4667-B4D1-40F5BA8B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CE15C-8CDB-45D2-8DBC-E00CE0FB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9EA26-C09F-4A71-8858-2FEC60D1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D718A-7264-47EE-9081-1567B394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488B3-327B-4912-B5BE-A1465DE8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D91F3-29B4-4352-BF91-52FA23E9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8150E-D075-4889-A4D5-412F9806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D7E21-49F2-4F17-A94B-3B1CCF5B5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3F07-294F-4EE1-8C92-1704A33B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8CFEE-773F-404D-8CA0-75165E02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A994D-50D4-46B6-8150-A816E848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A0A58-E349-498C-AC0E-057F73CE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40B20-9672-4857-BDCA-83F0110C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D976D-F2D5-4125-B31D-6FE67F50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304FA-82FE-49AB-850B-E930CF32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DF77D-B11F-46EF-BFE5-69E1989B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32CD1-645C-45CF-AEC1-F64056E3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4014F-85AD-4334-AD83-108F575F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4CD23-1C10-4A38-A7F9-5A76ADD61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8B3B-9D00-49E1-8BE8-D2253561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B19D3-1765-4D1A-9CB6-6B544FFB4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C31C1-A77B-4C3D-8CB5-26A0ECA68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8EF82-AC9E-4BCB-AEC0-709F2E0C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FCE0C-2553-423E-B929-900128D8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761F5-3EC2-4E10-8031-F9F13354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26BA2-7B23-472F-A463-48B29A4E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41676-669C-4812-9588-9744E078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5D4A5-C8B2-40E1-9C9B-C2CCBB5F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7F945-469C-49C4-B8A4-259D3673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74D4B-5EB1-461D-B585-59687AE9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9584-82BE-459D-A4C0-F38911BF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EF207-321E-4365-A05A-81978808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78859-4DBF-4D44-B66C-441DC47B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2BE09-747F-4828-B729-9C53F1781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51FDE-7DE0-4EE3-8B95-FB0E588D3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EFEBE-AD78-4D39-BF41-E646D35C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0512C-87C9-4B4C-9C15-9FA04BB4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941DC-10AF-4B67-B33A-8FFD0863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0389D-4A59-4610-89E2-5EC6ECD3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8BCC5-DE14-4B5B-B866-9399F1AA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F9C7A-DDCC-4679-A033-BEF39029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6864-94A2-4D7F-B91D-D5F9A539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FC169-16AB-4484-A5C4-402D1746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B847B-0DFF-4196-B3DA-7936F455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6CB6A-9D01-4AEC-A7CF-B4E98728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46B79-A1DB-4BDF-B06A-3F97E13B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A0133-9147-402A-941C-8424203DF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0D77-A4DB-4352-870A-1C99E8B0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4EDC-686A-463A-9EEA-321F40592C2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C2BA-86C9-4E40-B8FD-09BA0136D31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41CA-6ADB-424B-AD93-1A99829B23E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8D46-7AE6-4BFF-AA6A-4CE6716493D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31E2-8D97-4B4C-812D-7BF6AAC4FF1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5AC7-3EC0-4B30-AB02-127ECABAD37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7FD5-3CC9-4BFE-8523-72C0D67C61C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6d4ff"/>
            </a:gs>
            <a:gs pos="100000">
              <a:srgbClr val="db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8"/>
          <p:cNvSpPr/>
          <p:nvPr/>
        </p:nvSpPr>
        <p:spPr>
          <a:xfrm>
            <a:off x="1258920" y="4359240"/>
            <a:ext cx="6696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втор: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  <a:ea typeface="Arial"/>
              </a:rPr>
              <a:t>Букашова Олеся Сергеевна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еница 2 «Б» класс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учный руководитель :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  <a:ea typeface="Arial"/>
              </a:rPr>
              <a:t>   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  <a:ea typeface="Arial"/>
              </a:rPr>
              <a:t>Людова Наталья Николаевна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 №1393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6" name="TextBox 1"/>
          <p:cNvSpPr/>
          <p:nvPr/>
        </p:nvSpPr>
        <p:spPr>
          <a:xfrm>
            <a:off x="3249360" y="333360"/>
            <a:ext cx="233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16296"/>
                </a:solidFill>
                <a:latin typeface="Candara"/>
              </a:rPr>
              <a:t>ПРОЕКТ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7" name="TextBox 3"/>
          <p:cNvSpPr/>
          <p:nvPr/>
        </p:nvSpPr>
        <p:spPr>
          <a:xfrm>
            <a:off x="138240" y="1098720"/>
            <a:ext cx="9161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на тему: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ndara"/>
                <a:ea typeface="Arial"/>
              </a:rPr>
              <a:t>«Мой пластилиновый мультфильм»</a:t>
            </a:r>
            <a:endParaRPr b="0" lang="en-US" sz="4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38" name="Рисунок 4" descr=""/>
          <p:cNvPicPr/>
          <p:nvPr/>
        </p:nvPicPr>
        <p:blipFill>
          <a:blip r:embed="rId1"/>
          <a:stretch/>
        </p:blipFill>
        <p:spPr>
          <a:xfrm>
            <a:off x="3132000" y="2276640"/>
            <a:ext cx="265752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bbaf6"/>
            </a:gs>
            <a:gs pos="100000">
              <a:srgbClr val="db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2"/>
          <p:cNvSpPr/>
          <p:nvPr/>
        </p:nvSpPr>
        <p:spPr>
          <a:xfrm>
            <a:off x="419040" y="3191040"/>
            <a:ext cx="8640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не очень понравилось работать над созданием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бственного мультфильма.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нечно, я одна полностью его не смогла бы сделать. Я хочу сказать большое спасибо моим помощникам :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аме, папе, сестре Лизе;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8" name="TextBox 3"/>
          <p:cNvSpPr/>
          <p:nvPr/>
        </p:nvSpPr>
        <p:spPr>
          <a:xfrm>
            <a:off x="412200" y="5229360"/>
            <a:ext cx="663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 Людовой Наталье Николаевне,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 моему научному руководителю,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 предоставленную помощь и информацию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388800" y="549360"/>
            <a:ext cx="784872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 работе над проектом, я узнала ещё больше о пластилине, попробовала создать пластилиновый мультфильм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дтвердила гипотезу проекта, что работа с пластилином – это творчество, и  каждый может научиться создавать пластилиновые мультфильмы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ом своего проекта представляю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ультфильм «Космическая дружба» - на сюжет, придуманный мной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0" name="TextBox 1"/>
          <p:cNvSpPr/>
          <p:nvPr/>
        </p:nvSpPr>
        <p:spPr>
          <a:xfrm>
            <a:off x="3459240" y="115920"/>
            <a:ext cx="17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Вывод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d4ff"/>
            </a:gs>
            <a:gs pos="100000">
              <a:srgbClr val="db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3"/>
          <p:cNvSpPr/>
          <p:nvPr/>
        </p:nvSpPr>
        <p:spPr>
          <a:xfrm>
            <a:off x="636120" y="1046160"/>
            <a:ext cx="32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Цель проекта: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618840" y="1989000"/>
            <a:ext cx="6561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рассказать всем о пластилине,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 том как с ним легко, увлекательно и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чень интересно работать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Сделать свой пластилиновый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ультфильм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84d3"/>
            </a:gs>
            <a:gs pos="100000">
              <a:srgbClr val="db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3"/>
          <p:cNvSpPr/>
          <p:nvPr/>
        </p:nvSpPr>
        <p:spPr>
          <a:xfrm>
            <a:off x="464040" y="993600"/>
            <a:ext cx="44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Задачи проекта: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-37080" y="2036880"/>
            <a:ext cx="9394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Выяснить, что такое пластилин, почему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с ним работать не только увлекательно,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но и очень полезно!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Изучить, как создаются пластилиновые 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мультфильмы.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3acf8"/>
            </a:gs>
            <a:gs pos="100000">
              <a:srgbClr val="db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1"/>
          <p:cNvSpPr/>
          <p:nvPr/>
        </p:nvSpPr>
        <p:spPr>
          <a:xfrm>
            <a:off x="755640" y="18900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Гипотеза :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Работа с пластилином – это творчество, поиск новых идей и я думаю, каждый может научиться создавать пластилиновые  мультфильмы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4" name="TextBox 3"/>
          <p:cNvSpPr/>
          <p:nvPr/>
        </p:nvSpPr>
        <p:spPr>
          <a:xfrm>
            <a:off x="312120" y="1758960"/>
            <a:ext cx="844848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Методы исследования: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Сбор информации   из разных источников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Анкетирование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Приготовить все необходимое для создания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пластилиновых мультфильмов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4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ndara"/>
              </a:rPr>
              <a:t>. Съёмка собственного мультфильма.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45" name="Рисунок 2" descr=""/>
          <p:cNvPicPr/>
          <p:nvPr/>
        </p:nvPicPr>
        <p:blipFill>
          <a:blip r:embed="rId1"/>
          <a:stretch/>
        </p:blipFill>
        <p:spPr>
          <a:xfrm>
            <a:off x="5219640" y="4000680"/>
            <a:ext cx="2409840" cy="180648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4" descr=""/>
          <p:cNvPicPr/>
          <p:nvPr/>
        </p:nvPicPr>
        <p:blipFill>
          <a:blip r:embed="rId2"/>
          <a:stretch/>
        </p:blipFill>
        <p:spPr>
          <a:xfrm>
            <a:off x="1332000" y="3979800"/>
            <a:ext cx="28400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3acf8"/>
            </a:gs>
            <a:gs pos="100000">
              <a:srgbClr val="db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WordArt 5"/>
          <p:cNvSpPr txBox="1"/>
          <p:nvPr/>
        </p:nvSpPr>
        <p:spPr>
          <a:xfrm>
            <a:off x="1187280" y="765000"/>
            <a:ext cx="648180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что такое пластилин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971640" y="1844640"/>
            <a:ext cx="727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Пластилин это материал  для лепки.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Изготавливается из очищенного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и тщательно размельчённого порошка глины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с добавлением воска, животного сала, вазелин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и других веществ, препятствующих высыханию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Обычно окрашивается в разные цвета.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49" name="Рисунок 1" descr=""/>
          <p:cNvPicPr/>
          <p:nvPr/>
        </p:nvPicPr>
        <p:blipFill>
          <a:blip r:embed="rId1"/>
          <a:stretch/>
        </p:blipFill>
        <p:spPr>
          <a:xfrm>
            <a:off x="1332000" y="4152960"/>
            <a:ext cx="2952720" cy="236376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2" descr=""/>
          <p:cNvPicPr/>
          <p:nvPr/>
        </p:nvPicPr>
        <p:blipFill>
          <a:blip r:embed="rId2"/>
          <a:stretch/>
        </p:blipFill>
        <p:spPr>
          <a:xfrm>
            <a:off x="4932360" y="4251240"/>
            <a:ext cx="2166840" cy="21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3acf8"/>
            </a:gs>
            <a:gs pos="100000">
              <a:srgbClr val="db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WordArt 2"/>
          <p:cNvSpPr txBox="1"/>
          <p:nvPr/>
        </p:nvSpPr>
        <p:spPr>
          <a:xfrm>
            <a:off x="379440" y="333360"/>
            <a:ext cx="493380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09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то развивает пластилин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95280" y="1413000"/>
            <a:ext cx="5398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ластилин развивает мелкую моторику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 детей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льза пластилина – в самой лепке, 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 в её результате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ажно, чтобы ребёнок мял пластилин,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трывал от него кусочки, катал их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ежду ладошками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3"/>
          <a:stretch/>
        </p:blipFill>
        <p:spPr>
          <a:xfrm>
            <a:off x="142920" y="4365720"/>
            <a:ext cx="5904000" cy="202392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1" descr=""/>
          <p:cNvPicPr/>
          <p:nvPr/>
        </p:nvPicPr>
        <p:blipFill>
          <a:blip r:embed="rId4"/>
          <a:stretch/>
        </p:blipFill>
        <p:spPr>
          <a:xfrm>
            <a:off x="5435640" y="236520"/>
            <a:ext cx="3479760" cy="261000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2" descr=""/>
          <p:cNvPicPr/>
          <p:nvPr/>
        </p:nvPicPr>
        <p:blipFill>
          <a:blip r:embed="rId5"/>
          <a:stretch/>
        </p:blipFill>
        <p:spPr>
          <a:xfrm>
            <a:off x="5850000" y="2924280"/>
            <a:ext cx="3071880" cy="2305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3acf8"/>
            </a:gs>
            <a:gs pos="100000">
              <a:srgbClr val="db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1"/>
          <p:cNvSpPr/>
          <p:nvPr/>
        </p:nvSpPr>
        <p:spPr>
          <a:xfrm>
            <a:off x="592200" y="2602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я создания 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ластилинового мультфильма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7" name="TextBox 2"/>
          <p:cNvSpPr/>
          <p:nvPr/>
        </p:nvSpPr>
        <p:spPr>
          <a:xfrm>
            <a:off x="785880" y="177336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8" name="TextBox 3"/>
          <p:cNvSpPr/>
          <p:nvPr/>
        </p:nvSpPr>
        <p:spPr>
          <a:xfrm>
            <a:off x="272880" y="1916280"/>
            <a:ext cx="7323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1. Пластилин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2. Фотоаппарат (лучше с пультом)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3. Штатив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4. Компьютер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5. Программы, </a:t>
            </a:r>
            <a:r>
              <a:rPr b="0" lang="ru-RU" sz="2800" spc="-1" strike="noStrike">
                <a:solidFill>
                  <a:srgbClr val="1d1502"/>
                </a:solidFill>
                <a:latin typeface="Candara"/>
              </a:rPr>
              <a:t>в которых вы будете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1502"/>
                </a:solidFill>
                <a:latin typeface="Candara"/>
              </a:rPr>
              <a:t>совмещать кадры,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1502"/>
                </a:solidFill>
                <a:latin typeface="Candara"/>
              </a:rPr>
              <a:t>монтировать видео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1502"/>
                </a:solidFill>
                <a:latin typeface="Candara"/>
              </a:rPr>
              <a:t>и звук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9" name="Прямоугольник 1"/>
          <p:cNvSpPr/>
          <p:nvPr/>
        </p:nvSpPr>
        <p:spPr>
          <a:xfrm>
            <a:off x="250920" y="14414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то понадобится: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60" name="Рисунок 1" descr=""/>
          <p:cNvPicPr/>
          <p:nvPr/>
        </p:nvPicPr>
        <p:blipFill>
          <a:blip r:embed="rId1"/>
          <a:stretch/>
        </p:blipFill>
        <p:spPr>
          <a:xfrm>
            <a:off x="4427640" y="1508040"/>
            <a:ext cx="1168200" cy="93672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4" descr=""/>
          <p:cNvPicPr/>
          <p:nvPr/>
        </p:nvPicPr>
        <p:blipFill>
          <a:blip r:embed="rId2"/>
          <a:stretch/>
        </p:blipFill>
        <p:spPr>
          <a:xfrm>
            <a:off x="6372360" y="1460520"/>
            <a:ext cx="1882800" cy="249876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5" descr=""/>
          <p:cNvPicPr/>
          <p:nvPr/>
        </p:nvPicPr>
        <p:blipFill>
          <a:blip r:embed="rId3"/>
          <a:stretch/>
        </p:blipFill>
        <p:spPr>
          <a:xfrm>
            <a:off x="5092560" y="2876400"/>
            <a:ext cx="1008360" cy="75744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6" descr=""/>
          <p:cNvPicPr/>
          <p:nvPr/>
        </p:nvPicPr>
        <p:blipFill>
          <a:blip r:embed="rId4"/>
          <a:stretch/>
        </p:blipFill>
        <p:spPr>
          <a:xfrm>
            <a:off x="3625920" y="4149720"/>
            <a:ext cx="442584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b87d6"/>
            </a:gs>
            <a:gs pos="100000">
              <a:srgbClr val="db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Облако 1"/>
          <p:cNvSpPr/>
          <p:nvPr/>
        </p:nvSpPr>
        <p:spPr>
          <a:xfrm>
            <a:off x="108000" y="549360"/>
            <a:ext cx="3295440" cy="1272960"/>
          </a:xfrm>
          <a:prstGeom prst="pie">
            <a:avLst/>
          </a:prstGeom>
          <a:solidFill>
            <a:srgbClr val="cae67b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  Придумываю свой сюжет. (можно взять любую сказку)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187280" y="130320"/>
            <a:ext cx="725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Я снимаю      свой        собственный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мультфильм –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«Космическая дружба»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6" name="Облако 3"/>
          <p:cNvSpPr/>
          <p:nvPr/>
        </p:nvSpPr>
        <p:spPr>
          <a:xfrm>
            <a:off x="2152800" y="1830240"/>
            <a:ext cx="2665440" cy="1106640"/>
          </a:xfrm>
          <a:prstGeom prst="pie">
            <a:avLst/>
          </a:prstGeom>
          <a:solidFill>
            <a:srgbClr val="f9d98c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 Леплю героев и создаю декорации.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7" name="Облако 4"/>
          <p:cNvSpPr/>
          <p:nvPr/>
        </p:nvSpPr>
        <p:spPr>
          <a:xfrm>
            <a:off x="25560" y="3260880"/>
            <a:ext cx="2506680" cy="1272960"/>
          </a:xfrm>
          <a:prstGeom prst="pie">
            <a:avLst/>
          </a:prstGeom>
          <a:solidFill>
            <a:srgbClr val="92d05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 Расставляю декорации и героев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8" name="Облако 5"/>
          <p:cNvSpPr/>
          <p:nvPr/>
        </p:nvSpPr>
        <p:spPr>
          <a:xfrm>
            <a:off x="3635280" y="5083200"/>
            <a:ext cx="3148200" cy="1273320"/>
          </a:xfrm>
          <a:prstGeom prst="pie">
            <a:avLst/>
          </a:prstGeom>
          <a:solidFill>
            <a:srgbClr val="cae67b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 Фотографирую, меняю положение 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9" name="Штриховая стрелка вправо 12"/>
          <p:cNvSpPr/>
          <p:nvPr/>
        </p:nvSpPr>
        <p:spPr>
          <a:xfrm flipH="1" rot="20559600">
            <a:off x="1634760" y="2793960"/>
            <a:ext cx="1216080" cy="406080"/>
          </a:xfrm>
          <a:custGeom>
            <a:avLst/>
            <a:gdLst/>
            <a:ahLst/>
            <a:rect l="l" t="t" r="r" b="b"/>
            <a:pathLst>
              <a:path w="1216025" h="406400">
                <a:moveTo>
                  <a:pt x="0" y="101600"/>
                </a:moveTo>
                <a:lnTo>
                  <a:pt x="12700" y="101600"/>
                </a:lnTo>
                <a:lnTo>
                  <a:pt x="12700" y="304800"/>
                </a:lnTo>
                <a:lnTo>
                  <a:pt x="0" y="304800"/>
                </a:lnTo>
                <a:lnTo>
                  <a:pt x="0" y="101600"/>
                </a:lnTo>
                <a:close/>
                <a:moveTo>
                  <a:pt x="25400" y="101600"/>
                </a:moveTo>
                <a:lnTo>
                  <a:pt x="50800" y="101600"/>
                </a:lnTo>
                <a:lnTo>
                  <a:pt x="50800" y="304800"/>
                </a:lnTo>
                <a:lnTo>
                  <a:pt x="25400" y="304800"/>
                </a:lnTo>
                <a:lnTo>
                  <a:pt x="25400" y="101600"/>
                </a:lnTo>
                <a:close/>
                <a:moveTo>
                  <a:pt x="63500" y="101600"/>
                </a:moveTo>
                <a:lnTo>
                  <a:pt x="1012825" y="101600"/>
                </a:lnTo>
                <a:lnTo>
                  <a:pt x="1012825" y="0"/>
                </a:lnTo>
                <a:lnTo>
                  <a:pt x="1216025" y="203200"/>
                </a:lnTo>
                <a:lnTo>
                  <a:pt x="1012825" y="406400"/>
                </a:lnTo>
                <a:lnTo>
                  <a:pt x="1012825" y="304800"/>
                </a:lnTo>
                <a:lnTo>
                  <a:pt x="63500" y="304800"/>
                </a:lnTo>
                <a:lnTo>
                  <a:pt x="63500" y="1016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0" name="Штриховая стрелка вправо 14"/>
          <p:cNvSpPr/>
          <p:nvPr/>
        </p:nvSpPr>
        <p:spPr>
          <a:xfrm rot="1258200">
            <a:off x="1557000" y="4400640"/>
            <a:ext cx="2865240" cy="280800"/>
          </a:xfrm>
          <a:custGeom>
            <a:avLst/>
            <a:gdLst/>
            <a:ahLst/>
            <a:rect l="l" t="t" r="r" b="b"/>
            <a:pathLst>
              <a:path w="2865437" h="280988">
                <a:moveTo>
                  <a:pt x="0" y="70247"/>
                </a:moveTo>
                <a:lnTo>
                  <a:pt x="8781" y="70247"/>
                </a:lnTo>
                <a:lnTo>
                  <a:pt x="8781" y="210741"/>
                </a:lnTo>
                <a:lnTo>
                  <a:pt x="0" y="210741"/>
                </a:lnTo>
                <a:lnTo>
                  <a:pt x="0" y="70247"/>
                </a:lnTo>
                <a:close/>
                <a:moveTo>
                  <a:pt x="17562" y="70247"/>
                </a:moveTo>
                <a:lnTo>
                  <a:pt x="35124" y="70247"/>
                </a:lnTo>
                <a:lnTo>
                  <a:pt x="35124" y="210741"/>
                </a:lnTo>
                <a:lnTo>
                  <a:pt x="17562" y="210741"/>
                </a:lnTo>
                <a:lnTo>
                  <a:pt x="17562" y="70247"/>
                </a:lnTo>
                <a:close/>
                <a:moveTo>
                  <a:pt x="43904" y="70247"/>
                </a:moveTo>
                <a:lnTo>
                  <a:pt x="2724943" y="70247"/>
                </a:lnTo>
                <a:lnTo>
                  <a:pt x="2724943" y="0"/>
                </a:lnTo>
                <a:lnTo>
                  <a:pt x="2865437" y="140494"/>
                </a:lnTo>
                <a:lnTo>
                  <a:pt x="2724943" y="280988"/>
                </a:lnTo>
                <a:lnTo>
                  <a:pt x="2724943" y="210741"/>
                </a:lnTo>
                <a:lnTo>
                  <a:pt x="43904" y="210741"/>
                </a:lnTo>
                <a:lnTo>
                  <a:pt x="43904" y="70247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1" name="Штриховая стрелка вправо 18"/>
          <p:cNvSpPr/>
          <p:nvPr/>
        </p:nvSpPr>
        <p:spPr>
          <a:xfrm rot="3082200">
            <a:off x="2727000" y="1404720"/>
            <a:ext cx="1444680" cy="295200"/>
          </a:xfrm>
          <a:custGeom>
            <a:avLst/>
            <a:gdLst/>
            <a:ahLst/>
            <a:rect l="l" t="t" r="r" b="b"/>
            <a:pathLst>
              <a:path w="1444625" h="295275">
                <a:moveTo>
                  <a:pt x="0" y="73819"/>
                </a:moveTo>
                <a:lnTo>
                  <a:pt x="9227" y="73819"/>
                </a:lnTo>
                <a:lnTo>
                  <a:pt x="9227" y="221456"/>
                </a:lnTo>
                <a:lnTo>
                  <a:pt x="0" y="221456"/>
                </a:lnTo>
                <a:lnTo>
                  <a:pt x="0" y="73819"/>
                </a:lnTo>
                <a:close/>
                <a:moveTo>
                  <a:pt x="18455" y="73819"/>
                </a:moveTo>
                <a:lnTo>
                  <a:pt x="36909" y="73819"/>
                </a:lnTo>
                <a:lnTo>
                  <a:pt x="36909" y="221456"/>
                </a:lnTo>
                <a:lnTo>
                  <a:pt x="18455" y="221456"/>
                </a:lnTo>
                <a:lnTo>
                  <a:pt x="18455" y="73819"/>
                </a:lnTo>
                <a:close/>
                <a:moveTo>
                  <a:pt x="46137" y="73819"/>
                </a:moveTo>
                <a:lnTo>
                  <a:pt x="1296988" y="73819"/>
                </a:lnTo>
                <a:lnTo>
                  <a:pt x="1296988" y="0"/>
                </a:lnTo>
                <a:lnTo>
                  <a:pt x="1444625" y="147638"/>
                </a:lnTo>
                <a:lnTo>
                  <a:pt x="1296988" y="295275"/>
                </a:lnTo>
                <a:lnTo>
                  <a:pt x="1296988" y="221456"/>
                </a:lnTo>
                <a:lnTo>
                  <a:pt x="46137" y="221456"/>
                </a:lnTo>
                <a:lnTo>
                  <a:pt x="46137" y="73819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72" name="Рисунок 2" descr=""/>
          <p:cNvPicPr/>
          <p:nvPr/>
        </p:nvPicPr>
        <p:blipFill>
          <a:blip r:embed="rId1"/>
          <a:stretch/>
        </p:blipFill>
        <p:spPr>
          <a:xfrm>
            <a:off x="4767120" y="789120"/>
            <a:ext cx="3668760" cy="206352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19" descr=""/>
          <p:cNvPicPr/>
          <p:nvPr/>
        </p:nvPicPr>
        <p:blipFill>
          <a:blip r:embed="rId2"/>
          <a:stretch/>
        </p:blipFill>
        <p:spPr>
          <a:xfrm>
            <a:off x="4211640" y="2936880"/>
            <a:ext cx="3403440" cy="191448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20" descr=""/>
          <p:cNvPicPr/>
          <p:nvPr/>
        </p:nvPicPr>
        <p:blipFill>
          <a:blip r:embed="rId3"/>
          <a:stretch/>
        </p:blipFill>
        <p:spPr>
          <a:xfrm>
            <a:off x="244440" y="4829040"/>
            <a:ext cx="316548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ba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Облако 1"/>
          <p:cNvSpPr/>
          <p:nvPr/>
        </p:nvSpPr>
        <p:spPr>
          <a:xfrm>
            <a:off x="1157400" y="3403440"/>
            <a:ext cx="2394000" cy="1274760"/>
          </a:xfrm>
          <a:prstGeom prst="pie">
            <a:avLst/>
          </a:prstGeom>
          <a:solidFill>
            <a:srgbClr val="32ae51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 Делаем заставку в начале мультика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6" name="Облако 2"/>
          <p:cNvSpPr/>
          <p:nvPr/>
        </p:nvSpPr>
        <p:spPr>
          <a:xfrm>
            <a:off x="4803840" y="101520"/>
            <a:ext cx="3090960" cy="1417680"/>
          </a:xfrm>
          <a:prstGeom prst="pie">
            <a:avLst/>
          </a:prstGeom>
          <a:solidFill>
            <a:srgbClr val="cae67b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   Располагаем снимки по порядку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рограмм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gas video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7" name="Штриховая стрелка вправо 3"/>
          <p:cNvSpPr/>
          <p:nvPr/>
        </p:nvSpPr>
        <p:spPr>
          <a:xfrm rot="19998000">
            <a:off x="2424240" y="1771200"/>
            <a:ext cx="3009600" cy="339840"/>
          </a:xfrm>
          <a:custGeom>
            <a:avLst/>
            <a:gdLst/>
            <a:ahLst/>
            <a:rect l="l" t="t" r="r" b="b"/>
            <a:pathLst>
              <a:path w="3009900" h="339725">
                <a:moveTo>
                  <a:pt x="0" y="84931"/>
                </a:moveTo>
                <a:lnTo>
                  <a:pt x="10616" y="84931"/>
                </a:lnTo>
                <a:lnTo>
                  <a:pt x="10616" y="254794"/>
                </a:lnTo>
                <a:lnTo>
                  <a:pt x="0" y="254794"/>
                </a:lnTo>
                <a:lnTo>
                  <a:pt x="0" y="84931"/>
                </a:lnTo>
                <a:close/>
                <a:moveTo>
                  <a:pt x="21233" y="84931"/>
                </a:moveTo>
                <a:lnTo>
                  <a:pt x="42466" y="84931"/>
                </a:lnTo>
                <a:lnTo>
                  <a:pt x="42466" y="254794"/>
                </a:lnTo>
                <a:lnTo>
                  <a:pt x="21233" y="254794"/>
                </a:lnTo>
                <a:lnTo>
                  <a:pt x="21233" y="84931"/>
                </a:lnTo>
                <a:close/>
                <a:moveTo>
                  <a:pt x="53082" y="84931"/>
                </a:moveTo>
                <a:lnTo>
                  <a:pt x="2840038" y="84931"/>
                </a:lnTo>
                <a:lnTo>
                  <a:pt x="2840038" y="0"/>
                </a:lnTo>
                <a:lnTo>
                  <a:pt x="3009900" y="169863"/>
                </a:lnTo>
                <a:lnTo>
                  <a:pt x="2840038" y="339725"/>
                </a:lnTo>
                <a:lnTo>
                  <a:pt x="2840038" y="254794"/>
                </a:lnTo>
                <a:lnTo>
                  <a:pt x="53082" y="254794"/>
                </a:lnTo>
                <a:lnTo>
                  <a:pt x="53082" y="84931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8" name="Облако 4"/>
          <p:cNvSpPr/>
          <p:nvPr/>
        </p:nvSpPr>
        <p:spPr>
          <a:xfrm>
            <a:off x="206280" y="2133720"/>
            <a:ext cx="2535480" cy="1272960"/>
          </a:xfrm>
          <a:prstGeom prst="pie">
            <a:avLst/>
          </a:prstGeom>
          <a:solidFill>
            <a:srgbClr val="9de3ae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 Опять фотографирую и так далее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9" name="Штриховая стрелка вправо 5"/>
          <p:cNvSpPr/>
          <p:nvPr/>
        </p:nvSpPr>
        <p:spPr>
          <a:xfrm>
            <a:off x="3697200" y="480960"/>
            <a:ext cx="978120" cy="486000"/>
          </a:xfrm>
          <a:custGeom>
            <a:avLst/>
            <a:gdLst/>
            <a:ahLst/>
            <a:rect l="l" t="t" r="r" b="b"/>
            <a:pathLst>
              <a:path w="977900" h="485775">
                <a:moveTo>
                  <a:pt x="0" y="121444"/>
                </a:moveTo>
                <a:lnTo>
                  <a:pt x="15180" y="121444"/>
                </a:lnTo>
                <a:lnTo>
                  <a:pt x="15180" y="364331"/>
                </a:lnTo>
                <a:lnTo>
                  <a:pt x="0" y="364331"/>
                </a:lnTo>
                <a:lnTo>
                  <a:pt x="0" y="121444"/>
                </a:lnTo>
                <a:close/>
                <a:moveTo>
                  <a:pt x="30361" y="121444"/>
                </a:moveTo>
                <a:lnTo>
                  <a:pt x="60722" y="121444"/>
                </a:lnTo>
                <a:lnTo>
                  <a:pt x="60722" y="364331"/>
                </a:lnTo>
                <a:lnTo>
                  <a:pt x="30361" y="364331"/>
                </a:lnTo>
                <a:lnTo>
                  <a:pt x="30361" y="121444"/>
                </a:lnTo>
                <a:close/>
                <a:moveTo>
                  <a:pt x="75902" y="121444"/>
                </a:moveTo>
                <a:lnTo>
                  <a:pt x="735013" y="121444"/>
                </a:lnTo>
                <a:lnTo>
                  <a:pt x="735013" y="0"/>
                </a:lnTo>
                <a:lnTo>
                  <a:pt x="977900" y="242888"/>
                </a:lnTo>
                <a:lnTo>
                  <a:pt x="735013" y="485775"/>
                </a:lnTo>
                <a:lnTo>
                  <a:pt x="735013" y="364331"/>
                </a:lnTo>
                <a:lnTo>
                  <a:pt x="75902" y="364331"/>
                </a:lnTo>
                <a:lnTo>
                  <a:pt x="75902" y="121444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0" name="Штриховая стрелка вправо 6"/>
          <p:cNvSpPr/>
          <p:nvPr/>
        </p:nvSpPr>
        <p:spPr>
          <a:xfrm rot="9156600">
            <a:off x="3579840" y="3336480"/>
            <a:ext cx="1130400" cy="486000"/>
          </a:xfrm>
          <a:custGeom>
            <a:avLst/>
            <a:gdLst/>
            <a:ahLst/>
            <a:rect l="l" t="t" r="r" b="b"/>
            <a:pathLst>
              <a:path w="1130300" h="485775">
                <a:moveTo>
                  <a:pt x="0" y="121444"/>
                </a:moveTo>
                <a:lnTo>
                  <a:pt x="15180" y="121444"/>
                </a:lnTo>
                <a:lnTo>
                  <a:pt x="15180" y="364331"/>
                </a:lnTo>
                <a:lnTo>
                  <a:pt x="0" y="364331"/>
                </a:lnTo>
                <a:lnTo>
                  <a:pt x="0" y="121444"/>
                </a:lnTo>
                <a:close/>
                <a:moveTo>
                  <a:pt x="30361" y="121444"/>
                </a:moveTo>
                <a:lnTo>
                  <a:pt x="60722" y="121444"/>
                </a:lnTo>
                <a:lnTo>
                  <a:pt x="60722" y="364331"/>
                </a:lnTo>
                <a:lnTo>
                  <a:pt x="30361" y="364331"/>
                </a:lnTo>
                <a:lnTo>
                  <a:pt x="30361" y="121444"/>
                </a:lnTo>
                <a:close/>
                <a:moveTo>
                  <a:pt x="75902" y="121444"/>
                </a:moveTo>
                <a:lnTo>
                  <a:pt x="887413" y="121444"/>
                </a:lnTo>
                <a:lnTo>
                  <a:pt x="887413" y="0"/>
                </a:lnTo>
                <a:lnTo>
                  <a:pt x="1130300" y="242888"/>
                </a:lnTo>
                <a:lnTo>
                  <a:pt x="887413" y="485775"/>
                </a:lnTo>
                <a:lnTo>
                  <a:pt x="887413" y="364331"/>
                </a:lnTo>
                <a:lnTo>
                  <a:pt x="75902" y="364331"/>
                </a:lnTo>
                <a:lnTo>
                  <a:pt x="75902" y="121444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1" name="Облако 7"/>
          <p:cNvSpPr/>
          <p:nvPr/>
        </p:nvSpPr>
        <p:spPr>
          <a:xfrm>
            <a:off x="3235320" y="4995720"/>
            <a:ext cx="2879640" cy="1467000"/>
          </a:xfrm>
          <a:prstGeom prst="pie">
            <a:avLst/>
          </a:prstGeom>
          <a:solidFill>
            <a:srgbClr val="f9d98c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.  Записываем звук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накладываем музыку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2" name="Штриховая стрелка вправо 8"/>
          <p:cNvSpPr/>
          <p:nvPr/>
        </p:nvSpPr>
        <p:spPr>
          <a:xfrm rot="2002200">
            <a:off x="3058920" y="4214880"/>
            <a:ext cx="1447560" cy="485640"/>
          </a:xfrm>
          <a:custGeom>
            <a:avLst/>
            <a:gdLst/>
            <a:ahLst/>
            <a:rect l="l" t="t" r="r" b="b"/>
            <a:pathLst>
              <a:path w="1447800" h="485775">
                <a:moveTo>
                  <a:pt x="0" y="121444"/>
                </a:moveTo>
                <a:lnTo>
                  <a:pt x="15180" y="121444"/>
                </a:lnTo>
                <a:lnTo>
                  <a:pt x="15180" y="364331"/>
                </a:lnTo>
                <a:lnTo>
                  <a:pt x="0" y="364331"/>
                </a:lnTo>
                <a:lnTo>
                  <a:pt x="0" y="121444"/>
                </a:lnTo>
                <a:close/>
                <a:moveTo>
                  <a:pt x="30361" y="121444"/>
                </a:moveTo>
                <a:lnTo>
                  <a:pt x="60722" y="121444"/>
                </a:lnTo>
                <a:lnTo>
                  <a:pt x="60722" y="364331"/>
                </a:lnTo>
                <a:lnTo>
                  <a:pt x="30361" y="364331"/>
                </a:lnTo>
                <a:lnTo>
                  <a:pt x="30361" y="121444"/>
                </a:lnTo>
                <a:close/>
                <a:moveTo>
                  <a:pt x="75902" y="121444"/>
                </a:moveTo>
                <a:lnTo>
                  <a:pt x="1204913" y="121444"/>
                </a:lnTo>
                <a:lnTo>
                  <a:pt x="1204913" y="0"/>
                </a:lnTo>
                <a:lnTo>
                  <a:pt x="1447800" y="242888"/>
                </a:lnTo>
                <a:lnTo>
                  <a:pt x="1204913" y="485775"/>
                </a:lnTo>
                <a:lnTo>
                  <a:pt x="1204913" y="364331"/>
                </a:lnTo>
                <a:lnTo>
                  <a:pt x="75902" y="364331"/>
                </a:lnTo>
                <a:lnTo>
                  <a:pt x="75902" y="121444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3" name="Облако 9"/>
          <p:cNvSpPr/>
          <p:nvPr/>
        </p:nvSpPr>
        <p:spPr>
          <a:xfrm>
            <a:off x="6181560" y="4437000"/>
            <a:ext cx="2592720" cy="1832040"/>
          </a:xfrm>
          <a:prstGeom prst="pie">
            <a:avLst/>
          </a:prstGeom>
          <a:solidFill>
            <a:srgbClr val="92d05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Candara"/>
              </a:rPr>
              <a:t>9.  Вот и всё! Можно посмотреть получившийся мультфильм!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84" name="Рисунок 10" descr=""/>
          <p:cNvPicPr/>
          <p:nvPr/>
        </p:nvPicPr>
        <p:blipFill>
          <a:blip r:embed="rId1"/>
          <a:stretch/>
        </p:blipFill>
        <p:spPr>
          <a:xfrm>
            <a:off x="100080" y="82440"/>
            <a:ext cx="3468600" cy="195120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11" descr=""/>
          <p:cNvPicPr/>
          <p:nvPr/>
        </p:nvPicPr>
        <p:blipFill>
          <a:blip r:embed="rId2"/>
          <a:stretch/>
        </p:blipFill>
        <p:spPr>
          <a:xfrm>
            <a:off x="4803840" y="1693800"/>
            <a:ext cx="4000320" cy="225108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12" descr=""/>
          <p:cNvPicPr/>
          <p:nvPr/>
        </p:nvPicPr>
        <p:blipFill>
          <a:blip r:embed="rId3"/>
          <a:stretch/>
        </p:blipFill>
        <p:spPr>
          <a:xfrm>
            <a:off x="324000" y="4734000"/>
            <a:ext cx="265104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8:34:21Z</dcterms:created>
  <dc:creator>RePack by Diakov</dc:creator>
  <dc:description/>
  <dc:language>en-US</dc:language>
  <cp:lastModifiedBy>RePack by Diakov</cp:lastModifiedBy>
  <dcterms:modified xsi:type="dcterms:W3CDTF">2016-12-19T06:39:25Z</dcterms:modified>
  <cp:revision>63</cp:revision>
  <dc:subject/>
  <dc:title>Презентация PowerPoint</dc:title>
</cp:coreProperties>
</file>