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FE1-6F6C-4E86-85F4-80F8E299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6BC-3F91-48FE-96E1-4F92240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E7A-8190-4AEA-961E-C8474CDA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ADA-4D2E-45A9-BA33-A7D1E72B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C540-54CA-45EE-9227-5E5EC93D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1AE-24B9-4F73-A1B1-02A0934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70E4-6B39-407F-BB77-655A22B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8BE-A9CA-441A-B395-F1C53C5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A71D-7973-4160-9244-D7FBB484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910-922D-467C-B7AA-16B8E4B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F33-B80C-4DF7-966A-67F7E87E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769-6CA7-4A8B-B68D-92C25188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53F5-B3D6-4DEB-BD8A-AF6A1CF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285D-1456-49F9-9F6B-B014D98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822E-96E4-4C29-80C5-4FFD0A1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352E-CA00-464B-8A15-BD978E19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CF3-9ADD-431D-B92E-95B4C59A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DD99-165E-41E2-8540-AE00B9AB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46C8-B2B5-4BE1-973A-8E93412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D211-959A-4EF6-B6B5-712D6F3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65DD-3893-435E-882D-B9DB95A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F11F-72DB-40BD-991C-6E3571E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AD7-0ABB-4608-A1B7-6B532D4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17A8-BF81-4D4B-A723-73E58A9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BAA4-0607-404D-8D26-6E67853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B170-3E4D-4229-8549-2901BF4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BCD0-3FA6-4F04-B8A5-BE465F9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34C3-8FD9-413E-AE9E-505137E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A2A1-2540-43C6-A765-82EBFC5B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4CB7-8AE8-45ED-9D58-EFC3969D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0A81-C673-45F3-842A-530999BF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7CAC-FF19-4843-98A2-1FDB9406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429C-DC95-47B5-AAD7-C1C1E29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127-2F8D-4321-AACB-9BBE4159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C61E-CEDC-4EB9-885A-452778D9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09D31-5C62-4856-A4CC-3F4C6A0F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279D-4E8A-41D0-AA1D-EFA3854B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0F4B-09A8-4474-A44C-C011C95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F7B0-2F2B-47D3-8061-F8C1B7C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7712-1680-4E16-826C-7085A5EF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241E-206D-40CD-95B9-756AADD2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7CDC-5A13-4DD8-B858-26CFFE2B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E783-CBC8-481C-AD5F-1388C74A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13F8-356C-4105-82F9-73268CB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FB9-3D5C-4178-8BB1-25487C8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9F36-F90E-42CA-991E-8BE5EBD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0D4B-9D22-47C2-A591-8F8A410D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F1CD-B509-4942-A491-A89AE7D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260B-882F-4413-B56B-FAB8DA4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1477-8520-4F5F-9C60-A70236C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E24B-EDF8-4A9B-9B23-C9D245F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1D14-60DB-4BF6-B832-7387838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7949-B190-4885-AEE3-84FF600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F0282-B7C8-49DC-978C-85F11B2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8C37-15B5-49DA-8F3D-2C8A3853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9FE-2B60-46D2-B192-37DD3800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42E5-D609-4124-BC16-6FEA1875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23D87-3C41-4081-B7A8-CBE4F7DD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E779-1486-4201-8143-C042436A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EB98-5C80-446E-BEAE-3CFA7E87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0735-4950-412E-9F0D-4E09658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3E2D-0184-43C3-B90D-6DAC26EB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AF299-3854-44FB-B338-ED16F8B3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C7ED-84AB-47AD-880F-4519CD6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A063-FC7F-4241-A760-5340210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71C0-636E-4AAA-AC31-7CF0A6A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E8B-F6EF-44BF-9BF6-16BADEA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415B-0D9F-4AEB-9B9D-5561367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10CAE-CF4B-48BD-8B4B-5522E373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513F-F880-4F6C-89BD-406BE841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6335-788A-466A-B3E4-E35C0537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EA53-60E0-4876-B419-44D37E6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E30D-5BED-439A-BD28-109121C5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C9B2-11AC-472D-BE79-6223AAA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EC28-002F-4B4D-BFD3-F5408D4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73DC-1FF1-4163-A696-4595F1A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4B63-5919-4E04-9AE4-0F24A29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AE6-3ABF-4211-82E7-F576D81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B942-9985-459F-A45B-2F3B63C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94C0-0B36-4354-BB57-E1CB9A9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A59E-3E79-4821-B54C-1E8A4B4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FC8D-FB47-4305-B6FB-110F6636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A530-D764-410C-B3D3-DDE5B013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3F4-C948-44CD-B935-0AA65D3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0FE-6621-448F-A553-AD39E81750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3E5F-1186-46DA-9FEE-E9F3015D22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3D4-BBAE-4108-A0F1-6A83F5A546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054-9828-4AFB-9B36-F2445E962A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6F7-8DFC-4F43-9C5C-212F40B523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7285-A9AE-412F-99B9-93495A6139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E82-DCCE-4100-9612-504C89E2DCB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8"/>
          <p:cNvSpPr/>
          <p:nvPr/>
        </p:nvSpPr>
        <p:spPr>
          <a:xfrm>
            <a:off x="1258920" y="435924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Букашова Олеся Серге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ца 2 «Б» клас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Людо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1393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3249360" y="33336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6296"/>
                </a:solidFill>
                <a:latin typeface="Candar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38240" y="1098720"/>
            <a:ext cx="916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Arial"/>
              </a:rPr>
              <a:t>«Мой пластилиновый мультфильм»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4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6575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baf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419040" y="3191040"/>
            <a:ext cx="864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очень понравилось работать над созданием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го мультфильм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я одна полностью его не смогла бы сделать. Я хочу сказать большое спасибо моим помощникам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ме, папе, сестре Лиз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12200" y="5229360"/>
            <a:ext cx="663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Людовой Наталье Николаевне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ему научному руководителю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едоставленную помощь и информац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8800" y="549360"/>
            <a:ext cx="7848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над проектом, я узнала ещё больше о пластилине, попробовала создать пластилиновый мультфиль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твердила гипотезу проекта, что работа с пластилином – это творчество, и  каждый может научиться создавать пластилиновые мультфильм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своего проекта представляю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«Космическая дружба» - на сюжет, придуманный мно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1"/>
          <p:cNvSpPr/>
          <p:nvPr/>
        </p:nvSpPr>
        <p:spPr>
          <a:xfrm>
            <a:off x="3459240" y="1159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636120" y="104616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 проект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18840" y="1989000"/>
            <a:ext cx="656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ссказать всем о пластилине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том как с ним легко, увлекательно и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чень интересно работать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делать свой пластилиновый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84d3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464040" y="993600"/>
            <a:ext cx="44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-37080" y="2036880"/>
            <a:ext cx="9394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Выяснить, что такое пластилин, почем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 ним работать не только увлекательно,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о и очень полезно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ить, как создаются пластилиновы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мультфильм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755640" y="189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Гипотеза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бота с пластилином – это творчество, поиск новых идей и я думаю, каждый может научиться создавать пластилиновые  мультфильм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312120" y="1758960"/>
            <a:ext cx="8448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бор информации   из разных источник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готовить все необходимое для создания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ластилиновых мультфильм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. Съёмка собственного мультфильм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5219640" y="4000680"/>
            <a:ext cx="2409840" cy="1806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332000" y="3979800"/>
            <a:ext cx="28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1187280" y="765000"/>
            <a:ext cx="6481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такое пластили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971640" y="1844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ластилин это материал  для лепки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зготавливается из очищенног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тщательно размельчённого порошка глины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 добавлением воска, животного сала, вазел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других веществ, препятствующих высыхан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ычно окрашивается в разные цве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1332000" y="4152960"/>
            <a:ext cx="2952720" cy="23637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4932360" y="425124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379440" y="333360"/>
            <a:ext cx="49338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развивает пластилин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413000"/>
            <a:ext cx="539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 развивает мелкую моторику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дет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а пластилина – в самой лепке, 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 её результате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, чтобы ребёнок мял пластилин,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ывал от него кусочки, катал их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ладошкам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142920" y="4365720"/>
            <a:ext cx="5904000" cy="20239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" descr=""/>
          <p:cNvPicPr/>
          <p:nvPr/>
        </p:nvPicPr>
        <p:blipFill>
          <a:blip r:embed="rId4"/>
          <a:stretch/>
        </p:blipFill>
        <p:spPr>
          <a:xfrm>
            <a:off x="5435640" y="2365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2" descr=""/>
          <p:cNvPicPr/>
          <p:nvPr/>
        </p:nvPicPr>
        <p:blipFill>
          <a:blip r:embed="rId5"/>
          <a:stretch/>
        </p:blipFill>
        <p:spPr>
          <a:xfrm>
            <a:off x="5850000" y="292428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9220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ового мультфильм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785880" y="1773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2880" y="1916280"/>
            <a:ext cx="732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. Пластилин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. Фотоаппарат (лучше с пультом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. Штати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. Компьютер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. Программы, </a:t>
            </a: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в которых вы будете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совмещать кадры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монтировать видео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и звук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50920" y="1441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онадобитс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4427640" y="1508040"/>
            <a:ext cx="116820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6372360" y="1460520"/>
            <a:ext cx="1882800" cy="24987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3"/>
          <a:stretch/>
        </p:blipFill>
        <p:spPr>
          <a:xfrm>
            <a:off x="5092560" y="287640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"/>
          <p:cNvPicPr/>
          <p:nvPr/>
        </p:nvPicPr>
        <p:blipFill>
          <a:blip r:embed="rId4"/>
          <a:stretch/>
        </p:blipFill>
        <p:spPr>
          <a:xfrm>
            <a:off x="3625920" y="4149720"/>
            <a:ext cx="44258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b87d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блако 1"/>
          <p:cNvSpPr/>
          <p:nvPr/>
        </p:nvSpPr>
        <p:spPr>
          <a:xfrm>
            <a:off x="108000" y="549360"/>
            <a:ext cx="3295440" cy="127296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Придумываю свой сюжет. (можно взять любую сказку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87280" y="130320"/>
            <a:ext cx="72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Я снимаю      свой        собственный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мультфильм –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«Космическая дружба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Облако 3"/>
          <p:cNvSpPr/>
          <p:nvPr/>
        </p:nvSpPr>
        <p:spPr>
          <a:xfrm>
            <a:off x="2152800" y="1830240"/>
            <a:ext cx="2665440" cy="110664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Леплю героев и создаю декорации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Облако 4"/>
          <p:cNvSpPr/>
          <p:nvPr/>
        </p:nvSpPr>
        <p:spPr>
          <a:xfrm>
            <a:off x="25560" y="3260880"/>
            <a:ext cx="2506680" cy="127296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сставляю декорации и героев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Облако 5"/>
          <p:cNvSpPr/>
          <p:nvPr/>
        </p:nvSpPr>
        <p:spPr>
          <a:xfrm>
            <a:off x="3635280" y="5083200"/>
            <a:ext cx="3148200" cy="127332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Фотографирую, меняю положение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Штриховая стрелка вправо 12"/>
          <p:cNvSpPr/>
          <p:nvPr/>
        </p:nvSpPr>
        <p:spPr>
          <a:xfrm flipH="1" rot="20559600">
            <a:off x="1634760" y="2793960"/>
            <a:ext cx="1216080" cy="406080"/>
          </a:xfrm>
          <a:custGeom>
            <a:avLst/>
            <a:gdLst/>
            <a:ahLst/>
            <a:rect l="l" t="t" r="r" b="b"/>
            <a:pathLst>
              <a:path w="1216025" h="406400">
                <a:moveTo>
                  <a:pt x="0" y="101600"/>
                </a:moveTo>
                <a:lnTo>
                  <a:pt x="12700" y="101600"/>
                </a:lnTo>
                <a:lnTo>
                  <a:pt x="12700" y="304800"/>
                </a:lnTo>
                <a:lnTo>
                  <a:pt x="0" y="304800"/>
                </a:lnTo>
                <a:lnTo>
                  <a:pt x="0" y="101600"/>
                </a:lnTo>
                <a:close/>
                <a:moveTo>
                  <a:pt x="25400" y="101600"/>
                </a:moveTo>
                <a:lnTo>
                  <a:pt x="50800" y="101600"/>
                </a:lnTo>
                <a:lnTo>
                  <a:pt x="50800" y="304800"/>
                </a:lnTo>
                <a:lnTo>
                  <a:pt x="25400" y="304800"/>
                </a:lnTo>
                <a:lnTo>
                  <a:pt x="25400" y="101600"/>
                </a:lnTo>
                <a:close/>
                <a:moveTo>
                  <a:pt x="63500" y="101600"/>
                </a:moveTo>
                <a:lnTo>
                  <a:pt x="1012825" y="101600"/>
                </a:lnTo>
                <a:lnTo>
                  <a:pt x="1012825" y="0"/>
                </a:lnTo>
                <a:lnTo>
                  <a:pt x="1216025" y="203200"/>
                </a:lnTo>
                <a:lnTo>
                  <a:pt x="1012825" y="406400"/>
                </a:lnTo>
                <a:lnTo>
                  <a:pt x="1012825" y="304800"/>
                </a:lnTo>
                <a:lnTo>
                  <a:pt x="63500" y="304800"/>
                </a:lnTo>
                <a:lnTo>
                  <a:pt x="63500" y="10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0" name="Штриховая стрелка вправо 14"/>
          <p:cNvSpPr/>
          <p:nvPr/>
        </p:nvSpPr>
        <p:spPr>
          <a:xfrm rot="1258200">
            <a:off x="1557000" y="4400640"/>
            <a:ext cx="2865240" cy="280800"/>
          </a:xfrm>
          <a:custGeom>
            <a:avLst/>
            <a:gdLst/>
            <a:ahLst/>
            <a:rect l="l" t="t" r="r" b="b"/>
            <a:pathLst>
              <a:path w="2865437" h="280988">
                <a:moveTo>
                  <a:pt x="0" y="70247"/>
                </a:moveTo>
                <a:lnTo>
                  <a:pt x="8781" y="70247"/>
                </a:lnTo>
                <a:lnTo>
                  <a:pt x="8781" y="210741"/>
                </a:lnTo>
                <a:lnTo>
                  <a:pt x="0" y="210741"/>
                </a:lnTo>
                <a:lnTo>
                  <a:pt x="0" y="70247"/>
                </a:lnTo>
                <a:close/>
                <a:moveTo>
                  <a:pt x="17562" y="70247"/>
                </a:moveTo>
                <a:lnTo>
                  <a:pt x="35124" y="70247"/>
                </a:lnTo>
                <a:lnTo>
                  <a:pt x="35124" y="210741"/>
                </a:lnTo>
                <a:lnTo>
                  <a:pt x="17562" y="210741"/>
                </a:lnTo>
                <a:lnTo>
                  <a:pt x="17562" y="70247"/>
                </a:lnTo>
                <a:close/>
                <a:moveTo>
                  <a:pt x="43904" y="70247"/>
                </a:moveTo>
                <a:lnTo>
                  <a:pt x="2724943" y="70247"/>
                </a:lnTo>
                <a:lnTo>
                  <a:pt x="2724943" y="0"/>
                </a:lnTo>
                <a:lnTo>
                  <a:pt x="2865437" y="140494"/>
                </a:lnTo>
                <a:lnTo>
                  <a:pt x="2724943" y="280988"/>
                </a:lnTo>
                <a:lnTo>
                  <a:pt x="2724943" y="210741"/>
                </a:lnTo>
                <a:lnTo>
                  <a:pt x="43904" y="210741"/>
                </a:lnTo>
                <a:lnTo>
                  <a:pt x="43904" y="7024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Штриховая стрелка вправо 18"/>
          <p:cNvSpPr/>
          <p:nvPr/>
        </p:nvSpPr>
        <p:spPr>
          <a:xfrm rot="3082200">
            <a:off x="2727000" y="1404720"/>
            <a:ext cx="1444680" cy="295200"/>
          </a:xfrm>
          <a:custGeom>
            <a:avLst/>
            <a:gdLst/>
            <a:ahLst/>
            <a:rect l="l" t="t" r="r" b="b"/>
            <a:pathLst>
              <a:path w="1444625" h="295275">
                <a:moveTo>
                  <a:pt x="0" y="73819"/>
                </a:moveTo>
                <a:lnTo>
                  <a:pt x="9227" y="73819"/>
                </a:lnTo>
                <a:lnTo>
                  <a:pt x="9227" y="221456"/>
                </a:lnTo>
                <a:lnTo>
                  <a:pt x="0" y="221456"/>
                </a:lnTo>
                <a:lnTo>
                  <a:pt x="0" y="73819"/>
                </a:lnTo>
                <a:close/>
                <a:moveTo>
                  <a:pt x="18455" y="73819"/>
                </a:moveTo>
                <a:lnTo>
                  <a:pt x="36909" y="73819"/>
                </a:lnTo>
                <a:lnTo>
                  <a:pt x="36909" y="221456"/>
                </a:lnTo>
                <a:lnTo>
                  <a:pt x="18455" y="221456"/>
                </a:lnTo>
                <a:lnTo>
                  <a:pt x="18455" y="73819"/>
                </a:lnTo>
                <a:close/>
                <a:moveTo>
                  <a:pt x="46137" y="73819"/>
                </a:moveTo>
                <a:lnTo>
                  <a:pt x="1296988" y="73819"/>
                </a:lnTo>
                <a:lnTo>
                  <a:pt x="1296988" y="0"/>
                </a:lnTo>
                <a:lnTo>
                  <a:pt x="1444625" y="147638"/>
                </a:lnTo>
                <a:lnTo>
                  <a:pt x="1296988" y="295275"/>
                </a:lnTo>
                <a:lnTo>
                  <a:pt x="1296988" y="221456"/>
                </a:lnTo>
                <a:lnTo>
                  <a:pt x="46137" y="221456"/>
                </a:lnTo>
                <a:lnTo>
                  <a:pt x="46137" y="73819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4767120" y="789120"/>
            <a:ext cx="3668760" cy="20635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9" descr=""/>
          <p:cNvPicPr/>
          <p:nvPr/>
        </p:nvPicPr>
        <p:blipFill>
          <a:blip r:embed="rId2"/>
          <a:stretch/>
        </p:blipFill>
        <p:spPr>
          <a:xfrm>
            <a:off x="4211640" y="2936880"/>
            <a:ext cx="340344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0" descr=""/>
          <p:cNvPicPr/>
          <p:nvPr/>
        </p:nvPicPr>
        <p:blipFill>
          <a:blip r:embed="rId3"/>
          <a:stretch/>
        </p:blipFill>
        <p:spPr>
          <a:xfrm>
            <a:off x="244440" y="4829040"/>
            <a:ext cx="31654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b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Облако 1"/>
          <p:cNvSpPr/>
          <p:nvPr/>
        </p:nvSpPr>
        <p:spPr>
          <a:xfrm>
            <a:off x="1157400" y="3403440"/>
            <a:ext cx="2394000" cy="1274760"/>
          </a:xfrm>
          <a:prstGeom prst="pie">
            <a:avLst/>
          </a:prstGeom>
          <a:solidFill>
            <a:srgbClr val="32ae51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 Делаем заставку в начале мультик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Облако 2"/>
          <p:cNvSpPr/>
          <p:nvPr/>
        </p:nvSpPr>
        <p:spPr>
          <a:xfrm>
            <a:off x="4803840" y="101520"/>
            <a:ext cx="3090960" cy="141768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  Располагаем снимки по поряд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грам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gas video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Штриховая стрелка вправо 3"/>
          <p:cNvSpPr/>
          <p:nvPr/>
        </p:nvSpPr>
        <p:spPr>
          <a:xfrm rot="19998000">
            <a:off x="2424240" y="1771200"/>
            <a:ext cx="3009600" cy="339840"/>
          </a:xfrm>
          <a:custGeom>
            <a:avLst/>
            <a:gdLst/>
            <a:ahLst/>
            <a:rect l="l" t="t" r="r" b="b"/>
            <a:pathLst>
              <a:path w="3009900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2840038" y="84931"/>
                </a:lnTo>
                <a:lnTo>
                  <a:pt x="2840038" y="0"/>
                </a:lnTo>
                <a:lnTo>
                  <a:pt x="3009900" y="169863"/>
                </a:lnTo>
                <a:lnTo>
                  <a:pt x="2840038" y="339725"/>
                </a:lnTo>
                <a:lnTo>
                  <a:pt x="2840038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Облако 4"/>
          <p:cNvSpPr/>
          <p:nvPr/>
        </p:nvSpPr>
        <p:spPr>
          <a:xfrm>
            <a:off x="206280" y="2133720"/>
            <a:ext cx="2535480" cy="1272960"/>
          </a:xfrm>
          <a:prstGeom prst="pie">
            <a:avLst/>
          </a:pr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 Опять фотографирую и так дале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Штриховая стрелка вправо 5"/>
          <p:cNvSpPr/>
          <p:nvPr/>
        </p:nvSpPr>
        <p:spPr>
          <a:xfrm>
            <a:off x="3697200" y="480960"/>
            <a:ext cx="978120" cy="486000"/>
          </a:xfrm>
          <a:custGeom>
            <a:avLst/>
            <a:gdLst/>
            <a:ahLst/>
            <a:rect l="l" t="t" r="r" b="b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Штриховая стрелка вправо 6"/>
          <p:cNvSpPr/>
          <p:nvPr/>
        </p:nvSpPr>
        <p:spPr>
          <a:xfrm rot="9156600">
            <a:off x="3579840" y="3336480"/>
            <a:ext cx="1130400" cy="486000"/>
          </a:xfrm>
          <a:custGeom>
            <a:avLst/>
            <a:gdLst/>
            <a:ahLst/>
            <a:rect l="l" t="t" r="r" b="b"/>
            <a:pathLst>
              <a:path w="11303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887413" y="121444"/>
                </a:lnTo>
                <a:lnTo>
                  <a:pt x="887413" y="0"/>
                </a:lnTo>
                <a:lnTo>
                  <a:pt x="1130300" y="242888"/>
                </a:lnTo>
                <a:lnTo>
                  <a:pt x="887413" y="485775"/>
                </a:lnTo>
                <a:lnTo>
                  <a:pt x="8874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Облако 7"/>
          <p:cNvSpPr/>
          <p:nvPr/>
        </p:nvSpPr>
        <p:spPr>
          <a:xfrm>
            <a:off x="3235320" y="4995720"/>
            <a:ext cx="2879640" cy="146700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 Записываем зву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кладываем музы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Штриховая стрелка вправо 8"/>
          <p:cNvSpPr/>
          <p:nvPr/>
        </p:nvSpPr>
        <p:spPr>
          <a:xfrm rot="2002200">
            <a:off x="3058920" y="4214880"/>
            <a:ext cx="1447560" cy="485640"/>
          </a:xfrm>
          <a:custGeom>
            <a:avLst/>
            <a:gdLst/>
            <a:ahLst/>
            <a:rect l="l" t="t" r="r" b="b"/>
            <a:pathLst>
              <a:path w="14478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1204913" y="121444"/>
                </a:lnTo>
                <a:lnTo>
                  <a:pt x="1204913" y="0"/>
                </a:lnTo>
                <a:lnTo>
                  <a:pt x="1447800" y="242888"/>
                </a:lnTo>
                <a:lnTo>
                  <a:pt x="1204913" y="485775"/>
                </a:lnTo>
                <a:lnTo>
                  <a:pt x="12049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Облако 9"/>
          <p:cNvSpPr/>
          <p:nvPr/>
        </p:nvSpPr>
        <p:spPr>
          <a:xfrm>
            <a:off x="6181560" y="4437000"/>
            <a:ext cx="2592720" cy="183204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ndara"/>
              </a:rPr>
              <a:t>9.  Вот и всё! Можно посмотреть получившийся мультфильм!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Рисунок 10" descr=""/>
          <p:cNvPicPr/>
          <p:nvPr/>
        </p:nvPicPr>
        <p:blipFill>
          <a:blip r:embed="rId1"/>
          <a:stretch/>
        </p:blipFill>
        <p:spPr>
          <a:xfrm>
            <a:off x="100080" y="8244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1" descr=""/>
          <p:cNvPicPr/>
          <p:nvPr/>
        </p:nvPicPr>
        <p:blipFill>
          <a:blip r:embed="rId2"/>
          <a:stretch/>
        </p:blipFill>
        <p:spPr>
          <a:xfrm>
            <a:off x="4803840" y="1693800"/>
            <a:ext cx="4000320" cy="2251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2" descr=""/>
          <p:cNvPicPr/>
          <p:nvPr/>
        </p:nvPicPr>
        <p:blipFill>
          <a:blip r:embed="rId3"/>
          <a:stretch/>
        </p:blipFill>
        <p:spPr>
          <a:xfrm>
            <a:off x="324000" y="4734000"/>
            <a:ext cx="2651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8:34:21Z</dcterms:created>
  <dc:creator>RePack by Diakov</dc:creator>
  <dc:description/>
  <dc:language>en-US</dc:language>
  <cp:lastModifiedBy>RePack by Diakov</cp:lastModifiedBy>
  <dcterms:modified xsi:type="dcterms:W3CDTF">2016-12-19T06:39:25Z</dcterms:modified>
  <cp:revision>63</cp:revision>
  <dc:subject/>
  <dc:title>Презентация PowerPoint</dc:title>
</cp:coreProperties>
</file>