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D53-4214-4D0E-9C00-996BEC47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4F9-2997-4154-AD06-393C722E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691-68F5-4812-9CDD-4B73B944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A44-1DB6-4C22-9E3D-3FEFD069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B585-0E0E-4704-A6CE-6387BFC2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0CC5-19E5-4E32-9A7B-2213BE2D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26EE-F4B6-4FFC-B6D6-4C66F4B0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1469-CF45-4D0A-93D8-F294D716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2BDE-FB4C-47F1-8B48-FC7D69D1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2A8A-1620-425E-8805-8E37DC82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3516-3097-4957-B5FB-F326CD3E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5CA-56CB-43EE-AC58-AE70557F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EB13-0707-4609-A851-857E45C5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FB69-24DB-4290-8754-E8577ABD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5E61-3DDF-436D-961A-CC2A1560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F22C-C4FE-45FD-8BA5-87FE32E2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B1CC-B41A-49C7-9F0D-4E26F532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0DDF-4D7E-425A-919E-470F9EE6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02893-4EFE-403F-85FD-0177980F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6108E-5D03-4CE4-AD67-760DB1D1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97C9-F1F4-4052-B4DA-AA5EDE27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8ACF4-5CC2-4D7B-8BA5-EAA2C81F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553-A019-49E6-B2C8-2E053400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00DFE-8708-43A8-AFF9-85C7DB9D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2C227-7C02-41C6-BAAF-395F7CF0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14C98-85ED-4F51-AEA0-47F45567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EF82-7C8E-491F-B951-0CD108CA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0244-08C1-4FB9-AEEA-152F5F95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52553-634F-4572-B75A-9D2CD280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5F02-3EEB-4335-B0D4-8EEAE6A0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C28B2-167E-44F4-BDA7-1066E1F9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49337-9991-4A09-B742-E7531992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CE1EA-0EFD-4653-94DA-20C55635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0C5-F6EE-49BB-81D0-4992335A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01ACB-2978-45A4-BBFE-913B06A7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67AA-447B-41BD-8074-453A4FEE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49E6B-997F-40CE-B431-0093B436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EE10-306A-4FDA-94CC-DF4B048D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CF8F9-963F-4DA5-A4F7-C962AB75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B396-8BC3-4525-92C1-CBF689B8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0DD4A-D4EF-4CF1-A9FB-0D82BF06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ECD3-DD9E-4366-9B27-82AF1EC3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86D3D-5E77-4913-A81A-61A2CDD7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8D10B-C779-4E31-9056-944FCF6C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4DA-C767-4AC2-A9A1-ABA349AE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82A07-3DEB-484B-A31F-147073F3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EC8E7-D74A-4A6A-AE43-CE8F5EA7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061A2-A4E0-47A7-BCFE-C3E43FC2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B0D5D-F2F4-4F10-A501-175C2756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2D9A3-9DF3-417A-BF4F-BCC6F51D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AA42A-34F5-46F2-AB16-E113EC57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6A94D-9FF4-423C-BA9A-865C6546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0B38-9C4D-489D-97E6-96EBACF4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5306-7169-4A9B-B77F-C9771D4E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EA10-C0F9-4AA4-9E37-1A7F2F6D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D9E-236C-4A84-8736-7CAE3624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B227E-DA10-4650-889A-0F6E3EAA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46DD8-2164-4311-8339-67F4489F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CFD12-5675-4438-9A4D-30E7B87B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3C22D-031B-4C67-ABE9-3F2760AE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85F59-93D3-49FD-890B-7AFDBD9C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76330-605A-4F3A-9778-7FE57FFD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C23A6-D845-4A65-A39F-E1AF33A6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7FF0B-8040-4A1A-A830-BA5C979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1D4FA-1377-4A3B-AF26-DD5238D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349BF-913C-4994-B9DC-1442B6C7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3FE-43BF-48F1-B85A-251540FC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AA71F-DCC3-40F1-A803-79DBA3AC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24D7B-056B-4C77-9575-FB9F1BBB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4655D-36FA-42B2-8658-94620D56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96E2E-5F5C-44AD-9AF7-A2411E8A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B500A-2E6F-4217-9E8D-248A4B77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D5B73-11D3-4DFA-B9D1-248CE11C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B72B4-A9AD-4803-B026-3CDDDEED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439E0-30D0-492F-9545-05EF9EF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1E401-BC40-4B20-9E3F-1B72C364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14CDE-FA28-4058-9513-41CF132E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CFE-61B2-44D1-BB41-7E3A6E37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07694-6CFF-438D-8C2B-DDDEAD3F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00A8B-640F-48B6-8206-BD13426E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15EF2-D410-4A9D-B3F2-18323FEF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53A39-A13B-4CF3-8031-715B8825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FEFB4-CE4F-46B0-9020-2769FBCE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410-9545-49D2-98E7-80A5EB54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A545-B09D-4937-965C-A3777FBE2AA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DE01-C7D5-4F08-B11E-470E413E161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FEDD-44BB-4248-856B-060476B6156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1F5F-E6BF-4398-9C0A-76BBA665A7A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2361-852A-4AC5-8238-8EF3EEE297C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8F24-4457-4374-B0FC-A9259FBE5FB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165A-A54C-4FF8-961B-2F582846A00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d4ff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8"/>
          <p:cNvSpPr/>
          <p:nvPr/>
        </p:nvSpPr>
        <p:spPr>
          <a:xfrm>
            <a:off x="1258920" y="4359240"/>
            <a:ext cx="6696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втор: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Arial"/>
              </a:rPr>
              <a:t>Букашова Олеся Сергеевна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ца 2 «Б» класс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учный руководитель 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Arial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Arial"/>
              </a:rPr>
              <a:t>Людова Наталья Николаевна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№1393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3249360" y="33336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6296"/>
                </a:solidFill>
                <a:latin typeface="Candara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138240" y="1098720"/>
            <a:ext cx="9161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  <a:ea typeface="Arial"/>
              </a:rPr>
              <a:t>«Мой пластилиновый мультфильм»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8" name="Рисунок 4" descr=""/>
          <p:cNvPicPr/>
          <p:nvPr/>
        </p:nvPicPr>
        <p:blipFill>
          <a:blip r:embed="rId1"/>
          <a:stretch/>
        </p:blipFill>
        <p:spPr>
          <a:xfrm>
            <a:off x="3132000" y="2276640"/>
            <a:ext cx="265752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bbaf6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2"/>
          <p:cNvSpPr/>
          <p:nvPr/>
        </p:nvSpPr>
        <p:spPr>
          <a:xfrm>
            <a:off x="419040" y="3191040"/>
            <a:ext cx="8640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е очень понравилось работать над созданием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ого мультфильм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ечно, я одна полностью его не смогла бы сделать. Я хочу сказать большое спасибо моим помощникам 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аме, папе, сестре Лизе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412200" y="5229360"/>
            <a:ext cx="663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Людовой Наталье Николаевне,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моему научному руководителю,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 предоставленную помощь и информацию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88800" y="549360"/>
            <a:ext cx="78487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работе над проектом, я узнала ещё больше о пластилине, попробовала создать пластилиновый мультфильм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твердила гипотезу проекта, что работа с пластилином – это творчество, и  каждый может научиться создавать пластилиновые мультфильмы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м своего проекта представляю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льтфильм «Космическая дружба» - на сюжет, придуманный мной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TextBox 1"/>
          <p:cNvSpPr/>
          <p:nvPr/>
        </p:nvSpPr>
        <p:spPr>
          <a:xfrm>
            <a:off x="3459240" y="11592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d4ff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636120" y="1046160"/>
            <a:ext cx="32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Цель проекта: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618840" y="1989000"/>
            <a:ext cx="656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рассказать всем о пластилине,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 том как с ним легко, увлекательно и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чень интересно работать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Сделать свой пластилиновый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ультфильм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84d3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3"/>
          <p:cNvSpPr/>
          <p:nvPr/>
        </p:nvSpPr>
        <p:spPr>
          <a:xfrm>
            <a:off x="464040" y="993600"/>
            <a:ext cx="44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-37080" y="2036880"/>
            <a:ext cx="9394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Выяснить, что такое пластилин, почему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с ним работать не только увлекательно,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но и очень полезно!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Изучить, как создаются пластилиновые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мультфильмы.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755640" y="18900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Гипотеза 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Работа с пластилином – это творчество, поиск новых идей и я думаю, каждый может научиться создавать пластилиновые  мультфильмы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4" name="TextBox 3"/>
          <p:cNvSpPr/>
          <p:nvPr/>
        </p:nvSpPr>
        <p:spPr>
          <a:xfrm>
            <a:off x="312120" y="1758960"/>
            <a:ext cx="8448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Сбор информации   из разных источников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риготовить все необходимое для создания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ластилиновых мультфильмов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4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. Съёмка собственного мультфильма.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5" name="Рисунок 2" descr=""/>
          <p:cNvPicPr/>
          <p:nvPr/>
        </p:nvPicPr>
        <p:blipFill>
          <a:blip r:embed="rId1"/>
          <a:stretch/>
        </p:blipFill>
        <p:spPr>
          <a:xfrm>
            <a:off x="5219640" y="4000680"/>
            <a:ext cx="2409840" cy="18064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"/>
          <p:cNvPicPr/>
          <p:nvPr/>
        </p:nvPicPr>
        <p:blipFill>
          <a:blip r:embed="rId2"/>
          <a:stretch/>
        </p:blipFill>
        <p:spPr>
          <a:xfrm>
            <a:off x="1332000" y="3979800"/>
            <a:ext cx="28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5"/>
          <p:cNvSpPr txBox="1"/>
          <p:nvPr/>
        </p:nvSpPr>
        <p:spPr>
          <a:xfrm>
            <a:off x="1187280" y="765000"/>
            <a:ext cx="64818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то такое пластилин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971640" y="1844640"/>
            <a:ext cx="72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Пластилин это материал  для лепки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зготавливается из очищенного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 тщательно размельчённого порошка глины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 добавлением воска, животного сала, вазелин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 других веществ, препятствующих высыханию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Обычно окрашивается в разные цвет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1332000" y="4152960"/>
            <a:ext cx="2952720" cy="23637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2" descr=""/>
          <p:cNvPicPr/>
          <p:nvPr/>
        </p:nvPicPr>
        <p:blipFill>
          <a:blip r:embed="rId2"/>
          <a:stretch/>
        </p:blipFill>
        <p:spPr>
          <a:xfrm>
            <a:off x="4932360" y="4251240"/>
            <a:ext cx="216684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2"/>
          <p:cNvSpPr txBox="1"/>
          <p:nvPr/>
        </p:nvSpPr>
        <p:spPr>
          <a:xfrm>
            <a:off x="379440" y="333360"/>
            <a:ext cx="49338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0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развивает пластилин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95280" y="1413000"/>
            <a:ext cx="5398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стилин развивает мелкую моторику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детей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льза пластилина – в самой лепке, 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в её результате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жно, чтобы ребёнок мял пластилин,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рывал от него кусочки, катал их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ду ладошками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3"/>
          <a:stretch/>
        </p:blipFill>
        <p:spPr>
          <a:xfrm>
            <a:off x="142920" y="4365720"/>
            <a:ext cx="5904000" cy="202392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" descr=""/>
          <p:cNvPicPr/>
          <p:nvPr/>
        </p:nvPicPr>
        <p:blipFill>
          <a:blip r:embed="rId4"/>
          <a:stretch/>
        </p:blipFill>
        <p:spPr>
          <a:xfrm>
            <a:off x="5435640" y="236520"/>
            <a:ext cx="3479760" cy="26100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2" descr=""/>
          <p:cNvPicPr/>
          <p:nvPr/>
        </p:nvPicPr>
        <p:blipFill>
          <a:blip r:embed="rId5"/>
          <a:stretch/>
        </p:blipFill>
        <p:spPr>
          <a:xfrm>
            <a:off x="5850000" y="2924280"/>
            <a:ext cx="30718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3acf8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592200" y="260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создания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ластилинового мультфильма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785880" y="1773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272880" y="1916280"/>
            <a:ext cx="7323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1. Пластилин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2. Фотоаппарат (лучше с пультом)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3. Штатив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4. Компьютер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5. Программы, </a:t>
            </a: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в которых вы будете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совмещать кадры,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монтировать видео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502"/>
                </a:solidFill>
                <a:latin typeface="Candara"/>
              </a:rPr>
              <a:t>и звук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Прямоугольник 1"/>
          <p:cNvSpPr/>
          <p:nvPr/>
        </p:nvSpPr>
        <p:spPr>
          <a:xfrm>
            <a:off x="250920" y="14414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понадобится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0" name="Рисунок 1" descr=""/>
          <p:cNvPicPr/>
          <p:nvPr/>
        </p:nvPicPr>
        <p:blipFill>
          <a:blip r:embed="rId1"/>
          <a:stretch/>
        </p:blipFill>
        <p:spPr>
          <a:xfrm>
            <a:off x="4427640" y="1508040"/>
            <a:ext cx="1168200" cy="936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4" descr=""/>
          <p:cNvPicPr/>
          <p:nvPr/>
        </p:nvPicPr>
        <p:blipFill>
          <a:blip r:embed="rId2"/>
          <a:stretch/>
        </p:blipFill>
        <p:spPr>
          <a:xfrm>
            <a:off x="6372360" y="1460520"/>
            <a:ext cx="1882800" cy="249876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5" descr=""/>
          <p:cNvPicPr/>
          <p:nvPr/>
        </p:nvPicPr>
        <p:blipFill>
          <a:blip r:embed="rId3"/>
          <a:stretch/>
        </p:blipFill>
        <p:spPr>
          <a:xfrm>
            <a:off x="5092560" y="2876400"/>
            <a:ext cx="1008360" cy="7574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"/>
          <p:cNvPicPr/>
          <p:nvPr/>
        </p:nvPicPr>
        <p:blipFill>
          <a:blip r:embed="rId4"/>
          <a:stretch/>
        </p:blipFill>
        <p:spPr>
          <a:xfrm>
            <a:off x="3625920" y="4149720"/>
            <a:ext cx="44258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b87d6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Облако 1"/>
          <p:cNvSpPr/>
          <p:nvPr/>
        </p:nvSpPr>
        <p:spPr>
          <a:xfrm>
            <a:off x="108000" y="549360"/>
            <a:ext cx="3295440" cy="1272960"/>
          </a:xfrm>
          <a:prstGeom prst="pie">
            <a:avLst/>
          </a:prstGeom>
          <a:solidFill>
            <a:srgbClr val="cae67b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  Придумываю свой сюжет. (можно взять любую сказку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187280" y="130320"/>
            <a:ext cx="72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Я снимаю      свой        собственный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мультфильм –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«Космическая дружба»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Облако 3"/>
          <p:cNvSpPr/>
          <p:nvPr/>
        </p:nvSpPr>
        <p:spPr>
          <a:xfrm>
            <a:off x="2152800" y="1830240"/>
            <a:ext cx="2665440" cy="1106640"/>
          </a:xfrm>
          <a:prstGeom prst="pie">
            <a:avLst/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 Леплю героев и создаю декорации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7" name="Облако 4"/>
          <p:cNvSpPr/>
          <p:nvPr/>
        </p:nvSpPr>
        <p:spPr>
          <a:xfrm>
            <a:off x="25560" y="3260880"/>
            <a:ext cx="2506680" cy="1272960"/>
          </a:xfrm>
          <a:prstGeom prst="pie">
            <a:avLst/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 Расставляю декорации и героев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8" name="Облако 5"/>
          <p:cNvSpPr/>
          <p:nvPr/>
        </p:nvSpPr>
        <p:spPr>
          <a:xfrm>
            <a:off x="3635280" y="5083200"/>
            <a:ext cx="3148200" cy="1273320"/>
          </a:xfrm>
          <a:prstGeom prst="pie">
            <a:avLst/>
          </a:prstGeom>
          <a:solidFill>
            <a:srgbClr val="cae67b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 Фотографирую, меняю положение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9" name="Штриховая стрелка вправо 12"/>
          <p:cNvSpPr/>
          <p:nvPr/>
        </p:nvSpPr>
        <p:spPr>
          <a:xfrm flipH="1" rot="20559600">
            <a:off x="1634760" y="2793960"/>
            <a:ext cx="1216080" cy="406080"/>
          </a:xfrm>
          <a:custGeom>
            <a:avLst/>
            <a:gdLst/>
            <a:ahLst/>
            <a:rect l="l" t="t" r="r" b="b"/>
            <a:pathLst>
              <a:path w="1216025" h="406400">
                <a:moveTo>
                  <a:pt x="0" y="101600"/>
                </a:moveTo>
                <a:lnTo>
                  <a:pt x="12700" y="101600"/>
                </a:lnTo>
                <a:lnTo>
                  <a:pt x="12700" y="304800"/>
                </a:lnTo>
                <a:lnTo>
                  <a:pt x="0" y="304800"/>
                </a:lnTo>
                <a:lnTo>
                  <a:pt x="0" y="101600"/>
                </a:lnTo>
                <a:close/>
                <a:moveTo>
                  <a:pt x="25400" y="101600"/>
                </a:moveTo>
                <a:lnTo>
                  <a:pt x="50800" y="101600"/>
                </a:lnTo>
                <a:lnTo>
                  <a:pt x="50800" y="304800"/>
                </a:lnTo>
                <a:lnTo>
                  <a:pt x="25400" y="304800"/>
                </a:lnTo>
                <a:lnTo>
                  <a:pt x="25400" y="101600"/>
                </a:lnTo>
                <a:close/>
                <a:moveTo>
                  <a:pt x="63500" y="101600"/>
                </a:moveTo>
                <a:lnTo>
                  <a:pt x="1012825" y="101600"/>
                </a:lnTo>
                <a:lnTo>
                  <a:pt x="1012825" y="0"/>
                </a:lnTo>
                <a:lnTo>
                  <a:pt x="1216025" y="203200"/>
                </a:lnTo>
                <a:lnTo>
                  <a:pt x="1012825" y="406400"/>
                </a:lnTo>
                <a:lnTo>
                  <a:pt x="1012825" y="304800"/>
                </a:lnTo>
                <a:lnTo>
                  <a:pt x="63500" y="304800"/>
                </a:lnTo>
                <a:lnTo>
                  <a:pt x="63500" y="1016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0" name="Штриховая стрелка вправо 14"/>
          <p:cNvSpPr/>
          <p:nvPr/>
        </p:nvSpPr>
        <p:spPr>
          <a:xfrm rot="1258200">
            <a:off x="1557000" y="4400640"/>
            <a:ext cx="2865240" cy="280800"/>
          </a:xfrm>
          <a:custGeom>
            <a:avLst/>
            <a:gdLst/>
            <a:ahLst/>
            <a:rect l="l" t="t" r="r" b="b"/>
            <a:pathLst>
              <a:path w="2865437" h="280988">
                <a:moveTo>
                  <a:pt x="0" y="70247"/>
                </a:moveTo>
                <a:lnTo>
                  <a:pt x="8781" y="70247"/>
                </a:lnTo>
                <a:lnTo>
                  <a:pt x="8781" y="210741"/>
                </a:lnTo>
                <a:lnTo>
                  <a:pt x="0" y="210741"/>
                </a:lnTo>
                <a:lnTo>
                  <a:pt x="0" y="70247"/>
                </a:lnTo>
                <a:close/>
                <a:moveTo>
                  <a:pt x="17562" y="70247"/>
                </a:moveTo>
                <a:lnTo>
                  <a:pt x="35124" y="70247"/>
                </a:lnTo>
                <a:lnTo>
                  <a:pt x="35124" y="210741"/>
                </a:lnTo>
                <a:lnTo>
                  <a:pt x="17562" y="210741"/>
                </a:lnTo>
                <a:lnTo>
                  <a:pt x="17562" y="70247"/>
                </a:lnTo>
                <a:close/>
                <a:moveTo>
                  <a:pt x="43904" y="70247"/>
                </a:moveTo>
                <a:lnTo>
                  <a:pt x="2724943" y="70247"/>
                </a:lnTo>
                <a:lnTo>
                  <a:pt x="2724943" y="0"/>
                </a:lnTo>
                <a:lnTo>
                  <a:pt x="2865437" y="140494"/>
                </a:lnTo>
                <a:lnTo>
                  <a:pt x="2724943" y="280988"/>
                </a:lnTo>
                <a:lnTo>
                  <a:pt x="2724943" y="210741"/>
                </a:lnTo>
                <a:lnTo>
                  <a:pt x="43904" y="210741"/>
                </a:lnTo>
                <a:lnTo>
                  <a:pt x="43904" y="70247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1" name="Штриховая стрелка вправо 18"/>
          <p:cNvSpPr/>
          <p:nvPr/>
        </p:nvSpPr>
        <p:spPr>
          <a:xfrm rot="3082200">
            <a:off x="2727000" y="1404720"/>
            <a:ext cx="1444680" cy="295200"/>
          </a:xfrm>
          <a:custGeom>
            <a:avLst/>
            <a:gdLst/>
            <a:ahLst/>
            <a:rect l="l" t="t" r="r" b="b"/>
            <a:pathLst>
              <a:path w="1444625" h="295275">
                <a:moveTo>
                  <a:pt x="0" y="73819"/>
                </a:moveTo>
                <a:lnTo>
                  <a:pt x="9227" y="73819"/>
                </a:lnTo>
                <a:lnTo>
                  <a:pt x="9227" y="221456"/>
                </a:lnTo>
                <a:lnTo>
                  <a:pt x="0" y="221456"/>
                </a:lnTo>
                <a:lnTo>
                  <a:pt x="0" y="73819"/>
                </a:lnTo>
                <a:close/>
                <a:moveTo>
                  <a:pt x="18455" y="73819"/>
                </a:moveTo>
                <a:lnTo>
                  <a:pt x="36909" y="73819"/>
                </a:lnTo>
                <a:lnTo>
                  <a:pt x="36909" y="221456"/>
                </a:lnTo>
                <a:lnTo>
                  <a:pt x="18455" y="221456"/>
                </a:lnTo>
                <a:lnTo>
                  <a:pt x="18455" y="73819"/>
                </a:lnTo>
                <a:close/>
                <a:moveTo>
                  <a:pt x="46137" y="73819"/>
                </a:moveTo>
                <a:lnTo>
                  <a:pt x="1296988" y="73819"/>
                </a:lnTo>
                <a:lnTo>
                  <a:pt x="1296988" y="0"/>
                </a:lnTo>
                <a:lnTo>
                  <a:pt x="1444625" y="147638"/>
                </a:lnTo>
                <a:lnTo>
                  <a:pt x="1296988" y="295275"/>
                </a:lnTo>
                <a:lnTo>
                  <a:pt x="1296988" y="221456"/>
                </a:lnTo>
                <a:lnTo>
                  <a:pt x="46137" y="221456"/>
                </a:lnTo>
                <a:lnTo>
                  <a:pt x="46137" y="73819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2" name="Рисунок 2" descr=""/>
          <p:cNvPicPr/>
          <p:nvPr/>
        </p:nvPicPr>
        <p:blipFill>
          <a:blip r:embed="rId1"/>
          <a:stretch/>
        </p:blipFill>
        <p:spPr>
          <a:xfrm>
            <a:off x="4767120" y="789120"/>
            <a:ext cx="3668760" cy="20635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19" descr=""/>
          <p:cNvPicPr/>
          <p:nvPr/>
        </p:nvPicPr>
        <p:blipFill>
          <a:blip r:embed="rId2"/>
          <a:stretch/>
        </p:blipFill>
        <p:spPr>
          <a:xfrm>
            <a:off x="4211640" y="2936880"/>
            <a:ext cx="3403440" cy="19144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0" descr=""/>
          <p:cNvPicPr/>
          <p:nvPr/>
        </p:nvPicPr>
        <p:blipFill>
          <a:blip r:embed="rId3"/>
          <a:stretch/>
        </p:blipFill>
        <p:spPr>
          <a:xfrm>
            <a:off x="244440" y="4829040"/>
            <a:ext cx="31654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ba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Облако 1"/>
          <p:cNvSpPr/>
          <p:nvPr/>
        </p:nvSpPr>
        <p:spPr>
          <a:xfrm>
            <a:off x="1157400" y="3403440"/>
            <a:ext cx="2394000" cy="1274760"/>
          </a:xfrm>
          <a:prstGeom prst="pie">
            <a:avLst/>
          </a:prstGeom>
          <a:solidFill>
            <a:srgbClr val="32ae51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 Делаем заставку в начале мультик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6" name="Облако 2"/>
          <p:cNvSpPr/>
          <p:nvPr/>
        </p:nvSpPr>
        <p:spPr>
          <a:xfrm>
            <a:off x="4803840" y="101520"/>
            <a:ext cx="3090960" cy="1417680"/>
          </a:xfrm>
          <a:prstGeom prst="pie">
            <a:avLst/>
          </a:prstGeom>
          <a:solidFill>
            <a:srgbClr val="cae67b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   Располагаем снимки по порядку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грамм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gas video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7" name="Штриховая стрелка вправо 3"/>
          <p:cNvSpPr/>
          <p:nvPr/>
        </p:nvSpPr>
        <p:spPr>
          <a:xfrm rot="19998000">
            <a:off x="2424240" y="1771200"/>
            <a:ext cx="3009600" cy="339840"/>
          </a:xfrm>
          <a:custGeom>
            <a:avLst/>
            <a:gdLst/>
            <a:ahLst/>
            <a:rect l="l" t="t" r="r" b="b"/>
            <a:pathLst>
              <a:path w="3009900" h="339725">
                <a:moveTo>
                  <a:pt x="0" y="84931"/>
                </a:moveTo>
                <a:lnTo>
                  <a:pt x="10616" y="84931"/>
                </a:lnTo>
                <a:lnTo>
                  <a:pt x="10616" y="254794"/>
                </a:lnTo>
                <a:lnTo>
                  <a:pt x="0" y="254794"/>
                </a:lnTo>
                <a:lnTo>
                  <a:pt x="0" y="84931"/>
                </a:lnTo>
                <a:close/>
                <a:moveTo>
                  <a:pt x="21233" y="84931"/>
                </a:moveTo>
                <a:lnTo>
                  <a:pt x="42466" y="84931"/>
                </a:lnTo>
                <a:lnTo>
                  <a:pt x="42466" y="254794"/>
                </a:lnTo>
                <a:lnTo>
                  <a:pt x="21233" y="254794"/>
                </a:lnTo>
                <a:lnTo>
                  <a:pt x="21233" y="84931"/>
                </a:lnTo>
                <a:close/>
                <a:moveTo>
                  <a:pt x="53082" y="84931"/>
                </a:moveTo>
                <a:lnTo>
                  <a:pt x="2840038" y="84931"/>
                </a:lnTo>
                <a:lnTo>
                  <a:pt x="2840038" y="0"/>
                </a:lnTo>
                <a:lnTo>
                  <a:pt x="3009900" y="169863"/>
                </a:lnTo>
                <a:lnTo>
                  <a:pt x="2840038" y="339725"/>
                </a:lnTo>
                <a:lnTo>
                  <a:pt x="2840038" y="254794"/>
                </a:lnTo>
                <a:lnTo>
                  <a:pt x="53082" y="254794"/>
                </a:lnTo>
                <a:lnTo>
                  <a:pt x="53082" y="84931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8" name="Облако 4"/>
          <p:cNvSpPr/>
          <p:nvPr/>
        </p:nvSpPr>
        <p:spPr>
          <a:xfrm>
            <a:off x="206280" y="2133720"/>
            <a:ext cx="2535480" cy="1272960"/>
          </a:xfrm>
          <a:prstGeom prst="pie">
            <a:avLst/>
          </a:prstGeom>
          <a:solidFill>
            <a:srgbClr val="9de3a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 Опять фотографирую и так дале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9" name="Штриховая стрелка вправо 5"/>
          <p:cNvSpPr/>
          <p:nvPr/>
        </p:nvSpPr>
        <p:spPr>
          <a:xfrm>
            <a:off x="3697200" y="480960"/>
            <a:ext cx="978120" cy="486000"/>
          </a:xfrm>
          <a:custGeom>
            <a:avLst/>
            <a:gdLst/>
            <a:ahLst/>
            <a:rect l="l" t="t" r="r" b="b"/>
            <a:pathLst>
              <a:path w="9779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lnTo>
                  <a:pt x="0" y="121444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lnTo>
                  <a:pt x="30361" y="121444"/>
                </a:lnTo>
                <a:close/>
                <a:moveTo>
                  <a:pt x="75902" y="121444"/>
                </a:moveTo>
                <a:lnTo>
                  <a:pt x="735013" y="121444"/>
                </a:lnTo>
                <a:lnTo>
                  <a:pt x="735013" y="0"/>
                </a:lnTo>
                <a:lnTo>
                  <a:pt x="977900" y="242888"/>
                </a:lnTo>
                <a:lnTo>
                  <a:pt x="735013" y="485775"/>
                </a:lnTo>
                <a:lnTo>
                  <a:pt x="735013" y="364331"/>
                </a:lnTo>
                <a:lnTo>
                  <a:pt x="75902" y="364331"/>
                </a:lnTo>
                <a:lnTo>
                  <a:pt x="75902" y="12144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0" name="Штриховая стрелка вправо 6"/>
          <p:cNvSpPr/>
          <p:nvPr/>
        </p:nvSpPr>
        <p:spPr>
          <a:xfrm rot="9156600">
            <a:off x="3579840" y="3336480"/>
            <a:ext cx="1130400" cy="486000"/>
          </a:xfrm>
          <a:custGeom>
            <a:avLst/>
            <a:gdLst/>
            <a:ahLst/>
            <a:rect l="l" t="t" r="r" b="b"/>
            <a:pathLst>
              <a:path w="11303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lnTo>
                  <a:pt x="0" y="121444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lnTo>
                  <a:pt x="30361" y="121444"/>
                </a:lnTo>
                <a:close/>
                <a:moveTo>
                  <a:pt x="75902" y="121444"/>
                </a:moveTo>
                <a:lnTo>
                  <a:pt x="887413" y="121444"/>
                </a:lnTo>
                <a:lnTo>
                  <a:pt x="887413" y="0"/>
                </a:lnTo>
                <a:lnTo>
                  <a:pt x="1130300" y="242888"/>
                </a:lnTo>
                <a:lnTo>
                  <a:pt x="887413" y="485775"/>
                </a:lnTo>
                <a:lnTo>
                  <a:pt x="887413" y="364331"/>
                </a:lnTo>
                <a:lnTo>
                  <a:pt x="75902" y="364331"/>
                </a:lnTo>
                <a:lnTo>
                  <a:pt x="75902" y="12144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Облако 7"/>
          <p:cNvSpPr/>
          <p:nvPr/>
        </p:nvSpPr>
        <p:spPr>
          <a:xfrm>
            <a:off x="3235320" y="4995720"/>
            <a:ext cx="2879640" cy="1467000"/>
          </a:xfrm>
          <a:prstGeom prst="pie">
            <a:avLst/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 Записываем зву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кладываем музыку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Штриховая стрелка вправо 8"/>
          <p:cNvSpPr/>
          <p:nvPr/>
        </p:nvSpPr>
        <p:spPr>
          <a:xfrm rot="2002200">
            <a:off x="3058920" y="4214880"/>
            <a:ext cx="1447560" cy="485640"/>
          </a:xfrm>
          <a:custGeom>
            <a:avLst/>
            <a:gdLst/>
            <a:ahLst/>
            <a:rect l="l" t="t" r="r" b="b"/>
            <a:pathLst>
              <a:path w="14478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lnTo>
                  <a:pt x="0" y="121444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lnTo>
                  <a:pt x="30361" y="121444"/>
                </a:lnTo>
                <a:close/>
                <a:moveTo>
                  <a:pt x="75902" y="121444"/>
                </a:moveTo>
                <a:lnTo>
                  <a:pt x="1204913" y="121444"/>
                </a:lnTo>
                <a:lnTo>
                  <a:pt x="1204913" y="0"/>
                </a:lnTo>
                <a:lnTo>
                  <a:pt x="1447800" y="242888"/>
                </a:lnTo>
                <a:lnTo>
                  <a:pt x="1204913" y="485775"/>
                </a:lnTo>
                <a:lnTo>
                  <a:pt x="1204913" y="364331"/>
                </a:lnTo>
                <a:lnTo>
                  <a:pt x="75902" y="364331"/>
                </a:lnTo>
                <a:lnTo>
                  <a:pt x="75902" y="12144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Облако 9"/>
          <p:cNvSpPr/>
          <p:nvPr/>
        </p:nvSpPr>
        <p:spPr>
          <a:xfrm>
            <a:off x="6181560" y="4437000"/>
            <a:ext cx="2592720" cy="1832040"/>
          </a:xfrm>
          <a:prstGeom prst="pie">
            <a:avLst/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ndara"/>
              </a:rPr>
              <a:t>9.  Вот и всё! Можно посмотреть получившийся мультфильм!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4" name="Рисунок 10" descr=""/>
          <p:cNvPicPr/>
          <p:nvPr/>
        </p:nvPicPr>
        <p:blipFill>
          <a:blip r:embed="rId1"/>
          <a:stretch/>
        </p:blipFill>
        <p:spPr>
          <a:xfrm>
            <a:off x="100080" y="82440"/>
            <a:ext cx="3468600" cy="19512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11" descr=""/>
          <p:cNvPicPr/>
          <p:nvPr/>
        </p:nvPicPr>
        <p:blipFill>
          <a:blip r:embed="rId2"/>
          <a:stretch/>
        </p:blipFill>
        <p:spPr>
          <a:xfrm>
            <a:off x="4803840" y="1693800"/>
            <a:ext cx="4000320" cy="22510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12" descr=""/>
          <p:cNvPicPr/>
          <p:nvPr/>
        </p:nvPicPr>
        <p:blipFill>
          <a:blip r:embed="rId3"/>
          <a:stretch/>
        </p:blipFill>
        <p:spPr>
          <a:xfrm>
            <a:off x="324000" y="4734000"/>
            <a:ext cx="26510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8:34:21Z</dcterms:created>
  <dc:creator>RePack by Diakov</dc:creator>
  <dc:description/>
  <dc:language>en-US</dc:language>
  <cp:lastModifiedBy>RePack by Diakov</cp:lastModifiedBy>
  <dcterms:modified xsi:type="dcterms:W3CDTF">2016-12-19T06:39:25Z</dcterms:modified>
  <cp:revision>63</cp:revision>
  <dc:subject/>
  <dc:title>Презентация PowerPoint</dc:title>
</cp:coreProperties>
</file>