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566-4BBC-4D6B-8665-3FE3DB20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5AC-FF16-4D56-BFFB-9FE76BD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AC9-08F4-4DF8-9129-C4E8DB4D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183-0145-49B6-9DEE-53F21323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898-C522-4C1E-BFB0-D80F2AC3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F353-6E54-47F7-A5AC-1CECA16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4158-446D-4A87-ABF0-7CF60674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B875-B537-4FBB-BCDB-C7323453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E69A-161A-4405-8F3A-832ED27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B7C-8B34-4156-A690-36245CB7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0DAA-3E22-4401-8702-7410C05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474-B7FB-4538-A74F-2FA28858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7E4C-F513-4789-BA0A-50F68D3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EF4D-10F9-4E19-B37C-FDDA3BE9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0D9-8F50-41F6-A48C-86B0D7D8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86C-2DA9-45BF-B86D-77A3B957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877-A718-4044-82F7-C9E436C4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E087-5829-48EC-A828-F74F1F83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1A8B-5986-44C6-B2DA-C1C8F77F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C133-C58A-462E-B5A9-B2EB8860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879D-7A31-430F-B5BB-9705AED0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E2AA-1A87-4EB8-B2D1-00928557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D68-BF69-420E-957B-5DBE8D03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0382-E5C1-4732-B266-6F0A3C8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F1E0-CF08-4C63-96F5-6CE9C86C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A111-E5BF-4886-946A-050D642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8DCE-4BB3-453F-9212-1A136D0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1FD6-5C5D-4E22-88D5-7718463D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A04B-0F0F-4A10-93C2-FF0A0F02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EB6D-5354-46AD-8B9C-144A564E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072C-8FA7-49B0-A49C-770CF69E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8B60-4DF3-4A32-9A5F-A6E86D8C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02C1-8A7A-45D3-AB52-73BE57B5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E86-48A5-465A-BED4-1556E43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6B69-5529-4F59-A30D-AD69F29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2F6E-0EF6-4270-82F1-00C02EBD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4C6B-4B10-40A9-A77E-7AB8CD29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F93E3-1A81-47BC-A877-12BF42C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A28C-EE8C-4BB0-A26B-C91EAB3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3E4F-F82E-446B-9C98-A973A50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B35A-B26C-4586-99B6-183D9F98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380DA-C1D0-43DF-9B20-248AB9BD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D0C0-E1B2-4EEF-973A-18BB753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175B-2F8F-494F-82E3-BCCF1DCD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D95-FCC1-417D-B2CF-2D0B9D80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60D4-6C23-42C0-BC50-0729D5A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6572-BA47-4CA2-BE1A-CC78835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D460-083D-475F-93FE-80C4807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7B6D-2378-4FE0-A95D-F4ABC3EA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EB12-E0C8-4160-BAD0-71781ED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9F06D-9916-47E9-884D-D07F598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5A4E-7BE2-475A-92C3-105E173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99F7-84AF-4BBC-AC5C-CC35796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093E-4FCD-4F41-878F-F159DEC8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0084-D6EA-4F4C-96D1-DE223EA4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DC0-01AA-407D-AB12-8F7C661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E92C-9BED-4DA7-BC3F-4E44D8E3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5290-6C3A-4E0A-810C-26A1C4B7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8134-64FB-4F66-B7DD-08732991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88B2-740B-43CD-B378-55E49C55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992D-C57B-445F-A2EF-23F3EAE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2B50-54F8-4D2B-92ED-B05EEFFB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A710C-D70D-4F25-9431-2D4E9A8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1BB8-2124-4214-AB10-4F705489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7CD9-8AFE-4794-816E-09A61CD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59E0-BE7B-4FE4-96B3-6BE6230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10B-1D04-4E2F-B0BB-F519C43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AEF5-67A8-45EA-8C15-4B756AAA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18A4D-D22A-4B64-ABBE-004AAC6B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A1A1-AE6A-488B-A220-B3BE68B3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E0E1-7E2C-4D41-B0BC-DCA0AE8F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7BEE5-CCBE-4BD4-A5D8-17A2F36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7471E-4B6A-49C1-89C9-69FE24A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AE5A-DD4E-4988-91CB-EE76AABF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94468-8EBB-403E-B609-8F6B949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16344-0A08-432B-BF0E-8C02912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CCC1F-A4B6-4E4E-AC39-A91E25E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D2A-3B81-4CC6-ADC6-4A05A8F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890D-25D5-4BD3-B4A4-1C8B774C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901B8-2126-4DEA-8152-EAE221A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36F0-9092-463C-9C6A-205F37AF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CB8D-B3AA-450F-9F5F-6E67627A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CD16E-E767-4AD7-AE12-F611CBA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5C8-BA8E-487F-9B32-5DBB301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DD2-BCD7-4CA4-AFB3-8C9C9F9B3B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F45C-F80B-42BA-9A3B-7116B4FB76B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ED0-F9C0-4530-921A-BF86C9A2DE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DC15-8782-40BE-8323-D949C0E709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C00C-8DA3-4432-8421-5DE7005B66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864-A7F1-4166-8DEE-CADD6711D8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E99D-C32F-4BB3-811B-8AC5AB1914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8"/>
          <p:cNvSpPr/>
          <p:nvPr/>
        </p:nvSpPr>
        <p:spPr>
          <a:xfrm>
            <a:off x="1258920" y="4359240"/>
            <a:ext cx="66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Букашова Олеся Серге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ца 2 «Б» клас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Людо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1393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3249360" y="33336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6296"/>
                </a:solidFill>
                <a:latin typeface="Candar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38240" y="1098720"/>
            <a:ext cx="916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Arial"/>
              </a:rPr>
              <a:t>«Мой пластилиновый мультфильм»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Рисунок 4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26575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baf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2"/>
          <p:cNvSpPr/>
          <p:nvPr/>
        </p:nvSpPr>
        <p:spPr>
          <a:xfrm>
            <a:off x="419040" y="3191040"/>
            <a:ext cx="864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очень понравилось работать над созданием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го мультфильм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, я одна полностью его не смогла бы сделать. Я хочу сказать большое спасибо моим помощникам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ме, папе, сестре Лиз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412200" y="5229360"/>
            <a:ext cx="663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Людовой Наталье Николаевне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ему научному руководителю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предоставленную помощь и информац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8800" y="549360"/>
            <a:ext cx="7848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работе над проектом, я узнала ещё больше о пластилине, попробовала создать пластилиновый мультфиль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твердила гипотезу проекта, что работа с пластилином – это творчество, и  каждый может научиться создавать пластилиновые мультфильмы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своего проекта представляю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«Космическая дружба» - на сюжет, придуманный мной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TextBox 1"/>
          <p:cNvSpPr/>
          <p:nvPr/>
        </p:nvSpPr>
        <p:spPr>
          <a:xfrm>
            <a:off x="3459240" y="1159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636120" y="104616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 проект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618840" y="1989000"/>
            <a:ext cx="656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рассказать всем о пластилине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том как с ним легко, увлекательно и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чень интересно работать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делать свой пластилиновый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84d3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464040" y="993600"/>
            <a:ext cx="44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-37080" y="2036880"/>
            <a:ext cx="9394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Выяснить, что такое пластилин, почем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 ним работать не только увлекательно,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но и очень полезно!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Изучить, как создаются пластилиновы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мультфильмы.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755640" y="189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Гипотеза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бота с пластилином – это творчество, поиск новых идей и я думаю, каждый может научиться создавать пластилиновые  мультфильмы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312120" y="1758960"/>
            <a:ext cx="8448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бор информации   из разных источник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иготовить все необходимое для создания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ластилиновых мультфильм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. Съёмка собственного мультфильм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5219640" y="4000680"/>
            <a:ext cx="2409840" cy="1806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"/>
          <p:cNvPicPr/>
          <p:nvPr/>
        </p:nvPicPr>
        <p:blipFill>
          <a:blip r:embed="rId2"/>
          <a:stretch/>
        </p:blipFill>
        <p:spPr>
          <a:xfrm>
            <a:off x="1332000" y="3979800"/>
            <a:ext cx="28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5"/>
          <p:cNvSpPr txBox="1"/>
          <p:nvPr/>
        </p:nvSpPr>
        <p:spPr>
          <a:xfrm>
            <a:off x="1187280" y="765000"/>
            <a:ext cx="6481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такое пластили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971640" y="1844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Пластилин это материал  для лепки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зготавливается из очищенног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тщательно размельчённого порошка глины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 добавлением воска, животного сала, вазели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других веществ, препятствующих высыхан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Обычно окрашивается в разные цвет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1332000" y="4152960"/>
            <a:ext cx="2952720" cy="23637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" descr=""/>
          <p:cNvPicPr/>
          <p:nvPr/>
        </p:nvPicPr>
        <p:blipFill>
          <a:blip r:embed="rId2"/>
          <a:stretch/>
        </p:blipFill>
        <p:spPr>
          <a:xfrm>
            <a:off x="4932360" y="425124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2"/>
          <p:cNvSpPr txBox="1"/>
          <p:nvPr/>
        </p:nvSpPr>
        <p:spPr>
          <a:xfrm>
            <a:off x="379440" y="333360"/>
            <a:ext cx="49338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развивает пластилин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413000"/>
            <a:ext cx="539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 развивает мелкую моторику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детей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ьза пластилина – в самой лепке, 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 её результате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, чтобы ребёнок мял пластилин,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рывал от него кусочки, катал их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ладошкам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142920" y="4365720"/>
            <a:ext cx="5904000" cy="20239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" descr=""/>
          <p:cNvPicPr/>
          <p:nvPr/>
        </p:nvPicPr>
        <p:blipFill>
          <a:blip r:embed="rId4"/>
          <a:stretch/>
        </p:blipFill>
        <p:spPr>
          <a:xfrm>
            <a:off x="5435640" y="2365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2" descr=""/>
          <p:cNvPicPr/>
          <p:nvPr/>
        </p:nvPicPr>
        <p:blipFill>
          <a:blip r:embed="rId5"/>
          <a:stretch/>
        </p:blipFill>
        <p:spPr>
          <a:xfrm>
            <a:off x="5850000" y="292428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9220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создания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ового мультфильм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785880" y="1773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2880" y="1916280"/>
            <a:ext cx="732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1. Пластилин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. Фотоаппарат (лучше с пультом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. Штатив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. Компьютер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. Программы, </a:t>
            </a: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в которых вы будете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совмещать кадры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монтировать видео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и звук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250920" y="1441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онадобитс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4427640" y="1508040"/>
            <a:ext cx="116820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"/>
          <p:cNvPicPr/>
          <p:nvPr/>
        </p:nvPicPr>
        <p:blipFill>
          <a:blip r:embed="rId2"/>
          <a:stretch/>
        </p:blipFill>
        <p:spPr>
          <a:xfrm>
            <a:off x="6372360" y="1460520"/>
            <a:ext cx="1882800" cy="24987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3"/>
          <a:stretch/>
        </p:blipFill>
        <p:spPr>
          <a:xfrm>
            <a:off x="5092560" y="287640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"/>
          <p:cNvPicPr/>
          <p:nvPr/>
        </p:nvPicPr>
        <p:blipFill>
          <a:blip r:embed="rId4"/>
          <a:stretch/>
        </p:blipFill>
        <p:spPr>
          <a:xfrm>
            <a:off x="3625920" y="4149720"/>
            <a:ext cx="44258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b87d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Облако 1"/>
          <p:cNvSpPr/>
          <p:nvPr/>
        </p:nvSpPr>
        <p:spPr>
          <a:xfrm>
            <a:off x="108000" y="549360"/>
            <a:ext cx="3295440" cy="127296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Придумываю свой сюжет. (можно взять любую сказку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87280" y="130320"/>
            <a:ext cx="72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Я снимаю      свой        собственный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мультфильм –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«Космическая дружба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Облако 3"/>
          <p:cNvSpPr/>
          <p:nvPr/>
        </p:nvSpPr>
        <p:spPr>
          <a:xfrm>
            <a:off x="2152800" y="1830240"/>
            <a:ext cx="2665440" cy="110664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Леплю героев и создаю декорации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Облако 4"/>
          <p:cNvSpPr/>
          <p:nvPr/>
        </p:nvSpPr>
        <p:spPr>
          <a:xfrm>
            <a:off x="25560" y="3260880"/>
            <a:ext cx="2506680" cy="127296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Расставляю декорации и героев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Облако 5"/>
          <p:cNvSpPr/>
          <p:nvPr/>
        </p:nvSpPr>
        <p:spPr>
          <a:xfrm>
            <a:off x="3635280" y="5083200"/>
            <a:ext cx="3148200" cy="127332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Фотографирую, меняю положение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Штриховая стрелка вправо 12"/>
          <p:cNvSpPr/>
          <p:nvPr/>
        </p:nvSpPr>
        <p:spPr>
          <a:xfrm flipH="1" rot="20559600">
            <a:off x="1634760" y="2793960"/>
            <a:ext cx="1216080" cy="406080"/>
          </a:xfrm>
          <a:custGeom>
            <a:avLst/>
            <a:gdLst/>
            <a:ahLst/>
            <a:rect l="l" t="t" r="r" b="b"/>
            <a:pathLst>
              <a:path w="1216025" h="406400">
                <a:moveTo>
                  <a:pt x="0" y="101600"/>
                </a:moveTo>
                <a:lnTo>
                  <a:pt x="12700" y="101600"/>
                </a:lnTo>
                <a:lnTo>
                  <a:pt x="12700" y="304800"/>
                </a:lnTo>
                <a:lnTo>
                  <a:pt x="0" y="304800"/>
                </a:lnTo>
                <a:lnTo>
                  <a:pt x="0" y="101600"/>
                </a:lnTo>
                <a:close/>
                <a:moveTo>
                  <a:pt x="25400" y="101600"/>
                </a:moveTo>
                <a:lnTo>
                  <a:pt x="50800" y="101600"/>
                </a:lnTo>
                <a:lnTo>
                  <a:pt x="50800" y="304800"/>
                </a:lnTo>
                <a:lnTo>
                  <a:pt x="25400" y="304800"/>
                </a:lnTo>
                <a:lnTo>
                  <a:pt x="25400" y="101600"/>
                </a:lnTo>
                <a:close/>
                <a:moveTo>
                  <a:pt x="63500" y="101600"/>
                </a:moveTo>
                <a:lnTo>
                  <a:pt x="1012825" y="101600"/>
                </a:lnTo>
                <a:lnTo>
                  <a:pt x="1012825" y="0"/>
                </a:lnTo>
                <a:lnTo>
                  <a:pt x="1216025" y="203200"/>
                </a:lnTo>
                <a:lnTo>
                  <a:pt x="1012825" y="406400"/>
                </a:lnTo>
                <a:lnTo>
                  <a:pt x="1012825" y="304800"/>
                </a:lnTo>
                <a:lnTo>
                  <a:pt x="63500" y="304800"/>
                </a:lnTo>
                <a:lnTo>
                  <a:pt x="63500" y="1016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0" name="Штриховая стрелка вправо 14"/>
          <p:cNvSpPr/>
          <p:nvPr/>
        </p:nvSpPr>
        <p:spPr>
          <a:xfrm rot="1258200">
            <a:off x="1557000" y="4400640"/>
            <a:ext cx="2865240" cy="280800"/>
          </a:xfrm>
          <a:custGeom>
            <a:avLst/>
            <a:gdLst/>
            <a:ahLst/>
            <a:rect l="l" t="t" r="r" b="b"/>
            <a:pathLst>
              <a:path w="2865437" h="280988">
                <a:moveTo>
                  <a:pt x="0" y="70247"/>
                </a:moveTo>
                <a:lnTo>
                  <a:pt x="8781" y="70247"/>
                </a:lnTo>
                <a:lnTo>
                  <a:pt x="8781" y="210741"/>
                </a:lnTo>
                <a:lnTo>
                  <a:pt x="0" y="210741"/>
                </a:lnTo>
                <a:lnTo>
                  <a:pt x="0" y="70247"/>
                </a:lnTo>
                <a:close/>
                <a:moveTo>
                  <a:pt x="17562" y="70247"/>
                </a:moveTo>
                <a:lnTo>
                  <a:pt x="35124" y="70247"/>
                </a:lnTo>
                <a:lnTo>
                  <a:pt x="35124" y="210741"/>
                </a:lnTo>
                <a:lnTo>
                  <a:pt x="17562" y="210741"/>
                </a:lnTo>
                <a:lnTo>
                  <a:pt x="17562" y="70247"/>
                </a:lnTo>
                <a:close/>
                <a:moveTo>
                  <a:pt x="43904" y="70247"/>
                </a:moveTo>
                <a:lnTo>
                  <a:pt x="2724943" y="70247"/>
                </a:lnTo>
                <a:lnTo>
                  <a:pt x="2724943" y="0"/>
                </a:lnTo>
                <a:lnTo>
                  <a:pt x="2865437" y="140494"/>
                </a:lnTo>
                <a:lnTo>
                  <a:pt x="2724943" y="280988"/>
                </a:lnTo>
                <a:lnTo>
                  <a:pt x="2724943" y="210741"/>
                </a:lnTo>
                <a:lnTo>
                  <a:pt x="43904" y="210741"/>
                </a:lnTo>
                <a:lnTo>
                  <a:pt x="43904" y="7024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Штриховая стрелка вправо 18"/>
          <p:cNvSpPr/>
          <p:nvPr/>
        </p:nvSpPr>
        <p:spPr>
          <a:xfrm rot="3082200">
            <a:off x="2727000" y="1404720"/>
            <a:ext cx="1444680" cy="295200"/>
          </a:xfrm>
          <a:custGeom>
            <a:avLst/>
            <a:gdLst/>
            <a:ahLst/>
            <a:rect l="l" t="t" r="r" b="b"/>
            <a:pathLst>
              <a:path w="1444625" h="295275">
                <a:moveTo>
                  <a:pt x="0" y="73819"/>
                </a:moveTo>
                <a:lnTo>
                  <a:pt x="9227" y="73819"/>
                </a:lnTo>
                <a:lnTo>
                  <a:pt x="9227" y="221456"/>
                </a:lnTo>
                <a:lnTo>
                  <a:pt x="0" y="221456"/>
                </a:lnTo>
                <a:lnTo>
                  <a:pt x="0" y="73819"/>
                </a:lnTo>
                <a:close/>
                <a:moveTo>
                  <a:pt x="18455" y="73819"/>
                </a:moveTo>
                <a:lnTo>
                  <a:pt x="36909" y="73819"/>
                </a:lnTo>
                <a:lnTo>
                  <a:pt x="36909" y="221456"/>
                </a:lnTo>
                <a:lnTo>
                  <a:pt x="18455" y="221456"/>
                </a:lnTo>
                <a:lnTo>
                  <a:pt x="18455" y="73819"/>
                </a:lnTo>
                <a:close/>
                <a:moveTo>
                  <a:pt x="46137" y="73819"/>
                </a:moveTo>
                <a:lnTo>
                  <a:pt x="1296988" y="73819"/>
                </a:lnTo>
                <a:lnTo>
                  <a:pt x="1296988" y="0"/>
                </a:lnTo>
                <a:lnTo>
                  <a:pt x="1444625" y="147638"/>
                </a:lnTo>
                <a:lnTo>
                  <a:pt x="1296988" y="295275"/>
                </a:lnTo>
                <a:lnTo>
                  <a:pt x="1296988" y="221456"/>
                </a:lnTo>
                <a:lnTo>
                  <a:pt x="46137" y="221456"/>
                </a:lnTo>
                <a:lnTo>
                  <a:pt x="46137" y="73819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4767120" y="789120"/>
            <a:ext cx="3668760" cy="20635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9" descr=""/>
          <p:cNvPicPr/>
          <p:nvPr/>
        </p:nvPicPr>
        <p:blipFill>
          <a:blip r:embed="rId2"/>
          <a:stretch/>
        </p:blipFill>
        <p:spPr>
          <a:xfrm>
            <a:off x="4211640" y="2936880"/>
            <a:ext cx="3403440" cy="1914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0" descr=""/>
          <p:cNvPicPr/>
          <p:nvPr/>
        </p:nvPicPr>
        <p:blipFill>
          <a:blip r:embed="rId3"/>
          <a:stretch/>
        </p:blipFill>
        <p:spPr>
          <a:xfrm>
            <a:off x="244440" y="4829040"/>
            <a:ext cx="31654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ba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Облако 1"/>
          <p:cNvSpPr/>
          <p:nvPr/>
        </p:nvSpPr>
        <p:spPr>
          <a:xfrm>
            <a:off x="1157400" y="3403440"/>
            <a:ext cx="2394000" cy="1274760"/>
          </a:xfrm>
          <a:prstGeom prst="pie">
            <a:avLst/>
          </a:prstGeom>
          <a:solidFill>
            <a:srgbClr val="32ae51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 Делаем заставку в начале мультик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Облако 2"/>
          <p:cNvSpPr/>
          <p:nvPr/>
        </p:nvSpPr>
        <p:spPr>
          <a:xfrm>
            <a:off x="4803840" y="101520"/>
            <a:ext cx="3090960" cy="141768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  Располагаем снимки по поряд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грам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gas video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Штриховая стрелка вправо 3"/>
          <p:cNvSpPr/>
          <p:nvPr/>
        </p:nvSpPr>
        <p:spPr>
          <a:xfrm rot="19998000">
            <a:off x="2424240" y="1771200"/>
            <a:ext cx="3009600" cy="339840"/>
          </a:xfrm>
          <a:custGeom>
            <a:avLst/>
            <a:gdLst/>
            <a:ahLst/>
            <a:rect l="l" t="t" r="r" b="b"/>
            <a:pathLst>
              <a:path w="3009900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2840038" y="84931"/>
                </a:lnTo>
                <a:lnTo>
                  <a:pt x="2840038" y="0"/>
                </a:lnTo>
                <a:lnTo>
                  <a:pt x="3009900" y="169863"/>
                </a:lnTo>
                <a:lnTo>
                  <a:pt x="2840038" y="339725"/>
                </a:lnTo>
                <a:lnTo>
                  <a:pt x="2840038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Облако 4"/>
          <p:cNvSpPr/>
          <p:nvPr/>
        </p:nvSpPr>
        <p:spPr>
          <a:xfrm>
            <a:off x="206280" y="2133720"/>
            <a:ext cx="2535480" cy="1272960"/>
          </a:xfrm>
          <a:prstGeom prst="pie">
            <a:avLst/>
          </a:prstGeom>
          <a:solidFill>
            <a:srgbClr val="9de3a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 Опять фотографирую и так дале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Штриховая стрелка вправо 5"/>
          <p:cNvSpPr/>
          <p:nvPr/>
        </p:nvSpPr>
        <p:spPr>
          <a:xfrm>
            <a:off x="3697200" y="480960"/>
            <a:ext cx="978120" cy="486000"/>
          </a:xfrm>
          <a:custGeom>
            <a:avLst/>
            <a:gdLst/>
            <a:ahLst/>
            <a:rect l="l" t="t" r="r" b="b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Штриховая стрелка вправо 6"/>
          <p:cNvSpPr/>
          <p:nvPr/>
        </p:nvSpPr>
        <p:spPr>
          <a:xfrm rot="9156600">
            <a:off x="3579840" y="3336480"/>
            <a:ext cx="1130400" cy="486000"/>
          </a:xfrm>
          <a:custGeom>
            <a:avLst/>
            <a:gdLst/>
            <a:ahLst/>
            <a:rect l="l" t="t" r="r" b="b"/>
            <a:pathLst>
              <a:path w="11303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887413" y="121444"/>
                </a:lnTo>
                <a:lnTo>
                  <a:pt x="887413" y="0"/>
                </a:lnTo>
                <a:lnTo>
                  <a:pt x="1130300" y="242888"/>
                </a:lnTo>
                <a:lnTo>
                  <a:pt x="887413" y="485775"/>
                </a:lnTo>
                <a:lnTo>
                  <a:pt x="8874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Облако 7"/>
          <p:cNvSpPr/>
          <p:nvPr/>
        </p:nvSpPr>
        <p:spPr>
          <a:xfrm>
            <a:off x="3235320" y="4995720"/>
            <a:ext cx="2879640" cy="146700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 Записываем зву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кладываем музы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Штриховая стрелка вправо 8"/>
          <p:cNvSpPr/>
          <p:nvPr/>
        </p:nvSpPr>
        <p:spPr>
          <a:xfrm rot="2002200">
            <a:off x="3058920" y="4214880"/>
            <a:ext cx="1447560" cy="485640"/>
          </a:xfrm>
          <a:custGeom>
            <a:avLst/>
            <a:gdLst/>
            <a:ahLst/>
            <a:rect l="l" t="t" r="r" b="b"/>
            <a:pathLst>
              <a:path w="14478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1204913" y="121444"/>
                </a:lnTo>
                <a:lnTo>
                  <a:pt x="1204913" y="0"/>
                </a:lnTo>
                <a:lnTo>
                  <a:pt x="1447800" y="242888"/>
                </a:lnTo>
                <a:lnTo>
                  <a:pt x="1204913" y="485775"/>
                </a:lnTo>
                <a:lnTo>
                  <a:pt x="12049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Облако 9"/>
          <p:cNvSpPr/>
          <p:nvPr/>
        </p:nvSpPr>
        <p:spPr>
          <a:xfrm>
            <a:off x="6181560" y="4437000"/>
            <a:ext cx="2592720" cy="183204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ndara"/>
              </a:rPr>
              <a:t>9.  Вот и всё! Можно посмотреть получившийся мультфильм!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Рисунок 10" descr=""/>
          <p:cNvPicPr/>
          <p:nvPr/>
        </p:nvPicPr>
        <p:blipFill>
          <a:blip r:embed="rId1"/>
          <a:stretch/>
        </p:blipFill>
        <p:spPr>
          <a:xfrm>
            <a:off x="100080" y="8244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1" descr=""/>
          <p:cNvPicPr/>
          <p:nvPr/>
        </p:nvPicPr>
        <p:blipFill>
          <a:blip r:embed="rId2"/>
          <a:stretch/>
        </p:blipFill>
        <p:spPr>
          <a:xfrm>
            <a:off x="4803840" y="1693800"/>
            <a:ext cx="4000320" cy="2251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2" descr=""/>
          <p:cNvPicPr/>
          <p:nvPr/>
        </p:nvPicPr>
        <p:blipFill>
          <a:blip r:embed="rId3"/>
          <a:stretch/>
        </p:blipFill>
        <p:spPr>
          <a:xfrm>
            <a:off x="324000" y="4734000"/>
            <a:ext cx="2651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8:34:21Z</dcterms:created>
  <dc:creator>RePack by Diakov</dc:creator>
  <dc:description/>
  <dc:language>en-US</dc:language>
  <cp:lastModifiedBy>RePack by Diakov</cp:lastModifiedBy>
  <dcterms:modified xsi:type="dcterms:W3CDTF">2016-12-19T06:39:25Z</dcterms:modified>
  <cp:revision>63</cp:revision>
  <dc:subject/>
  <dc:title>Презентация PowerPoint</dc:title>
</cp:coreProperties>
</file>