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6EE-847E-48ED-882B-858755DCCA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228-A081-42F2-AAE3-F8C76F8F9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389-ECE5-4847-97DA-7CB3388E4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24C-EF66-4458-8E9E-B2E6A512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237-E074-4AF1-8B45-1AB3E87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B4E-9230-4A0C-84BB-D3686087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DE7-7670-4B2D-96D6-FF689E6A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7B3-803D-480C-AC19-19ECDF3D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918-FC1D-4B17-8D44-256400F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805-142D-4FDD-AA5D-304B4264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7F9-E98B-461A-AF83-E83A28F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A76-AF8F-4C5E-8EFD-70F43E3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EC7-7937-4EDF-B578-3C73539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81F-A80E-47C1-95B9-37D97FC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608-1974-41CD-9E1A-43DC5C37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C4AD-C2E5-4127-9F72-970FD7FA0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kazka\Desktop\победа\83894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влечение в подготовительной к школе группе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Приключения Лун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55640" y="4220640"/>
            <a:ext cx="43196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Проводит воспитате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Котомина Наталья Николаевна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971640" y="119700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Skazka\Desktop\победа\21203_640.jpg"/>
          <p:cNvPicPr/>
          <p:nvPr/>
        </p:nvPicPr>
        <p:blipFill>
          <a:blip r:embed="rId1"/>
          <a:stretch/>
        </p:blipFill>
        <p:spPr>
          <a:xfrm>
            <a:off x="7920" y="6192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Luntik_Luntik (mp3cut.net).mp3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77652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ьте по схеме зада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4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5                   2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5-конечная звезда 4"/>
          <p:cNvSpPr/>
          <p:nvPr/>
        </p:nvSpPr>
        <p:spPr>
          <a:xfrm>
            <a:off x="53964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конечная звезда 7"/>
          <p:cNvSpPr/>
          <p:nvPr/>
        </p:nvSpPr>
        <p:spPr>
          <a:xfrm>
            <a:off x="1763640" y="26370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конечная звезда 8"/>
          <p:cNvSpPr/>
          <p:nvPr/>
        </p:nvSpPr>
        <p:spPr>
          <a:xfrm>
            <a:off x="406728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77884" y="390680"/>
                </a:lnTo>
                <a:lnTo>
                  <a:pt x="457200" y="0"/>
                </a:lnTo>
                <a:lnTo>
                  <a:pt x="536516" y="390680"/>
                </a:lnTo>
                <a:lnTo>
                  <a:pt x="914399" y="349269"/>
                </a:lnTo>
                <a:lnTo>
                  <a:pt x="585536" y="549311"/>
                </a:lnTo>
                <a:lnTo>
                  <a:pt x="739765" y="914398"/>
                </a:lnTo>
                <a:lnTo>
                  <a:pt x="457200" y="647351"/>
                </a:lnTo>
                <a:lnTo>
                  <a:pt x="174635" y="914398"/>
                </a:lnTo>
                <a:lnTo>
                  <a:pt x="328864" y="549311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конечная звезда 9"/>
          <p:cNvSpPr/>
          <p:nvPr/>
        </p:nvSpPr>
        <p:spPr>
          <a:xfrm>
            <a:off x="291636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-конечная звезда 10"/>
          <p:cNvSpPr/>
          <p:nvPr/>
        </p:nvSpPr>
        <p:spPr>
          <a:xfrm>
            <a:off x="536400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-конечная звезда 12"/>
          <p:cNvSpPr/>
          <p:nvPr/>
        </p:nvSpPr>
        <p:spPr>
          <a:xfrm>
            <a:off x="651672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-конечная звезда 14"/>
          <p:cNvSpPr/>
          <p:nvPr/>
        </p:nvSpPr>
        <p:spPr>
          <a:xfrm>
            <a:off x="7667640" y="26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круглая скобка 18"/>
          <p:cNvSpPr/>
          <p:nvPr/>
        </p:nvSpPr>
        <p:spPr>
          <a:xfrm rot="5400000">
            <a:off x="2982960" y="-454680"/>
            <a:ext cx="657360" cy="5545080"/>
          </a:xfrm>
          <a:custGeom>
            <a:avLst/>
            <a:gdLst>
              <a:gd name="textAreaLeft" fmla="*/ 193320 w 657360"/>
              <a:gd name="textAreaRight" fmla="*/ 657720 w 657360"/>
              <a:gd name="textAreaTop" fmla="*/ 27000 h 5545080"/>
              <a:gd name="textAreaBottom" fmla="*/ 551808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3"/>
                </a:cubicBezTo>
                <a:lnTo>
                  <a:pt x="0" y="21387"/>
                </a:lnTo>
                <a:cubicBezTo>
                  <a:pt x="0" y="214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евая круглая скобка 19"/>
          <p:cNvSpPr/>
          <p:nvPr/>
        </p:nvSpPr>
        <p:spPr>
          <a:xfrm rot="5400000">
            <a:off x="7304400" y="1048320"/>
            <a:ext cx="503280" cy="238428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2384280"/>
              <a:gd name="textAreaBottom" fmla="*/ 2363400 h 23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"/>
                  <a:pt x="0" y="380"/>
                </a:cubicBezTo>
                <a:lnTo>
                  <a:pt x="0" y="21220"/>
                </a:lnTo>
                <a:cubicBezTo>
                  <a:pt x="0" y="2141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войные фигурные скобки 21"/>
          <p:cNvSpPr/>
          <p:nvPr/>
        </p:nvSpPr>
        <p:spPr>
          <a:xfrm flipH="1" rot="16200000">
            <a:off x="1618200" y="-2187360"/>
            <a:ext cx="6049800" cy="8209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4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?                   1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898989"/>
                </a:solidFill>
                <a:latin typeface="Calibri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вая круглая скобка 18"/>
          <p:cNvSpPr/>
          <p:nvPr/>
        </p:nvSpPr>
        <p:spPr>
          <a:xfrm rot="5400000">
            <a:off x="2982960" y="-454680"/>
            <a:ext cx="657360" cy="5545080"/>
          </a:xfrm>
          <a:custGeom>
            <a:avLst/>
            <a:gdLst>
              <a:gd name="textAreaLeft" fmla="*/ 193320 w 657360"/>
              <a:gd name="textAreaRight" fmla="*/ 657720 w 657360"/>
              <a:gd name="textAreaTop" fmla="*/ 27000 h 5545080"/>
              <a:gd name="textAreaBottom" fmla="*/ 551808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3"/>
                </a:cubicBezTo>
                <a:lnTo>
                  <a:pt x="0" y="21387"/>
                </a:lnTo>
                <a:cubicBezTo>
                  <a:pt x="0" y="214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евая круглая скобка 19"/>
          <p:cNvSpPr/>
          <p:nvPr/>
        </p:nvSpPr>
        <p:spPr>
          <a:xfrm rot="5400000">
            <a:off x="7304400" y="1048320"/>
            <a:ext cx="503280" cy="238428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2384280"/>
              <a:gd name="textAreaBottom" fmla="*/ 2363400 h 23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"/>
                  <a:pt x="0" y="380"/>
                </a:cubicBezTo>
                <a:lnTo>
                  <a:pt x="0" y="21220"/>
                </a:lnTo>
                <a:cubicBezTo>
                  <a:pt x="0" y="2141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ые фигурные скобки 21"/>
          <p:cNvSpPr/>
          <p:nvPr/>
        </p:nvSpPr>
        <p:spPr>
          <a:xfrm flipH="1" rot="16200000">
            <a:off x="1618200" y="-2187360"/>
            <a:ext cx="6049800" cy="8209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Skazka\Desktop\победа\flying-boat-gr_thl-300x300.jpg"/>
          <p:cNvPicPr/>
          <p:nvPr/>
        </p:nvPicPr>
        <p:blipFill>
          <a:blip r:embed="rId1"/>
          <a:stretch/>
        </p:blipFill>
        <p:spPr>
          <a:xfrm>
            <a:off x="4773600" y="2614680"/>
            <a:ext cx="1311120" cy="12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kazka\Desktop\победа\flying-boat-gr_thl-300x300.jpg"/>
          <p:cNvPicPr/>
          <p:nvPr/>
        </p:nvPicPr>
        <p:blipFill>
          <a:blip r:embed="rId2"/>
          <a:stretch/>
        </p:blipFill>
        <p:spPr>
          <a:xfrm>
            <a:off x="395280" y="2408400"/>
            <a:ext cx="1368360" cy="151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Skazka\Desktop\победа\flying-boat-gr_thl-300x300.jpg"/>
          <p:cNvPicPr/>
          <p:nvPr/>
        </p:nvPicPr>
        <p:blipFill>
          <a:blip r:embed="rId3"/>
          <a:stretch/>
        </p:blipFill>
        <p:spPr>
          <a:xfrm>
            <a:off x="1908000" y="2409840"/>
            <a:ext cx="140364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Skazka\Desktop\победа\flying-boat-gr_thl-300x300.jpg"/>
          <p:cNvPicPr/>
          <p:nvPr/>
        </p:nvPicPr>
        <p:blipFill>
          <a:blip r:embed="rId4"/>
          <a:stretch/>
        </p:blipFill>
        <p:spPr>
          <a:xfrm>
            <a:off x="3311640" y="2492280"/>
            <a:ext cx="1396800" cy="1355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Skazka\Desktop\победа\flying-boat-gr_thl-300x300.jpg"/>
          <p:cNvPicPr/>
          <p:nvPr/>
        </p:nvPicPr>
        <p:blipFill>
          <a:blip r:embed="rId5"/>
          <a:stretch/>
        </p:blipFill>
        <p:spPr>
          <a:xfrm>
            <a:off x="6732720" y="2413080"/>
            <a:ext cx="1368360" cy="151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"/>
          <p:cNvSpPr/>
          <p:nvPr/>
        </p:nvSpPr>
        <p:spPr>
          <a:xfrm flipH="1">
            <a:off x="6732720" y="2413080"/>
            <a:ext cx="1224000" cy="1511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Куб 1"/>
          <p:cNvGrpSpPr/>
          <p:nvPr/>
        </p:nvGrpSpPr>
        <p:grpSpPr>
          <a:xfrm>
            <a:off x="2762280" y="5059440"/>
            <a:ext cx="3492360" cy="1481040"/>
            <a:chOff x="2762280" y="5059440"/>
            <a:chExt cx="3492360" cy="1481040"/>
          </a:xfrm>
        </p:grpSpPr>
        <p:pic>
          <p:nvPicPr>
            <p:cNvPr id="79" name="Куб 1" descr=""/>
            <p:cNvPicPr/>
            <p:nvPr/>
          </p:nvPicPr>
          <p:blipFill>
            <a:blip r:embed="rId1"/>
            <a:stretch/>
          </p:blipFill>
          <p:spPr>
            <a:xfrm>
              <a:off x="2762280" y="5059440"/>
              <a:ext cx="3492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814480" y="5430960"/>
              <a:ext cx="3041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2"/>
          <p:cNvSpPr/>
          <p:nvPr/>
        </p:nvSpPr>
        <p:spPr>
          <a:xfrm>
            <a:off x="3800520" y="5823000"/>
            <a:ext cx="1212840" cy="1087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rcRect l="47170" t="0" r="46074" b="85518"/>
          <a:stretch/>
        </p:blipFill>
        <p:spPr>
          <a:xfrm>
            <a:off x="3416400" y="6431040"/>
            <a:ext cx="2016000" cy="95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&amp;Pcy;&amp;acy;&amp;rcy;&amp;acy;&amp;lcy;&amp;lcy;&amp;iecy;&amp;lcy;&amp;iecy;&amp;pcy;&amp;icy;&amp;pcy;&amp;iecy;&amp;dcy; (job.education.apscis.math) : &amp;Rcy;&amp;acy;&amp;scy;&amp;scy;&amp;ycy;&amp;lcy;&amp;kcy;&amp;acy; : Subscribe.Ru"/>
          <p:cNvPicPr/>
          <p:nvPr/>
        </p:nvPicPr>
        <p:blipFill>
          <a:blip r:embed="rId3"/>
          <a:srcRect l="9343" t="14260" r="15957" b="35795"/>
          <a:stretch/>
        </p:blipFill>
        <p:spPr>
          <a:xfrm>
            <a:off x="1427040" y="4159080"/>
            <a:ext cx="3432240" cy="115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&amp;Pcy;&amp;acy;&amp;rcy;&amp;acy;&amp;lcy;&amp;lcy;&amp;iecy;&amp;lcy;&amp;iecy;&amp;pcy;&amp;icy;&amp;pcy;&amp;iecy;&amp;dcy; (job.education.apscis.math) : &amp;Rcy;&amp;acy;&amp;scy;&amp;scy;&amp;ycy;&amp;lcy;&amp;kcy;&amp;acy; : Subscribe.Ru"/>
          <p:cNvPicPr/>
          <p:nvPr/>
        </p:nvPicPr>
        <p:blipFill>
          <a:blip r:embed="rId4"/>
          <a:srcRect l="15845" t="14260" r="15957" b="35795"/>
          <a:stretch/>
        </p:blipFill>
        <p:spPr>
          <a:xfrm>
            <a:off x="4572000" y="4149720"/>
            <a:ext cx="292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85" name="Куб 6"/>
          <p:cNvGrpSpPr/>
          <p:nvPr/>
        </p:nvGrpSpPr>
        <p:grpSpPr>
          <a:xfrm>
            <a:off x="3090960" y="3108240"/>
            <a:ext cx="2760480" cy="1408320"/>
            <a:chOff x="3090960" y="3108240"/>
            <a:chExt cx="2760480" cy="1408320"/>
          </a:xfrm>
        </p:grpSpPr>
        <p:pic>
          <p:nvPicPr>
            <p:cNvPr id="86" name="Куб 6" descr=""/>
            <p:cNvPicPr/>
            <p:nvPr/>
          </p:nvPicPr>
          <p:blipFill>
            <a:blip r:embed="rId5"/>
            <a:stretch/>
          </p:blipFill>
          <p:spPr>
            <a:xfrm>
              <a:off x="3090960" y="3108240"/>
              <a:ext cx="276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143160" y="3465360"/>
              <a:ext cx="2328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Куб 7"/>
          <p:cNvGrpSpPr/>
          <p:nvPr/>
        </p:nvGrpSpPr>
        <p:grpSpPr>
          <a:xfrm>
            <a:off x="3614760" y="2114640"/>
            <a:ext cx="1658880" cy="1403280"/>
            <a:chOff x="3614760" y="2114640"/>
            <a:chExt cx="1658880" cy="1403280"/>
          </a:xfrm>
        </p:grpSpPr>
        <p:pic>
          <p:nvPicPr>
            <p:cNvPr id="89" name="Куб 7" descr=""/>
            <p:cNvPicPr/>
            <p:nvPr/>
          </p:nvPicPr>
          <p:blipFill>
            <a:blip r:embed="rId6"/>
            <a:stretch/>
          </p:blipFill>
          <p:spPr>
            <a:xfrm>
              <a:off x="3614760" y="2114640"/>
              <a:ext cx="16588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668760" y="2468520"/>
              <a:ext cx="1227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Куб 8"/>
          <p:cNvGrpSpPr/>
          <p:nvPr/>
        </p:nvGrpSpPr>
        <p:grpSpPr>
          <a:xfrm>
            <a:off x="3608280" y="1023840"/>
            <a:ext cx="1665360" cy="1474920"/>
            <a:chOff x="3608280" y="1023840"/>
            <a:chExt cx="1665360" cy="1474920"/>
          </a:xfrm>
        </p:grpSpPr>
        <p:pic>
          <p:nvPicPr>
            <p:cNvPr id="92" name="Куб 8" descr=""/>
            <p:cNvPicPr/>
            <p:nvPr/>
          </p:nvPicPr>
          <p:blipFill>
            <a:blip r:embed="rId7"/>
            <a:stretch/>
          </p:blipFill>
          <p:spPr>
            <a:xfrm>
              <a:off x="3608280" y="1023840"/>
              <a:ext cx="1665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662280" y="1395360"/>
              <a:ext cx="12160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8"/>
          <a:srcRect l="47170" t="0" r="46074" b="85518"/>
          <a:stretch/>
        </p:blipFill>
        <p:spPr>
          <a:xfrm>
            <a:off x="5319720" y="550800"/>
            <a:ext cx="201600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9"/>
          <a:srcRect l="47170" t="0" r="46074" b="85518"/>
          <a:stretch/>
        </p:blipFill>
        <p:spPr>
          <a:xfrm rot="19723800">
            <a:off x="5054760" y="212760"/>
            <a:ext cx="2016000" cy="958680"/>
          </a:xfrm>
          <a:prstGeom prst="rect">
            <a:avLst/>
          </a:prstGeom>
          <a:ln w="0">
            <a:noFill/>
          </a:ln>
        </p:spPr>
      </p:pic>
      <p:pic>
        <p:nvPicPr>
          <p:cNvPr id="96" name="Блок-схема: извлечение 12" descr=""/>
          <p:cNvPicPr/>
          <p:nvPr/>
        </p:nvPicPr>
        <p:blipFill>
          <a:blip r:embed="rId10"/>
          <a:stretch/>
        </p:blipFill>
        <p:spPr>
          <a:xfrm>
            <a:off x="3602160" y="-60480"/>
            <a:ext cx="17082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4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3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4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3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1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Skazka\Desktop\победа\153eb6f81bab.jpg"/>
          <p:cNvPicPr/>
          <p:nvPr/>
        </p:nvPicPr>
        <p:blipFill>
          <a:blip r:embed="rId1"/>
          <a:stretch/>
        </p:blipFill>
        <p:spPr>
          <a:xfrm>
            <a:off x="-108000" y="-270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казка</cp:lastModifiedBy>
  <dcterms:modified xsi:type="dcterms:W3CDTF">2018-04-04T10:58:57Z</dcterms:modified>
  <cp:revision>14</cp:revision>
  <dc:subject/>
  <dc:title>Развлечение в подготовительной к школе группе  «Приключения Лунтика»</dc:title>
</cp:coreProperties>
</file>