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419-9E7B-456D-8D6C-3D38D612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F03-05F0-4985-A6DE-E85D1CAE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65C-043E-495B-AB95-38560DB3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7CB6-64B3-404F-BB3F-DDC4AD51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B45D-E3C5-49B3-BCB2-098A2698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3F0D-2F52-400A-AA75-A9DE6911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EE24-F420-4984-A647-D0541143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EAC2-6912-40B2-89D8-6E50BF2B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5635-7ADC-4CDA-8D34-BEAF3D1B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7E62-FF4D-4FE9-9572-D95568A2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5C7A-EB03-4A4B-9547-C32DAAD0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B6C-BECA-4F39-9F15-C66861D9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A602-7486-47EE-A944-DF7B6D36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EAC0-FA86-40BF-9630-E486A525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27F2-6CDA-42CF-B537-40B7737A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BC16-9139-460E-BE42-6F708384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2DB6-9C9D-4E5A-9DCA-5781581F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E6DD9-EAB8-4130-AD1A-3C04FDB2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1BF15-1155-4436-A9E6-A3E787E9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5614-DF1D-44A4-A4DF-B0971E7D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9033-EA25-44A3-B797-DE84B09A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CBB0F-1589-47E6-9230-0807DE30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796-1EE6-4C1E-A500-D52B8D88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DB25F-B3D5-4FA6-8D11-D549D6D7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86598-6A96-4029-A1A1-1C616B64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ABE65-5625-4AF5-BC36-11C8E96A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10DB6-6D24-4F57-B363-28CB051E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1DFF6-0482-4EAF-9D10-FE727E76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4499-D4B0-4441-98D2-1A74B5B2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3BF29-AC2D-4CD4-A87A-0F58ED67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82241-F2A8-4CE4-AF26-5CF0926D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E812A-BB36-45AE-9C31-79242352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1B3E4-F1C6-45C4-A6C8-2B44CEBA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126C-BDA9-46A4-AB15-7642CBAA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547C2-D5C1-4214-8A19-A07D3F31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A308F-3358-40CA-AF00-2DCFD384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BB6F0-08C2-4DC9-8A45-B2774954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FDA13-30B8-4760-B0F9-E0AA8EAA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486A8-A686-4D7B-9285-E8F4A5E5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088C-E833-4CCC-854C-33749ADC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60AFC-6534-43DE-8211-CBA0355A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4B18B-7B55-4614-9331-76148610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BEDE9-1D60-465E-9F53-7B01320A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391-0600-4579-A88F-804D02CA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A58-FE03-47FD-A140-45CA7BE9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595-8493-4863-BDDF-81B3C078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301-0D45-451D-9FF0-927B8BD6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C7F-797A-42D4-B5C6-741FFE6E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5E2A-2545-4906-B6F9-B840C1067E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4790-1E73-465C-9DAF-A6ECFA16C7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B60F-A517-4377-B50F-65B17CCEEF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2F0B-EB5D-4C7F-879E-55C20113F3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forum.akademroditel.ru/" TargetMode="External"/><Relationship Id="rId2" Type="http://schemas.openxmlformats.org/officeDocument/2006/relationships/hyperlink" Target="http://go.mail.ru/" TargetMode="External"/><Relationship Id="rId3" Type="http://schemas.openxmlformats.org/officeDocument/2006/relationships/hyperlink" Target="http://www.teacherjournal.r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6720" y="981000"/>
            <a:ext cx="6419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ая безопасность для детей дошкольного возра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2484360" y="4508640"/>
            <a:ext cx="6335640" cy="149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дготовил: воспитатель МБДОУ «Детский сад общеразвивающего вида № 101» Ковалева Е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ая машина придёт на помощ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http://dob.1september.ru/2002/15/12.jpg"/>
          <p:cNvPicPr/>
          <p:nvPr/>
        </p:nvPicPr>
        <p:blipFill>
          <a:blip r:embed="rId1"/>
          <a:stretch/>
        </p:blipFill>
        <p:spPr>
          <a:xfrm>
            <a:off x="3851280" y="263700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188" name="WordArt 4"/>
          <p:cNvSpPr txBox="1"/>
          <p:nvPr/>
        </p:nvSpPr>
        <p:spPr>
          <a:xfrm>
            <a:off x="395280" y="3573360"/>
            <a:ext cx="3419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ы пожарников отря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ски весело горя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локольчики звеня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пустить скорей веля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ачался пожар……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324000" y="321300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огонь небольшой, можно попробовать сразу же затушить его, набросив на него плотную ткань или одеяло, заливая водой или засыпая пес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огонь сразу не погас, немедленно убегай из дома в безопасное место. И только после этого позвони в пожарную охрану по телефону «01» или попроси об этом сосе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не можешь убежать из горящей квартиры, сразу же позвони по телефону «01» и сообщи пожарным точный адрес и номер своей квартиры. После этого зови из окна на помощь соседей и прохож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При пожаре дым гораздо опаснее огня. Большинство людей при пожаре гибнут от дыма. Если чувствуешь, что задыхаешься, опустись на корточки или продвигайся к выходу ползком — внизу дыма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ачался пожар….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324000" y="328464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5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в помещение проник дым, надо смочить водой одежду, покрыть голову мокрой салфеткой и выходить пригнувшись или полз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6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Обязательно закрой форточку и дверь в комнате, где начался пожар. Закрытая дверь может не только задержать проникновение дыма, но иногда и погасить ого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7.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полни водой ванну, ведра, тазы. Можешь облить водой двери и п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8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При пожаре в подъезде никогда не садись в лифт. Он может отключиться и ты задохнеш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9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Когда приедут пожарные, во всем их слушайся и не бойся. Они лучше знают, как тебя сп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24000" y="692280"/>
            <a:ext cx="6562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внимателен!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удь выключить утюг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C:\Users\Антон\Downloads\images (7).jpg"/>
          <p:cNvPicPr/>
          <p:nvPr/>
        </p:nvPicPr>
        <p:blipFill>
          <a:blip r:embed="rId1"/>
          <a:stretch/>
        </p:blipFill>
        <p:spPr>
          <a:xfrm>
            <a:off x="4211640" y="3141720"/>
            <a:ext cx="39038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чки детям не дават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http://sch91nov.narod.ru/images/im002.jpg"/>
          <p:cNvPicPr/>
          <p:nvPr/>
        </p:nvPicPr>
        <p:blipFill>
          <a:blip r:embed="rId1"/>
          <a:stretch/>
        </p:blipFill>
        <p:spPr>
          <a:xfrm>
            <a:off x="3851280" y="1628640"/>
            <a:ext cx="4416480" cy="3456000"/>
          </a:xfrm>
          <a:prstGeom prst="rect">
            <a:avLst/>
          </a:prstGeom>
          <a:ln w="0">
            <a:noFill/>
          </a:ln>
        </p:spPr>
      </p:pic>
      <p:sp>
        <p:nvSpPr>
          <p:cNvPr id="197" name="WordArt 4"/>
          <p:cNvSpPr txBox="1"/>
          <p:nvPr/>
        </p:nvSpPr>
        <p:spPr>
          <a:xfrm>
            <a:off x="755640" y="4292640"/>
            <a:ext cx="3492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тям спички не да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доме долго прожи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вляй в лесу, горящий ого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http://sch91nov.narod.ru/images/im006.jpg"/>
          <p:cNvPicPr/>
          <p:nvPr/>
        </p:nvPicPr>
        <p:blipFill>
          <a:blip r:embed="rId1"/>
          <a:stretch/>
        </p:blipFill>
        <p:spPr>
          <a:xfrm>
            <a:off x="4284720" y="2637000"/>
            <a:ext cx="4227480" cy="3456000"/>
          </a:xfrm>
          <a:prstGeom prst="rect">
            <a:avLst/>
          </a:prstGeom>
          <a:ln w="0">
            <a:noFill/>
          </a:ln>
        </p:spPr>
      </p:pic>
      <p:sp>
        <p:nvSpPr>
          <p:cNvPr id="200" name="WordArt 4"/>
          <p:cNvSpPr txBox="1"/>
          <p:nvPr/>
        </p:nvSpPr>
        <p:spPr>
          <a:xfrm>
            <a:off x="179280" y="3789360"/>
            <a:ext cx="39960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лугу траву сожгл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букашки, таракашки не ушл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гибали от ог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простят они мен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пользоваться газом детям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http://sch91nov.narod.ru/images/im008.jpg"/>
          <p:cNvPicPr/>
          <p:nvPr/>
        </p:nvPicPr>
        <p:blipFill>
          <a:blip r:embed="rId1"/>
          <a:stretch/>
        </p:blipFill>
        <p:spPr>
          <a:xfrm>
            <a:off x="4140360" y="2492280"/>
            <a:ext cx="4700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4076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авило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е поддаваться панике, не терять самооблад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и возникновении пожара нельзя прятаться! Если в квартире есть телефон, то набирай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01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Если телефона нет – убегай из квартиры к соседям. Если огонь не даёт выйти – кричи из окна, зови на помощь.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http://sch91nov.narod.ru/images/ima012.jpg"/>
          <p:cNvPicPr/>
          <p:nvPr/>
        </p:nvPicPr>
        <p:blipFill>
          <a:blip r:embed="rId1"/>
          <a:stretch/>
        </p:blipFill>
        <p:spPr>
          <a:xfrm>
            <a:off x="5076720" y="476280"/>
            <a:ext cx="34768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ИЧИНЫ ПОЖАР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1835280" y="3192480"/>
            <a:ext cx="6562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cc"/>
                </a:solidFill>
                <a:latin typeface="Arial"/>
                <a:ea typeface="Arial"/>
              </a:rPr>
              <a:t>игры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ку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  <a:ea typeface="Arial"/>
              </a:rPr>
              <a:t>короткое замык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Arial"/>
              </a:rPr>
              <a:t>неосторожное обращение со спи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ВЫЗОВА ЭКСТРЕННЫХ СЛУЖБ ПО ТЕЛЕФОН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1042920" y="3500280"/>
            <a:ext cx="756144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ообщите кратко следующ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чину вызова (пожа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точный адрес (улица, номер дома и    квартиры, этаж, подъезд, ко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ашу фамилию и номер телефона, откуда передается со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бязательно запишите фамилию дежурного, принявшего ваш вы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голок противопожарной безопасност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Users\Антон\Downloads\images (3).jpg"/>
          <p:cNvPicPr/>
          <p:nvPr/>
        </p:nvPicPr>
        <p:blipFill>
          <a:blip r:embed="rId1"/>
          <a:stretch/>
        </p:blipFill>
        <p:spPr>
          <a:xfrm>
            <a:off x="4572000" y="1700280"/>
            <a:ext cx="4325760" cy="32400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"/>
          <p:cNvSpPr txBox="1"/>
          <p:nvPr/>
        </p:nvSpPr>
        <p:spPr>
          <a:xfrm>
            <a:off x="179280" y="4005360"/>
            <a:ext cx="4753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нструменты на щ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ам всегда помогу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ать отпор большой бе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гонь потушить помогу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сь огн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2"/>
          <p:cNvSpPr/>
          <p:nvPr/>
        </p:nvSpPr>
        <p:spPr>
          <a:xfrm>
            <a:off x="250920" y="386064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жар — самое распространенное бедствие. В нашей стране в среднем один пожар происходит раз в две минуты. И каждый час в огне погибают два или три человека и еще один или двое получают травмы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льшинство пожаров происходят в квартирах. Причина многих их них — детская шалость с огнем. Отсюда главное правило, которое нужно соблюдать всегда и везде: никогда не играй с огнем, не позволяй играть с ним другим ребятам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хи сочинил Кавылин Андрей Александрови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468360" y="4005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4589280" y="155736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forum.akademrodite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4653360" y="206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go.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4654800" y="2421000"/>
            <a:ext cx="30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teacherjourna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69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а рисунков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C:\Users\Антон\Downloads\images (4).jpg"/>
          <p:cNvPicPr/>
          <p:nvPr/>
        </p:nvPicPr>
        <p:blipFill>
          <a:blip r:embed="rId1"/>
          <a:stretch/>
        </p:blipFill>
        <p:spPr>
          <a:xfrm>
            <a:off x="2987640" y="2565360"/>
            <a:ext cx="576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жарная безопасность в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539640" y="3716280"/>
            <a:ext cx="3240360" cy="28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ва туриста: Саша с Яш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ожгли костёр в лес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стех пор в тех кра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поют птицы на ветвя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73" name="Picture 2" descr="C:\Users\Дом\Desktop\7EgFM02coGM.jpg"/>
          <p:cNvPicPr/>
          <p:nvPr/>
        </p:nvPicPr>
        <p:blipFill>
          <a:blip r:embed="rId1"/>
          <a:stretch/>
        </p:blipFill>
        <p:spPr>
          <a:xfrm>
            <a:off x="4427640" y="2781360"/>
            <a:ext cx="45370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жарная безопасность в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1042920" y="3213000"/>
            <a:ext cx="756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рещено разбрасывать по лесу тлеющие спички, окур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одить костер в лесу нужно только при соблюдении следующих правил: место разведения костра необходимо тщательно выбрать, чтобы пламя не повредило большой участок поч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учше разводить костер там, где не растет трава, где ранее уже разводили огонь. место разведения костра необходимо окоп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езжая из леса, костер следует потушить, засыпать землей или песком, убедиться, что пламя потухло пол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сь мусор нужно забирать из леса с собой, стеклянные осколки могут стать причиной пожара, поскольку от них в солнечную погоду могут отражаться солнечные зайчики, бумажные отходы также опас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повед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725400" y="3933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Пожар — самая большая опасность в лесу. Поэтому не разводи костер без взрослы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е балуйся с огнем. В сухую жаркую погоду достаточно одной спички или искры от фейерверка, чтобы лес загорел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пожар все-таки начался, немедленно выбегай из леса. Старайся бежать в ту сторону, откуда дует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Выйдя из леса, обязательно сообщи о пожаре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сли в доме случилась беда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http://shibakova.ucoz.ru/_nw/0/05749643.jpg"/>
          <p:cNvPicPr/>
          <p:nvPr/>
        </p:nvPicPr>
        <p:blipFill>
          <a:blip r:embed="rId1"/>
          <a:stretch/>
        </p:blipFill>
        <p:spPr>
          <a:xfrm>
            <a:off x="4572000" y="1363680"/>
            <a:ext cx="3887640" cy="5494320"/>
          </a:xfrm>
          <a:prstGeom prst="rect">
            <a:avLst/>
          </a:prstGeom>
          <a:ln w="0">
            <a:noFill/>
          </a:ln>
        </p:spPr>
      </p:pic>
      <p:sp>
        <p:nvSpPr>
          <p:cNvPr id="180" name="WordArt 4"/>
          <p:cNvSpPr txBox="1"/>
          <p:nvPr/>
        </p:nvSpPr>
        <p:spPr>
          <a:xfrm>
            <a:off x="900000" y="3500280"/>
            <a:ext cx="295128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ют все и стар и мал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б с огнём не балов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не то беда при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с собой всё унес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к делать нельз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826920" y="3860640"/>
            <a:ext cx="30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ички детям не игруш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стно скажем вам, друзь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ли спичка загорится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жет в дом прийти бе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83" name="Picture 5" descr="C:\Users\Дом\Desktop\88-1-kartinki-po-pozharnoj-bezopasnosti-dlya-shkolnikov.jpg"/>
          <p:cNvPicPr/>
          <p:nvPr/>
        </p:nvPicPr>
        <p:blipFill>
          <a:blip r:embed="rId1"/>
          <a:stretch/>
        </p:blipFill>
        <p:spPr>
          <a:xfrm>
            <a:off x="4427640" y="1224000"/>
            <a:ext cx="42498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е балуйся дома со спичками и зажигалками. Это одна из причин пожар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е оставляй без присмотра включенные электроприборы, особенно утюги, обогреватели, телевизор, светильники и др. Уходя из дома, не забудь их выключи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е суши белье над плитой. Оно может загореть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е забывай выключить газовую плиту. Если почувствовал запах газа, не зажигай спичек и не включай свет. Срочно проветри квартир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№ 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и в коем случае не зажигай фейерверки, свечи или бенгальские огни дома без взрослы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826920" y="620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по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тон</dc:creator>
  <dc:description/>
  <dc:language>en-US</dc:language>
  <cp:lastModifiedBy>Дом</cp:lastModifiedBy>
  <dcterms:modified xsi:type="dcterms:W3CDTF">2018-04-12T06:18:25Z</dcterms:modified>
  <cp:revision>25</cp:revision>
  <dc:subject/>
  <dc:title>Слайд 1</dc:title>
</cp:coreProperties>
</file>