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1A6-B88B-4206-A997-C0270F10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6D3-9E3B-4FED-BE2B-D38A961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8AC-CFDF-4A72-A180-19171CA6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994-C903-4510-BAD9-61079ED1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F225-C5C4-4698-8F07-37EDF645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0B3-36E7-4F8A-B625-B4E7E08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3A1-1104-4469-8A90-6D4F8AD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D1BF-115B-42D3-A09A-2977EBC3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00B-B09D-489B-BBAD-32225B5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246-8721-473F-9BA7-3AEBB29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AA89-FECB-4F58-B55F-F6C7A27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261-14DF-47F9-BE34-ACAA016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D14-8D59-48F4-970D-6CF8507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B976-36AA-41E1-8331-E9AB23A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7ED-3031-4038-A699-95285501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FE76-A24D-40B6-8E33-1FE78449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B6C7-DB82-4FDD-8ADC-20DBC90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F41A-2678-40E2-A12D-85F4EA5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D234-BA0B-4C24-8DCE-16DF1F6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5ECC-E76A-4F91-9201-1166050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CF81-591C-4816-96AF-4EED70E3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8339-49AD-4A03-B4CE-C3E9EA0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A9F-3A4E-4EF5-89BC-A7C30ADF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B405-0E36-49ED-BA04-8A9191B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C349-152C-4889-8506-D5F64C4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2945-A80D-46D3-AD16-60DBCF9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A9E7-6FAF-4A4C-9982-C501AFA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0041-E9B8-4A59-8376-E703230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ADED-9696-489A-8CAF-7564F503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09EE-CA67-4DE1-B129-B889CA3B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6536-38FD-48CA-869D-A28614A4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88D9-98C1-44EA-8C98-22F9958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3B4A-8260-4BA7-A7CD-92B14D20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9C2-0DFB-4F8F-AC5F-5D62042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88AC-1EB1-4AAA-94E1-CDD74CC7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21C8-C39C-44E7-AD4E-338C201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E23F-FDD4-4561-8BA1-97709EA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DCA6-74E7-423B-8CED-B4541A6E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BC1B-360D-481B-B287-18130F6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FD67-7163-4CC1-958F-7A46171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193B-E810-485F-96F6-236AC1B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9F6B-D4D3-4FF0-A71C-53F3355B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D596-B5E4-4268-AB1E-845FE11E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511-5DEB-4379-8ACE-94308F2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01E-9953-4DA9-81AB-A71368D7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023-2251-48F2-90E4-BD3A7C6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83A-8119-4902-AB73-A901563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3E3-EE50-4CF3-9F4C-B6B764D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32C-2AAE-4AA2-B57E-036FC6589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E5C1-3B35-4643-B1E1-0CDFA582E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A10-4A18-491C-B16A-8D59A2077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69BB-A111-4096-B712-DEBD778D6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forum.akademroditel.ru/" TargetMode="External"/><Relationship Id="rId2" Type="http://schemas.openxmlformats.org/officeDocument/2006/relationships/hyperlink" Target="http://go.mail.ru/" TargetMode="External"/><Relationship Id="rId3" Type="http://schemas.openxmlformats.org/officeDocument/2006/relationships/hyperlink" Target="http://www.teacherjournal.r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6720" y="981000"/>
            <a:ext cx="6419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для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2484360" y="4508640"/>
            <a:ext cx="6335640" cy="149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: воспитатель МБДОУ «Детский сад общеразвивающего вида № 101» Ковал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чался пожар……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чался пожар….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562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нимателен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 выключить утю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407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 поддаваться панике, не терять самообл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01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1835280" y="3192480"/>
            <a:ext cx="6562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  <a:ea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  <a:ea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ЫЗОВА ЭКСТРЕННЫХ СЛУЖБ ПО ТЕЛЕФО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042920" y="3500280"/>
            <a:ext cx="7561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ар — самое распространенное бедствие.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очинил Кавылин Андрей Александрови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468360" y="400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4589280" y="155736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forum.akadem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4653360" y="206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go.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54800" y="24210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teacherjourn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69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а рисунков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2987640" y="2565360"/>
            <a:ext cx="57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жарная безопасност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3" name="Picture 2" descr="C:\Users\Дом\Desktop\7EgFM02coGM.jpg"/>
          <p:cNvPicPr/>
          <p:nvPr/>
        </p:nvPicPr>
        <p:blipFill>
          <a:blip r:embed="rId1"/>
          <a:stretch/>
        </p:blipFill>
        <p:spPr>
          <a:xfrm>
            <a:off x="4427640" y="2781360"/>
            <a:ext cx="4537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жарная безопасност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1042920" y="321300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рещено разбрасывать по лесу тлеющие спички, оку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одить костер в лесу нужно только при соблюдении следующих правил: место разведения костра необходимо тщательно выбрать, чтобы пламя не повредило большой участок поч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учше разводить костер там, где не растет трава, где ранее уже разводили огонь. место разведения костра необходимо окоп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езжая из леса, костер следует потушить, засыпать землей или песком, убедиться, что пламя потухло пол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ь мусор нужно забирать из леса с собой, стеклянные осколки могут стать причиной пожара, поскольку от них в солнечную погоду могут отражаться солнечные зайчики, бумажные отходы также опа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725400" y="3933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делать нельз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3" name="Picture 5" descr="C:\Users\Дом\Desktop\88-1-kartinki-po-pozharnoj-bezopasnosti-dlya-shkolnikov.jpg"/>
          <p:cNvPicPr/>
          <p:nvPr/>
        </p:nvPicPr>
        <p:blipFill>
          <a:blip r:embed="rId1"/>
          <a:stretch/>
        </p:blipFill>
        <p:spPr>
          <a:xfrm>
            <a:off x="4427640" y="1224000"/>
            <a:ext cx="42498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и в коем случае не зажигай фейерверки, свечи или бенгальские огни дома без взросл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826920" y="620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Дом</cp:lastModifiedBy>
  <dcterms:modified xsi:type="dcterms:W3CDTF">2018-04-12T06:18:25Z</dcterms:modified>
  <cp:revision>25</cp:revision>
  <dc:subject/>
  <dc:title>Слайд 1</dc:title>
</cp:coreProperties>
</file>