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6.wmf" ContentType="image/x-wmf"/>
  <Override PartName="/ppt/media/image13.png" ContentType="image/png"/>
  <Override PartName="/ppt/media/image4.gif" ContentType="image/gif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10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AE7-5F69-4633-859A-155AC239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5D8-018D-492E-BFA6-60ED62A6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D1C-6FD8-4C49-BD99-52B22A4C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998-131F-45BA-A8E1-18EC8055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48B-5288-4E39-8C47-F9EB8B5F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DE6-4E38-4433-8779-8EAC99C7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2F5-8205-415C-8CAF-AFA79B68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9B1-495A-4903-AAD6-17C28AA0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D09-D6C9-4FE3-83BA-683778C6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F5F-082D-4D7F-B704-B27EBD8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9B4-AA1C-4FE3-A852-EBCCD36F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2CC-873B-4BA1-8F94-FD124E6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42DC-8EBB-4550-AE5C-CBBE159C4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10"/>
          <p:cNvPicPr/>
          <p:nvPr/>
        </p:nvPicPr>
        <p:blipFill>
          <a:blip r:embed="rId1"/>
          <a:stretch/>
        </p:blipFill>
        <p:spPr>
          <a:xfrm>
            <a:off x="6227640" y="4524480"/>
            <a:ext cx="2916360" cy="2333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302"/>
          <p:cNvPicPr/>
          <p:nvPr/>
        </p:nvPicPr>
        <p:blipFill>
          <a:blip r:embed="rId2"/>
          <a:stretch/>
        </p:blipFill>
        <p:spPr>
          <a:xfrm>
            <a:off x="7812000" y="1557360"/>
            <a:ext cx="1158840" cy="15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56"/>
          <p:cNvPicPr/>
          <p:nvPr/>
        </p:nvPicPr>
        <p:blipFill>
          <a:blip r:embed="rId3"/>
          <a:stretch/>
        </p:blipFill>
        <p:spPr>
          <a:xfrm>
            <a:off x="324000" y="33336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108"/>
          <p:cNvPicPr/>
          <p:nvPr/>
        </p:nvPicPr>
        <p:blipFill>
          <a:blip r:embed="rId4"/>
          <a:stretch/>
        </p:blipFill>
        <p:spPr>
          <a:xfrm>
            <a:off x="320364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393"/>
          <p:cNvPicPr/>
          <p:nvPr/>
        </p:nvPicPr>
        <p:blipFill>
          <a:blip r:embed="rId5"/>
          <a:stretch/>
        </p:blipFill>
        <p:spPr>
          <a:xfrm>
            <a:off x="4284720" y="5373720"/>
            <a:ext cx="1050840" cy="1484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990184093"/>
          <p:cNvPicPr/>
          <p:nvPr/>
        </p:nvPicPr>
        <p:blipFill>
          <a:blip r:embed="rId6"/>
          <a:stretch/>
        </p:blipFill>
        <p:spPr>
          <a:xfrm>
            <a:off x="0" y="405144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bb92f245b27e4d3b71583670080376b6"/>
          <p:cNvPicPr/>
          <p:nvPr/>
        </p:nvPicPr>
        <p:blipFill>
          <a:blip r:embed="rId7"/>
          <a:stretch/>
        </p:blipFill>
        <p:spPr>
          <a:xfrm flipH="1">
            <a:off x="6012000" y="26028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3"/>
          <p:cNvSpPr txBox="1"/>
          <p:nvPr/>
        </p:nvSpPr>
        <p:spPr>
          <a:xfrm>
            <a:off x="395280" y="3141720"/>
            <a:ext cx="85694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2771640" y="4005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МБДОУ д/с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Кущ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лестова  Е.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5616360" cy="544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769080" y="4165560"/>
            <a:ext cx="2374920" cy="2692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468360" y="47628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сточки собака гложет,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Злых людей кусает тоже –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бы не забрался вор,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торожит и дом и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58800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11280" y="227664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телёнка, и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1187280" y="522936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ыгнул шейку жеребёнок –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ильной лошади ребёнок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лько на копытца встал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5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мотри, играют в прятк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Шаловливые котятк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таилась у окошка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ихо-тихо мама-кошка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ит деточек играть: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ячик по полу катают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ышкой мяч воображают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MC900312526[1]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7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C 0.08229 0.00023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грязнули-свин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пине щетин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ордашке пятач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зочке прыгуч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орной, бодуч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ится украд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MC900246127[1]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9280" y="2465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6916680" y="4149720"/>
            <a:ext cx="1987560" cy="2554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468360" y="23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443640" y="3429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гнё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067280" y="333360"/>
            <a:ext cx="388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ебенка - ягн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тушки-коле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у папы бар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у мамы ове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2457360"/>
            <a:ext cx="4419720" cy="4400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5148360" y="4219560"/>
            <a:ext cx="2719440" cy="2638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859280" y="76500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идит мух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лик длинноух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етке для него всег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орковка и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C900250839[1]"/>
          <p:cNvPicPr/>
          <p:nvPr/>
        </p:nvPicPr>
        <p:blipFill>
          <a:blip r:embed="rId3"/>
          <a:stretch/>
        </p:blipFill>
        <p:spPr>
          <a:xfrm>
            <a:off x="3708360" y="5607000"/>
            <a:ext cx="1655640" cy="125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MC900250839[1]"/>
          <p:cNvPicPr/>
          <p:nvPr/>
        </p:nvPicPr>
        <p:blipFill>
          <a:blip r:embed="rId4"/>
          <a:stretch/>
        </p:blipFill>
        <p:spPr>
          <a:xfrm>
            <a:off x="3924360" y="5229360"/>
            <a:ext cx="1655640" cy="125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C900250839[1]"/>
          <p:cNvPicPr/>
          <p:nvPr/>
        </p:nvPicPr>
        <p:blipFill>
          <a:blip r:embed="rId5"/>
          <a:stretch/>
        </p:blipFill>
        <p:spPr>
          <a:xfrm>
            <a:off x="7488360" y="5607000"/>
            <a:ext cx="1655640" cy="1251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5580000" y="36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льч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Дом</cp:lastModifiedBy>
  <dcterms:modified xsi:type="dcterms:W3CDTF">2018-04-13T12:51:40Z</dcterms:modified>
  <cp:revision>4</cp:revision>
  <dc:subject/>
  <dc:title>Слайд 1</dc:title>
</cp:coreProperties>
</file>