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6.wmf" ContentType="image/x-wmf"/>
  <Override PartName="/ppt/media/image13.png" ContentType="image/png"/>
  <Override PartName="/ppt/media/image4.gif" ContentType="image/gif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10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2D4-BEF6-4AC1-B9AA-F6B64BC4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4E0-4ED3-4532-BD83-6D0B7A54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46D-7CF4-4037-BF39-641C6721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131-2B4C-4F42-B03D-0DE5B554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474-45B7-46C1-AB21-FC08C2CD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77B-B27C-418B-834D-68B02215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40B-450C-4A2D-86F9-BCC63655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49D-4022-4E73-AAB7-D030C229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6E5-F989-4B2C-9A43-C4154BD4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C94-C3CF-41AF-B6B4-7FCDA885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818-5244-45C2-994E-83CD3C7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3CC-7839-4F1F-BB1A-0F0A7B15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12A2-2937-44A1-B7E2-34E307424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10"/>
          <p:cNvPicPr/>
          <p:nvPr/>
        </p:nvPicPr>
        <p:blipFill>
          <a:blip r:embed="rId1"/>
          <a:stretch/>
        </p:blipFill>
        <p:spPr>
          <a:xfrm>
            <a:off x="6227640" y="4524480"/>
            <a:ext cx="2916360" cy="2333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302"/>
          <p:cNvPicPr/>
          <p:nvPr/>
        </p:nvPicPr>
        <p:blipFill>
          <a:blip r:embed="rId2"/>
          <a:stretch/>
        </p:blipFill>
        <p:spPr>
          <a:xfrm>
            <a:off x="7812000" y="1557360"/>
            <a:ext cx="1158840" cy="155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56"/>
          <p:cNvPicPr/>
          <p:nvPr/>
        </p:nvPicPr>
        <p:blipFill>
          <a:blip r:embed="rId3"/>
          <a:stretch/>
        </p:blipFill>
        <p:spPr>
          <a:xfrm>
            <a:off x="324000" y="33336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108"/>
          <p:cNvPicPr/>
          <p:nvPr/>
        </p:nvPicPr>
        <p:blipFill>
          <a:blip r:embed="rId4"/>
          <a:stretch/>
        </p:blipFill>
        <p:spPr>
          <a:xfrm>
            <a:off x="3203640" y="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393"/>
          <p:cNvPicPr/>
          <p:nvPr/>
        </p:nvPicPr>
        <p:blipFill>
          <a:blip r:embed="rId5"/>
          <a:stretch/>
        </p:blipFill>
        <p:spPr>
          <a:xfrm>
            <a:off x="4284720" y="5373720"/>
            <a:ext cx="1050840" cy="1484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990184093"/>
          <p:cNvPicPr/>
          <p:nvPr/>
        </p:nvPicPr>
        <p:blipFill>
          <a:blip r:embed="rId6"/>
          <a:stretch/>
        </p:blipFill>
        <p:spPr>
          <a:xfrm>
            <a:off x="0" y="4051440"/>
            <a:ext cx="3095640" cy="2806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bb92f245b27e4d3b71583670080376b6"/>
          <p:cNvPicPr/>
          <p:nvPr/>
        </p:nvPicPr>
        <p:blipFill>
          <a:blip r:embed="rId7"/>
          <a:stretch/>
        </p:blipFill>
        <p:spPr>
          <a:xfrm flipH="1">
            <a:off x="6012000" y="26028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3"/>
          <p:cNvSpPr txBox="1"/>
          <p:nvPr/>
        </p:nvSpPr>
        <p:spPr>
          <a:xfrm>
            <a:off x="395280" y="3141720"/>
            <a:ext cx="85694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  животные и их  детёныш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2771640" y="400536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МБДОУ д/с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.Кущ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лестова  Е.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5616360" cy="544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769080" y="4165560"/>
            <a:ext cx="2374920" cy="2692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468360" y="476280"/>
            <a:ext cx="45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сточки собака гложет,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Злых людей кусает тоже –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бы не забрался вор,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торожит и дом и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588000" y="35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232600" cy="331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492360" y="3787920"/>
            <a:ext cx="3418200" cy="3070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11280" y="227664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 лугу телёнок ск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Му-у-у» – кричи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он не пл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ь-коровушку зовёт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локом поит он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телёнка, и т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8472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300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6227640" y="3211560"/>
            <a:ext cx="2738520" cy="364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548640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1187280" y="522936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ыгнул шейку жеребёнок –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ильной лошади ребёнок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лько на копытца встал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след за мамой побеж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6156360" y="23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5292720" y="0"/>
            <a:ext cx="3635280" cy="429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2"/>
          <a:stretch/>
        </p:blipFill>
        <p:spPr>
          <a:xfrm>
            <a:off x="0" y="4292640"/>
            <a:ext cx="4181400" cy="2819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5"/>
          <p:cNvSpPr/>
          <p:nvPr/>
        </p:nvSpPr>
        <p:spPr>
          <a:xfrm>
            <a:off x="539640" y="98100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мотри, играют в прятк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Шаловливые котятк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таилась у окошка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ихо-тихо мама-кошка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ит деточек играть: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ячик по полу катают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ышкой мяч воображают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о подбросят, то пойм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MC900312526[1]"/>
          <p:cNvPicPr/>
          <p:nvPr/>
        </p:nvPicPr>
        <p:blipFill>
          <a:blip r:embed="rId3"/>
          <a:stretch/>
        </p:blipFill>
        <p:spPr>
          <a:xfrm>
            <a:off x="1403280" y="6237360"/>
            <a:ext cx="612720" cy="620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7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4067280" y="5805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C 0.08229 0.00023 0.48247 -0.01644 0.68003 0.00486 C 0.68507 0.01204 0.68455 0.02407 0.67743 0.02824 C 0.66441 0.03565 0.6526 0.03241 0.6375 0.03333 C 0.6217 0.0375 0.6059 0.04236 0.58993 0.04491 C 0.40365 0.04375 0.19931 0.14514 0.03125 0.03819 C 0.02101 0.03171 0.03351 0.03773 0.02378 0.03333 C 0.02049 0.02893 0.01563 0.02222 0.01128 0.01991 C 0.00399 0.01574 0.00799 0.0206 0.00503 0.01667 E">
                                      <p:cBhvr>
                                        <p:cTn id="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3994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8436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24000" y="4869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грязнули-свин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пине щетин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ордашке пятач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зади тонкий хвост-крю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5219640" y="32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ос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2637000"/>
            <a:ext cx="4956120" cy="4039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7315200" y="4481640"/>
            <a:ext cx="1828800" cy="2376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700360" y="549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зочке прыгуч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орной, бодуч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ится украдк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апусту с гря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MC900246127[1]"/>
          <p:cNvPicPr/>
          <p:nvPr/>
        </p:nvPicPr>
        <p:blipFill>
          <a:blip r:embed="rId3"/>
          <a:stretch/>
        </p:blipFill>
        <p:spPr>
          <a:xfrm>
            <a:off x="5003640" y="5445000"/>
            <a:ext cx="1327320" cy="1211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6551640" y="38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79280" y="2465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6916680" y="4149720"/>
            <a:ext cx="1987560" cy="2554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468360" y="2349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443640" y="3429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гнё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067280" y="333360"/>
            <a:ext cx="388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ебенка - ягн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итушки-коле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у папы бар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у мамы ове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2457360"/>
            <a:ext cx="4419720" cy="4400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5148360" y="4219560"/>
            <a:ext cx="2719440" cy="2638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859280" y="76500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идит мух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лик длинноух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етке для него всег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орковка и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C900250839[1]"/>
          <p:cNvPicPr/>
          <p:nvPr/>
        </p:nvPicPr>
        <p:blipFill>
          <a:blip r:embed="rId3"/>
          <a:stretch/>
        </p:blipFill>
        <p:spPr>
          <a:xfrm>
            <a:off x="3708360" y="5607000"/>
            <a:ext cx="1655640" cy="1251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MC900250839[1]"/>
          <p:cNvPicPr/>
          <p:nvPr/>
        </p:nvPicPr>
        <p:blipFill>
          <a:blip r:embed="rId4"/>
          <a:stretch/>
        </p:blipFill>
        <p:spPr>
          <a:xfrm>
            <a:off x="3924360" y="5229360"/>
            <a:ext cx="1655640" cy="1250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C900250839[1]"/>
          <p:cNvPicPr/>
          <p:nvPr/>
        </p:nvPicPr>
        <p:blipFill>
          <a:blip r:embed="rId5"/>
          <a:stretch/>
        </p:blipFill>
        <p:spPr>
          <a:xfrm>
            <a:off x="7488360" y="5607000"/>
            <a:ext cx="1655640" cy="1251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5580000" y="3645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льч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04:05Z</dcterms:created>
  <dc:creator>Admin</dc:creator>
  <dc:description/>
  <dc:language>en-US</dc:language>
  <cp:lastModifiedBy>Дом</cp:lastModifiedBy>
  <dcterms:modified xsi:type="dcterms:W3CDTF">2018-04-13T12:51:40Z</dcterms:modified>
  <cp:revision>4</cp:revision>
  <dc:subject/>
  <dc:title>Слайд 1</dc:title>
</cp:coreProperties>
</file>