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CF4-472D-43C1-AA20-BF32CDC9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18F-2F52-4AF1-A507-CBFF0750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FE6-6A83-4BE9-8D48-27C011F1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EB2-65A1-4DFB-934B-0F5BD133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52AC-DDA8-4DFF-B37C-E0152884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6779-2DAE-43CB-99AD-4CE0F692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A98-BEFD-4FCC-97A8-F74C381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BA61-2615-4586-ADE0-9869DA5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0486-8F48-4A8E-895B-FF1E141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497F-3A58-43DA-9EBC-8E017E6E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80EB-B8D5-4838-BDCE-EDE54DA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0F1-40B7-4280-98F0-7E35064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9F6E-8123-48A5-B6DE-BFC7636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EC76-CB18-4974-876B-63DA443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F76-A063-49DA-AD02-E5DFE3BA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114-D4EB-4C31-8E6C-0F3781F7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0C6A-ABCC-4A37-A69A-AB47F41B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B25-F4D8-45AD-8CAB-88D316A1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A42-C051-445B-8905-C4ADE8B5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742-A6E2-414A-9AF5-6875156B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AF8-85BF-4A03-AE3F-AC514CA4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DBC-A67F-4F87-9018-27B5BE7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562-79B4-4759-AE44-FB9D0C08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B3D-6A73-4A40-9128-68E6551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7AF6-9D73-4270-9037-7250C29827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F94C-77F9-4118-AB85-E888976D543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Занятие по изобразительной деятельности с применением нетрадиционных методов рисования (комментированное рисование, рисование солью (техника насыпка)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5" descr="20180125_103717"/>
          <p:cNvPicPr/>
          <p:nvPr/>
        </p:nvPicPr>
        <p:blipFill>
          <a:blip r:embed="rId1"/>
          <a:stretch/>
        </p:blipFill>
        <p:spPr>
          <a:xfrm>
            <a:off x="152280" y="2133720"/>
            <a:ext cx="3372120" cy="419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20180125_103727"/>
          <p:cNvPicPr/>
          <p:nvPr/>
        </p:nvPicPr>
        <p:blipFill>
          <a:blip r:embed="rId2"/>
          <a:stretch/>
        </p:blipFill>
        <p:spPr>
          <a:xfrm>
            <a:off x="3657600" y="2133720"/>
            <a:ext cx="4057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7787_b45140299cc2c761bf10f0d2dcb51d05"/>
          <p:cNvPicPr/>
          <p:nvPr/>
        </p:nvPicPr>
        <p:blipFill>
          <a:blip r:embed="rId1"/>
          <a:stretch/>
        </p:blipFill>
        <p:spPr>
          <a:xfrm>
            <a:off x="152280" y="152280"/>
            <a:ext cx="4851360" cy="6400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5029200" y="7218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Русская березка красива в любое время год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_"/>
          <p:cNvPicPr/>
          <p:nvPr/>
        </p:nvPicPr>
        <p:blipFill>
          <a:blip r:embed="rId1"/>
          <a:stretch/>
        </p:blipFill>
        <p:spPr>
          <a:xfrm>
            <a:off x="228600" y="152280"/>
            <a:ext cx="5138640" cy="62676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5562720" y="6253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озьмите лист бумаги синего цвета, положите вертикально и возьмите простой карандаш. 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2_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4953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3_"/>
          <p:cNvPicPr/>
          <p:nvPr/>
        </p:nvPicPr>
        <p:blipFill>
          <a:blip r:embed="rId2"/>
          <a:stretch/>
        </p:blipFill>
        <p:spPr>
          <a:xfrm>
            <a:off x="4267080" y="152280"/>
            <a:ext cx="3800520" cy="4953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228600" y="5500800"/>
            <a:ext cx="816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-Проводим линию снизу вверх, чуть изогнутую сниз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оводим еще одну линию снизу вверх, чуть изогнутую в другую сторону. Линии должны сойтись в одной точке вверху. Это ствол нашей берез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4_"/>
          <p:cNvPicPr/>
          <p:nvPr/>
        </p:nvPicPr>
        <p:blipFill>
          <a:blip r:embed="rId1"/>
          <a:stretch/>
        </p:blipFill>
        <p:spPr>
          <a:xfrm>
            <a:off x="228600" y="152280"/>
            <a:ext cx="4191120" cy="5410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5_"/>
          <p:cNvPicPr/>
          <p:nvPr/>
        </p:nvPicPr>
        <p:blipFill>
          <a:blip r:embed="rId2"/>
          <a:stretch/>
        </p:blipFill>
        <p:spPr>
          <a:xfrm>
            <a:off x="4495680" y="152280"/>
            <a:ext cx="4181760" cy="5410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28600" y="5775840"/>
            <a:ext cx="7467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еперь рисуем ветки. Начинаем рисовать с нижних веток, они самые длинные. В конце ветки сгибаются вниз. Чем выше ветки, тем они становятся короче. Около ствола ветки утолщаем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6_"/>
          <p:cNvPicPr/>
          <p:nvPr/>
        </p:nvPicPr>
        <p:blipFill>
          <a:blip r:embed="rId1"/>
          <a:stretch/>
        </p:blipFill>
        <p:spPr>
          <a:xfrm>
            <a:off x="228600" y="380880"/>
            <a:ext cx="4038480" cy="518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7_"/>
          <p:cNvPicPr/>
          <p:nvPr/>
        </p:nvPicPr>
        <p:blipFill>
          <a:blip r:embed="rId2"/>
          <a:stretch/>
        </p:blipFill>
        <p:spPr>
          <a:xfrm>
            <a:off x="4343400" y="380880"/>
            <a:ext cx="4181400" cy="51818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457200" y="5637960"/>
            <a:ext cx="56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еперь рисуем мелкие ветки. Они спускаются вниз волнистой линией. Рисуем на каждой центральной ветке по две ветки меньшего размера. На каждой мелкой ветке рисуем по две, три ветки меньшего размер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8_"/>
          <p:cNvPicPr/>
          <p:nvPr/>
        </p:nvPicPr>
        <p:blipFill>
          <a:blip r:embed="rId1"/>
          <a:stretch/>
        </p:blipFill>
        <p:spPr>
          <a:xfrm>
            <a:off x="152280" y="152280"/>
            <a:ext cx="4267440" cy="53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9_"/>
          <p:cNvPicPr/>
          <p:nvPr/>
        </p:nvPicPr>
        <p:blipFill>
          <a:blip r:embed="rId2"/>
          <a:stretch/>
        </p:blipFill>
        <p:spPr>
          <a:xfrm>
            <a:off x="4495680" y="152280"/>
            <a:ext cx="410544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228600" y="571464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твол и крупные ветки окрашиваем белой краской. На белом фоне ствола и крупных веток рисуем черной краской пятныш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10_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5334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11_"/>
          <p:cNvPicPr/>
          <p:nvPr/>
        </p:nvPicPr>
        <p:blipFill>
          <a:blip r:embed="rId2"/>
          <a:stretch/>
        </p:blipFill>
        <p:spPr>
          <a:xfrm>
            <a:off x="4495680" y="152280"/>
            <a:ext cx="4038840" cy="53341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457200" y="5791320"/>
            <a:ext cx="628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тки дерева покрываем клеем ПВА. Когда все ветки покрыты клеем ПВА, все дерево посыпаем солью. Лишнюю соль убираем с рисунка. Ветки получаются как будто покрытые «снегом»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_"/>
          <p:cNvPicPr/>
          <p:nvPr/>
        </p:nvPicPr>
        <p:blipFill>
          <a:blip r:embed="rId1"/>
          <a:stretch/>
        </p:blipFill>
        <p:spPr>
          <a:xfrm>
            <a:off x="1752480" y="457200"/>
            <a:ext cx="4486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Картинки по запросу дерево"/>
          <p:cNvPicPr/>
          <p:nvPr/>
        </p:nvPicPr>
        <p:blipFill>
          <a:blip r:embed="rId1"/>
          <a:stretch/>
        </p:blipFill>
        <p:spPr>
          <a:xfrm>
            <a:off x="152280" y="152280"/>
            <a:ext cx="754380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nej"/>
          <p:cNvPicPr/>
          <p:nvPr/>
        </p:nvPicPr>
        <p:blipFill>
          <a:blip r:embed="rId1"/>
          <a:stretch/>
        </p:blipFill>
        <p:spPr>
          <a:xfrm>
            <a:off x="152280" y="304920"/>
            <a:ext cx="7620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696366"/>
          <p:cNvPicPr/>
          <p:nvPr/>
        </p:nvPicPr>
        <p:blipFill>
          <a:blip r:embed="rId1"/>
          <a:stretch/>
        </p:blipFill>
        <p:spPr>
          <a:xfrm>
            <a:off x="380880" y="457200"/>
            <a:ext cx="6667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foto_ru_2516"/>
          <p:cNvPicPr/>
          <p:nvPr/>
        </p:nvPicPr>
        <p:blipFill>
          <a:blip r:embed="rId1"/>
          <a:stretch/>
        </p:blipFill>
        <p:spPr>
          <a:xfrm>
            <a:off x="4114800" y="228600"/>
            <a:ext cx="3809880" cy="632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152280" y="228600"/>
            <a:ext cx="3886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Картинки по запросу березовый лес"/>
          <p:cNvPicPr/>
          <p:nvPr/>
        </p:nvPicPr>
        <p:blipFill>
          <a:blip r:embed="rId1"/>
          <a:stretch/>
        </p:blipFill>
        <p:spPr>
          <a:xfrm>
            <a:off x="380880" y="380880"/>
            <a:ext cx="6686640" cy="4467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57200" y="533376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Берёзу называют символом России. Береза – отличный очиститель воздуха. Весной за сутки берёза может дать ведро со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артинки по запросу березовый веник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45608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304920" y="53794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ерёзовые веники могут лечить, очищать, наполняя человеческий организм витамином С, эфирными масла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Картинки по запросу березовая лучина"/>
          <p:cNvPicPr/>
          <p:nvPr/>
        </p:nvPicPr>
        <p:blipFill>
          <a:blip r:embed="rId1"/>
          <a:stretch/>
        </p:blipFill>
        <p:spPr>
          <a:xfrm>
            <a:off x="152280" y="3429000"/>
            <a:ext cx="5105520" cy="2971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800"/>
          <p:cNvPicPr/>
          <p:nvPr/>
        </p:nvPicPr>
        <p:blipFill>
          <a:blip r:embed="rId2"/>
          <a:stretch/>
        </p:blipFill>
        <p:spPr>
          <a:xfrm>
            <a:off x="152280" y="152280"/>
            <a:ext cx="5105520" cy="3124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Картинки по запросу березовая лучина"/>
          <p:cNvPicPr/>
          <p:nvPr/>
        </p:nvPicPr>
        <p:blipFill>
          <a:blip r:embed="rId3"/>
          <a:stretch/>
        </p:blipFill>
        <p:spPr>
          <a:xfrm>
            <a:off x="5334120" y="380880"/>
            <a:ext cx="33336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20180125_132400"/>
          <p:cNvPicPr/>
          <p:nvPr/>
        </p:nvPicPr>
        <p:blipFill>
          <a:blip r:embed="rId1"/>
          <a:stretch/>
        </p:blipFill>
        <p:spPr>
          <a:xfrm>
            <a:off x="914400" y="152280"/>
            <a:ext cx="5657760" cy="5639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152280" y="579096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 главная ценность берёзы для нас, Россиян, – в её красоте, величии, душевности. Недаром поэты, композиторы и художники во все времена посвящали ей свои произведен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0T07:01:02Z</dcterms:created>
  <dc:creator>Kray</dc:creator>
  <dc:description/>
  <dc:language>en-US</dc:language>
  <cp:lastModifiedBy>Kray</cp:lastModifiedBy>
  <dcterms:modified xsi:type="dcterms:W3CDTF">2018-03-03T10:47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