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20A-AF62-4056-9800-A1C2B7D9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2D0-B8CE-4763-914D-043074C3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8DD-139A-4E2E-9A2E-58B86E55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762-1693-46C5-974E-F3699B76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453D-9A44-40ED-8D15-525AC248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180B-16FB-4962-99F3-F244E966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C941-3E70-4336-A1A5-783F1591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820F-3A57-4732-A9D0-C9A85F52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D2DA-0104-41EF-BAC0-1FD2D7AB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F1AF-A23C-4B76-BA31-C57FFB58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6D20-A2E0-4B11-8EE1-C428F4C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A8A-D594-43FB-8297-51EA6846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21A9-70E3-4C35-8B11-B0A04C0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1A81-4517-48F1-AF99-81F19E0C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1CCA-FD18-4109-9198-754E0E04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184-967B-457A-8EBC-ADAA93D1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5EF5-FD41-4F9A-91CC-1D777CDC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2889-A3E5-4F52-9857-C63CF565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BE48-EE68-45CD-97FD-0A3D63E9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0283-54E9-4CF5-814B-F393309D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9C91-7254-4D58-A49E-0E8FED0C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8702-C025-4795-9D34-98D5ADE6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A70-EBBA-482F-BBF3-81EFE50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2D63-67AC-441C-9D54-8F5601C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C1B1-E414-4F05-B892-32A0BC51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7BDB-C067-476D-AA94-79725C56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24FA-1113-478B-B2DE-69C5312A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BFBF-11AD-4FE3-94F5-4F509000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24C3-1F4D-455A-9ABC-1B06F576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CF09-3ED4-4F69-8D2A-2F1D8F98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3A5D-6929-4764-824C-1D23EED2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6C6C4-99EF-485A-A934-723A2AAC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6023-3F36-4468-910C-76B027A0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FA2-5E76-4A2D-8883-F8B1B6B8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AF8DB-F65B-4A6E-870A-B309BC64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E740-3D4C-4D2E-ACE9-C38BE1E5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8F95-ED5F-4071-8761-7BE937C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2917-B6BA-4F45-8D4D-566F0CD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7842-C47B-4A6B-8277-6C06009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798C-628D-4774-98EA-D2875174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B265-D44A-438F-ACEB-264FC670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5968-8BB4-4294-BC6E-579EC950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E968-1D36-4974-8117-B66A439E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6E7A-5E88-4DCC-A800-78C9C9E9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BB4-99CA-42FE-93BD-67FA4464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C2EFD-AE34-42FF-ABE3-CBD00D10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3ABB-F830-4E93-ADBF-422393D5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1A50D-475E-4F3E-ACA9-B1D9CCB6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B14CE-0F09-4634-A9E0-3DF68C21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81025-1A9D-4917-9AA9-9C35D119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87DB0-9419-474C-ADF1-0F61D8F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BC2A-92E3-4DB3-8B9C-B255A0E8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F5C0-B53F-40DD-9D92-7383C07F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9AC0F-F852-4BC3-B699-B696B897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4B7D-D990-42ED-86D6-23F32A70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32B-3D68-4B37-B2D3-FE092A8E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19C7-ADF8-4C2E-9AEF-529BAE02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371B-1082-4AB7-AA48-06E4243C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45455-F6DC-43F1-8D1B-985D4CA7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B66A4-18E9-4FC1-B14E-1D3FEA55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87892-16C1-4621-8A5D-3BFB0BE3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685A-E4B4-49D9-9760-5F14E526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D8A9A-619A-4A32-BE38-22CDDD10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2997E-522D-4822-A5C1-A9F740F3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F1F6-1749-484A-B88B-489A7C9C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5869-1CD8-46E2-AE1C-5E22340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2E5-73A3-4357-B394-5D45785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75592-82C9-4CFC-958D-D6CA01D9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B4CB0-E27C-421C-8FEC-484311E1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1D8C-CB9B-4095-B638-D2860F7A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C943A-A4CF-480C-AB5C-60BDB426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D9435-9B5D-4EAD-A37A-786DCB49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205EC-8E73-44CE-8B16-B819DDC9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EF7E-86A8-4B30-A24C-8410D587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F4BC8-4537-4575-9BDD-382DFAA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22CF5-4F12-4BD9-A5E8-79F9D823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48B4D-8AF3-4FE9-9808-E0C5FA7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5F0-FC61-4639-8370-0B811B7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FB6B-E8C0-431A-B5B4-83931D9A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E16AF-2FFD-4D6E-9943-10C0178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BCD7F-6850-4E02-84FC-6C8CAA0B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590DC-93C4-4FD2-8A36-FC819163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1E7A2-3F74-4A0A-9C42-3FF57294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4F906-6587-4FB6-BDCB-2A525C72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638B0-E00D-4E9B-A576-E092820C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1A7DF-2E05-4A59-BB47-600F7379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FED2-5760-457A-A135-0A8988CD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70EEA-269D-4433-9D44-01FE70D3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061-0DD2-486E-A88A-94CE51B3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CC5BA-1682-4D5D-86C4-49F0B5D4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57E9F-17DD-4342-8C8B-30136855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D306C-C240-4257-A807-9E3B058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0B4F1-5BEA-449B-8744-6EE4A84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B97CA-2EE4-4F6F-A924-040C126A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6EA9B-C647-44C5-815D-C55D2A46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19E99-FC27-47AE-BF72-4A258BF3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63BD-9168-448E-B331-FF10B95F40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E741-D655-40A0-B5A1-46783A6E15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0F32-406D-4B19-BF40-4B3D75BD18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FBB1-BD8D-48E1-BE46-79034846F8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EBF6-CEB4-41D2-B036-8F6BA5BDEA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6D79-4296-4199-A544-0EA291A59C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88BF-A284-4AD9-BEEB-DFD6285ABB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E3C4-FDB2-4797-8144-B18FA499C17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2879280" y="2681280"/>
            <a:ext cx="626436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ям необходимо думать о том, что они делают и зачем, во что они верят и почему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 одного дня не должно пройти без этих вопросов. Жизнь без них не стоит того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крат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50920" y="0"/>
            <a:ext cx="8640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Lucida Sans Unicode"/>
              </a:rPr>
              <a:t>Технология «Развитие критического мышления через чтение и письмо» (РКМЧ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5" descr="640x480.jpg"/>
          <p:cNvPicPr/>
          <p:nvPr/>
        </p:nvPicPr>
        <p:blipFill>
          <a:blip r:embed="rId1"/>
          <a:stretch/>
        </p:blipFill>
        <p:spPr>
          <a:xfrm>
            <a:off x="3500280" y="0"/>
            <a:ext cx="5413680" cy="6892920"/>
          </a:xfrm>
          <a:prstGeom prst="rect">
            <a:avLst/>
          </a:prstGeom>
          <a:ln w="0">
            <a:noFill/>
          </a:ln>
        </p:spPr>
      </p:pic>
      <p:pic>
        <p:nvPicPr>
          <p:cNvPr id="393" name="Rectangle 2" descr=""/>
          <p:cNvPicPr/>
          <p:nvPr/>
        </p:nvPicPr>
        <p:blipFill>
          <a:blip r:embed="rId2"/>
          <a:stretch/>
        </p:blipFill>
        <p:spPr>
          <a:xfrm>
            <a:off x="212760" y="2786040"/>
            <a:ext cx="8388360" cy="1432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56760" y="620280"/>
            <a:ext cx="857268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Lucida Sans Unicode"/>
                <a:ea typeface="Times New Roman"/>
              </a:rPr>
              <a:t>ПРАВИЛА НАПИСАНИЯ СИНКВЕЙНА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Одно слово. Существительное ил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стоимение, обозначающее предмет, о котором идет речь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 Два слова.  Прилагательные или причастия, описывающие признаки и свойства выбранного предмет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32E-6B08-4282-B9B5-886E79605D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2914560" y="-390600"/>
            <a:ext cx="30718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23640" y="-360"/>
            <a:ext cx="8351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 Три слова. Глаголы, описывающие совершаемые предметом или объектом действ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Фраза из четырех слов. Выражает личное отношение автора к предмету или объекту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Одно слово. Синоним существительного или ассоциации с этим предмето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-14400" y="747360"/>
            <a:ext cx="9158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1.Фламинго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2.Красивый, яркий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3.Летает, питается, строи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4.Крупная птица розового опер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5.Красота, великолепие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371520" y="-324000"/>
            <a:ext cx="82296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0" y="2346480"/>
            <a:ext cx="91440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3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«Развитие критического мышления» разработана американскими педагогами К.Мередит, Д.Огл, Д.Стил, Ч.Темпл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0" y="0"/>
            <a:ext cx="9144000" cy="66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мать критически означает проявлять любознательность и использовать исследовательские методы: ставить перед собой вопросы и осуществлять планомерный поиск ответ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.. </a:t>
            </a: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Критическое мышление не есть отдельный навык или умение, а сочетание многих умений»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Ч. Темпл, К.Мередит, Дж.Стил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-360" y="714240"/>
            <a:ext cx="900108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РКМЧП – система конкретных методических стратегий и приёмов, формирующих метапредметные навыки работы с текстом и информацией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работать с любой информацией и интегрировать её;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задавать вопросы, формулировать гипотезу, решать проблемы;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вырабатывать собственное мнение, выражать свои мысли, аргументировать свою точку зрения;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самостоятельно заниматься своим обучением;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работать в группе 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0" y="-208080"/>
            <a:ext cx="9004320" cy="1287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4"/>
          <p:cNvSpPr/>
          <p:nvPr/>
        </p:nvSpPr>
        <p:spPr>
          <a:xfrm>
            <a:off x="1459080" y="896760"/>
            <a:ext cx="66960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ческие эта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95200" y="2182680"/>
            <a:ext cx="2916360" cy="5026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Фаз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Вы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уждение имеющихся знаний и интереса к получению нов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390840" y="2252520"/>
            <a:ext cx="2930760" cy="483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Фаз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Осмы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мыс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чение новой информации</a:t>
            </a:r>
            <a:r>
              <a:rPr b="1" lang="ru-RU" sz="2800" spc="-1" strike="noStrike">
                <a:solidFill>
                  <a:srgbClr val="00206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6500880" y="2292480"/>
            <a:ext cx="2643120" cy="5675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Фаз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личностного отношения к тексту; размышление; рождение нового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2126880" y="1644480"/>
            <a:ext cx="43164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4751280" y="16048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6943680" y="1644480"/>
            <a:ext cx="574560" cy="6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79280" y="1417680"/>
            <a:ext cx="896472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звать уже имеющиеся знания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ассоциации по изучаемому вопросу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ирова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нтересова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тивировать на дальнейшую работу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1742760"/>
            <a:ext cx="914400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держание активности, интереса, инерции движения, возникших на стадии вызов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язать новое с уже известным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новое понимание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590480"/>
            <a:ext cx="91440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 новых знаний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тройка своих представлений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ение новых идей и информации своими словам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мен идеям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4:44:05Z</dcterms:created>
  <dc:creator>нина</dc:creator>
  <dc:description/>
  <dc:language>en-US</dc:language>
  <cp:lastModifiedBy>user</cp:lastModifiedBy>
  <dcterms:modified xsi:type="dcterms:W3CDTF">2014-11-06T03:58:01Z</dcterms:modified>
  <cp:revision>62</cp:revision>
  <dc:subject/>
  <dc:title>Технология развития критического мышления младших школь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