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890-7053-499C-802A-F754FB9C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AB9-6015-4C63-AA92-60D6628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70B-6E82-4C6D-8B73-34B37A9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AAF-2958-475C-9983-74EAB80B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B093-E8FE-401E-85F8-2C1BBF38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7DA-82E2-433D-B3E1-774AC61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061-A90B-4150-B6F8-5795C9D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2BB-3A3F-4997-808E-C65AD61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B31C-F6C8-4D5F-9F71-1565070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D4E-062B-437C-BD6A-49644A9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9C29-5B82-494C-A5B2-42BBA06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59E-194C-4295-BF6B-B061E6B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ED09-8025-4C79-B03C-69977CD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7A5-4273-40D9-A996-E1A045E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E3C6-82EE-4F2E-A46E-52355564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B1F-56D6-4D0C-9E9A-6918D397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7858-7442-4344-9079-B04E1D37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E3EA-D45E-4F18-AE9E-B7FC8B11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DE50-CE48-46B1-8BC3-6DE6072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DC10-ADBC-45A5-93F0-865DF3C5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CF0C-8D75-45FE-8C5C-378C63A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E55A-794A-48D4-9043-4E954FC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37B-5DAF-4253-929F-4D29CA7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D8E6-7DCC-4522-AAC5-8E8ACF3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1247-B4B2-491C-BAF2-D7EA59D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55F3-BFB3-4971-B2FB-7A6B242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9E66-0DE4-47F2-9AC9-194865F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564A-BD8E-441D-91B0-DDEA7D6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CA4D-9EE9-4823-8729-797853D3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579F-7160-45AA-9479-C6E75851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A3C1-F4C9-41EB-9AF1-67D3558B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F93B-3308-4EF8-8F37-44DFCA2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645C-43EA-4797-AEA8-297FBDBF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3CD-A1BD-4EBB-A852-4D4C1609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5D8B-4810-41AA-9E09-D3EE5810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4F7D-AD44-4929-8380-E5B9B81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E8D5-9EA8-45F3-87C9-783DCF28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F117-C332-4AA8-9DF4-57FDB95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F77F-AF69-4640-8A61-448E805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8819-1EF0-4884-ACB3-0120A57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6493-169C-44C0-ADE9-9D4B5019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044B-4C19-487B-BAFE-856C1889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DCA7-CAE9-4ECF-B8FC-FA5B8D12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737C-A618-4188-9D5D-1C501D6C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740-BA3D-4DA2-AA70-3495146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9B1E-6CEB-4395-836D-17E3AA74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F264-E143-4C03-9528-B4198D9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C8149-1982-4FBC-BB73-B66B3AB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2A9E-FBBB-429A-8502-FECC77B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BDC4-F200-4EAD-9C95-3831C84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852B8-E69B-4414-8AE1-92F2564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5A85-CCA9-4216-9562-6C6647B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4004-32C8-4175-A2B4-066A39A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BC961-392C-4F18-A029-4ED35CD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230AD-9412-45F0-8AC5-E6ECB6BE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944-0297-4370-8471-5922E9A4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C0AA-3093-47F4-A214-65C2A1DC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D9CE-31E2-4AE9-BEB0-5CA8A94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8E9C-43BB-49C1-89F9-4A529D1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4A8D-1A9A-4711-BD85-137413D1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D1F1-FA3B-4511-B2EC-F282A7B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90C6-7372-4538-8478-9815273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FA45-6783-4DAF-8E9A-0F38AC0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241F-923C-4D89-A9FD-566F2B6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39BA6-7828-4C1B-BBA7-E6FA56B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192F-E683-49BF-92DF-D2D6D9E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AFA-CD43-4E3C-A4C0-D3AC96A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C774-9004-4E1F-B8F2-7B25936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22AF-A247-44B8-8FC4-C7D9DCAB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F093-E9EA-4B41-9085-E2AD109E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E848-EAD0-408D-B47A-6730678E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9693-B8F9-489A-8A83-3E3F31D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8BDE-F865-4697-AF01-DE7667A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8736-3B81-4E36-9E5D-622E2D35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A1ED3-B0B5-4257-8965-854D9FBF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2146C-AD87-442D-B044-7021642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BDA7E-8ABA-461D-A616-540B019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13C-699E-4A2E-920F-BCD220C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FD33-85A2-494B-8FAC-B4145A7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D346-F76C-4C84-B2EB-95B97F3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903C-A799-4978-A66E-3B9995F1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C274-AC6C-4518-89FF-2D6B62A2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41C9-1B28-477D-ADFD-FC27F58E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962E-A006-443D-A717-C737EE07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8BD61-741E-469A-B040-C9E8F2F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C916-6F60-4A30-8953-34998F5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797BE-49B4-4B33-A33E-06258D3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0F7C1-A6B8-41AE-8745-ECCEBA18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2C-8A90-4114-A395-DA23AE2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9842-2A4F-4F16-BB06-6F085888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4729-A950-4F2F-81E6-4D35317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1434-610E-47AF-852A-B803AA4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09D4-BD73-4BF5-BF3E-EC5B499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6DAEB-934D-40C3-84E1-7E1F3EAE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F54C8-92FE-4322-A4C1-D66B51AF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3593-6E69-4350-97E4-5E15BCBC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2A1C-5461-4768-8877-5902D41EA2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FA1-5DBE-4810-B0D8-478B341CB6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01EE-7CDB-4ED2-A675-D9657D7992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3D2-2D0C-4EE8-9D0C-E6E1DB4B77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722-C030-4103-BCA1-5FA90E00C9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88D-F700-48DB-8E5E-7016E05090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228-F400-4678-A888-36CBFF53E8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D9F-EE3E-4743-B238-8DC8FC2023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879280" y="2681280"/>
            <a:ext cx="626436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ям необходимо думать о том, что они делают и зачем, во что они верят и почему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 одного дня не должно пройти без этих вопросов. Жизнь без них не стоит того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50920" y="0"/>
            <a:ext cx="864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Lucida Sans Unicode"/>
              </a:rPr>
              <a:t>Технология «Развитие критического мышления через чтение и письмо» (РКМЧ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5" descr="640x480.jpg"/>
          <p:cNvPicPr/>
          <p:nvPr/>
        </p:nvPicPr>
        <p:blipFill>
          <a:blip r:embed="rId1"/>
          <a:stretch/>
        </p:blipFill>
        <p:spPr>
          <a:xfrm>
            <a:off x="3500280" y="0"/>
            <a:ext cx="5413680" cy="689292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2" descr=""/>
          <p:cNvPicPr/>
          <p:nvPr/>
        </p:nvPicPr>
        <p:blipFill>
          <a:blip r:embed="rId2"/>
          <a:stretch/>
        </p:blipFill>
        <p:spPr>
          <a:xfrm>
            <a:off x="212760" y="2786040"/>
            <a:ext cx="8388360" cy="143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56760" y="620280"/>
            <a:ext cx="85726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Lucida Sans Unicode"/>
                <a:ea typeface="Times New Roman"/>
              </a:rPr>
              <a:t>ПРАВИЛА НАПИСАНИЯ СИНКВЕЙНА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Одно слово. Существительное ил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имение, обозначающее предмет, о котором идет речь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Два слова.  Прилагательные или причастия, описывающие признаки и свойства выбранного предмет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1DD9-AFC3-4BFC-8FBA-B9EEE666B1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2914560" y="-390600"/>
            <a:ext cx="30718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23640" y="-360"/>
            <a:ext cx="835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Три слова. Глаголы, описывающие совершаемые предметом или объектом действ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Фраза из четырех слов. Выражает личное отношение автора к предмету или объекту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Одно слово. Синоним существительного или ассоциации с этим предмето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-14400" y="747360"/>
            <a:ext cx="9158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1.Фламинг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2.Красивый, ярки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3.Летает, питается, строи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4.Крупная птица розового опер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5.Красота, великолеп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71520" y="-324000"/>
            <a:ext cx="822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«Развитие критического мышления» разработана американскими педагогами К.Мередит, Д.Огл, Д.Стил, Ч.Темпл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0" y="0"/>
            <a:ext cx="9144000" cy="66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мать критически означает проявлять любознательность и использовать исследовательские методы: ставить перед собой вопросы и осуществлять планомерный поиск отв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. 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Критическое мышление не есть отдельный навык или умение, а сочетание многих умений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Ч. Темпл, К.Мередит, Дж.Сти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-360" y="714240"/>
            <a:ext cx="900108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РКМЧП – система конкретных методических стратегий и приёмов, формирующих метапредметные навыки работы с текстом и информацией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работать с любой информацией и интегрировать её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задавать вопросы, формулировать гипотезу, решать проблемы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ырабатывать собственное мнение, выражать свои мысли, аргументировать свою точку зрения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амостоятельно заниматься своим обучением;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работать в группе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9004320" cy="1287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1459080" y="896760"/>
            <a:ext cx="66960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ческие эта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95200" y="2182680"/>
            <a:ext cx="2916360" cy="5026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уждение имеющихся знаний и интереса к получению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390840" y="2252520"/>
            <a:ext cx="2930760" cy="483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Осмы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е новой информации</a:t>
            </a:r>
            <a:r>
              <a:rPr b="1" lang="ru-RU" sz="28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500880" y="2292480"/>
            <a:ext cx="2643120" cy="5675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Фаз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личностного отношения к тексту; размышление; рождение нового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2126880" y="1644480"/>
            <a:ext cx="431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4751280" y="16048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6943680" y="1644480"/>
            <a:ext cx="574560" cy="6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79280" y="1417680"/>
            <a:ext cx="8964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звать уже имеющиеся знани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ассоциации по изучаемому вопросу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тивировать на дальнейшую работу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742760"/>
            <a:ext cx="91440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держание активности, интереса, инерции движения, возникших на стадии вызов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язать новое с уже известны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новое понимание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590480"/>
            <a:ext cx="9144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новых зна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ройка своих представле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ение новых идей и информации своими словам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мен идеям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4:44:05Z</dcterms:created>
  <dc:creator>нина</dc:creator>
  <dc:description/>
  <dc:language>en-US</dc:language>
  <cp:lastModifiedBy>user</cp:lastModifiedBy>
  <dcterms:modified xsi:type="dcterms:W3CDTF">2014-11-06T03:58:01Z</dcterms:modified>
  <cp:revision>62</cp:revision>
  <dc:subject/>
  <dc:title>Технология развития критического мышления младших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