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E51-FEFA-4286-B198-0E672712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F1D-AA6E-49A0-8E1E-947121A4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117-03E7-4206-8C41-2F690C98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395-712C-4978-BCD0-A52573E5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5DB2-3343-41EC-B1D0-6365C349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EB1C-8710-488F-8A03-2C893B61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8A5C-1DEC-4F61-BDCA-799194DA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D5D9-C856-45B4-8A63-E9265B40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FE12-BFA8-408B-916D-A4F8EA7B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5101-B20D-471D-87D6-41F2BE33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3FEC-C433-4537-A8CA-0C96FDDE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3A1-E539-4178-A36D-DB654EB1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16BA-4BA7-4425-B3D7-E13317DD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6A12-FBDE-48F4-9A4B-81932E4E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5E25-BC8C-4CA1-8DBA-C9144C9A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A89E-C1B3-412C-A3DE-8A29CFCB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37E8-9E6E-419D-BD26-48AF9634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B01-E22D-4ECB-A39B-166828AB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423-10A2-429C-8F01-260BB536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9FE-9760-49A6-B357-1ACB909F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6B4-5EB9-4735-9C1A-98D057D2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09D-66D8-4413-B976-EE3EE193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B10-3CBE-4141-82D0-F16498C3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95A-D229-47F2-A41B-85191D6C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ABB9-F840-454D-B2AA-912DA02774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00C3-B933-4D5E-8A4E-7F1E8C058C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8800" y="1714320"/>
            <a:ext cx="761976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се профессии нужны, все профессии важны.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ww.playcast.ru/uploads/2015/07/19/14386217.jpg"/>
          <p:cNvPicPr/>
          <p:nvPr/>
        </p:nvPicPr>
        <p:blipFill>
          <a:blip r:embed="rId1"/>
          <a:stretch/>
        </p:blipFill>
        <p:spPr>
          <a:xfrm>
            <a:off x="2143080" y="1943280"/>
            <a:ext cx="700092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1pnz.ru/upload/file/publication/_1126.jpg"/>
          <p:cNvPicPr/>
          <p:nvPr/>
        </p:nvPicPr>
        <p:blipFill>
          <a:blip r:embed="rId1"/>
          <a:stretch/>
        </p:blipFill>
        <p:spPr>
          <a:xfrm>
            <a:off x="2143080" y="1905120"/>
            <a:ext cx="7000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kvobzor.ru/u/news/05ad973cb848cfc981bba0c582d70d.jpg"/>
          <p:cNvPicPr/>
          <p:nvPr/>
        </p:nvPicPr>
        <p:blipFill>
          <a:blip r:embed="rId1"/>
          <a:stretch/>
        </p:blipFill>
        <p:spPr>
          <a:xfrm>
            <a:off x="2143080" y="2143080"/>
            <a:ext cx="70009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binmoney.ru/wp-content/uploads/2017/09/juiop.jpg"/>
          <p:cNvPicPr/>
          <p:nvPr/>
        </p:nvPicPr>
        <p:blipFill>
          <a:blip r:embed="rId1"/>
          <a:stretch/>
        </p:blipFill>
        <p:spPr>
          <a:xfrm>
            <a:off x="2143080" y="2189160"/>
            <a:ext cx="700092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www.kinyu-z.net/data/wallpapers/233/1521929.jpg"/>
          <p:cNvPicPr/>
          <p:nvPr/>
        </p:nvPicPr>
        <p:blipFill>
          <a:blip r:embed="rId1"/>
          <a:stretch/>
        </p:blipFill>
        <p:spPr>
          <a:xfrm>
            <a:off x="2143080" y="1606680"/>
            <a:ext cx="7000920" cy="52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s://santeh-cyti.ru/images/joomly_slider/sfntechnika.jpg"/>
          <p:cNvPicPr/>
          <p:nvPr/>
        </p:nvPicPr>
        <p:blipFill>
          <a:blip r:embed="rId1"/>
          <a:stretch/>
        </p:blipFill>
        <p:spPr>
          <a:xfrm>
            <a:off x="2143080" y="2143080"/>
            <a:ext cx="707220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bm.img.com.ua/berlin/storage/finance/orig/3/f3/01bf08e6513bdf03a4c194cd50f59f33.jpg"/>
          <p:cNvPicPr/>
          <p:nvPr/>
        </p:nvPicPr>
        <p:blipFill>
          <a:blip r:embed="rId1"/>
          <a:stretch/>
        </p:blipFill>
        <p:spPr>
          <a:xfrm>
            <a:off x="2071800" y="2141640"/>
            <a:ext cx="70722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https://www.yuga.ru/media/74/da/sin6534__mpzy2uk.jpg"/>
          <p:cNvPicPr/>
          <p:nvPr/>
        </p:nvPicPr>
        <p:blipFill>
          <a:blip r:embed="rId1"/>
          <a:stretch/>
        </p:blipFill>
        <p:spPr>
          <a:xfrm>
            <a:off x="2071800" y="2138400"/>
            <a:ext cx="7072200" cy="47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л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kto-chto-gde.ru/wp-content/uploads/2017/02/401-900x540.jpg"/>
          <p:cNvPicPr/>
          <p:nvPr/>
        </p:nvPicPr>
        <p:blipFill>
          <a:blip r:embed="rId1"/>
          <a:stretch/>
        </p:blipFill>
        <p:spPr>
          <a:xfrm>
            <a:off x="2143080" y="2643120"/>
            <a:ext cx="7024680" cy="42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replikanews.com/upload/medialibrary/770/770c72c1fc1b51cf981ffecf74db9b7b.jpg"/>
          <p:cNvPicPr/>
          <p:nvPr/>
        </p:nvPicPr>
        <p:blipFill>
          <a:blip r:embed="rId1"/>
          <a:stretch/>
        </p:blipFill>
        <p:spPr>
          <a:xfrm>
            <a:off x="2143080" y="2286000"/>
            <a:ext cx="70009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олковый словар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я – это основное занятие человека, его трудовая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492360" y="3500280"/>
            <a:ext cx="415944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монав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s://www.motto.net.ua/pic/201605/1920x1200/motto.net.ua-105710.jpg"/>
          <p:cNvPicPr/>
          <p:nvPr/>
        </p:nvPicPr>
        <p:blipFill>
          <a:blip r:embed="rId1"/>
          <a:stretch/>
        </p:blipFill>
        <p:spPr>
          <a:xfrm>
            <a:off x="2143080" y="2428920"/>
            <a:ext cx="708660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люзион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taliaunicaevents.com/wp-content/uploads/2015/12/%D0%9C%D0%B0%D0%B3%D0%B8%D1%8F-%D0%A8%D0%BA%D0%BE%D0%BB%D1%8B-%D0%A0%D0%B5%D0%BA%D0%BB%D0%B0%D0%BC%D0%BD%D0%BE%D0%B9-%D0%A4%D0%BE%D1%82%D0%BE%D0%B3%D1%80%D0%B0%D1%84%D0%B8%D0%B8.jpg"/>
          <p:cNvPicPr/>
          <p:nvPr/>
        </p:nvPicPr>
        <p:blipFill>
          <a:blip r:embed="rId1"/>
          <a:stretch/>
        </p:blipFill>
        <p:spPr>
          <a:xfrm>
            <a:off x="2060640" y="2571840"/>
            <a:ext cx="708336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yonetim.lalelidergisi.com/upload/file_08f67a73c19d479686c79f7f1eef5fca-2468.jpg"/>
          <p:cNvPicPr/>
          <p:nvPr/>
        </p:nvPicPr>
        <p:blipFill>
          <a:blip r:embed="rId1"/>
          <a:stretch/>
        </p:blipFill>
        <p:spPr>
          <a:xfrm>
            <a:off x="2143080" y="2143080"/>
            <a:ext cx="7023240" cy="4714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2143080" y="1357200"/>
            <a:ext cx="6400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ти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2143080" y="1357200"/>
            <a:ext cx="6400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нит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cn1.nevsedoma.com.ua/images/2010/126/4/52100000.jpg"/>
          <p:cNvPicPr/>
          <p:nvPr/>
        </p:nvPicPr>
        <p:blipFill>
          <a:blip r:embed="rId1"/>
          <a:stretch/>
        </p:blipFill>
        <p:spPr>
          <a:xfrm>
            <a:off x="2143080" y="2143080"/>
            <a:ext cx="701028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2143080" y="1357200"/>
            <a:ext cx="6400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еа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fb.ru/misc/i/gallery/10530/358724.jpg"/>
          <p:cNvPicPr/>
          <p:nvPr/>
        </p:nvPicPr>
        <p:blipFill>
          <a:blip r:embed="rId1"/>
          <a:stretch/>
        </p:blipFill>
        <p:spPr>
          <a:xfrm>
            <a:off x="2143080" y="2143080"/>
            <a:ext cx="700092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2143080" y="1357200"/>
            <a:ext cx="6400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густ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ем занимаются люди этих специальнос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s://img.tyt.by/n/00/8/degustator_morozhenogo.jpg"/>
          <p:cNvPicPr/>
          <p:nvPr/>
        </p:nvPicPr>
        <p:blipFill>
          <a:blip r:embed="rId1"/>
          <a:stretch/>
        </p:blipFill>
        <p:spPr>
          <a:xfrm>
            <a:off x="2071800" y="2486160"/>
            <a:ext cx="7072200" cy="43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1785960" y="1785960"/>
            <a:ext cx="73580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972ff4"/>
                </a:solidFill>
                <a:latin typeface="Arial"/>
              </a:rPr>
              <a:t>Азбука професси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словиц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14360" y="1600200"/>
            <a:ext cx="6624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 создал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труда не вытащишь и рыбку из п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492360" y="765000"/>
            <a:ext cx="3527640" cy="71928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р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556000" y="3573360"/>
            <a:ext cx="2520720" cy="64764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ум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724360" y="3500280"/>
            <a:ext cx="3024360" cy="71928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физ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708360" y="1484280"/>
            <a:ext cx="144000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148360" y="1484280"/>
            <a:ext cx="172872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21-optimus.ucoz.com/_ph/2/529273081.jpg"/>
          <p:cNvPicPr/>
          <p:nvPr/>
        </p:nvPicPr>
        <p:blipFill>
          <a:blip r:embed="rId1"/>
          <a:stretch/>
        </p:blipFill>
        <p:spPr>
          <a:xfrm>
            <a:off x="2143080" y="2000160"/>
            <a:ext cx="70009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buhguru.com/wp-content/uploads/2017/08/xbuhgalter-ehkonomist.png.pagespeed.ic.ckpmw5Yhxu.png"/>
          <p:cNvPicPr/>
          <p:nvPr/>
        </p:nvPicPr>
        <p:blipFill>
          <a:blip r:embed="rId1"/>
          <a:stretch/>
        </p:blipFill>
        <p:spPr>
          <a:xfrm>
            <a:off x="2143080" y="1371600"/>
            <a:ext cx="7000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visasam.ru/wp-content/uploads/2017/04/13775933925706.jpg"/>
          <p:cNvPicPr/>
          <p:nvPr/>
        </p:nvPicPr>
        <p:blipFill>
          <a:blip r:embed="rId1"/>
          <a:stretch/>
        </p:blipFill>
        <p:spPr>
          <a:xfrm>
            <a:off x="2143080" y="1571760"/>
            <a:ext cx="70452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s://lentachel.ru/netcat_files/Image/foto/2016/08/04/u.jpg"/>
          <p:cNvPicPr/>
          <p:nvPr/>
        </p:nvPicPr>
        <p:blipFill>
          <a:blip r:embed="rId1"/>
          <a:stretch/>
        </p:blipFill>
        <p:spPr>
          <a:xfrm>
            <a:off x="2071800" y="2071800"/>
            <a:ext cx="707220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2143080" y="21420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вид труда разных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s://www.luxury-resorts-collection.ru/uploads/img/page_items/Chef_at_work.jpg"/>
          <p:cNvPicPr/>
          <p:nvPr/>
        </p:nvPicPr>
        <p:blipFill>
          <a:blip r:embed="rId1"/>
          <a:stretch/>
        </p:blipFill>
        <p:spPr>
          <a:xfrm>
            <a:off x="2143080" y="2143080"/>
            <a:ext cx="70009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3:25:32Z</dcterms:created>
  <dc:creator>Пользователь</dc:creator>
  <dc:description/>
  <dc:language>en-US</dc:language>
  <cp:lastModifiedBy>Анна</cp:lastModifiedBy>
  <dcterms:modified xsi:type="dcterms:W3CDTF">2018-04-13T10:31:34Z</dcterms:modified>
  <cp:revision>19</cp:revision>
  <dc:subject/>
  <dc:title>Все профессии нужны, все профессии важны.</dc:title>
</cp:coreProperties>
</file>