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EDC-E1E1-40CA-91A0-42A378A6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95F-42DF-4240-B96B-EA33547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ADD-39A2-4F70-A764-135E5573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185-8D73-4163-B687-C5CE0386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FE19-670A-4A86-864D-BABECEFC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C82-0761-49A6-A63A-8114DD3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655-C3F4-428C-97A0-AF012DC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4B8-6258-4E30-83A0-197ACF1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AD25-1197-4050-886D-B9DD9DC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5FF8-5792-46C6-8BCB-11049D5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604-BF84-4645-B568-792A47F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AC0-21CE-4606-8E34-79B4ADDC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D37-10A6-42E8-9B1B-FF5C9B7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8AC7-D558-443C-B6DB-8F9FF21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F75-5E4C-4A33-8F9A-45A8A80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0D6A-7DF4-4B53-93B6-8DC8636E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555B-6AD0-4A8E-A977-1FF192D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66F-8297-415C-8054-7AE18C15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C1A-61B3-40F2-8401-475FF885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FE5-3AD9-4FAF-BFA2-92E93F75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E00-4630-4E33-98F1-2BE90CA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6A4-0D4B-4A9B-8A40-E744A8F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EEB-02EE-4A43-85B3-5D2EBD5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89-0433-4BAC-A724-91EB524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37B-4196-43DB-A3E6-38004F8DE6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4F8-DC3F-48C5-8000-1D2D640889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е профессии нужны, все профессии важны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playcast.ru/uploads/2015/07/19/14386217.jpg"/>
          <p:cNvPicPr/>
          <p:nvPr/>
        </p:nvPicPr>
        <p:blipFill>
          <a:blip r:embed="rId1"/>
          <a:stretch/>
        </p:blipFill>
        <p:spPr>
          <a:xfrm>
            <a:off x="2143080" y="1943280"/>
            <a:ext cx="700092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1pnz.ru/upload/file/publication/_1126.jpg"/>
          <p:cNvPicPr/>
          <p:nvPr/>
        </p:nvPicPr>
        <p:blipFill>
          <a:blip r:embed="rId1"/>
          <a:stretch/>
        </p:blipFill>
        <p:spPr>
          <a:xfrm>
            <a:off x="2143080" y="1905120"/>
            <a:ext cx="7000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kvobzor.ru/u/news/05ad973cb848cfc981bba0c582d70d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binmoney.ru/wp-content/uploads/2017/09/juiop.jpg"/>
          <p:cNvPicPr/>
          <p:nvPr/>
        </p:nvPicPr>
        <p:blipFill>
          <a:blip r:embed="rId1"/>
          <a:stretch/>
        </p:blipFill>
        <p:spPr>
          <a:xfrm>
            <a:off x="2143080" y="2189160"/>
            <a:ext cx="700092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kinyu-z.net/data/wallpapers/233/1521929.jpg"/>
          <p:cNvPicPr/>
          <p:nvPr/>
        </p:nvPicPr>
        <p:blipFill>
          <a:blip r:embed="rId1"/>
          <a:stretch/>
        </p:blipFill>
        <p:spPr>
          <a:xfrm>
            <a:off x="2143080" y="1606680"/>
            <a:ext cx="700092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s://santeh-cyti.ru/images/joomly_slider/sfntechnika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722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bm.img.com.ua/berlin/storage/finance/orig/3/f3/01bf08e6513bdf03a4c194cd50f59f33.jpg"/>
          <p:cNvPicPr/>
          <p:nvPr/>
        </p:nvPicPr>
        <p:blipFill>
          <a:blip r:embed="rId1"/>
          <a:stretch/>
        </p:blipFill>
        <p:spPr>
          <a:xfrm>
            <a:off x="2071800" y="2141640"/>
            <a:ext cx="70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ttps://www.yuga.ru/media/74/da/sin6534__mpzy2uk.jpg"/>
          <p:cNvPicPr/>
          <p:nvPr/>
        </p:nvPicPr>
        <p:blipFill>
          <a:blip r:embed="rId1"/>
          <a:stretch/>
        </p:blipFill>
        <p:spPr>
          <a:xfrm>
            <a:off x="2071800" y="2138400"/>
            <a:ext cx="7072200" cy="47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kto-chto-gde.ru/wp-content/uploads/2017/02/401-900x540.jpg"/>
          <p:cNvPicPr/>
          <p:nvPr/>
        </p:nvPicPr>
        <p:blipFill>
          <a:blip r:embed="rId1"/>
          <a:stretch/>
        </p:blipFill>
        <p:spPr>
          <a:xfrm>
            <a:off x="2143080" y="2643120"/>
            <a:ext cx="702468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replikanews.com/upload/medialibrary/770/770c72c1fc1b51cf981ffecf74db9b7b.jpg"/>
          <p:cNvPicPr/>
          <p:nvPr/>
        </p:nvPicPr>
        <p:blipFill>
          <a:blip r:embed="rId1"/>
          <a:stretch/>
        </p:blipFill>
        <p:spPr>
          <a:xfrm>
            <a:off x="2143080" y="2286000"/>
            <a:ext cx="7000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олковый словар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– это основное занятие человека, его трудов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492360" y="3500280"/>
            <a:ext cx="41594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www.motto.net.ua/pic/201605/1920x1200/motto.net.ua-105710.jpg"/>
          <p:cNvPicPr/>
          <p:nvPr/>
        </p:nvPicPr>
        <p:blipFill>
          <a:blip r:embed="rId1"/>
          <a:stretch/>
        </p:blipFill>
        <p:spPr>
          <a:xfrm>
            <a:off x="2143080" y="2428920"/>
            <a:ext cx="70866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зио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taliaunicaevents.com/wp-content/uploads/2015/12/%D0%9C%D0%B0%D0%B3%D0%B8%D1%8F-%D0%A8%D0%BA%D0%BE%D0%BB%D1%8B-%D0%A0%D0%B5%D0%BA%D0%BB%D0%B0%D0%BC%D0%BD%D0%BE%D0%B9-%D0%A4%D0%BE%D1%82%D0%BE%D0%B3%D1%80%D0%B0%D1%84%D0%B8%D0%B8.jpg"/>
          <p:cNvPicPr/>
          <p:nvPr/>
        </p:nvPicPr>
        <p:blipFill>
          <a:blip r:embed="rId1"/>
          <a:stretch/>
        </p:blipFill>
        <p:spPr>
          <a:xfrm>
            <a:off x="2060640" y="2571840"/>
            <a:ext cx="7083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yonetim.lalelidergisi.com/upload/file_08f67a73c19d479686c79f7f1eef5fca-2468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23240" cy="4714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ти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ит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cn1.nevsedoma.com.ua/images/2010/126/4/52100000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102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еа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fb.ru/misc/i/gallery/10530/358724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густ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s://img.tyt.by/n/00/8/degustator_morozhenogo.jpg"/>
          <p:cNvPicPr/>
          <p:nvPr/>
        </p:nvPicPr>
        <p:blipFill>
          <a:blip r:embed="rId1"/>
          <a:stretch/>
        </p:blipFill>
        <p:spPr>
          <a:xfrm>
            <a:off x="2071800" y="2486160"/>
            <a:ext cx="707220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785960" y="1785960"/>
            <a:ext cx="73580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72ff4"/>
                </a:solidFill>
                <a:latin typeface="Arial"/>
              </a:rPr>
              <a:t>Азбука професси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словиц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14360" y="1600200"/>
            <a:ext cx="6624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труда не вытащишь и рыбку из п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492360" y="765000"/>
            <a:ext cx="3527640" cy="719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556000" y="3573360"/>
            <a:ext cx="2520720" cy="647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м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724360" y="3500280"/>
            <a:ext cx="3024360" cy="719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физ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708360" y="1484280"/>
            <a:ext cx="1440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148360" y="1484280"/>
            <a:ext cx="1728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21-optimus.ucoz.com/_ph/2/529273081.jpg"/>
          <p:cNvPicPr/>
          <p:nvPr/>
        </p:nvPicPr>
        <p:blipFill>
          <a:blip r:embed="rId1"/>
          <a:stretch/>
        </p:blipFill>
        <p:spPr>
          <a:xfrm>
            <a:off x="2143080" y="2000160"/>
            <a:ext cx="7000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buhguru.com/wp-content/uploads/2017/08/xbuhgalter-ehkonomist.png.pagespeed.ic.ckpmw5Yhxu.png"/>
          <p:cNvPicPr/>
          <p:nvPr/>
        </p:nvPicPr>
        <p:blipFill>
          <a:blip r:embed="rId1"/>
          <a:stretch/>
        </p:blipFill>
        <p:spPr>
          <a:xfrm>
            <a:off x="2143080" y="1371600"/>
            <a:ext cx="7000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visasam.ru/wp-content/uploads/2017/04/137759339257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70452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s://lentachel.ru/netcat_files/Image/foto/2016/08/04/u.jpg"/>
          <p:cNvPicPr/>
          <p:nvPr/>
        </p:nvPicPr>
        <p:blipFill>
          <a:blip r:embed="rId1"/>
          <a:stretch/>
        </p:blipFill>
        <p:spPr>
          <a:xfrm>
            <a:off x="2071800" y="2071800"/>
            <a:ext cx="70722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www.luxury-resorts-collection.ru/uploads/img/page_items/Chef_at_work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25:32Z</dcterms:created>
  <dc:creator>Пользователь</dc:creator>
  <dc:description/>
  <dc:language>en-US</dc:language>
  <cp:lastModifiedBy>Анна</cp:lastModifiedBy>
  <dcterms:modified xsi:type="dcterms:W3CDTF">2018-04-13T10:31:34Z</dcterms:modified>
  <cp:revision>19</cp:revision>
  <dc:subject/>
  <dc:title>Все профессии нужны, все профессии важны.</dc:title>
</cp:coreProperties>
</file>