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F2E-50CD-4B33-B67F-6DC5E40A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EEB-87CE-47E7-BBA5-B1586FF3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1A7-E85C-4503-B585-57B711A9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DB2-EB30-416C-8B57-FD6E2F25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9193-E455-434A-B4AD-97C35D39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E226-7842-4137-9C3A-BD45EF25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9EBC-7F7E-49B5-871B-2BE04EC7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D5AA-ACE3-4EBB-9078-B9D966C7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7F16-7AE0-4F6D-88C6-66375383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DA01-9C29-4AE5-8BD7-B7BCFB59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2600-4E28-46DE-8631-E73D7C1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684-B2C5-4666-B53D-2753DBC5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6574-6125-4704-88B8-0622E53B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5FD1-AE09-482C-9004-14B44834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D072-3FFA-4578-ABD2-FB36B01D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9AB1-080E-4A6D-A744-7CB722AE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3C85-F417-4C11-A37E-F260B43C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572-0E89-48A9-9C27-19A92CD0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6F4-AFDD-43B5-9902-CBB444BD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E0E-68D1-416E-A732-7F765DBD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7B2-F644-4D0F-B938-DD53AA25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97F-BC3A-4B77-8C2C-F694E991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585-780B-4133-B35D-59D8B484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02B-CAF4-41F7-9F54-D932F86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29B3-8730-4A32-963D-16CA4E2AEE4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251C-D675-4993-B062-226BBF89316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зентация  к НОД по курсу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«По дороге к азбуке»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 теме «Звуки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[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ЙА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]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»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ля детей старшего дошкольного возраст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дготовила и провел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оспитатель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Шульгина Елена Викторовна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Дружные звуки </a:t>
            </a: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[</a:t>
            </a: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йа</a:t>
            </a: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]</a:t>
            </a: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582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6761160" cy="175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647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4952880" cy="1515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2178000"/>
            <a:ext cx="72392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5867280" cy="129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51055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Стоит замарашк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в щетинистой рубашке Хвост крендельком, нос пятачком. Ничем не больна, а всё стонет он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Я стою на трёх ногах, Ноги в чёрных сапогах. Зубы белые, педаль, Как зовут  меня?... Рояль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3:17:09Z</dcterms:created>
  <dc:creator>Елена</dc:creator>
  <dc:description/>
  <dc:language>en-US</dc:language>
  <cp:lastModifiedBy>Елена</cp:lastModifiedBy>
  <dcterms:modified xsi:type="dcterms:W3CDTF">2018-04-13T07:17:2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