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F0E-A326-4371-AB51-1196B0AE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5A0-C988-4CEB-B1AD-832E6D41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28E-95F1-49CD-9048-C8C68CC1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CDC-18F0-477A-8021-ECDA6923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08F9-9537-4938-A44B-AC86197E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B6DB-8ABE-43ED-A730-916FD7DB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8FF1-CF34-456A-8113-14D654BE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F1E6-4431-463C-BE4A-78D1F1EC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94CC-A44E-488B-8E47-E2B4AD40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8A54-C214-4B34-BDA7-9BE47558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92A1-85C0-4781-9C78-577F2401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73E-5FE0-4DA2-A6D6-2C43C421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356D-4F2A-4C07-B1CA-73063EC8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0088-10E0-48E7-AA66-BF268C68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6E4F-3E0F-452F-AAAD-B3EABF60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0476-5182-4F21-8432-9D0AE4DD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8010-A0DB-4DEE-963E-67D2CF46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B53-E7F2-4F8A-8C6B-F8D9DFD6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39E-E8A2-42EA-A575-9EC5CD71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FB2-EBEC-44CC-AC4B-BB296DC2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190-8DD1-44D7-8D4E-DF4F589A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3C2-48D8-411F-B588-097CF573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06D-E594-4C4C-BC24-37175EC8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82E-7454-4B28-8F06-B238C95E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46FE-CA80-454E-84B4-CEAAA161D19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CD8A-66BE-41FF-9C9F-4A29CF4680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резентация  к НОД по курсу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«По дороге к азбуке»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о теме «Звуки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[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ЙА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]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»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для детей старшего дошкольного возраст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одготовила и провел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оспитатель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Шульгина Елена Викторовна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Дружные звуки </a:t>
            </a: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[</a:t>
            </a: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йа</a:t>
            </a: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]</a:t>
            </a: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4582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6761160" cy="1751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371600" y="2666880"/>
            <a:ext cx="6477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4952880" cy="1515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2178000"/>
            <a:ext cx="72392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5867280" cy="1295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51055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Стоит замарашк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в щетинистой рубашке Хвост крендельком, нос пятачком. Ничем не больна, а всё стонет она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Я стою на трёх ногах, Ноги в чёрных сапогах. Зубы белые, педаль, Как зовут  меня?... Рояль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3:17:09Z</dcterms:created>
  <dc:creator>Елена</dc:creator>
  <dc:description/>
  <dc:language>en-US</dc:language>
  <cp:lastModifiedBy>Елена</cp:lastModifiedBy>
  <dcterms:modified xsi:type="dcterms:W3CDTF">2018-04-13T07:17:2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