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23.png" ContentType="image/png"/>
  <Override PartName="/ppt/media/image21.png" ContentType="image/png"/>
  <Override PartName="/ppt/media/image4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5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039A-13A1-4176-A8F5-5B922D1CBC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1CFA-CEBC-4292-AA82-21450E234B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пользование таймера 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этом слайде PowerPoint с помощью соответствующих изображений, специальной анимации и средств хронометража создается таймер с обратным отсчетом времени, который можно вставить в любую презентацию. При открытии шаблона таймер устанавливается на 00:00. При запуске презентации таймер переводится на 01:00 и начинает отсчитывать время с интервалом в 10 секунд, пока не дойдет до 00: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тобы вставить слайд в презентаци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ите этот шаблон на компьютере в виде файла презентации (.ppt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ойте презентацию, которая будет содержать этот тайм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кладк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ановите указатель после слайда, который должен предшествовать таймеру. (Не выбирайте сам слайд. Курсор должен располагаться между слайдами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 меню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анд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слай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кройте вклад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презен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з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айдите и выберите презентацию с таймером, а затем 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ыберите слайд с таймер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ите флажок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хранить исходное форматиров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Если этого не сделать, скопированный слайд унаследует оформление слайда, предшествующего ему в през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и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D273-B14B-4019-BAE8-D16BC1B619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пользование таймера 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этом слайде PowerPoint с помощью соответствующих изображений, специальной анимации и средств хронометража создается таймер с обратным отсчетом времени, который можно вставить в любую презентацию. При открытии шаблона таймер устанавливается на 00:00. При запуске презентации таймер переводится на 01:00 и начинает отсчитывать время с интервалом в 10 секунд, пока не дойдет до 00: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тобы вставить слайд в презентаци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ите этот шаблон на компьютере в виде файла презентации (.ppt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ойте презентацию, которая будет содержать этот тайм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кладк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ановите указатель после слайда, который должен предшествовать таймеру. (Не выбирайте сам слайд. Курсор должен располагаться между слайдами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 меню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анд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слай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кройте вклад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презен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з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айдите и выберите презентацию с таймером, а затем 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ыберите слайд с таймер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ите флажок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хранить исходное форматиров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Если этого не сделать, скопированный слайд унаследует оформление слайда, предшествующего ему в през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и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5F4E-FC09-4108-9B0A-2D160FCBF5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пользование таймера 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этом слайде PowerPoint с помощью соответствующих изображений, специальной анимации и средств хронометража создается таймер с обратным отсчетом времени, который можно вставить в любую презентацию. При открытии шаблона таймер устанавливается на 00:00. При запуске презентации таймер переводится на 01:00 и начинает отсчитывать время с интервалом в 10 секунд, пока не дойдет до 00: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тобы вставить слайд в презентаци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ите этот шаблон на компьютере в виде файла презентации (.ppt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ойте презентацию, которая будет содержать этот тайм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кладк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ановите указатель после слайда, который должен предшествовать таймеру. (Не выбирайте сам слайд. Курсор должен располагаться между слайдами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 меню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анд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слай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кройте вклад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презен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з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айдите и выберите презентацию с таймером, а затем 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ыберите слайд с таймер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ите флажок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хранить исходное форматиров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Если этого не сделать, скопированный слайд унаследует оформление слайда, предшествующего ему в през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и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1B39-D2C5-4AF2-A8E3-5771BA5FC9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пользование таймера 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этом слайде PowerPoint с помощью соответствующих изображений, специальной анимации и средств хронометража создается таймер с обратным отсчетом времени, который можно вставить в любую презентацию. При открытии шаблона таймер устанавливается на 00:00. При запуске презентации таймер переводится на 01:00 и начинает отсчитывать время с интервалом в 10 секунд, пока не дойдет до 00: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тобы вставить слайд в презентаци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ите этот шаблон на компьютере в виде файла презентации (.ppt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ойте презентацию, которая будет содержать этот тайм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кладк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ановите указатель после слайда, который должен предшествовать таймеру. (Не выбирайте сам слайд. Курсор должен располагаться между слайдами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 меню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анд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слай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кройте вклад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презен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з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айдите и выберите презентацию с таймером, а затем 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ыберите слайд с таймер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ите флажок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хранить исходное форматиров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Если этого не сделать, скопированный слайд унаследует оформление слайда, предшествующего ему в през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и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5479-B131-4B6B-910F-ED20D41334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пользование таймера 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этом слайде PowerPoint с помощью соответствующих изображений, специальной анимации и средств хронометража создается таймер с обратным отсчетом времени, который можно вставить в любую презентацию. При открытии шаблона таймер устанавливается на 00:00. При запуске презентации таймер переводится на 01:00 и начинает отсчитывать время с интервалом в 10 секунд, пока не дойдет до 00: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тобы вставить слайд в презентаци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ите этот шаблон на компьютере в виде файла презентации (.ppt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ойте презентацию, которая будет содержать этот тайм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кладк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ановите указатель после слайда, который должен предшествовать таймеру. (Не выбирайте сам слайд. Курсор должен располагаться между слайдами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 меню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анд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слай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кройте вклад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презен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з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айдите и выберите презентацию с таймером, а затем 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ыберите слайд с таймер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ите флажок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хранить исходное форматиров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Если этого не сделать, скопированный слайд унаследует оформление слайда, предшествующего ему в през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и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581A-AC9D-495E-B12F-F9C67C82C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879B-B7CA-4C74-858D-1C6E4600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673E-CB63-46D1-9AD6-AFC76B0B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7F54-0F9E-4159-9EC7-EF64A3A37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E668-1CAF-4903-9A87-D4AB9911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A389-8049-49F9-8E26-3FC7F290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D7A3-E3A5-43D5-8429-3B11872D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9EF6-B8B0-4FBB-AFCF-F5CDD25F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76F3-4626-4C43-8022-1F91A814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94C6-14D5-45BD-9272-BFC365DE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6B70-CA8F-4C23-8428-B434BA06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3559-2864-4D03-9DA0-F67CF043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B103-47F7-4912-89EA-3D105C2F6B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20.jpeg"/><Relationship Id="rId9" Type="http://schemas.openxmlformats.org/officeDocument/2006/relationships/image" Target="../media/image21.png"/><Relationship Id="rId10" Type="http://schemas.openxmlformats.org/officeDocument/2006/relationships/image" Target="../media/image22.jpe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2.jpe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5.jpe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7.gif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D:\Documents and Settings\admin\Мои документы\Мои рисунки\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Православная иг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560" y="5572080"/>
            <a:ext cx="471636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Православные праз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Вопросы 1-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4572000" y="574488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Авто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Учитель ОРКСЭ МБОУ СОШ № 4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Козинова Светлана Григорье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1yellow"/>
          <p:cNvPicPr/>
          <p:nvPr/>
        </p:nvPicPr>
        <p:blipFill>
          <a:blip r:embed="rId1"/>
          <a:stretch/>
        </p:blipFill>
        <p:spPr>
          <a:xfrm>
            <a:off x="3708360" y="48690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50seconds_yellow"/>
          <p:cNvPicPr/>
          <p:nvPr/>
        </p:nvPicPr>
        <p:blipFill>
          <a:blip r:embed="rId2"/>
          <a:stretch/>
        </p:blipFill>
        <p:spPr>
          <a:xfrm>
            <a:off x="3708360" y="48690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40seconds_yellow"/>
          <p:cNvPicPr/>
          <p:nvPr/>
        </p:nvPicPr>
        <p:blipFill>
          <a:blip r:embed="rId3"/>
          <a:stretch/>
        </p:blipFill>
        <p:spPr>
          <a:xfrm>
            <a:off x="3708360" y="48690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30seconds_yellow"/>
          <p:cNvPicPr/>
          <p:nvPr/>
        </p:nvPicPr>
        <p:blipFill>
          <a:blip r:embed="rId4"/>
          <a:stretch/>
        </p:blipFill>
        <p:spPr>
          <a:xfrm>
            <a:off x="3708360" y="48690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20seconds_yellow"/>
          <p:cNvPicPr/>
          <p:nvPr/>
        </p:nvPicPr>
        <p:blipFill>
          <a:blip r:embed="rId5"/>
          <a:stretch/>
        </p:blipFill>
        <p:spPr>
          <a:xfrm>
            <a:off x="3708360" y="48690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10seconds_yellow"/>
          <p:cNvPicPr/>
          <p:nvPr/>
        </p:nvPicPr>
        <p:blipFill>
          <a:blip r:embed="rId6"/>
          <a:stretch/>
        </p:blipFill>
        <p:spPr>
          <a:xfrm>
            <a:off x="3708360" y="48690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00seconds_yellow"/>
          <p:cNvPicPr/>
          <p:nvPr/>
        </p:nvPicPr>
        <p:blipFill>
          <a:blip r:embed="rId7"/>
          <a:stretch/>
        </p:blipFill>
        <p:spPr>
          <a:xfrm>
            <a:off x="3708360" y="4869000"/>
            <a:ext cx="5076720" cy="18478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9"/>
          <p:cNvSpPr/>
          <p:nvPr/>
        </p:nvSpPr>
        <p:spPr>
          <a:xfrm>
            <a:off x="0" y="1000080"/>
            <a:ext cx="9144000" cy="767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мотрите праздничные иконы, определяе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ому празднику они посвящ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357120" y="470052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правильный ответ – 3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12"/>
          <p:cNvSpPr txBox="1"/>
          <p:nvPr/>
        </p:nvSpPr>
        <p:spPr>
          <a:xfrm>
            <a:off x="3995640" y="115920"/>
            <a:ext cx="139068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лиц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Picture 13" descr="D:\Documents and Settings\admin\Рабочий стол\православный календарь\Рождество Пресвятой Богородицы2.jpg"/>
          <p:cNvPicPr/>
          <p:nvPr/>
        </p:nvPicPr>
        <p:blipFill>
          <a:blip r:embed="rId8"/>
          <a:stretch/>
        </p:blipFill>
        <p:spPr>
          <a:xfrm>
            <a:off x="714240" y="1857240"/>
            <a:ext cx="2289240" cy="2643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D:\Documents and Settings\admin\Рабочий стол\православный календарь\Введение во храм Пресвятой Богородицы5.jpg"/>
          <p:cNvPicPr/>
          <p:nvPr/>
        </p:nvPicPr>
        <p:blipFill>
          <a:blip r:embed="rId9"/>
          <a:stretch/>
        </p:blipFill>
        <p:spPr>
          <a:xfrm>
            <a:off x="3554280" y="1981080"/>
            <a:ext cx="2859120" cy="2401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D:\Documents and Settings\admin\Рабочий стол\православный календарь\Крещение Господне4.jpg"/>
          <p:cNvPicPr/>
          <p:nvPr/>
        </p:nvPicPr>
        <p:blipFill>
          <a:blip r:embed="rId10"/>
          <a:stretch/>
        </p:blipFill>
        <p:spPr>
          <a:xfrm>
            <a:off x="6929280" y="1857240"/>
            <a:ext cx="1622520" cy="288144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1" descr=""/>
          <p:cNvPicPr/>
          <p:nvPr/>
        </p:nvPicPr>
        <p:blipFill>
          <a:blip r:embed="rId11"/>
          <a:stretch/>
        </p:blipFill>
        <p:spPr>
          <a:xfrm>
            <a:off x="201600" y="5394240"/>
            <a:ext cx="3578400" cy="13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80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68000"/>
                            </p:stCondLst>
                            <p:childTnLst>
                              <p:par>
                                <p:cTn id="3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900000" y="333360"/>
            <a:ext cx="7632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нимание!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ильный ответ: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2" name="WordArt 3"/>
          <p:cNvSpPr txBox="1"/>
          <p:nvPr/>
        </p:nvSpPr>
        <p:spPr>
          <a:xfrm>
            <a:off x="900000" y="3716280"/>
            <a:ext cx="7488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1. Рождество Пресвятой Богородицы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2. Введение во храм Пресвятой Богородицы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3. Крещение Иисуса Христ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1yellow"/>
          <p:cNvPicPr/>
          <p:nvPr/>
        </p:nvPicPr>
        <p:blipFill>
          <a:blip r:embed="rId1"/>
          <a:stretch/>
        </p:blipFill>
        <p:spPr>
          <a:xfrm>
            <a:off x="3419640" y="472428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50seconds_yellow"/>
          <p:cNvPicPr/>
          <p:nvPr/>
        </p:nvPicPr>
        <p:blipFill>
          <a:blip r:embed="rId2"/>
          <a:stretch/>
        </p:blipFill>
        <p:spPr>
          <a:xfrm>
            <a:off x="3419640" y="472428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40seconds_yellow"/>
          <p:cNvPicPr/>
          <p:nvPr/>
        </p:nvPicPr>
        <p:blipFill>
          <a:blip r:embed="rId3"/>
          <a:stretch/>
        </p:blipFill>
        <p:spPr>
          <a:xfrm>
            <a:off x="3419640" y="472428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30seconds_yellow"/>
          <p:cNvPicPr/>
          <p:nvPr/>
        </p:nvPicPr>
        <p:blipFill>
          <a:blip r:embed="rId4"/>
          <a:stretch/>
        </p:blipFill>
        <p:spPr>
          <a:xfrm>
            <a:off x="3419640" y="472428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20seconds_yellow"/>
          <p:cNvPicPr/>
          <p:nvPr/>
        </p:nvPicPr>
        <p:blipFill>
          <a:blip r:embed="rId5"/>
          <a:stretch/>
        </p:blipFill>
        <p:spPr>
          <a:xfrm>
            <a:off x="3492360" y="4724280"/>
            <a:ext cx="5077080" cy="1847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10seconds_yellow"/>
          <p:cNvPicPr/>
          <p:nvPr/>
        </p:nvPicPr>
        <p:blipFill>
          <a:blip r:embed="rId6"/>
          <a:stretch/>
        </p:blipFill>
        <p:spPr>
          <a:xfrm>
            <a:off x="3492360" y="4724280"/>
            <a:ext cx="5077080" cy="1847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00seconds_yellow"/>
          <p:cNvPicPr/>
          <p:nvPr/>
        </p:nvPicPr>
        <p:blipFill>
          <a:blip r:embed="rId7"/>
          <a:stretch/>
        </p:blipFill>
        <p:spPr>
          <a:xfrm>
            <a:off x="3419640" y="4724280"/>
            <a:ext cx="5076720" cy="18478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"/>
          <p:cNvSpPr/>
          <p:nvPr/>
        </p:nvSpPr>
        <p:spPr>
          <a:xfrm>
            <a:off x="0" y="714240"/>
            <a:ext cx="9144000" cy="947160"/>
          </a:xfrm>
          <a:prstGeom prst="rect">
            <a:avLst/>
          </a:prstGeom>
          <a:solidFill>
            <a:srgbClr val="ffc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Book Antiqua"/>
              </a:rPr>
              <a:t>Когда Православной Церковью празднуется Рождество Иисуса Христ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357120" y="474984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правильный ответ - 2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G:\Тоже работа\0b014daf9673b91e797a026c61b15ba5.jpeg"/>
          <p:cNvPicPr/>
          <p:nvPr/>
        </p:nvPicPr>
        <p:blipFill>
          <a:blip r:embed="rId8"/>
          <a:stretch/>
        </p:blipFill>
        <p:spPr>
          <a:xfrm>
            <a:off x="2643120" y="1881360"/>
            <a:ext cx="3643560" cy="273492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1" descr=""/>
          <p:cNvPicPr/>
          <p:nvPr/>
        </p:nvPicPr>
        <p:blipFill>
          <a:blip r:embed="rId9"/>
          <a:stretch/>
        </p:blipFill>
        <p:spPr>
          <a:xfrm>
            <a:off x="176040" y="5467320"/>
            <a:ext cx="3170520" cy="13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64000"/>
                            </p:stCondLst>
                            <p:childTnLst>
                              <p:par>
                                <p:cTn id="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900000" y="333360"/>
            <a:ext cx="7632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нимание!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ильный ответ: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4" name="WordArt 7"/>
          <p:cNvSpPr txBox="1"/>
          <p:nvPr/>
        </p:nvSpPr>
        <p:spPr>
          <a:xfrm>
            <a:off x="428760" y="3929040"/>
            <a:ext cx="8280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7 январ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65" name="Picture 4" descr="G:\Тоже работа\0004-005-U-mnogikh-narodov-takzhe-imeli-shirokoe-rasprostranenie-ery.jpg"/>
          <p:cNvPicPr/>
          <p:nvPr/>
        </p:nvPicPr>
        <p:blipFill>
          <a:blip r:embed="rId1"/>
          <a:stretch/>
        </p:blipFill>
        <p:spPr>
          <a:xfrm>
            <a:off x="6000840" y="2286000"/>
            <a:ext cx="24177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1yellow"/>
          <p:cNvPicPr/>
          <p:nvPr/>
        </p:nvPicPr>
        <p:blipFill>
          <a:blip r:embed="rId1"/>
          <a:stretch/>
        </p:blipFill>
        <p:spPr>
          <a:xfrm>
            <a:off x="3714840" y="43578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50seconds_yellow"/>
          <p:cNvPicPr/>
          <p:nvPr/>
        </p:nvPicPr>
        <p:blipFill>
          <a:blip r:embed="rId2"/>
          <a:stretch/>
        </p:blipFill>
        <p:spPr>
          <a:xfrm>
            <a:off x="3714840" y="43578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40seconds_yellow"/>
          <p:cNvPicPr/>
          <p:nvPr/>
        </p:nvPicPr>
        <p:blipFill>
          <a:blip r:embed="rId3"/>
          <a:stretch/>
        </p:blipFill>
        <p:spPr>
          <a:xfrm>
            <a:off x="3714840" y="43578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30seconds_yellow"/>
          <p:cNvPicPr/>
          <p:nvPr/>
        </p:nvPicPr>
        <p:blipFill>
          <a:blip r:embed="rId4"/>
          <a:stretch/>
        </p:blipFill>
        <p:spPr>
          <a:xfrm>
            <a:off x="3714840" y="43578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20seconds_yellow"/>
          <p:cNvPicPr/>
          <p:nvPr/>
        </p:nvPicPr>
        <p:blipFill>
          <a:blip r:embed="rId5"/>
          <a:stretch/>
        </p:blipFill>
        <p:spPr>
          <a:xfrm>
            <a:off x="3714840" y="43578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10seconds_yellow"/>
          <p:cNvPicPr/>
          <p:nvPr/>
        </p:nvPicPr>
        <p:blipFill>
          <a:blip r:embed="rId6"/>
          <a:stretch/>
        </p:blipFill>
        <p:spPr>
          <a:xfrm>
            <a:off x="3714840" y="43578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00seconds_yellow"/>
          <p:cNvPicPr/>
          <p:nvPr/>
        </p:nvPicPr>
        <p:blipFill>
          <a:blip r:embed="rId7"/>
          <a:stretch/>
        </p:blipFill>
        <p:spPr>
          <a:xfrm>
            <a:off x="3714840" y="4357800"/>
            <a:ext cx="5076720" cy="18478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9"/>
          <p:cNvSpPr/>
          <p:nvPr/>
        </p:nvSpPr>
        <p:spPr>
          <a:xfrm>
            <a:off x="0" y="1000080"/>
            <a:ext cx="9144000" cy="1739880"/>
          </a:xfrm>
          <a:prstGeom prst="rect">
            <a:avLst/>
          </a:prstGeom>
          <a:solidFill>
            <a:srgbClr val="ffe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Book Antiqua"/>
              </a:rPr>
              <a:t>К кому пришел креститься Иисус Христос, когда ему исполнилось 30 л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4211640" y="256212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правильный ответ - 3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3" descr="D:\Documents and Settings\admin\Рабочий стол\православный календарь\Крещение Господне.jpg"/>
          <p:cNvPicPr/>
          <p:nvPr/>
        </p:nvPicPr>
        <p:blipFill>
          <a:blip r:embed="rId8"/>
          <a:stretch/>
        </p:blipFill>
        <p:spPr>
          <a:xfrm>
            <a:off x="500040" y="2698920"/>
            <a:ext cx="2786040" cy="350676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1" descr=""/>
          <p:cNvPicPr/>
          <p:nvPr/>
        </p:nvPicPr>
        <p:blipFill>
          <a:blip r:embed="rId9"/>
          <a:stretch/>
        </p:blipFill>
        <p:spPr>
          <a:xfrm>
            <a:off x="3780000" y="3060720"/>
            <a:ext cx="4572000" cy="103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64000"/>
                            </p:stCondLst>
                            <p:childTnLst>
                              <p:par>
                                <p:cTn id="1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2"/>
          <p:cNvSpPr txBox="1"/>
          <p:nvPr/>
        </p:nvSpPr>
        <p:spPr>
          <a:xfrm>
            <a:off x="900000" y="333360"/>
            <a:ext cx="7632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нимание!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ильный ответ: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8" name="WordArt 3"/>
          <p:cNvSpPr txBox="1"/>
          <p:nvPr/>
        </p:nvSpPr>
        <p:spPr>
          <a:xfrm>
            <a:off x="468360" y="5013360"/>
            <a:ext cx="5040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Иоанн Богосло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79" name="Picture 5" descr="D:\Documents and Settings\admin\Рабочий стол\православный календарь\Крещение Господне2.jpg"/>
          <p:cNvPicPr/>
          <p:nvPr/>
        </p:nvPicPr>
        <p:blipFill>
          <a:blip r:embed="rId1"/>
          <a:stretch/>
        </p:blipFill>
        <p:spPr>
          <a:xfrm>
            <a:off x="5143680" y="2714760"/>
            <a:ext cx="35287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77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770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4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1yellow"/>
          <p:cNvPicPr/>
          <p:nvPr/>
        </p:nvPicPr>
        <p:blipFill>
          <a:blip r:embed="rId1"/>
          <a:stretch/>
        </p:blipFill>
        <p:spPr>
          <a:xfrm>
            <a:off x="3492360" y="4508640"/>
            <a:ext cx="5077080" cy="1847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50seconds_yellow"/>
          <p:cNvPicPr/>
          <p:nvPr/>
        </p:nvPicPr>
        <p:blipFill>
          <a:blip r:embed="rId2"/>
          <a:stretch/>
        </p:blipFill>
        <p:spPr>
          <a:xfrm>
            <a:off x="3492360" y="4508640"/>
            <a:ext cx="5077080" cy="1847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40seconds_yellow"/>
          <p:cNvPicPr/>
          <p:nvPr/>
        </p:nvPicPr>
        <p:blipFill>
          <a:blip r:embed="rId3"/>
          <a:stretch/>
        </p:blipFill>
        <p:spPr>
          <a:xfrm>
            <a:off x="3492360" y="4508640"/>
            <a:ext cx="5077080" cy="184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30seconds_yellow"/>
          <p:cNvPicPr/>
          <p:nvPr/>
        </p:nvPicPr>
        <p:blipFill>
          <a:blip r:embed="rId4"/>
          <a:stretch/>
        </p:blipFill>
        <p:spPr>
          <a:xfrm>
            <a:off x="3492360" y="4508640"/>
            <a:ext cx="5077080" cy="1847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20seconds_yellow"/>
          <p:cNvPicPr/>
          <p:nvPr/>
        </p:nvPicPr>
        <p:blipFill>
          <a:blip r:embed="rId5"/>
          <a:stretch/>
        </p:blipFill>
        <p:spPr>
          <a:xfrm>
            <a:off x="3492360" y="4508640"/>
            <a:ext cx="5077080" cy="1847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10seconds_yellow"/>
          <p:cNvPicPr/>
          <p:nvPr/>
        </p:nvPicPr>
        <p:blipFill>
          <a:blip r:embed="rId6"/>
          <a:stretch/>
        </p:blipFill>
        <p:spPr>
          <a:xfrm>
            <a:off x="3492360" y="4508640"/>
            <a:ext cx="5077080" cy="1847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00seconds_yellow"/>
          <p:cNvPicPr/>
          <p:nvPr/>
        </p:nvPicPr>
        <p:blipFill>
          <a:blip r:embed="rId7"/>
          <a:stretch/>
        </p:blipFill>
        <p:spPr>
          <a:xfrm>
            <a:off x="3492360" y="4508640"/>
            <a:ext cx="5077080" cy="18478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0" y="333360"/>
            <a:ext cx="9144000" cy="1739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Book Antiqua"/>
              </a:rPr>
              <a:t>Какому событию посвящен праздник Сретения Господня, который отмечается 15 феврал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3887640" y="2500200"/>
            <a:ext cx="42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правильный ответ - 4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2" descr="D:\Documents and Settings\admin\Рабочий стол\православный календарь\Сретение Господне.jpg"/>
          <p:cNvPicPr/>
          <p:nvPr/>
        </p:nvPicPr>
        <p:blipFill>
          <a:blip r:embed="rId8"/>
          <a:stretch/>
        </p:blipFill>
        <p:spPr>
          <a:xfrm>
            <a:off x="142920" y="2500200"/>
            <a:ext cx="3214800" cy="406080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1" descr=""/>
          <p:cNvPicPr/>
          <p:nvPr/>
        </p:nvPicPr>
        <p:blipFill>
          <a:blip r:embed="rId9"/>
          <a:stretch/>
        </p:blipFill>
        <p:spPr>
          <a:xfrm>
            <a:off x="3865680" y="3164040"/>
            <a:ext cx="4572000" cy="102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64000"/>
                            </p:stCondLst>
                            <p:childTnLst>
                              <p:par>
                                <p:cTn id="2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900000" y="333360"/>
            <a:ext cx="7632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нимание!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ильный ответ: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2" name="WordArt 3"/>
          <p:cNvSpPr txBox="1"/>
          <p:nvPr/>
        </p:nvSpPr>
        <p:spPr>
          <a:xfrm>
            <a:off x="468360" y="4005360"/>
            <a:ext cx="8280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Встрече во храме Старца Семиона 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Богоматерью Марией и Младенцем Христо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1yellow"/>
          <p:cNvPicPr/>
          <p:nvPr/>
        </p:nvPicPr>
        <p:blipFill>
          <a:blip r:embed="rId1"/>
          <a:stretch/>
        </p:blipFill>
        <p:spPr>
          <a:xfrm>
            <a:off x="3419640" y="472428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50seconds_yellow"/>
          <p:cNvPicPr/>
          <p:nvPr/>
        </p:nvPicPr>
        <p:blipFill>
          <a:blip r:embed="rId2"/>
          <a:stretch/>
        </p:blipFill>
        <p:spPr>
          <a:xfrm>
            <a:off x="3419640" y="472428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40seconds_yellow"/>
          <p:cNvPicPr/>
          <p:nvPr/>
        </p:nvPicPr>
        <p:blipFill>
          <a:blip r:embed="rId3"/>
          <a:stretch/>
        </p:blipFill>
        <p:spPr>
          <a:xfrm>
            <a:off x="3419640" y="472428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30seconds_yellow"/>
          <p:cNvPicPr/>
          <p:nvPr/>
        </p:nvPicPr>
        <p:blipFill>
          <a:blip r:embed="rId4"/>
          <a:stretch/>
        </p:blipFill>
        <p:spPr>
          <a:xfrm>
            <a:off x="3419640" y="472428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20seconds_yellow"/>
          <p:cNvPicPr/>
          <p:nvPr/>
        </p:nvPicPr>
        <p:blipFill>
          <a:blip r:embed="rId5"/>
          <a:stretch/>
        </p:blipFill>
        <p:spPr>
          <a:xfrm>
            <a:off x="3492360" y="4724280"/>
            <a:ext cx="5077080" cy="1847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10seconds_yellow"/>
          <p:cNvPicPr/>
          <p:nvPr/>
        </p:nvPicPr>
        <p:blipFill>
          <a:blip r:embed="rId6"/>
          <a:stretch/>
        </p:blipFill>
        <p:spPr>
          <a:xfrm>
            <a:off x="3492360" y="4724280"/>
            <a:ext cx="5077080" cy="1847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00seconds_yellow"/>
          <p:cNvPicPr/>
          <p:nvPr/>
        </p:nvPicPr>
        <p:blipFill>
          <a:blip r:embed="rId7"/>
          <a:stretch/>
        </p:blipFill>
        <p:spPr>
          <a:xfrm>
            <a:off x="3419640" y="4724280"/>
            <a:ext cx="5076720" cy="18478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9"/>
          <p:cNvSpPr/>
          <p:nvPr/>
        </p:nvSpPr>
        <p:spPr>
          <a:xfrm>
            <a:off x="0" y="333360"/>
            <a:ext cx="9144000" cy="1373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Book Antiqua"/>
              </a:rPr>
              <a:t>7 аперля празднуется праздник Благовещение Пресвятой Богородицы. О какой благой вести идет реч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285840" y="471492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правильный ответ – 1 бал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2" descr="D:\Documents and Settings\admin\Рабочий стол\православный календарь\Благовещение Пресвятой Богородицы2.jpg"/>
          <p:cNvPicPr/>
          <p:nvPr/>
        </p:nvPicPr>
        <p:blipFill>
          <a:blip r:embed="rId8"/>
          <a:stretch/>
        </p:blipFill>
        <p:spPr>
          <a:xfrm>
            <a:off x="2643120" y="1785960"/>
            <a:ext cx="3687840" cy="288144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1" descr=""/>
          <p:cNvPicPr/>
          <p:nvPr/>
        </p:nvPicPr>
        <p:blipFill>
          <a:blip r:embed="rId9"/>
          <a:stretch/>
        </p:blipFill>
        <p:spPr>
          <a:xfrm>
            <a:off x="109440" y="5334120"/>
            <a:ext cx="3524400" cy="13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64000"/>
                            </p:stCondLst>
                            <p:childTnLst>
                              <p:par>
                                <p:cTn id="2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900000" y="333360"/>
            <a:ext cx="7632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нимание!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ильный ответ: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5" name="WordArt 3"/>
          <p:cNvSpPr txBox="1"/>
          <p:nvPr/>
        </p:nvSpPr>
        <p:spPr>
          <a:xfrm>
            <a:off x="571680" y="5143680"/>
            <a:ext cx="814356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Возвещение Деве Марии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благой вести о зачатии и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о рождении Ею Богомладенца Христа.  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06" name="Picture 5" descr="D:\Documents and Settings\admin\Рабочий стол\православный календарь\BLAGOVESCHENIE.jpg"/>
          <p:cNvPicPr/>
          <p:nvPr/>
        </p:nvPicPr>
        <p:blipFill>
          <a:blip r:embed="rId1"/>
          <a:stretch/>
        </p:blipFill>
        <p:spPr>
          <a:xfrm>
            <a:off x="5214960" y="2571840"/>
            <a:ext cx="3524400" cy="24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9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1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06:39:38Z</dcterms:created>
  <dc:creator>Школа 44</dc:creator>
  <dc:description/>
  <dc:language>en-US</dc:language>
  <cp:lastModifiedBy>007</cp:lastModifiedBy>
  <dcterms:modified xsi:type="dcterms:W3CDTF">2018-04-13T21:43:51Z</dcterms:modified>
  <cp:revision>61</cp:revision>
  <dc:subject/>
  <dc:title>Николай Васильевич Гоголь 20 марта (1 апреля) 1809 –  21 февраля (4 марта) 1852</dc:title>
</cp:coreProperties>
</file>