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5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69EF-A6F3-4519-9017-6DB231E18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D05B-60CB-447D-8E5A-773495022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9EBB-C2EF-4893-A133-3925823F7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B909-FDE5-4FA4-AAFB-E6722085A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1883-1700-49AF-8D37-883A31468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E0BE-79E1-4C18-B2FC-6764DAD42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47C-22C6-42A3-B017-BF9F8D4C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D45-C03F-4A27-9C70-F0FC02FA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AB9-9CC5-4307-BFEC-A696A5EA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BC6-4EB6-4E44-A585-C532CEF5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58D-85E7-44FA-9504-1EB9D22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4B2-0602-49CD-9E1A-B16BA533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AB8-3818-4F48-83A7-E40FA60E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D08-F813-4424-8203-71798558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297-C09B-4343-9E00-8E03BAA5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030-D17E-4C2C-9E60-D191242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2E1-EEAE-4C0C-B6DD-2B2F80C7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F18-E797-42B2-A516-24E5CC4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BD0A-512E-4A98-A5D8-6B08872CB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7.gi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Documents and Settings\admin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Православная 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572080"/>
            <a:ext cx="4716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авосла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опросы 1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572000" y="57448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итель ОРКСЭ МБОУ СОШ № 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зинова Светлана Григор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yellow"/>
          <p:cNvPicPr/>
          <p:nvPr/>
        </p:nvPicPr>
        <p:blipFill>
          <a:blip r:embed="rId1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50seconds_yellow"/>
          <p:cNvPicPr/>
          <p:nvPr/>
        </p:nvPicPr>
        <p:blipFill>
          <a:blip r:embed="rId2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40seconds_yellow"/>
          <p:cNvPicPr/>
          <p:nvPr/>
        </p:nvPicPr>
        <p:blipFill>
          <a:blip r:embed="rId3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0seconds_yellow"/>
          <p:cNvPicPr/>
          <p:nvPr/>
        </p:nvPicPr>
        <p:blipFill>
          <a:blip r:embed="rId4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20seconds_yellow"/>
          <p:cNvPicPr/>
          <p:nvPr/>
        </p:nvPicPr>
        <p:blipFill>
          <a:blip r:embed="rId5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0seconds_yellow"/>
          <p:cNvPicPr/>
          <p:nvPr/>
        </p:nvPicPr>
        <p:blipFill>
          <a:blip r:embed="rId6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0seconds_yellow"/>
          <p:cNvPicPr/>
          <p:nvPr/>
        </p:nvPicPr>
        <p:blipFill>
          <a:blip r:embed="rId7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0" y="1000080"/>
            <a:ext cx="9144000" cy="767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те праздничные иконы, определяе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му празднику они посвящ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57120" y="47005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3995640" y="115920"/>
            <a:ext cx="13906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ц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3" descr="D:\Documents and Settings\admin\Рабочий стол\православный календарь\Рождество Пресвятой Богородицы2.jpg"/>
          <p:cNvPicPr/>
          <p:nvPr/>
        </p:nvPicPr>
        <p:blipFill>
          <a:blip r:embed="rId8"/>
          <a:stretch/>
        </p:blipFill>
        <p:spPr>
          <a:xfrm>
            <a:off x="714240" y="1857240"/>
            <a:ext cx="2289240" cy="2643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D:\Documents and Settings\admin\Рабочий стол\православный календарь\Введение во храм Пресвятой Богородицы5.jpg"/>
          <p:cNvPicPr/>
          <p:nvPr/>
        </p:nvPicPr>
        <p:blipFill>
          <a:blip r:embed="rId9"/>
          <a:stretch/>
        </p:blipFill>
        <p:spPr>
          <a:xfrm>
            <a:off x="3554280" y="1981080"/>
            <a:ext cx="2859120" cy="2401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D:\Documents and Settings\admin\Рабочий стол\православный календарь\Крещение Господне4.jpg"/>
          <p:cNvPicPr/>
          <p:nvPr/>
        </p:nvPicPr>
        <p:blipFill>
          <a:blip r:embed="rId10"/>
          <a:stretch/>
        </p:blipFill>
        <p:spPr>
          <a:xfrm>
            <a:off x="6929280" y="1857240"/>
            <a:ext cx="1622520" cy="28814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" descr=""/>
          <p:cNvPicPr/>
          <p:nvPr/>
        </p:nvPicPr>
        <p:blipFill>
          <a:blip r:embed="rId11"/>
          <a:stretch/>
        </p:blipFill>
        <p:spPr>
          <a:xfrm>
            <a:off x="201600" y="5394240"/>
            <a:ext cx="357840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3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900000" y="3716280"/>
            <a:ext cx="748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1. Рождество Пресвятой Богородицы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2. Введение во храм Пресвятой Богородицы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3. Крещение Иисуса Хрис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yellow"/>
          <p:cNvPicPr/>
          <p:nvPr/>
        </p:nvPicPr>
        <p:blipFill>
          <a:blip r:embed="rId1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50seconds_yellow"/>
          <p:cNvPicPr/>
          <p:nvPr/>
        </p:nvPicPr>
        <p:blipFill>
          <a:blip r:embed="rId2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40seconds_yellow"/>
          <p:cNvPicPr/>
          <p:nvPr/>
        </p:nvPicPr>
        <p:blipFill>
          <a:blip r:embed="rId3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72428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72428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714240"/>
            <a:ext cx="9144000" cy="947160"/>
          </a:xfrm>
          <a:prstGeom prst="rect">
            <a:avLst/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Book Antiqua"/>
              </a:rPr>
              <a:t>Когда Православной Церковью празднуется Рождество Иисуса Хрис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7120" y="47498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G:\Тоже работа\0b014daf9673b91e797a026c61b15ba5.jpeg"/>
          <p:cNvPicPr/>
          <p:nvPr/>
        </p:nvPicPr>
        <p:blipFill>
          <a:blip r:embed="rId8"/>
          <a:stretch/>
        </p:blipFill>
        <p:spPr>
          <a:xfrm>
            <a:off x="2643120" y="1881360"/>
            <a:ext cx="3643560" cy="27349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" descr=""/>
          <p:cNvPicPr/>
          <p:nvPr/>
        </p:nvPicPr>
        <p:blipFill>
          <a:blip r:embed="rId9"/>
          <a:stretch/>
        </p:blipFill>
        <p:spPr>
          <a:xfrm>
            <a:off x="176040" y="5467320"/>
            <a:ext cx="317052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428760" y="3929040"/>
            <a:ext cx="8280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7 январ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65" name="Picture 4" descr="G:\Тоже работа\0004-005-U-mnogikh-narodov-takzhe-imeli-shirokoe-rasprostranenie-ery.jpg"/>
          <p:cNvPicPr/>
          <p:nvPr/>
        </p:nvPicPr>
        <p:blipFill>
          <a:blip r:embed="rId1"/>
          <a:stretch/>
        </p:blipFill>
        <p:spPr>
          <a:xfrm>
            <a:off x="6000840" y="2286000"/>
            <a:ext cx="2417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yellow"/>
          <p:cNvPicPr/>
          <p:nvPr/>
        </p:nvPicPr>
        <p:blipFill>
          <a:blip r:embed="rId1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50seconds_yellow"/>
          <p:cNvPicPr/>
          <p:nvPr/>
        </p:nvPicPr>
        <p:blipFill>
          <a:blip r:embed="rId2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40seconds_yellow"/>
          <p:cNvPicPr/>
          <p:nvPr/>
        </p:nvPicPr>
        <p:blipFill>
          <a:blip r:embed="rId3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30seconds_yellow"/>
          <p:cNvPicPr/>
          <p:nvPr/>
        </p:nvPicPr>
        <p:blipFill>
          <a:blip r:embed="rId4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20seconds_yellow"/>
          <p:cNvPicPr/>
          <p:nvPr/>
        </p:nvPicPr>
        <p:blipFill>
          <a:blip r:embed="rId5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0seconds_yellow"/>
          <p:cNvPicPr/>
          <p:nvPr/>
        </p:nvPicPr>
        <p:blipFill>
          <a:blip r:embed="rId6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seconds_yellow"/>
          <p:cNvPicPr/>
          <p:nvPr/>
        </p:nvPicPr>
        <p:blipFill>
          <a:blip r:embed="rId7"/>
          <a:stretch/>
        </p:blipFill>
        <p:spPr>
          <a:xfrm>
            <a:off x="3714840" y="43578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0" y="1000080"/>
            <a:ext cx="9144000" cy="1739880"/>
          </a:xfrm>
          <a:prstGeom prst="rect">
            <a:avLst/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 кому пришел креститься Иисус Христос, когда ему исполнилось 30 л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211640" y="25621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D:\Documents and Settings\admin\Рабочий стол\православный календарь\Крещение Господне.jpg"/>
          <p:cNvPicPr/>
          <p:nvPr/>
        </p:nvPicPr>
        <p:blipFill>
          <a:blip r:embed="rId8"/>
          <a:stretch/>
        </p:blipFill>
        <p:spPr>
          <a:xfrm>
            <a:off x="500040" y="2698920"/>
            <a:ext cx="2786040" cy="35067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" descr=""/>
          <p:cNvPicPr/>
          <p:nvPr/>
        </p:nvPicPr>
        <p:blipFill>
          <a:blip r:embed="rId9"/>
          <a:stretch/>
        </p:blipFill>
        <p:spPr>
          <a:xfrm>
            <a:off x="3780000" y="306072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468360" y="501336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оанн Богосл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79" name="Picture 5" descr="D:\Documents and Settings\admin\Рабочий стол\православный календарь\Крещение Господне2.jpg"/>
          <p:cNvPicPr/>
          <p:nvPr/>
        </p:nvPicPr>
        <p:blipFill>
          <a:blip r:embed="rId1"/>
          <a:stretch/>
        </p:blipFill>
        <p:spPr>
          <a:xfrm>
            <a:off x="5143680" y="2714760"/>
            <a:ext cx="3528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yellow"/>
          <p:cNvPicPr/>
          <p:nvPr/>
        </p:nvPicPr>
        <p:blipFill>
          <a:blip r:embed="rId1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50seconds_yellow"/>
          <p:cNvPicPr/>
          <p:nvPr/>
        </p:nvPicPr>
        <p:blipFill>
          <a:blip r:embed="rId2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40seconds_yellow"/>
          <p:cNvPicPr/>
          <p:nvPr/>
        </p:nvPicPr>
        <p:blipFill>
          <a:blip r:embed="rId3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30seconds_yellow"/>
          <p:cNvPicPr/>
          <p:nvPr/>
        </p:nvPicPr>
        <p:blipFill>
          <a:blip r:embed="rId4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0seconds_yellow"/>
          <p:cNvPicPr/>
          <p:nvPr/>
        </p:nvPicPr>
        <p:blipFill>
          <a:blip r:embed="rId7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акому событию посвящен праздник Сретения Господня, который отмечается 15 февра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3887640" y="25002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4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D:\Documents and Settings\admin\Рабочий стол\православный календарь\Сретение Господне.jpg"/>
          <p:cNvPicPr/>
          <p:nvPr/>
        </p:nvPicPr>
        <p:blipFill>
          <a:blip r:embed="rId8"/>
          <a:stretch/>
        </p:blipFill>
        <p:spPr>
          <a:xfrm>
            <a:off x="142920" y="2500200"/>
            <a:ext cx="3214800" cy="40608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" descr=""/>
          <p:cNvPicPr/>
          <p:nvPr/>
        </p:nvPicPr>
        <p:blipFill>
          <a:blip r:embed="rId9"/>
          <a:stretch/>
        </p:blipFill>
        <p:spPr>
          <a:xfrm>
            <a:off x="3865680" y="3164040"/>
            <a:ext cx="4572000" cy="102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468360" y="4005360"/>
            <a:ext cx="8280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Встрече во храме Старца Семиона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огоматерью Марией и Младенцем Христ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yellow"/>
          <p:cNvPicPr/>
          <p:nvPr/>
        </p:nvPicPr>
        <p:blipFill>
          <a:blip r:embed="rId1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50seconds_yellow"/>
          <p:cNvPicPr/>
          <p:nvPr/>
        </p:nvPicPr>
        <p:blipFill>
          <a:blip r:embed="rId2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40seconds_yellow"/>
          <p:cNvPicPr/>
          <p:nvPr/>
        </p:nvPicPr>
        <p:blipFill>
          <a:blip r:embed="rId3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72428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72428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72428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0" y="333360"/>
            <a:ext cx="9144000" cy="1373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Book Antiqua"/>
              </a:rPr>
              <a:t>7 аперля празднуется праздник Благовещение Пресвятой Богородицы. О какой благой вести идет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85840" y="47149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1 б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D:\Documents and Settings\admin\Рабочий стол\православный календарь\Благовещение Пресвятой Богородицы2.jpg"/>
          <p:cNvPicPr/>
          <p:nvPr/>
        </p:nvPicPr>
        <p:blipFill>
          <a:blip r:embed="rId8"/>
          <a:stretch/>
        </p:blipFill>
        <p:spPr>
          <a:xfrm>
            <a:off x="2643120" y="1785960"/>
            <a:ext cx="3687840" cy="28814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" descr=""/>
          <p:cNvPicPr/>
          <p:nvPr/>
        </p:nvPicPr>
        <p:blipFill>
          <a:blip r:embed="rId9"/>
          <a:stretch/>
        </p:blipFill>
        <p:spPr>
          <a:xfrm>
            <a:off x="109440" y="5334120"/>
            <a:ext cx="352440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571680" y="5143680"/>
            <a:ext cx="81435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Возвещение Деве Мари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благой вести о зачатии и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о рождении Ею Богомладенца Христа.  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Picture 5" descr="D:\Documents and Settings\admin\Рабочий стол\православный календарь\BLAGOVESCHENIE.jpg"/>
          <p:cNvPicPr/>
          <p:nvPr/>
        </p:nvPicPr>
        <p:blipFill>
          <a:blip r:embed="rId1"/>
          <a:stretch/>
        </p:blipFill>
        <p:spPr>
          <a:xfrm>
            <a:off x="5214960" y="2571840"/>
            <a:ext cx="35244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6:39:38Z</dcterms:created>
  <dc:creator>Школа 44</dc:creator>
  <dc:description/>
  <dc:language>en-US</dc:language>
  <cp:lastModifiedBy>007</cp:lastModifiedBy>
  <dcterms:modified xsi:type="dcterms:W3CDTF">2018-04-13T21:43:51Z</dcterms:modified>
  <cp:revision>61</cp:revision>
  <dc:subject/>
  <dc:title>Николай Васильевич Гоголь 20 марта (1 апреля) 1809 –  21 февраля (4 марта) 1852</dc:title>
</cp:coreProperties>
</file>