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28.gif" ContentType="image/gif"/>
  <Override PartName="/ppt/media/image12.png" ContentType="image/png"/>
  <Override PartName="/ppt/media/image7.png" ContentType="image/png"/>
  <Override PartName="/ppt/media/image22.jpeg" ContentType="image/jpeg"/>
  <Override PartName="/ppt/media/image27.gif" ContentType="image/gif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902B-A144-46FA-A2F9-C5B24A2D82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7C6F-9AEB-47CF-8A2C-7D3AA38958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таймера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этом слайде PowerPoint с помощью соответствующих изображений, специальной анимации и средств хронометража создается таймер с обратным отсчетом времени, который можно вставить в любую презентацию. При открытии шаблона таймер устанавливается на 00:00. При запуске презентации таймер переводится на 01:00 и начинает отсчитывать время с интервалом в 10 секунд, пока не дойдет до 00: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тобы вставить слайд в презентац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те этот шаблон на компьютере в виде файла презентации (.pp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презентацию, которая будет содержать этот тайм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ановите указатель после слайда, который должен предшествовать таймеру. (Не выбирайте сам слайд. Курсор должен располагаться между слайдами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кройте вклад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з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йдите и выберите презентацию с таймером, а затем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ерите слайд с таймер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е флажо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исходное форма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сли этого не сделать, скопированный слайд унаследует оформление слайда, предшествующего ему в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3D46-48C9-437B-9346-EAEFB95C25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таймера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этом слайде PowerPoint с помощью соответствующих изображений, специальной анимации и средств хронометража создается таймер с обратным отсчетом времени, который можно вставить в любую презентацию. При открытии шаблона таймер устанавливается на 00:00. При запуске презентации таймер переводится на 01:00 и начинает отсчитывать время с интервалом в 10 секунд, пока не дойдет до 00: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тобы вставить слайд в презентац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те этот шаблон на компьютере в виде файла презентации (.pp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презентацию, которая будет содержать этот тайм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ановите указатель после слайда, который должен предшествовать таймеру. (Не выбирайте сам слайд. Курсор должен располагаться между слайдами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кройте вклад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з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йдите и выберите презентацию с таймером, а затем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ерите слайд с таймер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е флажо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исходное форма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сли этого не сделать, скопированный слайд унаследует оформление слайда, предшествующего ему в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3717-B446-47ED-83DA-1A67C1ED15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таймера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этом слайде PowerPoint с помощью соответствующих изображений, специальной анимации и средств хронометража создается таймер с обратным отсчетом времени, который можно вставить в любую презентацию. При открытии шаблона таймер устанавливается на 00:00. При запуске презентации таймер переводится на 01:00 и начинает отсчитывать время с интервалом в 10 секунд, пока не дойдет до 00: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тобы вставить слайд в презентац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те этот шаблон на компьютере в виде файла презентации (.pp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презентацию, которая будет содержать этот тайм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ановите указатель после слайда, который должен предшествовать таймеру. (Не выбирайте сам слайд. Курсор должен располагаться между слайдами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кройте вклад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з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йдите и выберите презентацию с таймером, а затем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ерите слайд с таймер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е флажо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исходное форма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сли этого не сделать, скопированный слайд унаследует оформление слайда, предшествующего ему в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C362-FA91-40F7-BF2A-6BEAD8F3ED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таймера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этом слайде PowerPoint с помощью соответствующих изображений, специальной анимации и средств хронометража создается таймер с обратным отсчетом времени, который можно вставить в любую презентацию. При открытии шаблона таймер устанавливается на 00:00. При запуске презентации таймер переводится на 01:00 и начинает отсчитывать время с интервалом в 10 секунд, пока не дойдет до 00: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тобы вставить слайд в презентац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те этот шаблон на компьютере в виде файла презентации (.pp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презентацию, которая будет содержать этот тайм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ановите указатель после слайда, который должен предшествовать таймеру. (Не выбирайте сам слайд. Курсор должен располагаться между слайдами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кройте вклад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з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йдите и выберите презентацию с таймером, а затем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ерите слайд с таймер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е флажо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исходное форма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сли этого не сделать, скопированный слайд унаследует оформление слайда, предшествующего ему в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FC8A-E932-416E-A4EB-51CEE6AE4A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таймера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этом слайде PowerPoint с помощью соответствующих изображений, специальной анимации и средств хронометража создается таймер с обратным отсчетом времени, который можно вставить в любую презентацию. При открытии шаблона таймер устанавливается на 00:00. При запуске презентации таймер переводится на 01:00 и начинает отсчитывать время с интервалом в 10 секунд, пока не дойдет до 00: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тобы вставить слайд в презентац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те этот шаблон на компьютере в виде файла презентации (.pp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презентацию, которая будет содержать этот тайм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ановите указатель после слайда, который должен предшествовать таймеру. (Не выбирайте сам слайд. Курсор должен располагаться между слайдами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кройте вклад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з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йдите и выберите презентацию с таймером, а затем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ерите слайд с таймер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е флажо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исходное форма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сли этого не сделать, скопированный слайд унаследует оформление слайда, предшествующего ему в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2EDB-E963-49A8-AB28-08D78A72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F057-1DB3-4E15-94A2-A7951609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7F9E-70DE-4011-A18F-758DC5D0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C90F-8599-4C9E-9EF8-EBF30EC8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B9F2-EA9B-44AA-8337-6B211416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C39A-98C5-4F09-B7FD-DBBC0B0C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5082-8FCC-4468-9C2A-87CD04F6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7975-5333-438F-858A-B3AD3FF6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9CBB-D10B-4EF1-A309-70378B26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0433-1AF1-4D83-8016-BABA1FEB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F467-6B0F-46C6-BC89-5B805972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31CA-2295-4939-82E8-D2D82D33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7FA3-9BF6-41BA-A5E1-6549B13EE6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5.jpe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D:\Documents and Settings\admin\Мои документы\Мои рисунки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Православная иг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5572080"/>
            <a:ext cx="47163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Православные праз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Вопросы 11-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4572000" y="574488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вто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Учитель ОРКСЭ МБОУ СОШ № 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Козинова Светлана Григорье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1yellow"/>
          <p:cNvPicPr/>
          <p:nvPr/>
        </p:nvPicPr>
        <p:blipFill>
          <a:blip r:embed="rId1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50seconds_yellow"/>
          <p:cNvPicPr/>
          <p:nvPr/>
        </p:nvPicPr>
        <p:blipFill>
          <a:blip r:embed="rId2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40seconds_yellow"/>
          <p:cNvPicPr/>
          <p:nvPr/>
        </p:nvPicPr>
        <p:blipFill>
          <a:blip r:embed="rId3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30seconds_yellow"/>
          <p:cNvPicPr/>
          <p:nvPr/>
        </p:nvPicPr>
        <p:blipFill>
          <a:blip r:embed="rId4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20seconds_yellow"/>
          <p:cNvPicPr/>
          <p:nvPr/>
        </p:nvPicPr>
        <p:blipFill>
          <a:blip r:embed="rId5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10seconds_yellow"/>
          <p:cNvPicPr/>
          <p:nvPr/>
        </p:nvPicPr>
        <p:blipFill>
          <a:blip r:embed="rId6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00seconds_yellow"/>
          <p:cNvPicPr/>
          <p:nvPr/>
        </p:nvPicPr>
        <p:blipFill>
          <a:blip r:embed="rId7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0" y="981000"/>
            <a:ext cx="9144000" cy="69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мотрите праздничные иконы, определяе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му празднику они посвящ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324000" y="48531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правильный ответ – 3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12"/>
          <p:cNvSpPr txBox="1"/>
          <p:nvPr/>
        </p:nvSpPr>
        <p:spPr>
          <a:xfrm>
            <a:off x="3995640" y="115920"/>
            <a:ext cx="139068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лиц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Picture 13" descr="D:\Documents and Settings\admin\Рабочий стол\православный календарь\Вход Господень в Иерусалим.jpg"/>
          <p:cNvPicPr/>
          <p:nvPr/>
        </p:nvPicPr>
        <p:blipFill>
          <a:blip r:embed="rId8"/>
          <a:stretch/>
        </p:blipFill>
        <p:spPr>
          <a:xfrm>
            <a:off x="857160" y="1857240"/>
            <a:ext cx="2081160" cy="2714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D:\Documents and Settings\admin\Рабочий стол\православный календарь\вознесение4.jpg"/>
          <p:cNvPicPr/>
          <p:nvPr/>
        </p:nvPicPr>
        <p:blipFill>
          <a:blip r:embed="rId9"/>
          <a:stretch/>
        </p:blipFill>
        <p:spPr>
          <a:xfrm>
            <a:off x="3714840" y="1785960"/>
            <a:ext cx="1481040" cy="2928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D:\Documents and Settings\admin\Рабочий стол\православный календарь\пасха3.jpg"/>
          <p:cNvPicPr/>
          <p:nvPr/>
        </p:nvPicPr>
        <p:blipFill>
          <a:blip r:embed="rId10"/>
          <a:stretch/>
        </p:blipFill>
        <p:spPr>
          <a:xfrm>
            <a:off x="5929200" y="1928880"/>
            <a:ext cx="2357640" cy="267948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1" descr=""/>
          <p:cNvPicPr/>
          <p:nvPr/>
        </p:nvPicPr>
        <p:blipFill>
          <a:blip r:embed="rId11"/>
          <a:stretch/>
        </p:blipFill>
        <p:spPr>
          <a:xfrm>
            <a:off x="122400" y="5486400"/>
            <a:ext cx="3443040" cy="13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6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66500"/>
                            </p:stCondLst>
                            <p:childTnLst>
                              <p:par>
                                <p:cTn id="3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900000" y="333360"/>
            <a:ext cx="763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3" name="WordArt 3"/>
          <p:cNvSpPr txBox="1"/>
          <p:nvPr/>
        </p:nvSpPr>
        <p:spPr>
          <a:xfrm>
            <a:off x="468360" y="4076640"/>
            <a:ext cx="8351640" cy="22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1. Вход Господень в Иерусалим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2. Вознесение Господне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3. Светлое Христово Воскресение. Пасха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WordArt 2"/>
          <p:cNvSpPr txBox="1"/>
          <p:nvPr/>
        </p:nvSpPr>
        <p:spPr>
          <a:xfrm>
            <a:off x="684360" y="549360"/>
            <a:ext cx="7561080" cy="56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b6bc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дсчё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6b6bc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b6bc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аллов!!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6b6bc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салют"/>
          <p:cNvPicPr/>
          <p:nvPr/>
        </p:nvPicPr>
        <p:blipFill>
          <a:blip r:embed="rId1"/>
          <a:stretch/>
        </p:blipFill>
        <p:spPr>
          <a:xfrm>
            <a:off x="2519280" y="1484280"/>
            <a:ext cx="3881520" cy="53737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Поздравляем </a:t>
            </a:r>
            <a:br>
              <a:rPr sz="8000"/>
            </a:b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победителей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с"/>
          <p:cNvPicPr/>
          <p:nvPr/>
        </p:nvPicPr>
        <p:blipFill>
          <a:blip r:embed="rId2"/>
          <a:stretch/>
        </p:blipFill>
        <p:spPr>
          <a:xfrm>
            <a:off x="0" y="0"/>
            <a:ext cx="1459080" cy="3645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с"/>
          <p:cNvPicPr/>
          <p:nvPr/>
        </p:nvPicPr>
        <p:blipFill>
          <a:blip r:embed="rId3"/>
          <a:stretch/>
        </p:blipFill>
        <p:spPr>
          <a:xfrm>
            <a:off x="7675560" y="0"/>
            <a:ext cx="1468440" cy="3672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с"/>
          <p:cNvPicPr/>
          <p:nvPr/>
        </p:nvPicPr>
        <p:blipFill>
          <a:blip r:embed="rId4"/>
          <a:stretch/>
        </p:blipFill>
        <p:spPr>
          <a:xfrm>
            <a:off x="0" y="2924280"/>
            <a:ext cx="1573200" cy="393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с"/>
          <p:cNvPicPr/>
          <p:nvPr/>
        </p:nvPicPr>
        <p:blipFill>
          <a:blip r:embed="rId5"/>
          <a:stretch/>
        </p:blipFill>
        <p:spPr>
          <a:xfrm>
            <a:off x="7599240" y="2997360"/>
            <a:ext cx="15447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1yellow"/>
          <p:cNvPicPr/>
          <p:nvPr/>
        </p:nvPicPr>
        <p:blipFill>
          <a:blip r:embed="rId1"/>
          <a:stretch/>
        </p:blipFill>
        <p:spPr>
          <a:xfrm>
            <a:off x="327672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50seconds_yellow"/>
          <p:cNvPicPr/>
          <p:nvPr/>
        </p:nvPicPr>
        <p:blipFill>
          <a:blip r:embed="rId2"/>
          <a:stretch/>
        </p:blipFill>
        <p:spPr>
          <a:xfrm>
            <a:off x="334800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40seconds_yellow"/>
          <p:cNvPicPr/>
          <p:nvPr/>
        </p:nvPicPr>
        <p:blipFill>
          <a:blip r:embed="rId3"/>
          <a:stretch/>
        </p:blipFill>
        <p:spPr>
          <a:xfrm>
            <a:off x="334800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30seconds_yellow"/>
          <p:cNvPicPr/>
          <p:nvPr/>
        </p:nvPicPr>
        <p:blipFill>
          <a:blip r:embed="rId4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20seconds_yellow"/>
          <p:cNvPicPr/>
          <p:nvPr/>
        </p:nvPicPr>
        <p:blipFill>
          <a:blip r:embed="rId5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0seconds_yellow"/>
          <p:cNvPicPr/>
          <p:nvPr/>
        </p:nvPicPr>
        <p:blipFill>
          <a:blip r:embed="rId6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00seconds_yellow"/>
          <p:cNvPicPr/>
          <p:nvPr/>
        </p:nvPicPr>
        <p:blipFill>
          <a:blip r:embed="rId7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0" y="333360"/>
            <a:ext cx="9144000" cy="11912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Book Antiqua"/>
              </a:rPr>
              <a:t>Как называется вечер накануне Креще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2714760" y="198900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правильный ответ – 3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D:\Documents and Settings\admin\Рабочий стол\православный календарь\Крещение Господне1.jpg"/>
          <p:cNvPicPr/>
          <p:nvPr/>
        </p:nvPicPr>
        <p:blipFill>
          <a:blip r:embed="rId8"/>
          <a:stretch/>
        </p:blipFill>
        <p:spPr>
          <a:xfrm>
            <a:off x="285840" y="3571920"/>
            <a:ext cx="2714400" cy="271476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1" descr=""/>
          <p:cNvPicPr/>
          <p:nvPr/>
        </p:nvPicPr>
        <p:blipFill>
          <a:blip r:embed="rId9"/>
          <a:stretch/>
        </p:blipFill>
        <p:spPr>
          <a:xfrm>
            <a:off x="2846520" y="2517840"/>
            <a:ext cx="457200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"/>
          <p:cNvSpPr txBox="1"/>
          <p:nvPr/>
        </p:nvSpPr>
        <p:spPr>
          <a:xfrm>
            <a:off x="900000" y="333360"/>
            <a:ext cx="763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4" name="WordArt 3"/>
          <p:cNvSpPr txBox="1"/>
          <p:nvPr/>
        </p:nvSpPr>
        <p:spPr>
          <a:xfrm>
            <a:off x="468360" y="4581360"/>
            <a:ext cx="83516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Крещенский сочельни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65" name="Picture 5" descr="D:\Documents and Settings\admin\Рабочий стол\православный календарь\Крещение Господне.jpg"/>
          <p:cNvPicPr/>
          <p:nvPr/>
        </p:nvPicPr>
        <p:blipFill>
          <a:blip r:embed="rId1"/>
          <a:stretch/>
        </p:blipFill>
        <p:spPr>
          <a:xfrm>
            <a:off x="6357960" y="2357280"/>
            <a:ext cx="183816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1yellow"/>
          <p:cNvPicPr/>
          <p:nvPr/>
        </p:nvPicPr>
        <p:blipFill>
          <a:blip r:embed="rId1"/>
          <a:stretch/>
        </p:blipFill>
        <p:spPr>
          <a:xfrm>
            <a:off x="327672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50seconds_yellow"/>
          <p:cNvPicPr/>
          <p:nvPr/>
        </p:nvPicPr>
        <p:blipFill>
          <a:blip r:embed="rId2"/>
          <a:stretch/>
        </p:blipFill>
        <p:spPr>
          <a:xfrm>
            <a:off x="334800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40seconds_yellow"/>
          <p:cNvPicPr/>
          <p:nvPr/>
        </p:nvPicPr>
        <p:blipFill>
          <a:blip r:embed="rId3"/>
          <a:stretch/>
        </p:blipFill>
        <p:spPr>
          <a:xfrm>
            <a:off x="334800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30seconds_yellow"/>
          <p:cNvPicPr/>
          <p:nvPr/>
        </p:nvPicPr>
        <p:blipFill>
          <a:blip r:embed="rId4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20seconds_yellow"/>
          <p:cNvPicPr/>
          <p:nvPr/>
        </p:nvPicPr>
        <p:blipFill>
          <a:blip r:embed="rId5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10seconds_yellow"/>
          <p:cNvPicPr/>
          <p:nvPr/>
        </p:nvPicPr>
        <p:blipFill>
          <a:blip r:embed="rId6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00seconds_yellow"/>
          <p:cNvPicPr/>
          <p:nvPr/>
        </p:nvPicPr>
        <p:blipFill>
          <a:blip r:embed="rId7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0" y="642960"/>
            <a:ext cx="9144000" cy="1556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Book Antiqua"/>
              </a:rPr>
              <a:t>19 августа празднуется Преображение Господне. Что явилось предпосылкой для появления этого празд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3348000" y="2484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правильный ответ – 4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11" descr=""/>
          <p:cNvPicPr/>
          <p:nvPr/>
        </p:nvPicPr>
        <p:blipFill>
          <a:blip r:embed="rId8"/>
          <a:stretch/>
        </p:blipFill>
        <p:spPr>
          <a:xfrm>
            <a:off x="2771640" y="2484360"/>
            <a:ext cx="5367600" cy="5079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2" descr=""/>
          <p:cNvPicPr/>
          <p:nvPr/>
        </p:nvPicPr>
        <p:blipFill>
          <a:blip r:embed="rId9"/>
          <a:stretch/>
        </p:blipFill>
        <p:spPr>
          <a:xfrm>
            <a:off x="571680" y="3643200"/>
            <a:ext cx="2261880" cy="292752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1" descr=""/>
          <p:cNvPicPr/>
          <p:nvPr/>
        </p:nvPicPr>
        <p:blipFill>
          <a:blip r:embed="rId10"/>
          <a:stretch/>
        </p:blipFill>
        <p:spPr>
          <a:xfrm>
            <a:off x="3419640" y="3067200"/>
            <a:ext cx="4572000" cy="102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1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2"/>
          <p:cNvSpPr txBox="1"/>
          <p:nvPr/>
        </p:nvSpPr>
        <p:spPr>
          <a:xfrm>
            <a:off x="900000" y="333360"/>
            <a:ext cx="763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9" name="WordArt 3"/>
          <p:cNvSpPr txBox="1"/>
          <p:nvPr/>
        </p:nvSpPr>
        <p:spPr>
          <a:xfrm>
            <a:off x="468360" y="3857760"/>
            <a:ext cx="8351640" cy="24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Для того чтобы поддержать веру учеников в Себя,Господь Иисус Христос показал им Свою славу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Незадолго до Своих страданий Иисус Христос взял трёх учеников – Петра, Иакова и Иоанна –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и с ними взошел на высокую гору помолиться.Пока Спаситель молился, ученики от утом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заснули. Когда же проснулись, то увидели, что Иисус Христос преобразился: лицо Его просияло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как солнце, а одежды стали белыми как снег, и блистающими, как све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1yellow"/>
          <p:cNvPicPr/>
          <p:nvPr/>
        </p:nvPicPr>
        <p:blipFill>
          <a:blip r:embed="rId1"/>
          <a:stretch/>
        </p:blipFill>
        <p:spPr>
          <a:xfrm>
            <a:off x="327672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50seconds_yellow"/>
          <p:cNvPicPr/>
          <p:nvPr/>
        </p:nvPicPr>
        <p:blipFill>
          <a:blip r:embed="rId2"/>
          <a:stretch/>
        </p:blipFill>
        <p:spPr>
          <a:xfrm>
            <a:off x="334800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40seconds_yellow"/>
          <p:cNvPicPr/>
          <p:nvPr/>
        </p:nvPicPr>
        <p:blipFill>
          <a:blip r:embed="rId3"/>
          <a:stretch/>
        </p:blipFill>
        <p:spPr>
          <a:xfrm>
            <a:off x="334800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30seconds_yellow"/>
          <p:cNvPicPr/>
          <p:nvPr/>
        </p:nvPicPr>
        <p:blipFill>
          <a:blip r:embed="rId4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20seconds_yellow"/>
          <p:cNvPicPr/>
          <p:nvPr/>
        </p:nvPicPr>
        <p:blipFill>
          <a:blip r:embed="rId5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10seconds_yellow"/>
          <p:cNvPicPr/>
          <p:nvPr/>
        </p:nvPicPr>
        <p:blipFill>
          <a:blip r:embed="rId6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00seconds_yellow"/>
          <p:cNvPicPr/>
          <p:nvPr/>
        </p:nvPicPr>
        <p:blipFill>
          <a:blip r:embed="rId7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333360"/>
            <a:ext cx="9144000" cy="1068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Book Antiqua"/>
              </a:rPr>
              <a:t>Расскажите о традициях празднования Пас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3995640" y="1935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правильный ответ – 2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2" descr="D:\Documents and Settings\admin\Рабочий стол\православный календарь\пасха4.jpg"/>
          <p:cNvPicPr/>
          <p:nvPr/>
        </p:nvPicPr>
        <p:blipFill>
          <a:blip r:embed="rId8"/>
          <a:stretch/>
        </p:blipFill>
        <p:spPr>
          <a:xfrm>
            <a:off x="214200" y="2286000"/>
            <a:ext cx="2786040" cy="387180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1" descr=""/>
          <p:cNvPicPr/>
          <p:nvPr/>
        </p:nvPicPr>
        <p:blipFill>
          <a:blip r:embed="rId9"/>
          <a:stretch/>
        </p:blipFill>
        <p:spPr>
          <a:xfrm>
            <a:off x="3670200" y="2730600"/>
            <a:ext cx="457200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2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900000" y="333360"/>
            <a:ext cx="763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92" name="WordArt 3" descr=""/>
          <p:cNvPicPr/>
          <p:nvPr/>
        </p:nvPicPr>
        <p:blipFill>
          <a:blip r:embed="rId1"/>
          <a:stretch/>
        </p:blipFill>
        <p:spPr>
          <a:xfrm>
            <a:off x="457200" y="3846600"/>
            <a:ext cx="8369280" cy="2462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D:\Documents and Settings\admin\Рабочий стол\православный календарь\original.jpg"/>
          <p:cNvPicPr/>
          <p:nvPr/>
        </p:nvPicPr>
        <p:blipFill>
          <a:blip r:embed="rId2"/>
          <a:stretch/>
        </p:blipFill>
        <p:spPr>
          <a:xfrm>
            <a:off x="6572160" y="2214720"/>
            <a:ext cx="234972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1yellow"/>
          <p:cNvPicPr/>
          <p:nvPr/>
        </p:nvPicPr>
        <p:blipFill>
          <a:blip r:embed="rId1"/>
          <a:stretch/>
        </p:blipFill>
        <p:spPr>
          <a:xfrm>
            <a:off x="327672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50seconds_yellow"/>
          <p:cNvPicPr/>
          <p:nvPr/>
        </p:nvPicPr>
        <p:blipFill>
          <a:blip r:embed="rId2"/>
          <a:stretch/>
        </p:blipFill>
        <p:spPr>
          <a:xfrm>
            <a:off x="334800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40seconds_yellow"/>
          <p:cNvPicPr/>
          <p:nvPr/>
        </p:nvPicPr>
        <p:blipFill>
          <a:blip r:embed="rId3"/>
          <a:stretch/>
        </p:blipFill>
        <p:spPr>
          <a:xfrm>
            <a:off x="334800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30seconds_yellow"/>
          <p:cNvPicPr/>
          <p:nvPr/>
        </p:nvPicPr>
        <p:blipFill>
          <a:blip r:embed="rId4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20seconds_yellow"/>
          <p:cNvPicPr/>
          <p:nvPr/>
        </p:nvPicPr>
        <p:blipFill>
          <a:blip r:embed="rId5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10seconds_yellow"/>
          <p:cNvPicPr/>
          <p:nvPr/>
        </p:nvPicPr>
        <p:blipFill>
          <a:blip r:embed="rId6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00seconds_yellow"/>
          <p:cNvPicPr/>
          <p:nvPr/>
        </p:nvPicPr>
        <p:blipFill>
          <a:blip r:embed="rId7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0" y="333360"/>
            <a:ext cx="9144000" cy="1191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Book Antiqua"/>
              </a:rPr>
              <a:t>Какой праздник празднуется на 50-й день после Пасх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3306600" y="2060640"/>
            <a:ext cx="44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правильный ответ – 1 ба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11" descr="bird5-4"/>
          <p:cNvPicPr/>
          <p:nvPr/>
        </p:nvPicPr>
        <p:blipFill>
          <a:blip r:embed="rId8"/>
          <a:stretch/>
        </p:blipFill>
        <p:spPr>
          <a:xfrm>
            <a:off x="785880" y="3929040"/>
            <a:ext cx="2071800" cy="174780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1" descr=""/>
          <p:cNvPicPr/>
          <p:nvPr/>
        </p:nvPicPr>
        <p:blipFill>
          <a:blip r:embed="rId9"/>
          <a:stretch/>
        </p:blipFill>
        <p:spPr>
          <a:xfrm>
            <a:off x="3602160" y="2951280"/>
            <a:ext cx="457200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2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900000" y="333360"/>
            <a:ext cx="763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6" name="WordArt 3"/>
          <p:cNvSpPr txBox="1"/>
          <p:nvPr/>
        </p:nvSpPr>
        <p:spPr>
          <a:xfrm>
            <a:off x="468360" y="4714920"/>
            <a:ext cx="8351640" cy="15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День Святой Троиц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107" name="Picture 4" descr="D:\Documents and Settings\admin\Рабочий стол\православный календарь\троица.jpg"/>
          <p:cNvPicPr/>
          <p:nvPr/>
        </p:nvPicPr>
        <p:blipFill>
          <a:blip r:embed="rId1"/>
          <a:stretch/>
        </p:blipFill>
        <p:spPr>
          <a:xfrm>
            <a:off x="6643800" y="2286000"/>
            <a:ext cx="2004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06:39:38Z</dcterms:created>
  <dc:creator>Школа 44</dc:creator>
  <dc:description/>
  <dc:language>en-US</dc:language>
  <cp:lastModifiedBy>007</cp:lastModifiedBy>
  <dcterms:modified xsi:type="dcterms:W3CDTF">2018-04-13T21:43:03Z</dcterms:modified>
  <cp:revision>61</cp:revision>
  <dc:subject/>
  <dc:title>Николай Васильевич Гоголь 20 марта (1 апреля) 1809 –  21 февраля (4 марта) 1852</dc:title>
</cp:coreProperties>
</file>