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FB3A-D61F-44E5-A88A-671BAAD88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6D7-D06E-419F-AA3B-6BAC560DA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331-9E8C-46FA-9BB8-ECC0E7CB3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9730-AA45-4407-831B-0253CFEF4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842-5A17-4B7D-BDEB-552812E74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974-3320-45DB-A0E6-DE103BD20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1AF-6601-4D8B-A115-A3FEC2B2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1C0-0F62-49C1-9E8E-100FA4D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F3E-F2BF-4207-91BA-CA32437A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814-C358-4A1A-A33C-758BF731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CAB-D095-4C92-8648-76DD584F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E98-24E6-4F42-8101-0B429D5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7CC-7144-47C4-9237-A944C03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E03-6DE1-42B2-BEED-088D47A2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36B-305B-4DDA-8FA1-5E05334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03E-E401-414A-AEB1-9D36CEE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1B7-9B08-481F-B0C9-E40B1C7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FAA-867A-490A-9CD9-25691BB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9E9-D7FC-4381-8E7A-8A9ABA236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равославн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572080"/>
            <a:ext cx="4716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просы 11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0" y="57448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итель ОРКСЭ МБОУ СОШ № 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зинова Светлана Григор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yellow"/>
          <p:cNvPicPr/>
          <p:nvPr/>
        </p:nvPicPr>
        <p:blipFill>
          <a:blip r:embed="rId1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50seconds_yellow"/>
          <p:cNvPicPr/>
          <p:nvPr/>
        </p:nvPicPr>
        <p:blipFill>
          <a:blip r:embed="rId2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40seconds_yellow"/>
          <p:cNvPicPr/>
          <p:nvPr/>
        </p:nvPicPr>
        <p:blipFill>
          <a:blip r:embed="rId3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30seconds_yellow"/>
          <p:cNvPicPr/>
          <p:nvPr/>
        </p:nvPicPr>
        <p:blipFill>
          <a:blip r:embed="rId4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0seconds_yellow"/>
          <p:cNvPicPr/>
          <p:nvPr/>
        </p:nvPicPr>
        <p:blipFill>
          <a:blip r:embed="rId5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seconds_yellow"/>
          <p:cNvPicPr/>
          <p:nvPr/>
        </p:nvPicPr>
        <p:blipFill>
          <a:blip r:embed="rId6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00seconds_yellow"/>
          <p:cNvPicPr/>
          <p:nvPr/>
        </p:nvPicPr>
        <p:blipFill>
          <a:blip r:embed="rId7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0" y="981000"/>
            <a:ext cx="914400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те праздничные иконы, определя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му празднику они посвящ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4000" y="4853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3995640" y="115920"/>
            <a:ext cx="13906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3" descr="D:\Documents and Settings\admin\Рабочий стол\православный календарь\Вход Господень в Иерусалим.jpg"/>
          <p:cNvPicPr/>
          <p:nvPr/>
        </p:nvPicPr>
        <p:blipFill>
          <a:blip r:embed="rId8"/>
          <a:stretch/>
        </p:blipFill>
        <p:spPr>
          <a:xfrm>
            <a:off x="857160" y="1857240"/>
            <a:ext cx="2081160" cy="271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:\Documents and Settings\admin\Рабочий стол\православный календарь\вознесение4.jpg"/>
          <p:cNvPicPr/>
          <p:nvPr/>
        </p:nvPicPr>
        <p:blipFill>
          <a:blip r:embed="rId9"/>
          <a:stretch/>
        </p:blipFill>
        <p:spPr>
          <a:xfrm>
            <a:off x="3714840" y="1785960"/>
            <a:ext cx="148104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D:\Documents and Settings\admin\Рабочий стол\православный календарь\пасха3.jpg"/>
          <p:cNvPicPr/>
          <p:nvPr/>
        </p:nvPicPr>
        <p:blipFill>
          <a:blip r:embed="rId10"/>
          <a:stretch/>
        </p:blipFill>
        <p:spPr>
          <a:xfrm>
            <a:off x="5929200" y="1928880"/>
            <a:ext cx="2357640" cy="267948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" descr=""/>
          <p:cNvPicPr/>
          <p:nvPr/>
        </p:nvPicPr>
        <p:blipFill>
          <a:blip r:embed="rId11"/>
          <a:stretch/>
        </p:blipFill>
        <p:spPr>
          <a:xfrm>
            <a:off x="122400" y="5486400"/>
            <a:ext cx="344304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468360" y="4076640"/>
            <a:ext cx="83516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1. Вход Господень в Иерусалим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. Вознесение Господн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. Светлое Христово Воскресение. Пасха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2"/>
          <p:cNvSpPr txBox="1"/>
          <p:nvPr/>
        </p:nvSpPr>
        <p:spPr>
          <a:xfrm>
            <a:off x="684360" y="549360"/>
            <a:ext cx="756108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b6bc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счё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b6bc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b6bc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ов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b6bc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салют"/>
          <p:cNvPicPr/>
          <p:nvPr/>
        </p:nvPicPr>
        <p:blipFill>
          <a:blip r:embed="rId1"/>
          <a:stretch/>
        </p:blipFill>
        <p:spPr>
          <a:xfrm>
            <a:off x="2519280" y="1484280"/>
            <a:ext cx="3881520" cy="537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Поздравляем 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победителей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"/>
          <p:cNvPicPr/>
          <p:nvPr/>
        </p:nvPicPr>
        <p:blipFill>
          <a:blip r:embed="rId2"/>
          <a:stretch/>
        </p:blipFill>
        <p:spPr>
          <a:xfrm>
            <a:off x="0" y="0"/>
            <a:ext cx="1459080" cy="364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с"/>
          <p:cNvPicPr/>
          <p:nvPr/>
        </p:nvPicPr>
        <p:blipFill>
          <a:blip r:embed="rId3"/>
          <a:stretch/>
        </p:blipFill>
        <p:spPr>
          <a:xfrm>
            <a:off x="7675560" y="0"/>
            <a:ext cx="1468440" cy="36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с"/>
          <p:cNvPicPr/>
          <p:nvPr/>
        </p:nvPicPr>
        <p:blipFill>
          <a:blip r:embed="rId4"/>
          <a:stretch/>
        </p:blipFill>
        <p:spPr>
          <a:xfrm>
            <a:off x="0" y="2924280"/>
            <a:ext cx="1573200" cy="39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с"/>
          <p:cNvPicPr/>
          <p:nvPr/>
        </p:nvPicPr>
        <p:blipFill>
          <a:blip r:embed="rId5"/>
          <a:stretch/>
        </p:blipFill>
        <p:spPr>
          <a:xfrm>
            <a:off x="7599240" y="2997360"/>
            <a:ext cx="1544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 называется вечер накануне Крещ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2714760" y="198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D:\Documents and Settings\admin\Рабочий стол\православный календарь\Крещение Господне1.jpg"/>
          <p:cNvPicPr/>
          <p:nvPr/>
        </p:nvPicPr>
        <p:blipFill>
          <a:blip r:embed="rId8"/>
          <a:stretch/>
        </p:blipFill>
        <p:spPr>
          <a:xfrm>
            <a:off x="285840" y="357192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" descr=""/>
          <p:cNvPicPr/>
          <p:nvPr/>
        </p:nvPicPr>
        <p:blipFill>
          <a:blip r:embed="rId9"/>
          <a:stretch/>
        </p:blipFill>
        <p:spPr>
          <a:xfrm>
            <a:off x="2846520" y="251784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468360" y="4581360"/>
            <a:ext cx="835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рещенский сочельн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5" name="Picture 5" descr="D:\Documents and Settings\admin\Рабочий стол\православный календарь\Крещение Господне.jpg"/>
          <p:cNvPicPr/>
          <p:nvPr/>
        </p:nvPicPr>
        <p:blipFill>
          <a:blip r:embed="rId1"/>
          <a:stretch/>
        </p:blipFill>
        <p:spPr>
          <a:xfrm>
            <a:off x="6357960" y="2357280"/>
            <a:ext cx="18381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0" y="642960"/>
            <a:ext cx="9144000" cy="1556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Book Antiqua"/>
              </a:rPr>
              <a:t>19 августа празднуется Преображение Господне. Что явилось предпосылкой для появления этого праз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48000" y="2484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8"/>
          <a:stretch/>
        </p:blipFill>
        <p:spPr>
          <a:xfrm>
            <a:off x="2771640" y="2484360"/>
            <a:ext cx="5367600" cy="507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"/>
          <p:cNvPicPr/>
          <p:nvPr/>
        </p:nvPicPr>
        <p:blipFill>
          <a:blip r:embed="rId9"/>
          <a:stretch/>
        </p:blipFill>
        <p:spPr>
          <a:xfrm>
            <a:off x="571680" y="3643200"/>
            <a:ext cx="2261880" cy="29275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" descr=""/>
          <p:cNvPicPr/>
          <p:nvPr/>
        </p:nvPicPr>
        <p:blipFill>
          <a:blip r:embed="rId10"/>
          <a:stretch/>
        </p:blipFill>
        <p:spPr>
          <a:xfrm>
            <a:off x="3419640" y="3067200"/>
            <a:ext cx="457200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468360" y="3857760"/>
            <a:ext cx="835164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ля того чтобы поддержать веру учеников в Себя,Господь Иисус Христос показал им Свою славу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езадолго до Своих страданий Иисус Христос взял трёх учеников – Петра, Иакова и Иоанна –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с ними взошел на высокую гору помолиться.Пока Спаситель молился, ученики от утом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заснули. Когда же проснулись, то увидели, что Иисус Христос преобразился: лицо Его просия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ак солнце, а одежды стали белыми как снег, и блистающими, как све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Book Antiqua"/>
              </a:rPr>
              <a:t>Расскажите о традициях празднования Пас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995640" y="193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D:\Documents and Settings\admin\Рабочий стол\православный календарь\пасха4.jpg"/>
          <p:cNvPicPr/>
          <p:nvPr/>
        </p:nvPicPr>
        <p:blipFill>
          <a:blip r:embed="rId8"/>
          <a:stretch/>
        </p:blipFill>
        <p:spPr>
          <a:xfrm>
            <a:off x="214200" y="2286000"/>
            <a:ext cx="2786040" cy="3871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9"/>
          <a:stretch/>
        </p:blipFill>
        <p:spPr>
          <a:xfrm>
            <a:off x="3670200" y="273060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2" name="WordArt 3" descr=""/>
          <p:cNvPicPr/>
          <p:nvPr/>
        </p:nvPicPr>
        <p:blipFill>
          <a:blip r:embed="rId1"/>
          <a:stretch/>
        </p:blipFill>
        <p:spPr>
          <a:xfrm>
            <a:off x="457200" y="3846600"/>
            <a:ext cx="8369280" cy="246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Documents and Settings\admin\Рабочий стол\православный календарь\original.jpg"/>
          <p:cNvPicPr/>
          <p:nvPr/>
        </p:nvPicPr>
        <p:blipFill>
          <a:blip r:embed="rId2"/>
          <a:stretch/>
        </p:blipFill>
        <p:spPr>
          <a:xfrm>
            <a:off x="6572160" y="2214720"/>
            <a:ext cx="23497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ой праздник празднуется на 50-й день после Пасх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306600" y="206064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1 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1" descr="bird5-4"/>
          <p:cNvPicPr/>
          <p:nvPr/>
        </p:nvPicPr>
        <p:blipFill>
          <a:blip r:embed="rId8"/>
          <a:stretch/>
        </p:blipFill>
        <p:spPr>
          <a:xfrm>
            <a:off x="785880" y="3929040"/>
            <a:ext cx="2071800" cy="17478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9"/>
          <a:stretch/>
        </p:blipFill>
        <p:spPr>
          <a:xfrm>
            <a:off x="3602160" y="295128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468360" y="4714920"/>
            <a:ext cx="835164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ень Святой Тро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07" name="Picture 4" descr="D:\Documents and Settings\admin\Рабочий стол\православный календарь\троица.jpg"/>
          <p:cNvPicPr/>
          <p:nvPr/>
        </p:nvPicPr>
        <p:blipFill>
          <a:blip r:embed="rId1"/>
          <a:stretch/>
        </p:blipFill>
        <p:spPr>
          <a:xfrm>
            <a:off x="6643800" y="2286000"/>
            <a:ext cx="200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39:38Z</dcterms:created>
  <dc:creator>Школа 44</dc:creator>
  <dc:description/>
  <dc:language>en-US</dc:language>
  <cp:lastModifiedBy>007</cp:lastModifiedBy>
  <dcterms:modified xsi:type="dcterms:W3CDTF">2018-04-13T21:43:03Z</dcterms:modified>
  <cp:revision>61</cp:revision>
  <dc:subject/>
  <dc:title>Николай Васильевич Гоголь 20 марта (1 апреля) 1809 –  21 февраля (4 марта) 1852</dc:title>
</cp:coreProperties>
</file>