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D7E1-F4F0-4031-B5BB-242B515266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A619-8ADC-4115-8D15-264919B408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6DCD-3531-4D2A-8DB3-46F7410AD3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B07C-2B2F-4A06-9E4A-C9D331E111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4147-8D8D-43E5-9AFF-F49C9F94CB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0195-19A8-4205-AF97-3A996767D3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таймера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этом слайде PowerPoint с помощью соответствующих изображений, специальной анимации и средств хронометража создается таймер с обратным отсчетом времени, который можно вставить в любую презентацию. При открытии шаблона таймер устанавливается на 00:00. При запуске презентации таймер переводится на 01:00 и начинает отсчитывать время с интервалом в 10 секунд, пока не дойдет до 00: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тобы вставить слайд в през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те этот шаблон на компьютере в виде файла презентации (.pp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презентацию, которая будет содержать этот тайм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кладк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ановите указатель после слайда, который должен предшествовать таймеру. (Не выбирайте сам слайд. Курсор должен располагаться между слайдами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кройте вклад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з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йдите и выберите презентацию с таймером, а затем 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из фай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ерите слайд с таймер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е флажо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исходное форма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этого не сделать, скопированный слайд унаследует оформление слайда, предшествующего ему в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ры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336-D687-4338-99A7-B054C086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D79-01BE-4617-BFB6-9461F2C7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A3EF-AF24-4974-B8C3-E0FB5C7A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BCB3-E697-49C7-BC5C-43712878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484-0053-4FC6-8E5C-BBD8CBCF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949-722C-43EE-8A8D-140E9C26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730-0402-4FA0-8A9B-152BA401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4E9B-3346-4A12-8374-8A47BFD0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6A5-D477-449E-961B-2BF7F2FC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841-2181-4343-BFAD-7967D6C6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C6A-CB3A-4879-BE89-A85020B3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07D-09EE-42AB-A2A1-DEC41D0F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CA82-B536-4900-8220-44787FF422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0.jpeg"/><Relationship Id="rId9" Type="http://schemas.openxmlformats.org/officeDocument/2006/relationships/slide" Target="slide10.xml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D:\Documents and Settings\admin\Мои документы\Мои рисунки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Православная иг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5572080"/>
            <a:ext cx="47163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равославные праз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Вопросы 6-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4572000" y="57448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вто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читель ОРКСЭ МБОУ СОШ № 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Козинова Светлана Григорье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1yellow"/>
          <p:cNvPicPr/>
          <p:nvPr/>
        </p:nvPicPr>
        <p:blipFill>
          <a:blip r:embed="rId1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50seconds_yellow"/>
          <p:cNvPicPr/>
          <p:nvPr/>
        </p:nvPicPr>
        <p:blipFill>
          <a:blip r:embed="rId2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40seconds_yellow"/>
          <p:cNvPicPr/>
          <p:nvPr/>
        </p:nvPicPr>
        <p:blipFill>
          <a:blip r:embed="rId3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30seconds_yellow"/>
          <p:cNvPicPr/>
          <p:nvPr/>
        </p:nvPicPr>
        <p:blipFill>
          <a:blip r:embed="rId4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20seconds_yellow"/>
          <p:cNvPicPr/>
          <p:nvPr/>
        </p:nvPicPr>
        <p:blipFill>
          <a:blip r:embed="rId5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10seconds_yellow"/>
          <p:cNvPicPr/>
          <p:nvPr/>
        </p:nvPicPr>
        <p:blipFill>
          <a:blip r:embed="rId6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00seconds_yellow"/>
          <p:cNvPicPr/>
          <p:nvPr/>
        </p:nvPicPr>
        <p:blipFill>
          <a:blip r:embed="rId7"/>
          <a:stretch/>
        </p:blipFill>
        <p:spPr>
          <a:xfrm>
            <a:off x="3708360" y="486900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9"/>
          <p:cNvSpPr/>
          <p:nvPr/>
        </p:nvSpPr>
        <p:spPr>
          <a:xfrm>
            <a:off x="0" y="981000"/>
            <a:ext cx="9144000" cy="7671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отрите праздничные иконы, определяе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му празднику они посвящ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95280" y="47973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– 3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2"/>
          <p:cNvSpPr txBox="1"/>
          <p:nvPr/>
        </p:nvSpPr>
        <p:spPr>
          <a:xfrm>
            <a:off x="3995640" y="115920"/>
            <a:ext cx="13906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иц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3" descr="D:\Documents and Settings\admin\Рабочий стол\православный календарь\sretenie.jpg"/>
          <p:cNvPicPr/>
          <p:nvPr/>
        </p:nvPicPr>
        <p:blipFill>
          <a:blip r:embed="rId8"/>
          <a:stretch/>
        </p:blipFill>
        <p:spPr>
          <a:xfrm>
            <a:off x="785880" y="2000160"/>
            <a:ext cx="1904760" cy="25653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0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643200" y="2071800"/>
            <a:ext cx="1928880" cy="2504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D:\Documents and Settings\admin\Рабочий стол\православный календарь\преображение.jpg"/>
          <p:cNvPicPr/>
          <p:nvPr/>
        </p:nvPicPr>
        <p:blipFill>
          <a:blip r:embed="rId11"/>
          <a:stretch/>
        </p:blipFill>
        <p:spPr>
          <a:xfrm>
            <a:off x="6500880" y="2071800"/>
            <a:ext cx="1874880" cy="250020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1" descr=""/>
          <p:cNvPicPr/>
          <p:nvPr/>
        </p:nvPicPr>
        <p:blipFill>
          <a:blip r:embed="rId12"/>
          <a:stretch/>
        </p:blipFill>
        <p:spPr>
          <a:xfrm>
            <a:off x="249120" y="5413320"/>
            <a:ext cx="3316320" cy="13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6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66500"/>
                            </p:stCondLst>
                            <p:childTnLst>
                              <p:par>
                                <p:cTn id="3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468360" y="4076640"/>
            <a:ext cx="835164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1. Сретение Господа нашего Иисуса Христа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2. Усекновение главы Пророка, Предтечи и Крестителя Господня Иоан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3. Преображение Господа Бога и Спаса нашего Иисуса Христ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yellow"/>
          <p:cNvPicPr/>
          <p:nvPr/>
        </p:nvPicPr>
        <p:blipFill>
          <a:blip r:embed="rId1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50seconds_yellow"/>
          <p:cNvPicPr/>
          <p:nvPr/>
        </p:nvPicPr>
        <p:blipFill>
          <a:blip r:embed="rId2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40seconds_yellow"/>
          <p:cNvPicPr/>
          <p:nvPr/>
        </p:nvPicPr>
        <p:blipFill>
          <a:blip r:embed="rId3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30seconds_yellow"/>
          <p:cNvPicPr/>
          <p:nvPr/>
        </p:nvPicPr>
        <p:blipFill>
          <a:blip r:embed="rId4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20seconds_yellow"/>
          <p:cNvPicPr/>
          <p:nvPr/>
        </p:nvPicPr>
        <p:blipFill>
          <a:blip r:embed="rId5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0seconds_yellow"/>
          <p:cNvPicPr/>
          <p:nvPr/>
        </p:nvPicPr>
        <p:blipFill>
          <a:blip r:embed="rId6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00seconds_yellow"/>
          <p:cNvPicPr/>
          <p:nvPr/>
        </p:nvPicPr>
        <p:blipFill>
          <a:blip r:embed="rId7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0" y="333360"/>
            <a:ext cx="9144000" cy="36075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Явился ей Ангел и сказал: "Молитва твоя услышана, Господь пошлет тебе дочь, которую назовешь Марией". Одновременно явился Ангел Иоакиму и объявил тут же радостную весть.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событие предрек Ангел Анне и Иоаки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250920" y="429264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- 6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1" descr=""/>
          <p:cNvPicPr/>
          <p:nvPr/>
        </p:nvPicPr>
        <p:blipFill>
          <a:blip r:embed="rId8"/>
          <a:stretch/>
        </p:blipFill>
        <p:spPr>
          <a:xfrm>
            <a:off x="73080" y="5084640"/>
            <a:ext cx="3389400" cy="13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500040" y="4214880"/>
            <a:ext cx="835200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ождество Пресвятой Богород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64" name="Picture 4" descr="D:\Documents and Settings\admin\Рабочий стол\православный календарь\Рождество Пресвятой Богородицы2.jpg"/>
          <p:cNvPicPr/>
          <p:nvPr/>
        </p:nvPicPr>
        <p:blipFill>
          <a:blip r:embed="rId1"/>
          <a:stretch/>
        </p:blipFill>
        <p:spPr>
          <a:xfrm>
            <a:off x="6642000" y="2286000"/>
            <a:ext cx="19195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yellow"/>
          <p:cNvPicPr/>
          <p:nvPr/>
        </p:nvPicPr>
        <p:blipFill>
          <a:blip r:embed="rId1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50seconds_yellow"/>
          <p:cNvPicPr/>
          <p:nvPr/>
        </p:nvPicPr>
        <p:blipFill>
          <a:blip r:embed="rId2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40seconds_yellow"/>
          <p:cNvPicPr/>
          <p:nvPr/>
        </p:nvPicPr>
        <p:blipFill>
          <a:blip r:embed="rId3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30seconds_yellow"/>
          <p:cNvPicPr/>
          <p:nvPr/>
        </p:nvPicPr>
        <p:blipFill>
          <a:blip r:embed="rId4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20seconds_yellow"/>
          <p:cNvPicPr/>
          <p:nvPr/>
        </p:nvPicPr>
        <p:blipFill>
          <a:blip r:embed="rId5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0seconds_yellow"/>
          <p:cNvPicPr/>
          <p:nvPr/>
        </p:nvPicPr>
        <p:blipFill>
          <a:blip r:embed="rId6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00seconds_yellow"/>
          <p:cNvPicPr/>
          <p:nvPr/>
        </p:nvPicPr>
        <p:blipFill>
          <a:blip r:embed="rId7"/>
          <a:stretch/>
        </p:blipFill>
        <p:spPr>
          <a:xfrm>
            <a:off x="3492360" y="4508640"/>
            <a:ext cx="5077080" cy="18478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0" y="333360"/>
            <a:ext cx="9144000" cy="22269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Book Antiqua"/>
              </a:rPr>
              <a:t>4 декабря Православной Церковью празднуется Введение во храм Пресвятой Богородицы. В каком возрасте Иоаким и Анна привели Марию  в храм и по обещанию посвятили Бог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402080" y="23493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- 5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D:\Documents and Settings\admin\Рабочий стол\православный календарь\Введение во храм Пресвятой Богородицы4.jpg"/>
          <p:cNvPicPr/>
          <p:nvPr/>
        </p:nvPicPr>
        <p:blipFill>
          <a:blip r:embed="rId8"/>
          <a:stretch/>
        </p:blipFill>
        <p:spPr>
          <a:xfrm>
            <a:off x="357120" y="2786040"/>
            <a:ext cx="2819520" cy="371952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" descr=""/>
          <p:cNvPicPr/>
          <p:nvPr/>
        </p:nvPicPr>
        <p:blipFill>
          <a:blip r:embed="rId9"/>
          <a:stretch/>
        </p:blipFill>
        <p:spPr>
          <a:xfrm>
            <a:off x="3852720" y="3164040"/>
            <a:ext cx="4572000" cy="102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1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7" name="WordArt 3"/>
          <p:cNvSpPr txBox="1"/>
          <p:nvPr/>
        </p:nvSpPr>
        <p:spPr>
          <a:xfrm>
            <a:off x="539640" y="4357800"/>
            <a:ext cx="524664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Когда Мари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исполнилось 3 год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78" name="Picture 5" descr="D:\Documents and Settings\admin\Рабочий стол\православный календарь\Введение во храм Пресвятой Богородицы.jpg"/>
          <p:cNvPicPr/>
          <p:nvPr/>
        </p:nvPicPr>
        <p:blipFill>
          <a:blip r:embed="rId1"/>
          <a:stretch/>
        </p:blipFill>
        <p:spPr>
          <a:xfrm>
            <a:off x="6143760" y="2786040"/>
            <a:ext cx="242892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1yellow"/>
          <p:cNvPicPr/>
          <p:nvPr/>
        </p:nvPicPr>
        <p:blipFill>
          <a:blip r:embed="rId1"/>
          <a:stretch/>
        </p:blipFill>
        <p:spPr>
          <a:xfrm>
            <a:off x="3786120" y="47862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50seconds_yellow"/>
          <p:cNvPicPr/>
          <p:nvPr/>
        </p:nvPicPr>
        <p:blipFill>
          <a:blip r:embed="rId2"/>
          <a:stretch/>
        </p:blipFill>
        <p:spPr>
          <a:xfrm>
            <a:off x="3786120" y="47862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40seconds_yellow"/>
          <p:cNvPicPr/>
          <p:nvPr/>
        </p:nvPicPr>
        <p:blipFill>
          <a:blip r:embed="rId3"/>
          <a:stretch/>
        </p:blipFill>
        <p:spPr>
          <a:xfrm>
            <a:off x="3786120" y="47862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30seconds_yellow"/>
          <p:cNvPicPr/>
          <p:nvPr/>
        </p:nvPicPr>
        <p:blipFill>
          <a:blip r:embed="rId4"/>
          <a:stretch/>
        </p:blipFill>
        <p:spPr>
          <a:xfrm>
            <a:off x="3786120" y="47862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20seconds_yellow"/>
          <p:cNvPicPr/>
          <p:nvPr/>
        </p:nvPicPr>
        <p:blipFill>
          <a:blip r:embed="rId5"/>
          <a:stretch/>
        </p:blipFill>
        <p:spPr>
          <a:xfrm>
            <a:off x="3786120" y="47862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10seconds_yellow"/>
          <p:cNvPicPr/>
          <p:nvPr/>
        </p:nvPicPr>
        <p:blipFill>
          <a:blip r:embed="rId6"/>
          <a:stretch/>
        </p:blipFill>
        <p:spPr>
          <a:xfrm>
            <a:off x="3786120" y="478620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00seconds_yellow"/>
          <p:cNvPicPr/>
          <p:nvPr/>
        </p:nvPicPr>
        <p:blipFill>
          <a:blip r:embed="rId7"/>
          <a:stretch/>
        </p:blipFill>
        <p:spPr>
          <a:xfrm>
            <a:off x="3786120" y="478620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0" y="189000"/>
            <a:ext cx="9144000" cy="38278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b95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00"/>
                </a:solidFill>
                <a:latin typeface="Book Antiqua"/>
              </a:rPr>
              <a:t>Вечером накануне праздника, когда Царские врата еще закрыты, священник кладет украшенный цветами Крест на престол и ставит перед ним зажженную свечу. Украшается Святой Крест зеленью и цветами в знак того, что через него (т.е. через страдания и смерть на нем Спасителя) дарована нам вечная жизнь. В это праздник положен однодневный пост в воспоминание крестных страданий Иисуса Христа.</a:t>
            </a:r>
            <a:r>
              <a:rPr b="1" lang="ru-RU" sz="2400" spc="-1" strike="noStrike">
                <a:solidFill>
                  <a:srgbClr val="a2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Book Antiqua"/>
              </a:rPr>
              <a:t>О Каком празднике идет реч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4308480" y="370692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- 5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3" descr="D:\Documents and Settings\admin\Рабочий стол\православный календарь\воздвижение Животворящего Креста.jpg"/>
          <p:cNvPicPr/>
          <p:nvPr/>
        </p:nvPicPr>
        <p:blipFill>
          <a:blip r:embed="rId8"/>
          <a:stretch/>
        </p:blipFill>
        <p:spPr>
          <a:xfrm>
            <a:off x="1071720" y="4000680"/>
            <a:ext cx="1801800" cy="26906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" descr=""/>
          <p:cNvPicPr/>
          <p:nvPr/>
        </p:nvPicPr>
        <p:blipFill>
          <a:blip r:embed="rId9"/>
          <a:stretch/>
        </p:blipFill>
        <p:spPr>
          <a:xfrm>
            <a:off x="3786120" y="3949560"/>
            <a:ext cx="457200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2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468360" y="4714920"/>
            <a:ext cx="8351640" cy="18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Воздвижение Креста Господн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92" name="Picture 4" descr="D:\Documents and Settings\admin\Рабочий стол\православный календарь\воздвижение3.jpg"/>
          <p:cNvPicPr/>
          <p:nvPr/>
        </p:nvPicPr>
        <p:blipFill>
          <a:blip r:embed="rId1"/>
          <a:stretch/>
        </p:blipFill>
        <p:spPr>
          <a:xfrm>
            <a:off x="6858000" y="2357280"/>
            <a:ext cx="15717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yellow"/>
          <p:cNvPicPr/>
          <p:nvPr/>
        </p:nvPicPr>
        <p:blipFill>
          <a:blip r:embed="rId1"/>
          <a:stretch/>
        </p:blipFill>
        <p:spPr>
          <a:xfrm>
            <a:off x="327672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50seconds_yellow"/>
          <p:cNvPicPr/>
          <p:nvPr/>
        </p:nvPicPr>
        <p:blipFill>
          <a:blip r:embed="rId2"/>
          <a:stretch/>
        </p:blipFill>
        <p:spPr>
          <a:xfrm>
            <a:off x="334800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40seconds_yellow"/>
          <p:cNvPicPr/>
          <p:nvPr/>
        </p:nvPicPr>
        <p:blipFill>
          <a:blip r:embed="rId3"/>
          <a:stretch/>
        </p:blipFill>
        <p:spPr>
          <a:xfrm>
            <a:off x="334800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30seconds_yellow"/>
          <p:cNvPicPr/>
          <p:nvPr/>
        </p:nvPicPr>
        <p:blipFill>
          <a:blip r:embed="rId4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20seconds_yellow"/>
          <p:cNvPicPr/>
          <p:nvPr/>
        </p:nvPicPr>
        <p:blipFill>
          <a:blip r:embed="rId5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10seconds_yellow"/>
          <p:cNvPicPr/>
          <p:nvPr/>
        </p:nvPicPr>
        <p:blipFill>
          <a:blip r:embed="rId6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00seconds_yellow"/>
          <p:cNvPicPr/>
          <p:nvPr/>
        </p:nvPicPr>
        <p:blipFill>
          <a:blip r:embed="rId7"/>
          <a:stretch/>
        </p:blipFill>
        <p:spPr>
          <a:xfrm>
            <a:off x="3419640" y="4508640"/>
            <a:ext cx="5076720" cy="1847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0" y="642960"/>
            <a:ext cx="9144000" cy="1191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Book Antiqua"/>
              </a:rPr>
              <a:t>Как называется сплошная седмица, которая длится с 7 по 17 январ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941640" y="24192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правильный ответ - 5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D:\Documents and Settings\admin\Рабочий стол\православный календарь\rojdestvo_post.jpg"/>
          <p:cNvPicPr/>
          <p:nvPr/>
        </p:nvPicPr>
        <p:blipFill>
          <a:blip r:embed="rId8"/>
          <a:stretch/>
        </p:blipFill>
        <p:spPr>
          <a:xfrm>
            <a:off x="571680" y="2786040"/>
            <a:ext cx="2500200" cy="294156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1" descr=""/>
          <p:cNvPicPr/>
          <p:nvPr/>
        </p:nvPicPr>
        <p:blipFill>
          <a:blip r:embed="rId9"/>
          <a:stretch/>
        </p:blipFill>
        <p:spPr>
          <a:xfrm>
            <a:off x="3743280" y="3054240"/>
            <a:ext cx="457200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2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900000" y="33336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5" name="WordArt 3"/>
          <p:cNvSpPr txBox="1"/>
          <p:nvPr/>
        </p:nvSpPr>
        <p:spPr>
          <a:xfrm>
            <a:off x="468360" y="4869000"/>
            <a:ext cx="83516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Святк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06" name="Picture 4" descr="G:\Тоже работа\post-35-1262828543.jpg"/>
          <p:cNvPicPr/>
          <p:nvPr/>
        </p:nvPicPr>
        <p:blipFill>
          <a:blip r:embed="rId1"/>
          <a:stretch/>
        </p:blipFill>
        <p:spPr>
          <a:xfrm>
            <a:off x="6072120" y="2286000"/>
            <a:ext cx="248760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06:39:38Z</dcterms:created>
  <dc:creator>Школа 44</dc:creator>
  <dc:description/>
  <dc:language>en-US</dc:language>
  <cp:lastModifiedBy>007</cp:lastModifiedBy>
  <dcterms:modified xsi:type="dcterms:W3CDTF">2018-04-13T21:43:31Z</dcterms:modified>
  <cp:revision>61</cp:revision>
  <dc:subject/>
  <dc:title>Николай Васильевич Гоголь 20 марта (1 апреля) 1809 –  21 февраля (4 марта) 1852</dc:title>
</cp:coreProperties>
</file>