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80F-4B09-47E4-9A01-634B15A60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405C-2CDB-49CE-896B-7D9131F61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21EC-89C0-49F5-B46C-719B17FD1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9ED2-C132-402D-AD5D-854821663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E313-F8E8-4F02-A432-EE6453A7F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19D-1C38-4C9A-8FCF-8B5A60915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B06-6B1F-46DB-9642-ABBDCB4C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FA6-E243-45E4-8495-8537C0A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040-F217-4930-B904-028205C9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8FD-B2FC-4A13-BDD8-549E18DD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DC2-34C8-4122-A78E-D880D623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8D9-7A2D-4E89-9D4A-DAEF7C9B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BB0-971B-476A-A883-E6A8B0E9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ECD-49DC-45D3-94CA-E2DBCAC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530-AC1E-41BF-92DB-18B78B17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F54-BC55-4387-8664-B0FB2F54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44-B103-4343-A81E-997DC87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859-263C-4DD1-8646-D19503F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80E-345E-42A5-92BF-A36540631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jpeg"/><Relationship Id="rId9" Type="http://schemas.openxmlformats.org/officeDocument/2006/relationships/slide" Target="slide10.xm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6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0" y="981000"/>
            <a:ext cx="9144000" cy="76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95280" y="47973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3" descr="D:\Documents and Settings\admin\Рабочий стол\православный календарь\sretenie.jpg"/>
          <p:cNvPicPr/>
          <p:nvPr/>
        </p:nvPicPr>
        <p:blipFill>
          <a:blip r:embed="rId8"/>
          <a:stretch/>
        </p:blipFill>
        <p:spPr>
          <a:xfrm>
            <a:off x="785880" y="2000160"/>
            <a:ext cx="1904760" cy="2565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643200" y="2071800"/>
            <a:ext cx="192888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Documents and Settings\admin\Рабочий стол\православный календарь\преображение.jpg"/>
          <p:cNvPicPr/>
          <p:nvPr/>
        </p:nvPicPr>
        <p:blipFill>
          <a:blip r:embed="rId11"/>
          <a:stretch/>
        </p:blipFill>
        <p:spPr>
          <a:xfrm>
            <a:off x="6500880" y="207180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" descr=""/>
          <p:cNvPicPr/>
          <p:nvPr/>
        </p:nvPicPr>
        <p:blipFill>
          <a:blip r:embed="rId12"/>
          <a:stretch/>
        </p:blipFill>
        <p:spPr>
          <a:xfrm>
            <a:off x="249120" y="5413320"/>
            <a:ext cx="331632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68360" y="4076640"/>
            <a:ext cx="8351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Сретение Господа нашего Иисуса Христ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Усекновение главы Пророка, Предтечи и Крестителя Господня Иоан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Преображение Господа Бога и Спаса нашего Иисуса Хрис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333360"/>
            <a:ext cx="9144000" cy="36075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вился ей Ангел и сказал: "Молитва твоя услышана, Господь пошлет тебе дочь, которую назовешь Марией". Одновременно явился Ангел Иоакиму и объявил тут же радостную весть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обытие предрек Ангел Анне и Иоаки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50920" y="429264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6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1" descr=""/>
          <p:cNvPicPr/>
          <p:nvPr/>
        </p:nvPicPr>
        <p:blipFill>
          <a:blip r:embed="rId8"/>
          <a:stretch/>
        </p:blipFill>
        <p:spPr>
          <a:xfrm>
            <a:off x="73080" y="5084640"/>
            <a:ext cx="338940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500040" y="4214880"/>
            <a:ext cx="83520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ождество Пресвятой Богород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4" name="Picture 4" descr="D:\Documents and Settings\admin\Рабочий стол\православный календарь\Рождество Пресвятой Богородицы2.jpg"/>
          <p:cNvPicPr/>
          <p:nvPr/>
        </p:nvPicPr>
        <p:blipFill>
          <a:blip r:embed="rId1"/>
          <a:stretch/>
        </p:blipFill>
        <p:spPr>
          <a:xfrm>
            <a:off x="6642000" y="2286000"/>
            <a:ext cx="1919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0" y="333360"/>
            <a:ext cx="9144000" cy="2226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4 декабря Православной Церковью празднуется Введение во храм Пресвятой Богородицы. В каком возрасте Иоаким и Анна привели Марию  в храм и по обещанию посвятили Бо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02080" y="23493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D:\Documents and Settings\admin\Рабочий стол\православный календарь\Введение во храм Пресвятой Богородицы4.jpg"/>
          <p:cNvPicPr/>
          <p:nvPr/>
        </p:nvPicPr>
        <p:blipFill>
          <a:blip r:embed="rId8"/>
          <a:stretch/>
        </p:blipFill>
        <p:spPr>
          <a:xfrm>
            <a:off x="357120" y="2786040"/>
            <a:ext cx="2819520" cy="37195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" descr=""/>
          <p:cNvPicPr/>
          <p:nvPr/>
        </p:nvPicPr>
        <p:blipFill>
          <a:blip r:embed="rId9"/>
          <a:stretch/>
        </p:blipFill>
        <p:spPr>
          <a:xfrm>
            <a:off x="3852720" y="3164040"/>
            <a:ext cx="4572000" cy="102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539640" y="4357800"/>
            <a:ext cx="52466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огда Мар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сполнилось 3 го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78" name="Picture 5" descr="D:\Documents and Settings\admin\Рабочий стол\православный календарь\Введение во храм Пресвятой Богородицы.jpg"/>
          <p:cNvPicPr/>
          <p:nvPr/>
        </p:nvPicPr>
        <p:blipFill>
          <a:blip r:embed="rId1"/>
          <a:stretch/>
        </p:blipFill>
        <p:spPr>
          <a:xfrm>
            <a:off x="6143760" y="2786040"/>
            <a:ext cx="2428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yellow"/>
          <p:cNvPicPr/>
          <p:nvPr/>
        </p:nvPicPr>
        <p:blipFill>
          <a:blip r:embed="rId1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50seconds_yellow"/>
          <p:cNvPicPr/>
          <p:nvPr/>
        </p:nvPicPr>
        <p:blipFill>
          <a:blip r:embed="rId2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0seconds_yellow"/>
          <p:cNvPicPr/>
          <p:nvPr/>
        </p:nvPicPr>
        <p:blipFill>
          <a:blip r:embed="rId3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30seconds_yellow"/>
          <p:cNvPicPr/>
          <p:nvPr/>
        </p:nvPicPr>
        <p:blipFill>
          <a:blip r:embed="rId4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20seconds_yellow"/>
          <p:cNvPicPr/>
          <p:nvPr/>
        </p:nvPicPr>
        <p:blipFill>
          <a:blip r:embed="rId5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0seconds_yellow"/>
          <p:cNvPicPr/>
          <p:nvPr/>
        </p:nvPicPr>
        <p:blipFill>
          <a:blip r:embed="rId6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00seconds_yellow"/>
          <p:cNvPicPr/>
          <p:nvPr/>
        </p:nvPicPr>
        <p:blipFill>
          <a:blip r:embed="rId7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0" y="189000"/>
            <a:ext cx="9144000" cy="3827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b95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00"/>
                </a:solidFill>
                <a:latin typeface="Book Antiqua"/>
              </a:rPr>
              <a:t>Вечером накануне праздника, когда Царские врата еще закрыты, священник кладет украшенный цветами Крест на престол и ставит перед ним зажженную свечу. Украшается Святой Крест зеленью и цветами в знак того, что через него (т.е. через страдания и смерть на нем Спасителя) дарована нам вечная жизнь. В это праздник положен однодневный пост в воспоминание крестных страданий Иисуса Христа.</a:t>
            </a:r>
            <a:r>
              <a:rPr b="1" lang="ru-RU" sz="2400" spc="-1" strike="noStrike">
                <a:solidFill>
                  <a:srgbClr val="a2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Book Antiqua"/>
              </a:rPr>
              <a:t>О Каком празднике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308480" y="37069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D:\Documents and Settings\admin\Рабочий стол\православный календарь\воздвижение Животворящего Креста.jpg"/>
          <p:cNvPicPr/>
          <p:nvPr/>
        </p:nvPicPr>
        <p:blipFill>
          <a:blip r:embed="rId8"/>
          <a:stretch/>
        </p:blipFill>
        <p:spPr>
          <a:xfrm>
            <a:off x="1071720" y="4000680"/>
            <a:ext cx="1801800" cy="26906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9"/>
          <a:stretch/>
        </p:blipFill>
        <p:spPr>
          <a:xfrm>
            <a:off x="3786120" y="394956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68360" y="4714920"/>
            <a:ext cx="835164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оздвижение Креста Господн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92" name="Picture 4" descr="D:\Documents and Settings\admin\Рабочий стол\православный календарь\воздвижение3.jpg"/>
          <p:cNvPicPr/>
          <p:nvPr/>
        </p:nvPicPr>
        <p:blipFill>
          <a:blip r:embed="rId1"/>
          <a:stretch/>
        </p:blipFill>
        <p:spPr>
          <a:xfrm>
            <a:off x="6858000" y="2357280"/>
            <a:ext cx="15717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0" y="642960"/>
            <a:ext cx="914400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 называется сплошная седмица, которая длится с 7 по 17 янва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941640" y="2419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D:\Documents and Settings\admin\Рабочий стол\православный календарь\rojdestvo_post.jpg"/>
          <p:cNvPicPr/>
          <p:nvPr/>
        </p:nvPicPr>
        <p:blipFill>
          <a:blip r:embed="rId8"/>
          <a:stretch/>
        </p:blipFill>
        <p:spPr>
          <a:xfrm>
            <a:off x="571680" y="2786040"/>
            <a:ext cx="2500200" cy="29415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" descr=""/>
          <p:cNvPicPr/>
          <p:nvPr/>
        </p:nvPicPr>
        <p:blipFill>
          <a:blip r:embed="rId9"/>
          <a:stretch/>
        </p:blipFill>
        <p:spPr>
          <a:xfrm>
            <a:off x="3743280" y="305424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468360" y="4869000"/>
            <a:ext cx="835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вят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06" name="Picture 4" descr="G:\Тоже работа\post-35-1262828543.jpg"/>
          <p:cNvPicPr/>
          <p:nvPr/>
        </p:nvPicPr>
        <p:blipFill>
          <a:blip r:embed="rId1"/>
          <a:stretch/>
        </p:blipFill>
        <p:spPr>
          <a:xfrm>
            <a:off x="6072120" y="2286000"/>
            <a:ext cx="2487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31Z</dcterms:modified>
  <cp:revision>61</cp:revision>
  <dc:subject/>
  <dc:title>Николай Васильевич Гоголь 20 марта (1 апреля) 1809 –  21 февраля (4 марта) 1852</dc:title>
</cp:coreProperties>
</file>