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4D44-FD3D-47AD-9AEA-D304AEA3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13AF-9D23-44BB-BAF2-F769B3B1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B179-CFD0-46E6-B382-920CD230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43A3-464B-44DC-B193-EECE0734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8715-6730-4A9C-885C-3B2E5945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5112-3BDE-4E76-9906-C21F35E6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2C04-93DB-4547-807D-0E465F49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5321-7554-4009-B0A9-17591131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C308-FEF8-43CC-B5B4-DD3D5E2F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E0D8-5A24-4AD5-A1AB-0323966E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E18A-FBC2-4368-A1C2-4492FFE4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AE31-733C-4DE6-9BE0-9A31AF39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BC90-E291-4FBF-9164-CED6FAD0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4038-A8ED-4C68-B0EF-05446D73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9F76-9B04-4035-AE6B-754E3058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D9C5-F147-425E-8CC8-58BECCC2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E87F-093B-4672-831C-20FEF8D0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748A-A37E-49F7-B0BA-CB0CF542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F286-C164-41FB-852E-F8A7AD83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BB61-3FE2-458F-A590-76AA95BB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69E2-D646-4237-92A9-BEC2B6B8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2369-DAC3-4B66-8743-0D8D2A96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A832-0006-4534-8EAC-68C64F2E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D325-7F87-43E4-9693-3EF2065F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1A7D-AA7F-4A1A-8B6C-FDA5CFBA9D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1F19-DF2C-4DF9-A849-4DD060A736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611280" y="2205000"/>
            <a:ext cx="80769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7f3a0b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Опытно-экспериментальная деятельность </a:t>
            </a:r>
            <a:endParaRPr b="1" i="1" lang="en-US" sz="8000" spc="1" strike="noStrike">
              <a:ln w="9360">
                <a:solidFill>
                  <a:srgbClr val="7f3a0b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7f3a0b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тарших дошкольников"</a:t>
            </a:r>
            <a:endParaRPr b="1" i="1" lang="en-US" sz="8000" spc="1" strike="noStrike">
              <a:ln w="9360">
                <a:solidFill>
                  <a:srgbClr val="7f3a0b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403280" y="981000"/>
            <a:ext cx="615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Китайская пословица гласи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«Расскажи – и я забуд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окажи – и я запомн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ай попробовать – и я пойму».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116000" y="3284640"/>
            <a:ext cx="7128000" cy="1944720"/>
          </a:xfrm>
          <a:prstGeom prst="roundRect">
            <a:avLst>
              <a:gd name="adj" fmla="val 19204"/>
            </a:avLst>
          </a:prstGeom>
          <a:solidFill>
            <a:srgbClr val="48c4be"/>
          </a:solidFill>
          <a:ln w="9360">
            <a:solidFill>
              <a:srgbClr val="4d230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ваивается всё прочно и надол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гда ребёнок слышит, видит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делает сам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d2307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5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684360" y="913680"/>
            <a:ext cx="7775280" cy="41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Актуальность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66"/>
                </a:solidFill>
                <a:latin typeface="Arial"/>
              </a:rPr>
              <a:t>Детское экспериментирование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 – один из методов познавательного развития детей дошкольного возраст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деральный государственный образовательный стандарт направлен на решение многих задач. Одной из них является «создание благоприятных условий познавательного развития детей в соответствии с их возрастными и индивидуальными особенностями и склонностями, развития способностей и творческого потенциала каждого ребенка как субъекта отношений с самим собой, другими детьми, взрослыми и миром…» (ФГОС 1.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3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3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3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684360" y="709920"/>
            <a:ext cx="7775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сновной целью 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пытно- экспериментальной деятельности дошкольников является развитие свободной творческой личности. Детское экспериментирование это один из методов обучения и развития естественнонаучных представлений дошкольников. 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 ходе опытно-экспериментальной деятельности дошкольник учится наблюдать, размышлять, сравнивать, отвечать на вопросы, делать выводы, устанавливать причинно-следственную связь,  соблюдать правила безопасности, углублять представление о живой и неживой природе, явлениях и объектах окружающего мира.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своение систематизированных поисково-познавательных знаний детей, становление опытно-экспериментальных действий формирует основы логического мышления, обеспечивает максимальную эффективность интеллектуального развития дошкольников и их полноценную готовность к обучению в школ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755640" y="806400"/>
            <a:ext cx="777564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В настоящее время в системе дошкольного образования формируются и успешно применяются новейшие разработки, технологии, методики, которые позволяют поднять уровень дошкольного образования на более высокую и качественную ступень. Одним из таких эффектных методов познания закономерностей и явлений окружающего мира является 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экспериментальная деятельность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D:\2. Таня - работа\Г.Н\image1 (1).JPG"/>
          <p:cNvPicPr/>
          <p:nvPr/>
        </p:nvPicPr>
        <p:blipFill>
          <a:blip r:embed="rId1"/>
          <a:stretch/>
        </p:blipFill>
        <p:spPr>
          <a:xfrm>
            <a:off x="1762200" y="2809800"/>
            <a:ext cx="5413320" cy="4048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3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6"/>
          <p:cNvSpPr txBox="1"/>
          <p:nvPr/>
        </p:nvSpPr>
        <p:spPr>
          <a:xfrm>
            <a:off x="611280" y="692280"/>
            <a:ext cx="768672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7f3a0b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Экспериментальная деятельность с детьми</a:t>
            </a:r>
            <a:endParaRPr b="1" i="1" lang="en-US" sz="4800" spc="1" strike="noStrike">
              <a:ln w="9360">
                <a:solidFill>
                  <a:srgbClr val="7f3a0b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7f3a0b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организовывается по пяти взаимосвязанным направлениям:</a:t>
            </a:r>
            <a:endParaRPr b="1" i="1" lang="en-US" sz="4800" spc="1" strike="noStrike">
              <a:ln w="9360">
                <a:solidFill>
                  <a:srgbClr val="7f3a0b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755640" y="1700280"/>
            <a:ext cx="7704000" cy="1008000"/>
          </a:xfrm>
          <a:prstGeom prst="roundRect">
            <a:avLst>
              <a:gd name="adj" fmla="val 19204"/>
            </a:avLst>
          </a:prstGeom>
          <a:solidFill>
            <a:srgbClr val="48c4be"/>
          </a:solidFill>
          <a:ln w="9360">
            <a:solidFill>
              <a:srgbClr val="4d230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1f497d"/>
                </a:solidFill>
                <a:latin typeface="Arial"/>
              </a:rPr>
              <a:t>Живая природа” (растения и животные как живые организ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1f497d"/>
                </a:solidFill>
                <a:latin typeface="Arial"/>
              </a:rPr>
              <a:t>строение, функции и назначение их частей и др.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900000" y="2852640"/>
            <a:ext cx="7345440" cy="576360"/>
          </a:xfrm>
          <a:prstGeom prst="roundRect">
            <a:avLst>
              <a:gd name="adj" fmla="val 19204"/>
            </a:avLst>
          </a:prstGeom>
          <a:solidFill>
            <a:srgbClr val="48c4be"/>
          </a:solidFill>
          <a:ln w="9360">
            <a:solidFill>
              <a:srgbClr val="4d230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1f497d"/>
                </a:solidFill>
                <a:latin typeface="Arial"/>
              </a:rPr>
              <a:t>Неживая природа” (воздух, вода, почва и др.)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826920" y="3645000"/>
            <a:ext cx="7345440" cy="1008000"/>
          </a:xfrm>
          <a:prstGeom prst="roundRect">
            <a:avLst>
              <a:gd name="adj" fmla="val 19204"/>
            </a:avLst>
          </a:prstGeom>
          <a:solidFill>
            <a:srgbClr val="48c4be"/>
          </a:solidFill>
          <a:ln w="9360">
            <a:solidFill>
              <a:srgbClr val="4d230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1f497d"/>
                </a:solidFill>
                <a:latin typeface="Arial"/>
              </a:rPr>
              <a:t>Физические явлени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Arial"/>
              </a:rPr>
              <a:t>(свет, звук, магнетизм, превращение твердых тел в жидк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Arial"/>
              </a:rPr>
              <a:t>жидких – в газообразные и наоборот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826920" y="4797360"/>
            <a:ext cx="7345440" cy="576360"/>
          </a:xfrm>
          <a:prstGeom prst="roundRect">
            <a:avLst>
              <a:gd name="adj" fmla="val 19204"/>
            </a:avLst>
          </a:prstGeom>
          <a:solidFill>
            <a:srgbClr val="48c4be"/>
          </a:solidFill>
          <a:ln w="9360">
            <a:solidFill>
              <a:srgbClr val="4d230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1f497d"/>
                </a:solidFill>
                <a:latin typeface="Arial"/>
              </a:rPr>
              <a:t>Человек” (функционирование организма и др.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26920" y="5589720"/>
            <a:ext cx="7345440" cy="647640"/>
          </a:xfrm>
          <a:prstGeom prst="roundRect">
            <a:avLst>
              <a:gd name="adj" fmla="val 19204"/>
            </a:avLst>
          </a:prstGeom>
          <a:solidFill>
            <a:srgbClr val="48c4be"/>
          </a:solidFill>
          <a:ln w="9360">
            <a:solidFill>
              <a:srgbClr val="4d230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1f497d"/>
                </a:solidFill>
                <a:latin typeface="Arial"/>
              </a:rPr>
              <a:t>Рукотворный мир” (материалы и их свойства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500"/>
                            </p:stCondLst>
                            <p:childTnLst>
                              <p:par>
                                <p:cTn id="1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500"/>
                            </p:stCondLst>
                            <p:childTnLst>
                              <p:par>
                                <p:cTn id="1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132000" y="765000"/>
            <a:ext cx="3240360" cy="721080"/>
          </a:xfrm>
          <a:prstGeom prst="roundRect">
            <a:avLst>
              <a:gd name="adj" fmla="val 19204"/>
            </a:avLst>
          </a:prstGeom>
          <a:solidFill>
            <a:srgbClr val="48c4be"/>
          </a:solidFill>
          <a:ln w="9360">
            <a:solidFill>
              <a:srgbClr val="4d230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d2307"/>
                </a:solidFill>
                <a:latin typeface="Arial"/>
                <a:ea typeface="Arial"/>
              </a:rPr>
              <a:t>Задач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826920" y="2216160"/>
            <a:ext cx="777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28600"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Формировать у детей способность видеть многообразие мира в системе взаимосвяз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Сочетать показ предмета с активным действием ребенка по его обследованию (ощупывание, восприятие на вкус, запах и т. 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Учить детей сопоставлять факты и выводы из рассуж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Использовать опыт практической деятельности с игровой деятель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Развивать у детей мыслительные, моделирующие и преобразующие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3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3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3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3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3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1187280" y="1557360"/>
            <a:ext cx="7056720" cy="1008000"/>
          </a:xfrm>
          <a:prstGeom prst="roundRect">
            <a:avLst>
              <a:gd name="adj" fmla="val 19204"/>
            </a:avLst>
          </a:prstGeom>
          <a:solidFill>
            <a:srgbClr val="48c4be"/>
          </a:solidFill>
          <a:ln w="9360">
            <a:solidFill>
              <a:srgbClr val="4d230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ормы работы опытно – эксперимента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ятельности детей старшего дошкольного возраста.</a:t>
            </a:r>
            <a:br>
              <a:rPr sz="1800"/>
            </a:br>
            <a:r>
              <a:rPr b="1" i="1" lang="ru-RU" sz="3600" spc="-1" strike="noStrike">
                <a:solidFill>
                  <a:srgbClr val="4d2307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755640" y="2976840"/>
            <a:ext cx="777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Содержание этой работы реализуется в следующих трех блоках педагогического процесса: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 - специально организованные занятия по познавательной деятельности с включенными опытами по заданной теме;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- совместная деятельность педагога с детьми;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- свободная самостоятельная деятельность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3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14:52:41Z</dcterms:created>
  <dc:creator>Анастасия</dc:creator>
  <dc:description/>
  <dc:language>en-US</dc:language>
  <cp:lastModifiedBy>Ангелина</cp:lastModifiedBy>
  <dcterms:modified xsi:type="dcterms:W3CDTF">2018-02-18T14:48:03Z</dcterms:modified>
  <cp:revision>92</cp:revision>
  <dc:subject/>
  <dc:title>Периодическая система элемент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1c0000000000010243100207f6000400038000</vt:lpwstr>
  </property>
</Properties>
</file>