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522-5626-48AD-B604-C3B0EEBE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49B-366B-4026-8F30-9C22EF4A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1A7-628D-4420-A6BC-4B2CB2E8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A71-E6C6-4CD6-970C-A2B8AA95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F95-53A7-4A20-AA20-D3D4AE0D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597-2207-4A1E-BA21-ADBE361C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123-D16E-4FE0-AF53-E291DE41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F5E-1397-4001-A59E-282F8F5D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643-885A-4D0B-9B21-8BD47764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8DE-FCF2-409E-9D9C-3CE7C896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EA2-CB28-4C3E-8557-8A4F845D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F0E-63F9-48ED-BB70-CEC15683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CC43-D29D-4304-825D-5214EA65F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и по запросу презентация для детей хохлома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-304920" y="0"/>
            <a:ext cx="85345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6T08:03:53Z</dcterms:created>
  <dc:creator>User</dc:creator>
  <dc:description/>
  <dc:language>en-US</dc:language>
  <cp:lastModifiedBy>Сотрудник</cp:lastModifiedBy>
  <dcterms:modified xsi:type="dcterms:W3CDTF">2017-04-06T08:21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