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05EA-7953-43ED-A2AA-ACF3ADD50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BF6E-F9A4-4334-AD66-C9B683DD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D97A-9022-45C3-BD5C-8036D9862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CA6F-CF8D-4C58-A9C2-9FB6A2FE8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618B-0E8C-4921-B940-6D29F98D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41FF-1CC1-46F4-A8C9-8A3F69F9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7BF7-EBDD-49CE-ADC3-3D80CFF6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A81F-E8EA-4440-86E1-AB4487CD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81F8-7FEA-4A2B-AD14-D37B17D3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A3EB-E322-4D50-9B90-C19AB957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5073-5FCF-461F-8E8D-10536AFA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0F57-140E-41DE-B603-EE96EC78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5C18-8A03-4B3A-96F7-3A93B75DB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Картинки по запросу презентация для детей хохлома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Картинки по запросу презентация хохлома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Картинки по запросу презентация хохлом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Картинки по запросу презентация хохлома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Похожее изображение"/>
          <p:cNvPicPr/>
          <p:nvPr/>
        </p:nvPicPr>
        <p:blipFill>
          <a:blip r:embed="rId1"/>
          <a:stretch/>
        </p:blipFill>
        <p:spPr>
          <a:xfrm>
            <a:off x="-304920" y="0"/>
            <a:ext cx="853452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Картинки по запросу презентация хохлома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9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Картинки по запросу презентация хохлом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6T08:03:53Z</dcterms:created>
  <dc:creator>User</dc:creator>
  <dc:description/>
  <dc:language>en-US</dc:language>
  <cp:lastModifiedBy>Сотрудник</cp:lastModifiedBy>
  <dcterms:modified xsi:type="dcterms:W3CDTF">2017-04-06T08:21:1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