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987-8A96-4438-8900-E730D82F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C4A-1B77-4E0D-A1D7-EE55219B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367-D377-41CD-B994-62D4A669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8BF-EAFA-42E9-A0E3-69342E80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C47-62D9-40CE-B7D7-AFC21923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9FD-6CAC-4858-A62D-57791071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A1A-455A-4149-8A33-EFE7DD55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10B-B07B-4248-8A5D-81B939BC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CB7-341E-4909-8693-E8FF39BF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71B-8DB8-474A-B7BF-582798D9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D08-B05C-43A1-BA25-8CBDE939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472-1FFA-4033-8EEF-7C5EFCD6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4C14-1C89-4866-925A-8B024652A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3657240"/>
            <a:ext cx="7162560" cy="3048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аченцева Виолетта Михайл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ница 6 А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У СОШ №2 МО Динской рай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ый руководител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шко Виктория Юрье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матема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У СОШ №2 МО Динско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304920" y="763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учебно-исследовательских проектов школьников «Эврика, ЮНИО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й академии наук учащихся Куб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161640" y="1295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ция: 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1676520" y="21718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 сказок в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 Antiqua"/>
              </a:rPr>
              <a:t>У Карабаса – Барабаса имеются двое песочных часов : на 7 минут и на 11 минут . Каша должна вариться 15 минут . Как её сварить Карабасу – Барабасу , перевернув часы минимальное количество р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8306647e8b6"/>
          <p:cNvPicPr/>
          <p:nvPr/>
        </p:nvPicPr>
        <p:blipFill>
          <a:blip r:embed="rId1"/>
          <a:stretch/>
        </p:blipFill>
        <p:spPr>
          <a:xfrm>
            <a:off x="5083200" y="1600200"/>
            <a:ext cx="31687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15=(11-7)+11. Одновременно перевернём часы , через 7 минут начинаем варить кашу .После 4 минут (песок в часах на 11 минут закончится)вновь перевернём часы на 11 мину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евна-лягушка прыгала вдоль прямой и вернулась в исходную точку (длина прыжка 1 м). Докажите , что она сделала чётное число прыж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257786050_04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Narrow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ак как после каждого прыжка расстояние меняется с нечётного на чётное , причём расстояние будет чётным после чётного числа прыжков, то в начало Царевна-Лягушка должна вернуться после чётного числа прыж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unga"/>
              </a:rPr>
              <a:t>Задача №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лся Иван –царевич со Змеем Горынычем , трёхглавым и трёххвостым. Одним ударом он мог сруби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бо одну голову, либо один хвост, либо две головы, либо два хвоста. Но если срубить  один хвост, то вырастут два; если срубить два хвоста- вырастет голова; если срубить голову, то вырастет новая голова; а если срубить две головы, то не вырастет ничего. Объясните, как должен действовать Иван-царевич, чтобы срубить Змею все головы и все хвосты как можно быст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о"/>
          <p:cNvPicPr/>
          <p:nvPr/>
        </p:nvPicPr>
        <p:blipFill>
          <a:blip r:embed="rId1"/>
          <a:stretch/>
        </p:blipFill>
        <p:spPr>
          <a:xfrm>
            <a:off x="5396040" y="1978200"/>
            <a:ext cx="2543040" cy="142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i"/>
          <p:cNvPicPr/>
          <p:nvPr/>
        </p:nvPicPr>
        <p:blipFill>
          <a:blip r:embed="rId2"/>
          <a:stretch/>
        </p:blipFill>
        <p:spPr>
          <a:xfrm>
            <a:off x="5396040" y="4317840"/>
            <a:ext cx="2543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Bookman Old Style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Garamond"/>
              </a:rPr>
              <a:t>Так как рубить головы по одной не имеет смысла ,а при рубке хвостов рано или поздно появляются новые головы, то Иван- царевич должен действовать так ,чтобы у Змея не осталось хвостов ,а количество голов стало чётным. Для этого надо сначала три раза срубить по одному хвосту ,и их будет шесть . Затем три раза срубить по два хвоста , и у Змея станет шесть голов, а потом три раза срубить по две головы, и тогда у Змея не останется ни хвостов, ни г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Перед Бабой-ягой и Кощеем Бессмертным лежат две кучи мухоморов , в одной 100 штук ,а в другой 150 штук. Они по очереди берут грибы из куч, за один раз можно взять любое ненулевое число грибов из одной кучи. Пропускать ход нельзя , выигрывает тот , после хода которого грибов не останется . Первой ходит Баба-яга. Кто из игроков выиграет при правильной иг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0c05b486ae3caa055d71b90e4dac2797"/>
          <p:cNvPicPr/>
          <p:nvPr/>
        </p:nvPicPr>
        <p:blipFill>
          <a:blip r:embed="rId1"/>
          <a:stretch/>
        </p:blipFill>
        <p:spPr>
          <a:xfrm>
            <a:off x="5791320" y="1600200"/>
            <a:ext cx="1608120" cy="219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0_832a6_f0e6b656_XL"/>
          <p:cNvPicPr/>
          <p:nvPr/>
        </p:nvPicPr>
        <p:blipFill>
          <a:blip r:embed="rId2"/>
          <a:stretch/>
        </p:blipFill>
        <p:spPr>
          <a:xfrm>
            <a:off x="5915160" y="3938760"/>
            <a:ext cx="1503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Победит Баба-яга с помощью следующей стратегии . Каждым своим ходом она уравнивает число грибов в кучах , имеющихся к её 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ёша Попович и Добрыня Никитич воюют с девятиглавым змеем. Они по очереди ходят к его пещере и отрубают 1 , 2 или 3 головы . Как начинающему бой Алёше обрести славу победителя змея (то есть отрубить последнюю голову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о"/>
          <p:cNvPicPr/>
          <p:nvPr/>
        </p:nvPicPr>
        <p:blipFill>
          <a:blip r:embed="rId1"/>
          <a:stretch/>
        </p:blipFill>
        <p:spPr>
          <a:xfrm>
            <a:off x="4800600" y="1643040"/>
            <a:ext cx="3809880" cy="214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8955-1-f"/>
          <p:cNvPicPr/>
          <p:nvPr/>
        </p:nvPicPr>
        <p:blipFill>
          <a:blip r:embed="rId2"/>
          <a:stretch/>
        </p:blipFill>
        <p:spPr>
          <a:xfrm>
            <a:off x="4648320" y="3954600"/>
            <a:ext cx="40384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Lucida Sans"/>
              </a:rPr>
              <a:t>Рассуждаем с конца. Чтобы победить Алёше , перед его последним ударом у змея должно остаться не более 3 голов . Значит, при последнем ударе Добрыни у змея должно быть 4 головы. Тогда , срубив любое число голов , Добрыня проигрывает. До этого удара вместе они срубили 5 голов : два раза рубил Алёша и один раз – Добрыня. Тогда стратегия Алёши будет такой : первым ударом он срубает 1 голову , а вторым – в зависимости от того, сколько голов срубил Добрыня .(Добрыня- 1 , Алёша- 3; Добрыня – 2 , Алёша – 2; Добрыня – 3 , Алёша –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3720" y="19810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е В.А. Сухомлинский писал 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 не представляю обучение в школе не только без слушания, но и создания сказ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пункто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временно навстречу друг другу вышли Буратино и Мальвина , каждый со своей, но постоянной скоростью, и встретились через час. После этого они, не останавливаясь , пошли дальше и ,дойдя до пунктов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, повернули обратно , после чего снова встретились . Сколько времени пройдёт между первой их встречей и втор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0002-002-Vyberi-ljuboj-sluchaj-slozhenija-i-vychitanija"/>
          <p:cNvPicPr/>
          <p:nvPr/>
        </p:nvPicPr>
        <p:blipFill>
          <a:blip r:embed="rId1"/>
          <a:stretch/>
        </p:blipFill>
        <p:spPr>
          <a:xfrm>
            <a:off x="5810400" y="1600200"/>
            <a:ext cx="1712880" cy="218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9f2c5b3e1e5ef0691588b6ee97db31224d7ff761887318"/>
          <p:cNvPicPr/>
          <p:nvPr/>
        </p:nvPicPr>
        <p:blipFill>
          <a:blip r:embed="rId2"/>
          <a:stretch/>
        </p:blipFill>
        <p:spPr>
          <a:xfrm>
            <a:off x="5838840" y="3938760"/>
            <a:ext cx="1657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090386"/>
          <p:cNvPicPr/>
          <p:nvPr/>
        </p:nvPicPr>
        <p:blipFill>
          <a:blip r:embed="rId1"/>
          <a:stretch/>
        </p:blipFill>
        <p:spPr>
          <a:xfrm>
            <a:off x="3886200" y="190512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autami"/>
              </a:rPr>
              <a:t>Задача № 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еменские музыканты в первый день прошли 20 % всего пусть и 2 км. Во второй прошли 50 % остатка и ещё 1 км . В третий день – 25% оставшегося пути и ещё 3 км . Остальные 18 км пути они прошли в четвёртый день . Какова длина пути ,пройденного Бременскими музыкан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1447840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4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м – весь путь Бременских музыкантов , то в первый день они прошли ( 0,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2) км , во  второй – 0,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м , в третий ( 0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2,5) км , в четвёртый – 18 км , поэтому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 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18 =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куда находи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75(км)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Задача № 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Красная Шапочка шла в гору со скоростью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км/ч , а с горы – 2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км/ч .Какова средняя скорость Красной Шапочки , если она поднималась в гору и возвращалась в исходный пункт у подножия горы по одной и той же тропин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38fc20b6a7277fc7defb5693f607a9a0bc81d699335687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им з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м расстояние , пройденное Красной Шапочкой в одном направлении , тог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 – время , затраченное на подъём, 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 – время  затраченн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утницей на спуск. Тогда время , затраченное на подъём и спуск , будет рав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 ч) , а пройдённое расстояние –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м. Тогда средняя скорость Красной Шапочки будет равна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м/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коле сказки достаточно редко используются в математическом образов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казок в математических задачах, содержательно дополняет их. Изучение математики через сказку доступно всем детям, проходит легко и гармонично. Сказка — это поистине удивительное сокровище, имеющее огромный потенциал для обучения и развития ребен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85640"/>
            <a:ext cx="8229600" cy="2590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банка зада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казочные герои в математик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исследовательской работ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основные темы, изучаемые в 1-3 классах по матема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сти анализ задач, изучаемых в 1-3 классе по матема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лассифицировать задачи по уровню сложности и тема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  придумать задачи по созданной классификации на тему «Герои сказок в математик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6000"/>
            <a:ext cx="8229600" cy="3276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теоретические (анализ литературы по проблеме исследова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ктические (классификация, создание сборника зада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8560" y="15840"/>
            <a:ext cx="5905440" cy="6842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изучение математики в 1 классе начальной школы отводится по 4 ч в неделю. Курс рассчитан на 132 часа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ервом классе изучается два главных раздела : «Нумерация» и «Сложение и вычитание натуральных чисел»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м классе эти разделы продолжают изучаться более углубленно, также добавляется новая тема : «Умножение и деление чисел». В третьем классе отрабатываются навыки вычислений в столб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544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Однажды незнайка со своими друзьями собирал яблоки. Нарвали они очень много-меньше шестидесяти , но и немало-больше пятидесяти. Разделили все яблоки поров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2" descr="1207150809_n"/>
          <p:cNvPicPr/>
          <p:nvPr/>
        </p:nvPicPr>
        <p:blipFill>
          <a:blip r:embed="rId1"/>
          <a:stretch/>
        </p:blipFill>
        <p:spPr>
          <a:xfrm>
            <a:off x="5486400" y="1600200"/>
            <a:ext cx="236232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57173852_db66c7e6698a"/>
          <p:cNvPicPr/>
          <p:nvPr/>
        </p:nvPicPr>
        <p:blipFill>
          <a:blip r:embed="rId2"/>
          <a:stretch/>
        </p:blipFill>
        <p:spPr>
          <a:xfrm>
            <a:off x="5334120" y="4032360"/>
            <a:ext cx="27907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Segoe Script"/>
              </a:rPr>
              <a:t>Вдруг видят – Чебурашка к ним бежит. Не беда  , что из другой сказки. Надо и его яблочком угостить. Каждый коротышка отдал Чебурашке одно яблоко , и  оказалось , что у всех опять яблок поровну . Сколько было всего коротышек? Сколько яблок они собрали? По скольку яблок досталось кажд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img_sasha29_15_0"/>
          <p:cNvPicPr/>
          <p:nvPr/>
        </p:nvPicPr>
        <p:blipFill>
          <a:blip r:embed="rId1"/>
          <a:stretch/>
        </p:blipFill>
        <p:spPr>
          <a:xfrm>
            <a:off x="4648320" y="2001960"/>
            <a:ext cx="4038480" cy="3722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Book Antiqua"/>
              </a:rPr>
              <a:t>Общее число яблок должно делиться на два соседних натуральных числа ( на число всех коротышек и на это число , увеличенное на единицу ).Среди чисел больших 50 , но меньших 60 этому условию удовлетворяет только число 5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астасия</dc:creator>
  <dc:description/>
  <dc:language>en-US</dc:language>
  <cp:lastModifiedBy>11</cp:lastModifiedBy>
  <dcterms:modified xsi:type="dcterms:W3CDTF">2018-04-10T07:38:3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