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44E-4E67-4BB4-87D6-D34383D9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A6B-0D63-4BCD-A328-2C563140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18A-E346-4267-B1D4-C6905CF4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317-FE23-44D1-B973-03BDAEED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C03-AA42-4C5A-95B8-4DCE96EF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C69-0663-4575-939B-34FF9DB5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713-AC89-4BC4-9093-BD34FA22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F71-DEDA-42E9-A3D3-D3BD93A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3E7-08C3-4065-8581-D3F1B603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B20-DCE1-4519-988A-0D90FEF9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669-46D5-4C82-9CC9-3D2E669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FD4-5C06-411C-ACBA-6FC3DA0F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DE28-E5A5-4346-B38C-D0DEC252D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img_url" TargetMode="External"/><Relationship Id="rId2" Type="http://schemas.openxmlformats.org/officeDocument/2006/relationships/hyperlink" Target="https://yandex.ru/images/search?text" TargetMode="External"/><Relationship Id="rId3" Type="http://schemas.openxmlformats.org/officeDocument/2006/relationships/hyperlink" Target="https://yandex.ru/images/search?tex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Arial Narrow"/>
              </a:rPr>
              <a:t>Русская женщ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692360" y="2205000"/>
            <a:ext cx="6192720" cy="216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4"/>
          <p:cNvSpPr/>
          <p:nvPr/>
        </p:nvSpPr>
        <p:spPr>
          <a:xfrm>
            <a:off x="5292720" y="4724280"/>
            <a:ext cx="300204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Левицкая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179280" y="549360"/>
            <a:ext cx="46087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5435640" y="5300640"/>
            <a:ext cx="30751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вицкая Е.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11280" y="4724280"/>
            <a:ext cx="7848360" cy="14414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вицкая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частливая женщина с ребе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http://1k.com.ru/wp-content/uploads/2015/01/schastlivaya-mama-i-rebenok-35397223442.jpg"/>
          <p:cNvPicPr/>
          <p:nvPr/>
        </p:nvPicPr>
        <p:blipFill>
          <a:blip r:embed="rId1"/>
          <a:stretch/>
        </p:blipFill>
        <p:spPr>
          <a:xfrm>
            <a:off x="1168560" y="1197000"/>
            <a:ext cx="6806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ые образователь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yandex.ru/images/search?img_u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yandex.ru/images/search?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andex.ru/images/search?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  <a:ea typeface="Calibri"/>
              </a:rPr>
              <a:t>Мадон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14480" y="3786120"/>
            <a:ext cx="49719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3686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На паш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85840" y="4500360"/>
            <a:ext cx="390060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5247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с ребе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img0.liveinternet.ru/images/attach/c/4/84/518/84518200_000025.jpg"/>
          <p:cNvPicPr/>
          <p:nvPr/>
        </p:nvPicPr>
        <p:blipFill>
          <a:blip r:embed="rId1"/>
          <a:stretch/>
        </p:blipFill>
        <p:spPr>
          <a:xfrm>
            <a:off x="2268360" y="1197000"/>
            <a:ext cx="4391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 вышив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i010.radikal.ru/1109/4a/eb5e97170444.jpg"/>
          <p:cNvPicPr/>
          <p:nvPr/>
        </p:nvPicPr>
        <p:blipFill>
          <a:blip r:embed="rId1"/>
          <a:stretch/>
        </p:blipFill>
        <p:spPr>
          <a:xfrm>
            <a:off x="2124000" y="112536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читает дочери кни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://img0.liveinternet.ru/images/attach/c/0/35/788/35788820_Childs_Play.jpg"/>
          <p:cNvPicPr/>
          <p:nvPr/>
        </p:nvPicPr>
        <p:blipFill>
          <a:blip r:embed="rId1"/>
          <a:stretch/>
        </p:blipFill>
        <p:spPr>
          <a:xfrm>
            <a:off x="2050920" y="119700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заплетает дочери косич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://img0.liveinternet.ru/images/attach/c/0/47/468/47468480_124844267146.jpg"/>
          <p:cNvPicPr/>
          <p:nvPr/>
        </p:nvPicPr>
        <p:blipFill>
          <a:blip r:embed="rId1"/>
          <a:stretch/>
        </p:blipFill>
        <p:spPr>
          <a:xfrm>
            <a:off x="2124000" y="1197000"/>
            <a:ext cx="46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http://gifok.net/images/2015/09/25/Arthur_JohnElsley_44.jpg"/>
          <p:cNvPicPr/>
          <p:nvPr/>
        </p:nvPicPr>
        <p:blipFill>
          <a:blip r:embed="rId1"/>
          <a:stretch/>
        </p:blipFill>
        <p:spPr>
          <a:xfrm>
            <a:off x="1692360" y="549360"/>
            <a:ext cx="4895640" cy="604836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ый прямоугольник 7"/>
          <p:cNvSpPr/>
          <p:nvPr/>
        </p:nvSpPr>
        <p:spPr>
          <a:xfrm>
            <a:off x="6372360" y="189000"/>
            <a:ext cx="2771640" cy="158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Женщина в кругу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енщина  с детьми гуляет по пляж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http://1.bp.blogspot.com/-t0QYJrgy3Qw/UCZoXHY2ACI/AAAAAAAB4ZE/8Uf1wZvRcuQ/s1600/Lucia+Sarto+1950+-+Italian+Romantic+Impressionist+painter+-+Tutt%27Art@+%2825%29.jpg"/>
          <p:cNvPicPr/>
          <p:nvPr/>
        </p:nvPicPr>
        <p:blipFill>
          <a:blip r:embed="rId1"/>
          <a:stretch/>
        </p:blipFill>
        <p:spPr>
          <a:xfrm>
            <a:off x="2124000" y="1125360"/>
            <a:ext cx="47516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8-04-14T10:19:23Z</dcterms:modified>
  <cp:revision>17</cp:revision>
  <dc:subject/>
  <dc:title>Слайд 1</dc:title>
</cp:coreProperties>
</file>