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3A2-89E9-4707-952E-5362D0EC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BAF-D72F-4D94-A7BA-03E2638C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5FD-F2E7-42ED-A9F6-1AF416B2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840-2576-4A3F-B77C-679DDD8B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A05-9B33-4DCF-9700-9FDFC8B8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DA9-ABA9-4A98-AC1B-286DCFA5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AD7-7068-41FC-8EED-FAA40A11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6DB-A607-4E03-854C-3E092F4B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4AD-0358-4FEB-90E4-5E4021F9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DFE-1FEB-4C86-8231-619BE410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70B-F3F8-493B-80FD-5836D9DA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255-4317-476A-AE45-442396B3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B093-BB39-4063-BAB9-E0C682A780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img_url" TargetMode="External"/><Relationship Id="rId2" Type="http://schemas.openxmlformats.org/officeDocument/2006/relationships/hyperlink" Target="https://yandex.ru/images/search?text" TargetMode="External"/><Relationship Id="rId3" Type="http://schemas.openxmlformats.org/officeDocument/2006/relationships/hyperlink" Target="https://yandex.ru/images/search?tex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Arial Narrow"/>
              </a:rPr>
              <a:t>Русская женщ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Скругленный прямоугольник 3"/>
          <p:cNvSpPr/>
          <p:nvPr/>
        </p:nvSpPr>
        <p:spPr>
          <a:xfrm>
            <a:off x="1692360" y="2205000"/>
            <a:ext cx="6192720" cy="216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4"/>
          <p:cNvSpPr/>
          <p:nvPr/>
        </p:nvSpPr>
        <p:spPr>
          <a:xfrm>
            <a:off x="5292720" y="4724280"/>
            <a:ext cx="300204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Соста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Левицкая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6"/>
          <p:cNvSpPr/>
          <p:nvPr/>
        </p:nvSpPr>
        <p:spPr>
          <a:xfrm>
            <a:off x="179280" y="549360"/>
            <a:ext cx="46087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5435640" y="5300640"/>
            <a:ext cx="30751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ста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евицкая Е.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611280" y="4724280"/>
            <a:ext cx="7848360" cy="14414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евицкая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частливая женщина с ребен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6" descr="http://1k.com.ru/wp-content/uploads/2015/01/schastlivaya-mama-i-rebenok-35397223442.jpg"/>
          <p:cNvPicPr/>
          <p:nvPr/>
        </p:nvPicPr>
        <p:blipFill>
          <a:blip r:embed="rId1"/>
          <a:stretch/>
        </p:blipFill>
        <p:spPr>
          <a:xfrm>
            <a:off x="1168560" y="1197000"/>
            <a:ext cx="68068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ные образовательные ресур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yandex.ru/images/search?img_ur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yandex.ru/images/search?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yandex.ru/images/search?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  <a:ea typeface="Calibri"/>
              </a:rPr>
              <a:t>Мадон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14480" y="3786120"/>
            <a:ext cx="497196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43686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На паш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785840" y="4500360"/>
            <a:ext cx="3900600" cy="16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52472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Женщина с ребен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http://img0.liveinternet.ru/images/attach/c/4/84/518/84518200_000025.jpg"/>
          <p:cNvPicPr/>
          <p:nvPr/>
        </p:nvPicPr>
        <p:blipFill>
          <a:blip r:embed="rId1"/>
          <a:stretch/>
        </p:blipFill>
        <p:spPr>
          <a:xfrm>
            <a:off x="2268360" y="1197000"/>
            <a:ext cx="4391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Женщина  вышива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http://i010.radikal.ru/1109/4a/eb5e97170444.jpg"/>
          <p:cNvPicPr/>
          <p:nvPr/>
        </p:nvPicPr>
        <p:blipFill>
          <a:blip r:embed="rId1"/>
          <a:stretch/>
        </p:blipFill>
        <p:spPr>
          <a:xfrm>
            <a:off x="2124000" y="112536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Женщина читает дочери книг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http://img0.liveinternet.ru/images/attach/c/0/35/788/35788820_Childs_Play.jpg"/>
          <p:cNvPicPr/>
          <p:nvPr/>
        </p:nvPicPr>
        <p:blipFill>
          <a:blip r:embed="rId1"/>
          <a:stretch/>
        </p:blipFill>
        <p:spPr>
          <a:xfrm>
            <a:off x="2050920" y="1197000"/>
            <a:ext cx="4537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Женщина заплетает дочери косич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http://img0.liveinternet.ru/images/attach/c/0/47/468/47468480_124844267146.jpg"/>
          <p:cNvPicPr/>
          <p:nvPr/>
        </p:nvPicPr>
        <p:blipFill>
          <a:blip r:embed="rId1"/>
          <a:stretch/>
        </p:blipFill>
        <p:spPr>
          <a:xfrm>
            <a:off x="2124000" y="1197000"/>
            <a:ext cx="460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6" descr="http://gifok.net/images/2015/09/25/Arthur_JohnElsley_44.jpg"/>
          <p:cNvPicPr/>
          <p:nvPr/>
        </p:nvPicPr>
        <p:blipFill>
          <a:blip r:embed="rId1"/>
          <a:stretch/>
        </p:blipFill>
        <p:spPr>
          <a:xfrm>
            <a:off x="1692360" y="549360"/>
            <a:ext cx="4895640" cy="6048360"/>
          </a:xfrm>
          <a:prstGeom prst="rect">
            <a:avLst/>
          </a:prstGeom>
          <a:ln w="0">
            <a:noFill/>
          </a:ln>
        </p:spPr>
      </p:pic>
      <p:sp>
        <p:nvSpPr>
          <p:cNvPr id="65" name="Скругленный прямоугольник 7"/>
          <p:cNvSpPr/>
          <p:nvPr/>
        </p:nvSpPr>
        <p:spPr>
          <a:xfrm>
            <a:off x="6372360" y="189000"/>
            <a:ext cx="2771640" cy="158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 Black"/>
              </a:rPr>
              <a:t>Женщина в кругу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Женщина  с детьми гуляет по пляж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5" descr="http://1.bp.blogspot.com/-t0QYJrgy3Qw/UCZoXHY2ACI/AAAAAAAB4ZE/8Uf1wZvRcuQ/s1600/Lucia+Sarto+1950+-+Italian+Romantic+Impressionist+painter+-+Tutt%27Art@+%2825%29.jpg"/>
          <p:cNvPicPr/>
          <p:nvPr/>
        </p:nvPicPr>
        <p:blipFill>
          <a:blip r:embed="rId1"/>
          <a:stretch/>
        </p:blipFill>
        <p:spPr>
          <a:xfrm>
            <a:off x="2124000" y="1125360"/>
            <a:ext cx="47516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стя</cp:lastModifiedBy>
  <dcterms:modified xsi:type="dcterms:W3CDTF">2018-04-14T10:19:23Z</dcterms:modified>
  <cp:revision>17</cp:revision>
  <dc:subject/>
  <dc:title>Слайд 1</dc:title>
</cp:coreProperties>
</file>