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5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9A8-22C3-42B6-87B9-58C76D55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57A-E2DF-4158-8612-2BCABD8E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A92-275C-426C-80BD-E40A0668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04F-9C8E-4A19-8B2C-7206CB4A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CE0-9C08-4B49-BE40-BA7AFA7E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9F2-35DC-424E-9BDB-60794A27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A4E-5EA8-4768-927C-9129F538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A6C-60B0-424E-9049-D7DDE1B2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4FB-A474-4941-9D22-1BDF3498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6D2-6C03-4131-BC92-1F61CE10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E58-D4D6-40B8-A967-D5ED01C6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57B-51F4-4EE1-AF05-4A72D0C2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041B-96BB-45EE-BAF5-051466F23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ch69.narod.ru/mod/1/6506/hystory.html" TargetMode="External"/><Relationship Id="rId2" Type="http://schemas.openxmlformats.org/officeDocument/2006/relationships/hyperlink" Target="http://sch69.narod.ru/mod/1/6506/hystory.html" TargetMode="External"/><Relationship Id="rId3" Type="http://schemas.openxmlformats.org/officeDocument/2006/relationships/hyperlink" Target="http://sch69.narod.ru/mod/1/6506/hystory.html" TargetMode="External"/><Relationship Id="rId4" Type="http://schemas.openxmlformats.org/officeDocument/2006/relationships/hyperlink" Target="http://sch69.narod.ru/mod/1/6506/hystory.html" TargetMode="External"/><Relationship Id="rId5" Type="http://schemas.openxmlformats.org/officeDocument/2006/relationships/hyperlink" Target="http://sch69.narod.ru/mod/1/6506/hystory.html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естандартные приемы вычис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нители: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дитова Ир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Хрущева Екатер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цы 7 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 СШ №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Михай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4880" y="189000"/>
            <a:ext cx="74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ерство общего среднего и профессиона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несергинский муниципальны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422007_31726_0"/>
          <p:cNvPicPr/>
          <p:nvPr/>
        </p:nvPicPr>
        <p:blipFill>
          <a:blip r:embed="rId1"/>
          <a:stretch/>
        </p:blipFill>
        <p:spPr>
          <a:xfrm>
            <a:off x="395280" y="3716280"/>
            <a:ext cx="24019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стный счет – гимнастика ума</a:t>
            </a: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множение и деление на 4, на 8, на 1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Чтобы умножить число на 4, его дважды удваиваю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3 · 4 = (213·2) · 2 = 426 · 2 = 85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7 · 4 = (537 · 2) · 2 = 1074 · 2 = 21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Чтобы число разделить на 4 , его дважды делят на 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6 : 4 = (256 : 2) : 2 = 128 : 2 = 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48 : 4 = (2648 : 2) : 2 = 1324 : 2 = 66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Чтобы умножить число на 8 его трижды удваиваю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1· 8 = ((121· 2) · 2) · 2 = 484· 2 = 9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3· 8 = ((243· 2) · 2) · 2 = 972· 2 = 19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ри делении числа на 8 необходимо его трижды поделить на 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6 : 8 = ((256 : 2) : 2) : 2 = 64 : 2 = 3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48 : 8 = ((2648 : 2) : 2) : 2 = 662 : 2 = 3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Чтобы умножить число на 16 его четырежды удваивают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ри делении числа на 16 необходимо его четыре раза поделить на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179280" y="0"/>
            <a:ext cx="19144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и деление на 5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тобы умножить число на 5, нужно его умножить на 10 и разделить на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8 · 5 = (218 · 10) : 2 = 2180 : 2 = 109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4 · 5 = (644 · 10) : 2 = 6440 : 2 = 32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тобы число разделить на 5, нужно умножить его на 0,2, то есть  в удвоенном исходном числе отделить запятой последнюю циф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5 : 5 = 275 · 0,2 = 275 · 2 : 10 = 55,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1 : 5 = 451 · 0,2 = 451 · 2 : 10 = 90,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250920" y="260280"/>
            <a:ext cx="20174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Записываем умножение 9 на 1, 2, …, 9 по поряд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1 = 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2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3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4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5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6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7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8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9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10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2781360"/>
            <a:ext cx="453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Затем с конца (снизу вверх), после равно, ставим цифры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9, 8, 7, 6,…, 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Затем сверху вниз подставляем цифры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9, 8, 7,…, 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Получаем исходную таблицу умножения на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250920" y="0"/>
            <a:ext cx="22320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1,5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8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тобы умножить число на 1,5, нужно к исходному числу прибавить его половину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· 1,5 = 48 + 24 = 7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· 1,5 = 128 + 64 = 19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7·1,5 = 367 + 163,5 = 550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179280" y="189000"/>
            <a:ext cx="21607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1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спосо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обы число умножить на 11, к нему приписывают 0 и прибавляют исходное числ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6 · 11 = 560 + 56 = 6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5 · 11 = 3450 + 345 = 37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спосо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метод ещё называют «Методом Феррол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раешки сложи, в серединку положи» - эти слова помогут легко запомнить данный способ умножения на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0" y="0"/>
            <a:ext cx="21607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25000"/>
            <a:ext cx="90360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Катя\Desktop\01.jpg"/>
          <p:cNvPicPr/>
          <p:nvPr/>
        </p:nvPicPr>
        <p:blipFill>
          <a:blip r:embed="rId1"/>
          <a:srcRect l="-1000" t="6508" r="0" b="0"/>
          <a:stretch/>
        </p:blipFill>
        <p:spPr>
          <a:xfrm>
            <a:off x="1403280" y="1413000"/>
            <a:ext cx="6875640" cy="517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D:\Организатор клипов (Microsoft)\Коллекция картинок (Microsoft)\bd05092_.wmf"/>
          <p:cNvPicPr/>
          <p:nvPr/>
        </p:nvPicPr>
        <p:blipFill>
          <a:blip r:embed="rId2"/>
          <a:stretch/>
        </p:blipFill>
        <p:spPr>
          <a:xfrm>
            <a:off x="0" y="0"/>
            <a:ext cx="216072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22, 33,…, 9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тобы двузначное число умножить на 22, 33, 44…, 99, надо этот множитель представить в виде произведения однозначного числа (от 2 до 9) на 11, то есть 33 = 3 · 11; 44 =  4 · 11 и т.д. Затем произведение первых чисел умножить н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 · 22 = 42 ·2 · 11 = 84 · 11 = 92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· 33 = 16 · 3 · 11 = 48 · 11 = 528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 · 44 = 23 · 4 · 11 = 92 · 11 = 10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· 55 = 15 · 5 · 11 = 75 · 11 = 825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· 66 = 12 · 6 · 11 = 72 · 11 = 79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· 99 = 24 · 9 · 11 = 216 · 11 = 23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0" y="0"/>
            <a:ext cx="21607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101, 1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Чтобы умножить число на 101, нужно приписать к нему два нуля и прибавить исход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· 101 = 14500 + 145 = 1464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· 101 = 2700 + 27 = 27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Чтобы умножить число на 1001, нужно приписать к нему три нуля и прибавить исход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 · 1001 = 53000 + 53 = 5305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1 · 1001=461000 +461=46146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0" y="0"/>
            <a:ext cx="21607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Возведение в квадрат числа, оканчивающегося цифрой 5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тобы возвести в квадрат число, оканчивающееся цифрой 5 (например, 75), умножают число его десятков (7) на число десятков, увеличенное на 1 (на 7+1 = 8), и к полученному числу приписывают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(7 * 8 = 56 Ответ: 562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25 (9 ·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 · 85 = 722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625 (12 · 1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0" y="0"/>
            <a:ext cx="2050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Возведение в квадрат числа, близкого к 5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Если хочешь возвести в квадрат число, близкое к 50, но большее 50, то поступай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ычти из этого числа 2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припиши к результату двумя цифрами квадрат избытка данного числа над 5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3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ение: 37 – 25 = 12,   50 - 37 = 13,    132 =169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23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ение: 48 – 25 = 23, 50 – 48 =2, 22 = 4,  482 = 23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3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ение: 58 – 25 = 33, 82 = 64,  582 = 3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0" y="260280"/>
            <a:ext cx="14400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йчас, в наш век высоких технологий и повсеместного использования компьютера умение быстро и правильно производить в уме достаточно сложные вычисления ни в коем случае не утратило своей актуальности. Гибкость ума является предметом гордости людей, а способность, например, быстро производить в уме вычисления вызывает откровенное удивление. Такие навыки помогут человеку в учебе, в быту, в профессиональной деятельности. Кроме того, быстрый счет - настоящая гимнастика для ума, приучающая в самых сложных жизненных ситуациях находить в кратчайшее время хорошие и нестандартные ре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Users\Катя\Desktop\6cb679c546b5b0e556e3d3dd5d38e45a.jpg"/>
          <p:cNvPicPr/>
          <p:nvPr/>
        </p:nvPicPr>
        <p:blipFill>
          <a:blip r:embed="rId1"/>
          <a:stretch/>
        </p:blipFill>
        <p:spPr>
          <a:xfrm>
            <a:off x="6659640" y="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число 111, 11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. Если сумма цифр первого множителя меньше 10, надо мысленно раздвинуть цифры этого числа на 2, 3 и т.д. шага, сложить цифры и записать соответствующее количество раз их сумму между раздвинутыми цифрами. Количество шагов всегда меньше количества единиц на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·111=3(3+5) (3+5)5=3885 (количество шагов -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·1111=3(3+5)(3+5)(3+5)4=38885 (количество шагов -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 ·111 111 = 3 (3+5) (3+5) (3+5) (3+5) (3+5) 5 = 3888885(количество шагов – 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диниц 7, то шагов будет 6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. Умножение двузначного числа на 111, 1111, 1111 и т.д., сумма цифр которого равна или больше 10. Устно выполнять это умножение немного сложне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 · 111 = 8 (8+6) (8+6) 6 = 8 (14) (14) 6 = (8+1) (4+1) 46 = 95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 этом случае надо к первой цифре 8 прибавить 1, получим 9, далее 4+1 = 5; а последние цифры 4 и 6 оставляем без изменения. Получаем ответ 95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9 · 111 = 7 (7+9) (7+9) 9 = 7 (16) (16) 9 = (7+1) (6+1) 69 = 87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 · 111 = 9 (9+2) (9+2) 2 = 9 (11) (11) 2 = (9+1) (1+1) 12 = 102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324000" y="260280"/>
            <a:ext cx="1081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3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ежде чем научиться (устно) умножать на 37, надо хорошо знать признак делимости и таблицу умножения на 3. Чтобы устно умножить число на 37, надо это число  разделить на 3 и умножить на 1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· 37 = (12 : 3) · 37 · 3 = 4 · 111 = 444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 · 37 = (54 : 3) · 111 = 18 · 111 = 199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4 · 37 = (234 : 3) · 111 = 78 · 111 = 865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0" y="0"/>
            <a:ext cx="2050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нкетирован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638600" cy="2786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51280" y="3778200"/>
            <a:ext cx="5113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нкетирован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895640" cy="2941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5640" y="3679920"/>
            <a:ext cx="51483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ывая  старинные способы вычислений и современные приёмы быстрого счёта, мы попытались показать, что как в прошлом, так и в будущем, без математики, науки созданной разумом человека, не обойт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нашли и рассмотрели некоторые нестандартные приёмы устного быстрого счёта, не рассматриваемые непосредственно в школьном курсе математики. Все рассмотренные нами методы устного умножения говорят о многолетнем интересе ученых, и простых людей к игре с циф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422007_31726_0"/>
          <p:cNvPicPr/>
          <p:nvPr/>
        </p:nvPicPr>
        <p:blipFill>
          <a:blip r:embed="rId1"/>
          <a:stretch/>
        </p:blipFill>
        <p:spPr>
          <a:xfrm>
            <a:off x="539640" y="189000"/>
            <a:ext cx="2138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емы устного счета позволят нам научиться организовывать себя в различных жизненных ситуациях. Данная тема нам очень интересна, и в дальнейшем мы обязательно, расскажем о нестандартных приемах вычислений нашим одноклассни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мы видим, быстрый счёт это уже не тайна за семью печатями, а научно разработанная система. Раз есть система, значит, её можно изучать, ей можно следовать, ею можно овладевать. Поэтому изучение действия умножения – тема перспек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422007_31726_0"/>
          <p:cNvPicPr/>
          <p:nvPr/>
        </p:nvPicPr>
        <p:blipFill>
          <a:blip r:embed="rId1"/>
          <a:stretch/>
        </p:blipFill>
        <p:spPr>
          <a:xfrm>
            <a:off x="468360" y="115920"/>
            <a:ext cx="2138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писок используемой литерату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Устный счёт – гимнастика ума» Г.А.Филип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Алгоритмы ускоренных вычислений» Л.В. Бикташ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демский Б.А., Ахадов А.А. Удивительный мир чисел: Книга учащихся,- М. Просвещение, 1986.  «Устный счет». Э.Л.Стру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атематическая шкатулка» Ф.Ф.Нагибин Е.С.Кан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звитие вычислительной культуры учащихся»   НЛ. Мельни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чка «Первое сентябр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sch69.narod.ru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o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1/6506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ystory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https://xn--j1ahfl.xn--p1ai/library/nestandartnie_priemi_ustnogo_scheta_111544.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https://nsportal.ru/ap/library/drugoe/2016/06/09/issledovatelskaya-rabota-nekotorye-nestandartnye-priemy-ustnogo-scheta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17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25800" y="1844640"/>
            <a:ext cx="865872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Пробл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айти и рассмотреть нестандартные приёмы устного быстрого счёта, не рассматриваемые непосредственно в школьном курсе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Акту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жеперечисленные способы быстрого счёта рассчитаны  на ум «обычного» человека и не требуют уникальных способностей. Главное – более или менее продолжительная тренировка. Кроме того освоение этих навыков развивает логику и память, усиливает  интерес к матема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i (1)"/>
          <p:cNvPicPr/>
          <p:nvPr/>
        </p:nvPicPr>
        <p:blipFill>
          <a:blip r:embed="rId1"/>
          <a:stretch/>
        </p:blipFill>
        <p:spPr>
          <a:xfrm>
            <a:off x="539640" y="189000"/>
            <a:ext cx="18716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484000" y="1557360"/>
            <a:ext cx="64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зучить нестандартные приемы вычислений и освоить приёмы, позволяющие выполнять действия с числами быстро  и безошибо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скрыть историю возникновения с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зучить методы и приемы быстрого с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писать старинные способы вычис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ссмотреть и показать на примерах применение нестандартных способов  устного 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Documents and Settings\home\Мои документы\Мои рисунки\Организатор клипов (Microsoft)\j0343355.wmf"/>
          <p:cNvPicPr/>
          <p:nvPr/>
        </p:nvPicPr>
        <p:blipFill>
          <a:blip r:embed="rId1"/>
          <a:stretch/>
        </p:blipFill>
        <p:spPr>
          <a:xfrm>
            <a:off x="179280" y="189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AutoShape 3"/>
          <p:cNvGrpSpPr/>
          <p:nvPr/>
        </p:nvGrpSpPr>
        <p:grpSpPr>
          <a:xfrm>
            <a:off x="179280" y="1700280"/>
            <a:ext cx="7405560" cy="3974760"/>
            <a:chOff x="179280" y="1700280"/>
            <a:chExt cx="7405560" cy="3974760"/>
          </a:xfrm>
        </p:grpSpPr>
        <p:pic>
          <p:nvPicPr>
            <p:cNvPr id="53" name="AutoShape 3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740556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4"/>
            <p:cNvSpPr/>
            <p:nvPr/>
          </p:nvSpPr>
          <p:spPr>
            <a:xfrm rot="5400000">
              <a:off x="647640" y="1738080"/>
              <a:ext cx="3471840" cy="39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4"/>
          <p:cNvSpPr/>
          <p:nvPr/>
        </p:nvSpPr>
        <p:spPr>
          <a:xfrm>
            <a:off x="179280" y="2205000"/>
            <a:ext cx="43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ину говорили:             « Умножение – мое мучень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, раньше было сложно и трудно умножать. Просты ли наши современные способы различных вычислений, а не только умно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O_chevron001"/>
          <p:cNvPicPr/>
          <p:nvPr/>
        </p:nvPicPr>
        <p:blipFill>
          <a:blip r:embed="rId2"/>
          <a:stretch/>
        </p:blipFill>
        <p:spPr>
          <a:xfrm>
            <a:off x="1979640" y="1916280"/>
            <a:ext cx="412560" cy="36324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3"/>
          <p:cNvGrpSpPr/>
          <p:nvPr/>
        </p:nvGrpSpPr>
        <p:grpSpPr>
          <a:xfrm>
            <a:off x="4572000" y="2708280"/>
            <a:ext cx="7405560" cy="3974760"/>
            <a:chOff x="4572000" y="2708280"/>
            <a:chExt cx="7405560" cy="3974760"/>
          </a:xfrm>
        </p:grpSpPr>
        <p:pic>
          <p:nvPicPr>
            <p:cNvPr id="58" name="AutoShape 3" descr=""/>
            <p:cNvPicPr/>
            <p:nvPr/>
          </p:nvPicPr>
          <p:blipFill>
            <a:blip r:embed="rId3"/>
            <a:stretch/>
          </p:blipFill>
          <p:spPr>
            <a:xfrm>
              <a:off x="4572000" y="2708280"/>
              <a:ext cx="740556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3"/>
            <p:cNvSpPr/>
            <p:nvPr/>
          </p:nvSpPr>
          <p:spPr>
            <a:xfrm rot="5400000">
              <a:off x="5040360" y="2746080"/>
              <a:ext cx="3471840" cy="39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7"/>
          <p:cNvSpPr/>
          <p:nvPr/>
        </p:nvSpPr>
        <p:spPr>
          <a:xfrm>
            <a:off x="5003640" y="3860640"/>
            <a:ext cx="3527640" cy="265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ние приёмами устного сч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ит повысить ка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корость вычис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их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LB_circle001"/>
          <p:cNvPicPr/>
          <p:nvPr/>
        </p:nvPicPr>
        <p:blipFill>
          <a:blip r:embed="rId4"/>
          <a:stretch/>
        </p:blipFill>
        <p:spPr>
          <a:xfrm>
            <a:off x="6084720" y="2708280"/>
            <a:ext cx="1176480" cy="1174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640" y="1557360"/>
            <a:ext cx="43016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актическая  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440" y="11970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емного из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считывать предметы люди научились ещё в древнем каменном веке - палеолите, десятки тысяч лет назад. Как это происходило? Вначале человек научился выделять единичные предметы. Например, из стаи волков, стада оленей он выделял одного вожака, из выводка птенцов - одного птенца и т. д. Научившись выделять один предмет из множества других, говорили: "один", а если их было больше - "много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ые наблюдения множеств, состоящих из пары предметов (глаза, уши, крылья, руки), привели человека к представлению о числе два. До сих пор слово "два" на некоторых языках звучит так же, как "глаза" или "крылья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:\Организатор клипов (Microsoft)\математика3.jpg"/>
          <p:cNvPicPr/>
          <p:nvPr/>
        </p:nvPicPr>
        <p:blipFill>
          <a:blip r:embed="rId1"/>
          <a:stretch/>
        </p:blipFill>
        <p:spPr>
          <a:xfrm>
            <a:off x="179280" y="333360"/>
            <a:ext cx="2305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развитием производства и торгового обмена люди стали лучше понимать, что общего у трёх лодок и трёх топоров, десяти стрел и десяти орехов. Племена часто вели обмен «предмет за предмет»; к примеру, обменивали 5 съедобных кореньев на 5 ры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 люди начали использовать для счёта камешки, палочки, научились считать до трех, затем до пяти и до десяти и т.д. Название каждого числа отдельным словом было великим шагом вп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чета люди использовали пальцы рук, ног. Система счисления на основе десяти возникла как естественное развитие пальцевого счета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matematika"/>
          <p:cNvPicPr/>
          <p:nvPr/>
        </p:nvPicPr>
        <p:blipFill>
          <a:blip r:embed="rId1"/>
          <a:stretch/>
        </p:blipFill>
        <p:spPr>
          <a:xfrm>
            <a:off x="468360" y="189000"/>
            <a:ext cx="21589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гипетский способ умножения на 9, на паль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052640"/>
            <a:ext cx="9144000" cy="15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умножить любое число от 1 до 9 на 9, посмотрите на руки. Загните палец, который соответствует умножаемому числу (например 7 × 9 – загните 7 палец), посчитайте пальцы до загнутого пальца (в случае 7 × 9 – это 6), затем посчитайте после загнутого пальца (в нашем случае – 3). Ответ – 6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Катя\Desktop\1u.jpg"/>
          <p:cNvPicPr/>
          <p:nvPr/>
        </p:nvPicPr>
        <p:blipFill>
          <a:blip r:embed="rId1"/>
          <a:stretch/>
        </p:blipFill>
        <p:spPr>
          <a:xfrm>
            <a:off x="395280" y="357336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Катя\Desktop\3u.jpg"/>
          <p:cNvPicPr/>
          <p:nvPr/>
        </p:nvPicPr>
        <p:blipFill>
          <a:blip r:embed="rId2"/>
          <a:stretch/>
        </p:blipFill>
        <p:spPr>
          <a:xfrm>
            <a:off x="3924360" y="3429000"/>
            <a:ext cx="4753080" cy="30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таринные способы умнож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УССКИЙ КРЕСТЬЯНСКИЙ СПОСОБ УМН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7               35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             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             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               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               5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               1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5+70+140+280+1120 = 16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3492360" y="1125360"/>
            <a:ext cx="7164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692360" y="3573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9T14:24:37Z</dcterms:created>
  <dc:creator>Пользователь</dc:creator>
  <dc:description/>
  <dc:language>en-US</dc:language>
  <cp:lastModifiedBy>Пользователь</cp:lastModifiedBy>
  <dcterms:modified xsi:type="dcterms:W3CDTF">2018-04-11T17:06:04Z</dcterms:modified>
  <cp:revision>10</cp:revision>
  <dc:subject/>
  <dc:title>Нестандартные приемы вычислений</dc:title>
</cp:coreProperties>
</file>