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8D4-1222-4C23-9F24-FB0206FE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6DA-EE6D-4C9C-AF98-C517521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1CD-7B57-4A6E-9180-9385DB84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E4F-7443-4762-A4B6-124A5685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BDC-7F2A-4E85-8CCC-BB506416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0DA-41BB-4C7D-9E3E-594083F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B8B-C1D4-4ABC-AC57-B55F0F78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684-4705-416F-AF1C-74E23954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C84-3498-46D7-ABCC-DAC1E141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11D-4EA7-4CFB-A2D6-770C89C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C7B-7FC2-4ED5-B866-E55A70C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FBD-E58C-4DFE-A754-7EF40842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3D90-572C-4667-8549-6F6A25DCA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28760" y="20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ы водоёмов Воронеж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57120" y="428760"/>
            <a:ext cx="66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кунь реч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зеленовато-жёлтое тело с чёрными полосами. Чешуя очень плот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унь предпочитает водоёмы с высоким содержанием кислорода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50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Маруся и Санчёус\05B0030i.bmp"/>
          <p:cNvPicPr/>
          <p:nvPr/>
        </p:nvPicPr>
        <p:blipFill>
          <a:blip r:embed="rId2"/>
          <a:stretch/>
        </p:blipFill>
        <p:spPr>
          <a:xfrm>
            <a:off x="357120" y="3483000"/>
            <a:ext cx="4214880" cy="31464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57120" y="428760"/>
            <a:ext cx="64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Ёр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сильные колючие лучи в плавниках. Тело короткое. Глаза большие, навыкате. Окраска тёмно-серая с  тёмными пят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25 см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Маруся и Санчёус\05B0148i.bmp"/>
          <p:cNvPicPr/>
          <p:nvPr/>
        </p:nvPicPr>
        <p:blipFill>
          <a:blip r:embed="rId2"/>
          <a:stretch/>
        </p:blipFill>
        <p:spPr>
          <a:xfrm>
            <a:off x="500040" y="3429000"/>
            <a:ext cx="4143240" cy="30924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42920" y="214200"/>
            <a:ext cx="7072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большую голову, огромный рот, усаженный острыми зубами, усы. Кожа голая, мягкая, с большим количеством слизистых желёз. Основной цвет – жёлто-зелёный. Низ тела бе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 – одна из наиболее хищных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2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сом1"/>
          <p:cNvPicPr/>
          <p:nvPr/>
        </p:nvPicPr>
        <p:blipFill>
          <a:blip r:embed="rId2"/>
          <a:srcRect l="0" t="10621" r="19506" b="14870"/>
          <a:stretch/>
        </p:blipFill>
        <p:spPr>
          <a:xfrm>
            <a:off x="428760" y="3357720"/>
            <a:ext cx="3929040" cy="230328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pic>
        <p:nvPicPr>
          <p:cNvPr id="87" name="Picture 9" descr=""/>
          <p:cNvPicPr/>
          <p:nvPr/>
        </p:nvPicPr>
        <p:blipFill>
          <a:blip r:embed="rId3"/>
          <a:srcRect l="1260" t="1680" r="1890" b="17638"/>
          <a:stretch/>
        </p:blipFill>
        <p:spPr>
          <a:xfrm>
            <a:off x="4572000" y="4071960"/>
            <a:ext cx="3857760" cy="240984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57120" y="428760"/>
            <a:ext cx="60721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в Воронежской области отмечается резкое сокращение численности многих видов ры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роизошло в связи с созданием водохранилища на реке Воронеж,  резким ухудшением состояния водоёмов и браконьер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85840" y="1000080"/>
            <a:ext cx="7072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усский осёт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ледний раз был пойман в Дону у села Старая Калитва Россошанского района в 1958 году. Больше эту рыбу в наших краях не ви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n2-1kol"/>
          <p:cNvPicPr/>
          <p:nvPr/>
        </p:nvPicPr>
        <p:blipFill>
          <a:blip r:embed="rId2"/>
          <a:stretch/>
        </p:blipFill>
        <p:spPr>
          <a:xfrm>
            <a:off x="357120" y="2714760"/>
            <a:ext cx="3040200" cy="34290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678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ы уже потеря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3929040" y="3500280"/>
            <a:ext cx="4643640" cy="172260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p:transition spd="slow">
    <p:circl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214200" y="214200"/>
            <a:ext cx="55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расная кни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1428840"/>
            <a:ext cx="614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Украинская миног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едставитель круглорот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есена в Красную книгу РФ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D:\Маруся и Санчёус\b5g0110i.bmp"/>
          <p:cNvPicPr/>
          <p:nvPr/>
        </p:nvPicPr>
        <p:blipFill>
          <a:blip r:embed="rId2"/>
          <a:stretch/>
        </p:blipFill>
        <p:spPr>
          <a:xfrm>
            <a:off x="500040" y="3214800"/>
            <a:ext cx="4114800" cy="307188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428760" y="142884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57120" y="428760"/>
            <a:ext cx="795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водоёмах Воронежской области обитают около 40 видов рыб, принадлежащих к семействам: щуковые, карповые, сомовые,  налимовы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бный промысел в Воронежской области отсутствует, но широко развито любительское рыболов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57120" y="428760"/>
            <a:ext cx="5786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быкновенная щ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зеленовато-серую окраску: спина более тёмная, брюхо беловат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аска имеет маскирующее значение. Хищная ры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игает длины до 1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:\Маруся и Санчёус\05B0043i.bmp"/>
          <p:cNvPicPr/>
          <p:nvPr/>
        </p:nvPicPr>
        <p:blipFill>
          <a:blip r:embed="rId2"/>
          <a:stretch/>
        </p:blipFill>
        <p:spPr>
          <a:xfrm>
            <a:off x="4500720" y="3716280"/>
            <a:ext cx="4071960" cy="304020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57120" y="428760"/>
            <a:ext cx="63579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лот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вляется самой многочисленной из рыб водоёмов.  Тело умеренно удлинённое. Голова небольшая. Общая окраска серебристая. Чешуя круп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тва неприхотлива к условиям обитания. Это всеяд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3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Маруся и Санчёус\05B0032i.bmp"/>
          <p:cNvPicPr/>
          <p:nvPr/>
        </p:nvPicPr>
        <p:blipFill>
          <a:blip r:embed="rId2"/>
          <a:stretch/>
        </p:blipFill>
        <p:spPr>
          <a:xfrm>
            <a:off x="1000080" y="3855960"/>
            <a:ext cx="3714840" cy="27734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57120" y="428760"/>
            <a:ext cx="6357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узкий лоб, мелкую чешую. Все плавники красноватые или ярко-кр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5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Маруся и Санчёус\05B0044i.bmp"/>
          <p:cNvPicPr/>
          <p:nvPr/>
        </p:nvPicPr>
        <p:blipFill>
          <a:blip r:embed="rId2"/>
          <a:stretch/>
        </p:blipFill>
        <p:spPr>
          <a:xfrm>
            <a:off x="714240" y="3571920"/>
            <a:ext cx="3929040" cy="29336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57120" y="428760"/>
            <a:ext cx="6357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опёр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яркую окраску: тёмно-зелёную спину, бока желтовато-золотистые, глаза оранже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3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Маруся и Санчёус\05B0022i.bmp"/>
          <p:cNvPicPr/>
          <p:nvPr/>
        </p:nvPicPr>
        <p:blipFill>
          <a:blip r:embed="rId2"/>
          <a:stretch/>
        </p:blipFill>
        <p:spPr>
          <a:xfrm>
            <a:off x="571680" y="3429000"/>
            <a:ext cx="4049640" cy="302256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57120" y="428760"/>
            <a:ext cx="635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Жере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ается телом, большой головой и верхним ртом. Чешуя мелкая. Окраска светлая, серебрис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рех –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8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D:\Маруся и Санчёус\05B0019i.bmp"/>
          <p:cNvPicPr/>
          <p:nvPr/>
        </p:nvPicPr>
        <p:blipFill>
          <a:blip r:embed="rId2"/>
          <a:stretch/>
        </p:blipFill>
        <p:spPr>
          <a:xfrm>
            <a:off x="642960" y="3714840"/>
            <a:ext cx="3811680" cy="284616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7120" y="428760"/>
            <a:ext cx="63579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ин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толстое высокое тело,  покрытое слизью. Чешуя очень мелкая. Спина тёмно-зелёная, бока зеленовато-бу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ь – озёрная рыба, хорошо переносит недостаток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6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Маруся и Санчёус\05B0026i.bmp"/>
          <p:cNvPicPr/>
          <p:nvPr/>
        </p:nvPicPr>
        <p:blipFill>
          <a:blip r:embed="rId2"/>
          <a:stretch/>
        </p:blipFill>
        <p:spPr>
          <a:xfrm>
            <a:off x="642960" y="3643200"/>
            <a:ext cx="3929040" cy="29336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вокруг н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усма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57120" y="428760"/>
            <a:ext cx="66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ещ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ается высоким, сильно сжатым с боков телом. Окраска тела тёмно-серебрис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щ – обитатель текучих и стоячих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тела до 75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а тела до 6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Маруся и Санчёус\05B0025i.bmp"/>
          <p:cNvPicPr/>
          <p:nvPr/>
        </p:nvPicPr>
        <p:blipFill>
          <a:blip r:embed="rId2"/>
          <a:stretch/>
        </p:blipFill>
        <p:spPr>
          <a:xfrm>
            <a:off x="357120" y="3732120"/>
            <a:ext cx="3786120" cy="282744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4:05:47Z</dcterms:created>
  <dc:creator>Irina</dc:creator>
  <dc:description/>
  <dc:language>en-US</dc:language>
  <cp:lastModifiedBy>Наташа</cp:lastModifiedBy>
  <dcterms:modified xsi:type="dcterms:W3CDTF">2014-11-20T08:32:44Z</dcterms:modified>
  <cp:revision>27</cp:revision>
  <dc:subject/>
  <dc:title>Моря, озера и реки России</dc:title>
</cp:coreProperties>
</file>