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25C70-12C6-4CA9-B71C-3E5594EE5B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73D9A-C081-4C0D-A5CD-E50A96C415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28419-1B31-461C-A45B-7C798E2B1D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F47-5F31-44B4-877E-68E87D41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38D-5A00-4302-ACEE-FFAB6AC4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99D-5005-488B-AA78-DB6EAC80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455-BE0E-4C6D-917D-A6BDD6A4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F45-47AA-406A-99F4-8739F96F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BA2-5040-4E4D-9C3C-725EFD26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704-21CB-43C6-A941-D7E04C1C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445-3B7B-4A4E-A7C6-12E85BB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0B0-D465-4FC8-8282-16C21B0D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C79-9B0A-473F-A08B-172C14E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2FE-2133-4EAA-BC0F-A3C850B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BF9-F59A-446B-BA14-6B380898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7345A-423A-49A8-B091-A61A5D871E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095640" y="2484360"/>
            <a:ext cx="4465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рогам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http://static.ozone.ru/multimedia/audio_cd_covers/1003574940.jpg"/>
          <p:cNvPicPr/>
          <p:nvPr/>
        </p:nvPicPr>
        <p:blipFill>
          <a:blip r:embed="rId2"/>
          <a:stretch/>
        </p:blipFill>
        <p:spPr>
          <a:xfrm>
            <a:off x="6696000" y="395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aby.ru/storage/d/e/2/f/646808.929830.jpeg"/>
          <p:cNvPicPr/>
          <p:nvPr/>
        </p:nvPicPr>
        <p:blipFill>
          <a:blip r:embed="rId3"/>
          <a:stretch/>
        </p:blipFill>
        <p:spPr>
          <a:xfrm>
            <a:off x="4680000" y="4859280"/>
            <a:ext cx="201600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yartoys.ru/shop/images/big/10369.jpeg"/>
          <p:cNvPicPr/>
          <p:nvPr/>
        </p:nvPicPr>
        <p:blipFill>
          <a:blip r:embed="rId4"/>
          <a:stretch/>
        </p:blipFill>
        <p:spPr>
          <a:xfrm>
            <a:off x="863640" y="466560"/>
            <a:ext cx="2516040" cy="190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900igr.net/datai/literatura/Skazki-2/0004-002-Kurochka-Rjaba.jpg"/>
          <p:cNvPicPr/>
          <p:nvPr/>
        </p:nvPicPr>
        <p:blipFill>
          <a:blip r:embed="rId5"/>
          <a:srcRect l="934" t="0" r="0" b="15645"/>
          <a:stretch/>
        </p:blipFill>
        <p:spPr>
          <a:xfrm>
            <a:off x="6929280" y="5364000"/>
            <a:ext cx="20005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cs308727.userapi.com/v308727253/940/PYj3lMIaPnA.jpg"/>
          <p:cNvPicPr/>
          <p:nvPr/>
        </p:nvPicPr>
        <p:blipFill>
          <a:blip r:embed="rId6"/>
          <a:stretch/>
        </p:blipFill>
        <p:spPr>
          <a:xfrm>
            <a:off x="1511280" y="5075280"/>
            <a:ext cx="221292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16000" y="250920"/>
            <a:ext cx="98647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гуси – лебеди унесли мальчика в русской народной сказке «Гуси – лебед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www.tunnel.ru/i/16/1300043238878078.png"/>
          <p:cNvPicPr/>
          <p:nvPr/>
        </p:nvPicPr>
        <p:blipFill>
          <a:blip r:embed="rId1"/>
          <a:stretch/>
        </p:blipFill>
        <p:spPr>
          <a:xfrm>
            <a:off x="3456000" y="1474920"/>
            <a:ext cx="604836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16000" y="179280"/>
            <a:ext cx="96487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старинное слово из народных сказок с его знач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16000" y="1403280"/>
            <a:ext cx="324000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, 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в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нов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б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о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688000" y="1403280"/>
            <a:ext cx="319104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чок пря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оры ли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ь для м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nna.21413s14.edusite.ru/images/clip_image007.gif"/>
          <p:cNvPicPr/>
          <p:nvPr/>
        </p:nvPicPr>
        <p:blipFill>
          <a:blip r:embed="rId1"/>
          <a:srcRect l="0" t="12883" r="-110" b="12900"/>
          <a:stretch/>
        </p:blipFill>
        <p:spPr>
          <a:xfrm>
            <a:off x="566640" y="1403280"/>
            <a:ext cx="9095040" cy="5329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16000" y="179280"/>
            <a:ext cx="96487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ешь ли ты сказки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6000" y="1057320"/>
            <a:ext cx="96487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оторомцарствевнекоторомгосудар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былидеддаба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былистариксостарух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16000" y="250920"/>
            <a:ext cx="9577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те строчки на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216000" y="4500720"/>
            <a:ext cx="9577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ложения получи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376360" y="5580000"/>
            <a:ext cx="532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, зачин сказ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216000" y="250920"/>
            <a:ext cx="96487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тите название русской народной сказ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http://playroom.com.ru/rebus/rebus5.gif"/>
          <p:cNvPicPr/>
          <p:nvPr/>
        </p:nvPicPr>
        <p:blipFill>
          <a:blip r:embed="rId1"/>
          <a:stretch/>
        </p:blipFill>
        <p:spPr>
          <a:xfrm>
            <a:off x="0" y="1763640"/>
            <a:ext cx="9495000" cy="2462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3738240" y="5292720"/>
            <a:ext cx="2431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м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16000" y="324000"/>
            <a:ext cx="964872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этого предмета можно смастерить замечательные вещи, но также можно убить страшного героя русской сказки, потому что этот предмет олицетворяет его смер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http://www.vskrems-lerchenfeld.ac.at/arbeitsmaterialien/anlautbilder/nadel.jpg"/>
          <p:cNvPicPr/>
          <p:nvPr/>
        </p:nvPicPr>
        <p:blipFill>
          <a:blip r:embed="rId1"/>
          <a:stretch/>
        </p:blipFill>
        <p:spPr>
          <a:xfrm>
            <a:off x="3168720" y="3924360"/>
            <a:ext cx="3622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16000" y="179280"/>
            <a:ext cx="9648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ринадлежат эти слова из сказ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287280" y="1042920"/>
            <a:ext cx="756144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езь ко мне в одно ушко, а в другое вылезь - все будет сработано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onlinebazar.su/published/publicdata/ONLINEBAZR/attachments/SC/products_pictures/MjUwMDA0MDUxMzQtQm9va3MuQ292ZXJzLkZhY2UtMA$$_enl.jpg"/>
          <p:cNvPicPr/>
          <p:nvPr/>
        </p:nvPicPr>
        <p:blipFill>
          <a:blip r:embed="rId1"/>
          <a:stretch/>
        </p:blipFill>
        <p:spPr>
          <a:xfrm>
            <a:off x="7819920" y="1332000"/>
            <a:ext cx="1710000" cy="2519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2087640" y="2843280"/>
            <a:ext cx="5832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пло ли тебе, девица, тепло ли тебе красная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i038.radikal.ru/0801/06/ba4d49055a90.jpg"/>
          <p:cNvPicPr/>
          <p:nvPr/>
        </p:nvPicPr>
        <p:blipFill>
          <a:blip r:embed="rId2"/>
          <a:stretch/>
        </p:blipFill>
        <p:spPr>
          <a:xfrm>
            <a:off x="287280" y="2266920"/>
            <a:ext cx="1800360" cy="2779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216000" y="5219640"/>
            <a:ext cx="75610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у-фу, русского духа слыхом не слыхано, видом не видано; нынче русский дух сам пришел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img1.labirint.ru/books/130109/big.jpg"/>
          <p:cNvPicPr/>
          <p:nvPr/>
        </p:nvPicPr>
        <p:blipFill>
          <a:blip r:embed="rId3"/>
          <a:stretch/>
        </p:blipFill>
        <p:spPr>
          <a:xfrm>
            <a:off x="6985080" y="4321080"/>
            <a:ext cx="2095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16000" y="324000"/>
            <a:ext cx="7632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вка-бурка, вещий каурка, стань передо мной, как лист перед травой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.piccy.info/i3/1c/25/35d12166f876c0b155e0df4ceb98.jpeg"/>
          <p:cNvPicPr/>
          <p:nvPr/>
        </p:nvPicPr>
        <p:blipFill>
          <a:blip r:embed="rId1"/>
          <a:stretch/>
        </p:blipFill>
        <p:spPr>
          <a:xfrm>
            <a:off x="7632720" y="324000"/>
            <a:ext cx="2224080" cy="2846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2232000" y="1547640"/>
            <a:ext cx="525456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выскочу, как выпрыгну, пойдут клочки по закоулочка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www.altei.ru/assets/galleries/311/zayushkina_izbushka.jpg"/>
          <p:cNvPicPr/>
          <p:nvPr/>
        </p:nvPicPr>
        <p:blipFill>
          <a:blip r:embed="rId2"/>
          <a:stretch/>
        </p:blipFill>
        <p:spPr>
          <a:xfrm>
            <a:off x="287280" y="1474920"/>
            <a:ext cx="1757520" cy="2520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1871640" y="3274920"/>
            <a:ext cx="61200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сет меня лиса за темные леса, за быстрые реки, за высокие горы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zlatoriza.ru/uploads/items/big/01-8655.jpg"/>
          <p:cNvPicPr/>
          <p:nvPr/>
        </p:nvPicPr>
        <p:blipFill>
          <a:blip r:embed="rId3"/>
          <a:stretch/>
        </p:blipFill>
        <p:spPr>
          <a:xfrm>
            <a:off x="7920000" y="3564000"/>
            <a:ext cx="1776600" cy="26636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7"/>
          <p:cNvSpPr/>
          <p:nvPr/>
        </p:nvSpPr>
        <p:spPr>
          <a:xfrm>
            <a:off x="1944720" y="5219640"/>
            <a:ext cx="61927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щи меня за тридевять земель, в тридесятом царстве, в тридесятом государстве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http://multfilmchiki.ru/uploads/1298905883_carevna-lyagushka.jpg"/>
          <p:cNvPicPr/>
          <p:nvPr/>
        </p:nvPicPr>
        <p:blipFill>
          <a:blip r:embed="rId4"/>
          <a:stretch/>
        </p:blipFill>
        <p:spPr>
          <a:xfrm>
            <a:off x="0" y="50036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16000" y="179280"/>
            <a:ext cx="9864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овут героя русской народной сказки, который воспользовался необычным видом транспорта, чтобы попасть к царю во дворе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soulrainbow.ru/wp-content/uploads/2011/11/dd8737204cf8.jpg"/>
          <p:cNvPicPr/>
          <p:nvPr/>
        </p:nvPicPr>
        <p:blipFill>
          <a:blip r:embed="rId1"/>
          <a:stretch/>
        </p:blipFill>
        <p:spPr>
          <a:xfrm>
            <a:off x="3024360" y="2340000"/>
            <a:ext cx="3240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16000" y="250920"/>
            <a:ext cx="96487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ому в русской народной сказке «У страха глаза велики» яблоко, упавшее от ветра с яблони угодило в ло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img-fotki.yandex.ru/get/6003/60625905.10c/0_76b89_27905d5f_XL"/>
          <p:cNvPicPr/>
          <p:nvPr/>
        </p:nvPicPr>
        <p:blipFill>
          <a:blip r:embed="rId1"/>
          <a:stretch/>
        </p:blipFill>
        <p:spPr>
          <a:xfrm>
            <a:off x="3240000" y="1763640"/>
            <a:ext cx="423252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playroom.com.ru/rebus/rebus6.gif"/>
          <p:cNvPicPr/>
          <p:nvPr/>
        </p:nvPicPr>
        <p:blipFill>
          <a:blip r:embed="rId1"/>
          <a:stretch/>
        </p:blipFill>
        <p:spPr>
          <a:xfrm>
            <a:off x="0" y="2484360"/>
            <a:ext cx="9659880" cy="1408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87280" y="5148360"/>
            <a:ext cx="9577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16000" y="250920"/>
            <a:ext cx="96487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тите название русской народной сказк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30:12Z</dcterms:created>
  <dc:creator>Наталья</dc:creator>
  <dc:description/>
  <dc:language>en-US</dc:language>
  <cp:lastModifiedBy>Наталья</cp:lastModifiedBy>
  <dcterms:modified xsi:type="dcterms:W3CDTF">2018-04-16T15:02:57Z</dcterms:modified>
  <cp:revision>32</cp:revision>
  <dc:subject/>
  <dc:title>Слайд 1</dc:title>
</cp:coreProperties>
</file>