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310-7745-4F55-BF19-277D6FC9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BAB-302C-4E96-B96C-681910E5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950-7547-449D-ACB6-83DBFF1F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F1B-7E03-43C7-80D2-446F3AD6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5836-CBC1-4768-9B77-7BF355E3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3E7B-CE52-4B25-A376-07831CAD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2888-8720-46B9-AF08-CCF8071E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C128-253E-4FC7-8CFB-A1B63809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2C47-F413-42CE-8338-B9DD2860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5D68-FE66-4FE1-9AFD-4AE529D0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E52F-23F5-4C9F-8502-AC261A2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3A3-F0B0-4C6E-9AD0-105FD337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80FB-00FD-46B6-9B91-AC0E469C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2D23-09B9-448B-9962-6A0917F6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64CE-95D3-4158-BD03-4716F0B7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D2CE-E0EF-4075-81CE-1D99E7F9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8A71-AFF1-46A0-B41B-16684C16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337-B575-4C39-AA46-9331F3C5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8CF-C150-48F2-9A64-CC2A9BD4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AD5-F817-4F8A-B8A1-5874E8A3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9D9-EF7C-4C2C-B4C5-F69C5558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779-D476-4A04-BC1B-B68961B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DDC-745D-4FC6-811A-6547C4C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66D-30A5-44B0-A52A-3167FB16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8368-D2CD-46AD-B129-2264BD8C753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8E17-DE77-4FF3-B13E-AA7F40034F5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37240" y="1518480"/>
            <a:ext cx="7554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зентация на тему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циональные традици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степриимства у разных народо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429000" y="3048120"/>
            <a:ext cx="63244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Ценева Елена Петровн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читель начальных классо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теприимство в сказках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4" descr="i"/>
          <p:cNvPicPr/>
          <p:nvPr/>
        </p:nvPicPr>
        <p:blipFill>
          <a:blip r:embed="rId1"/>
          <a:stretch/>
        </p:blipFill>
        <p:spPr>
          <a:xfrm>
            <a:off x="380880" y="2362320"/>
            <a:ext cx="3581640" cy="2530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520" y="4952880"/>
            <a:ext cx="2514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са и журавл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6" descr="i"/>
          <p:cNvPicPr/>
          <p:nvPr/>
        </p:nvPicPr>
        <p:blipFill>
          <a:blip r:embed="rId2"/>
          <a:stretch/>
        </p:blipFill>
        <p:spPr>
          <a:xfrm>
            <a:off x="4343400" y="2438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4800960" y="5562000"/>
            <a:ext cx="34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инни-Пух в гостях у Кролик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86400" y="3164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асибо за внимани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теприимство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степриимство Радушие по отношению к гостям, любезный прием госте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4" descr="i"/>
          <p:cNvPicPr/>
          <p:nvPr/>
        </p:nvPicPr>
        <p:blipFill>
          <a:blip r:embed="rId1"/>
          <a:stretch/>
        </p:blipFill>
        <p:spPr>
          <a:xfrm>
            <a:off x="914400" y="33526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i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ого народа одежда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4" descr="i"/>
          <p:cNvPicPr/>
          <p:nvPr/>
        </p:nvPicPr>
        <p:blipFill>
          <a:blip r:embed="rId1"/>
          <a:stretch/>
        </p:blipFill>
        <p:spPr>
          <a:xfrm>
            <a:off x="1523880" y="2362320"/>
            <a:ext cx="2865600" cy="426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6"/>
          <p:cNvPicPr/>
          <p:nvPr/>
        </p:nvPicPr>
        <p:blipFill>
          <a:blip r:embed="rId2"/>
          <a:stretch/>
        </p:blipFill>
        <p:spPr>
          <a:xfrm>
            <a:off x="5029200" y="2362320"/>
            <a:ext cx="2486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усское гостеприимство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7692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степриимство всегда было характерной чертой русского человека. Оценивалось оно, прежде всего, хлебосольством. Гостя в старину полагалось напоить и накормить досы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811e062cbc5dfae6481eb17d3dfb5cef_RSZ_690"/>
          <p:cNvPicPr/>
          <p:nvPr/>
        </p:nvPicPr>
        <p:blipFill>
          <a:blip r:embed="rId1"/>
          <a:stretch/>
        </p:blipFill>
        <p:spPr>
          <a:xfrm>
            <a:off x="152280" y="2743200"/>
            <a:ext cx="48006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876920" y="23619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ычай диктовал, чуть ли не насильно кормить и поить гостя. Хозяева становились на колени и слезно молили съесть и выпить «еще хоть чуть-чуть». Объяснялось это тем, что селения и поместья располагались вдали друг от друга, и редкий гость, переступавший порог дома, был всегда в радость. С тех пор гостеприимство в России неизменно стоит на первом месте. 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8_2965748753"/>
          <p:cNvPicPr/>
          <p:nvPr/>
        </p:nvPicPr>
        <p:blipFill>
          <a:blip r:embed="rId1"/>
          <a:stretch/>
        </p:blipFill>
        <p:spPr>
          <a:xfrm>
            <a:off x="152280" y="2590920"/>
            <a:ext cx="472464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стреча хлебом да солью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23920" y="22860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Руси дорогих гостей всегда встречали хлебом и солью, а приезжего человека было принято обогреть, накормить. Наши предки с радостью принимали гостя – не скупились, ставили на стол все, что имели. Потому и возникла поговорка: «Всё на стол мечи, что есть в печи». Хозяева даже обижались, когда гость мало ел и пи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4" descr="3859"/>
          <p:cNvPicPr/>
          <p:nvPr/>
        </p:nvPicPr>
        <p:blipFill>
          <a:blip r:embed="rId1"/>
          <a:stretch/>
        </p:blipFill>
        <p:spPr>
          <a:xfrm>
            <a:off x="152280" y="2362320"/>
            <a:ext cx="4648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ого народа одежда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5" descr="i"/>
          <p:cNvPicPr/>
          <p:nvPr/>
        </p:nvPicPr>
        <p:blipFill>
          <a:blip r:embed="rId1"/>
          <a:stretch/>
        </p:blipFill>
        <p:spPr>
          <a:xfrm>
            <a:off x="1371600" y="2438280"/>
            <a:ext cx="2687760" cy="3848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i"/>
          <p:cNvPicPr/>
          <p:nvPr/>
        </p:nvPicPr>
        <p:blipFill>
          <a:blip r:embed="rId2"/>
          <a:stretch/>
        </p:blipFill>
        <p:spPr>
          <a:xfrm>
            <a:off x="5181480" y="2590920"/>
            <a:ext cx="25545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теприимство Башкир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028840" y="236232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ашкирский народ издавна видел в гостеприимстве надежное средство, позволяющее установить дружеские, теплые, чисто человеческие отношения с окружающими. Традиционным элементом гостеприимства считается то, что хозяин встречает гостей перед входом  в дом. Проводы гостей также происходят за воротами дома. Гостеприимство башкир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news_04062014_4"/>
          <p:cNvPicPr/>
          <p:nvPr/>
        </p:nvPicPr>
        <p:blipFill>
          <a:blip r:embed="rId1"/>
          <a:stretch/>
        </p:blipFill>
        <p:spPr>
          <a:xfrm>
            <a:off x="380880" y="2666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2438280"/>
            <a:ext cx="4419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остям говорят: «Пройдите на почетное место». При угощении гостей башкиры пользуются правилом: «Перед гостями поставь пищу, но не забудь, чтобы их рот и рука были свободны». Если кто-то пришел во время трапезы, его принято сажать за стол и угощать. Если пришедший отказывается, ему напоминают правила этикета: «Нельзя быть выше пищи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4" descr="i"/>
          <p:cNvPicPr/>
          <p:nvPr/>
        </p:nvPicPr>
        <p:blipFill>
          <a:blip r:embed="rId1"/>
          <a:stretch/>
        </p:blipFill>
        <p:spPr>
          <a:xfrm>
            <a:off x="152280" y="2514600"/>
            <a:ext cx="44960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0T04:25:37Z</dcterms:created>
  <dc:creator>Администратор</dc:creator>
  <dc:description/>
  <dc:language>en-US</dc:language>
  <cp:lastModifiedBy>Ценева Елена Петровна</cp:lastModifiedBy>
  <dcterms:modified xsi:type="dcterms:W3CDTF">2018-04-18T04:40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