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731-98F1-4C19-8D85-3B4320A6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0B0-69BE-4159-A1A9-02E7D92C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89B-8A32-4ED6-BB7F-C755F5DD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E0C-8BD5-430A-B3E5-24DC66E8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21D7-7AD3-4AF6-B2A9-3BD35908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CEE8-4755-48B8-9D3F-971C14F6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D39E-D504-4E99-825A-E68B779E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DA77-F878-4755-A0E6-3E850F54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EBD0-D1A0-43E5-B872-E7E27B3A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C1DD-7957-422B-9778-FB53E061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C5B9-B5A3-4E87-8877-7066EBE3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F96-B398-49DB-8668-DAA94AF9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DD61-B553-4458-86F4-E281EF31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E9E9-9A93-4B5E-8721-2E02EFA4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8F05-713C-411F-BB9A-766254FF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4941-9888-447C-9847-5414774C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3758-1A42-4C33-B1CA-D5803B6F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5ED-EC62-49EE-841F-D2B363CE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AC6-5D82-4159-9501-D3B482A6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D7F-2501-4205-A420-DBE18878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990-B23D-4774-9C0B-454EC160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454-D1FD-48E2-B7C4-AA2F0BB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CE9-EDF6-4E99-BA88-CDA88AA0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895-8E42-430F-8BB2-92E3C282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E573-872F-4CCB-9E7B-75038AE6BF0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4EE8-1FEC-41A3-87D0-7AA2D553A29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37240" y="1518480"/>
            <a:ext cx="7554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зентация на тему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циональные традици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степриимства у разных народо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429000" y="3048120"/>
            <a:ext cx="63244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Ценева Елена Петровн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читель начальных классо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теприимство в сказках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4" descr="i"/>
          <p:cNvPicPr/>
          <p:nvPr/>
        </p:nvPicPr>
        <p:blipFill>
          <a:blip r:embed="rId1"/>
          <a:stretch/>
        </p:blipFill>
        <p:spPr>
          <a:xfrm>
            <a:off x="380880" y="2362320"/>
            <a:ext cx="3581640" cy="2530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520" y="4952880"/>
            <a:ext cx="2514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са и журавл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6" descr="i"/>
          <p:cNvPicPr/>
          <p:nvPr/>
        </p:nvPicPr>
        <p:blipFill>
          <a:blip r:embed="rId2"/>
          <a:stretch/>
        </p:blipFill>
        <p:spPr>
          <a:xfrm>
            <a:off x="4343400" y="2438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4800960" y="5562000"/>
            <a:ext cx="34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инни-Пух в гостях у Кролик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86400" y="3164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асибо за внимани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теприимство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степриимство Радушие по отношению к гостям, любезный прием госте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4" descr="i"/>
          <p:cNvPicPr/>
          <p:nvPr/>
        </p:nvPicPr>
        <p:blipFill>
          <a:blip r:embed="rId1"/>
          <a:stretch/>
        </p:blipFill>
        <p:spPr>
          <a:xfrm>
            <a:off x="914400" y="33526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i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ого народа одежда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4" descr="i"/>
          <p:cNvPicPr/>
          <p:nvPr/>
        </p:nvPicPr>
        <p:blipFill>
          <a:blip r:embed="rId1"/>
          <a:stretch/>
        </p:blipFill>
        <p:spPr>
          <a:xfrm>
            <a:off x="1523880" y="2362320"/>
            <a:ext cx="2865600" cy="426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6"/>
          <p:cNvPicPr/>
          <p:nvPr/>
        </p:nvPicPr>
        <p:blipFill>
          <a:blip r:embed="rId2"/>
          <a:stretch/>
        </p:blipFill>
        <p:spPr>
          <a:xfrm>
            <a:off x="5029200" y="2362320"/>
            <a:ext cx="2486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усское гостеприимство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7692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степриимство всегда было характерной чертой русского человека. Оценивалось оно, прежде всего, хлебосольством. Гостя в старину полагалось напоить и накормить досы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811e062cbc5dfae6481eb17d3dfb5cef_RSZ_690"/>
          <p:cNvPicPr/>
          <p:nvPr/>
        </p:nvPicPr>
        <p:blipFill>
          <a:blip r:embed="rId1"/>
          <a:stretch/>
        </p:blipFill>
        <p:spPr>
          <a:xfrm>
            <a:off x="152280" y="2743200"/>
            <a:ext cx="48006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876920" y="23619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ычай диктовал, чуть ли не насильно кормить и поить гостя. Хозяева становились на колени и слезно молили съесть и выпить «еще хоть чуть-чуть». Объяснялось это тем, что селения и поместья располагались вдали друг от друга, и редкий гость, переступавший порог дома, был всегда в радость. С тех пор гостеприимство в России неизменно стоит на первом месте. 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8_2965748753"/>
          <p:cNvPicPr/>
          <p:nvPr/>
        </p:nvPicPr>
        <p:blipFill>
          <a:blip r:embed="rId1"/>
          <a:stretch/>
        </p:blipFill>
        <p:spPr>
          <a:xfrm>
            <a:off x="152280" y="2590920"/>
            <a:ext cx="472464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стреча хлебом да солью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23920" y="22860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Руси дорогих гостей всегда встречали хлебом и солью, а приезжего человека было принято обогреть, накормить. Наши предки с радостью принимали гостя – не скупились, ставили на стол все, что имели. Потому и возникла поговорка: «Всё на стол мечи, что есть в печи». Хозяева даже обижались, когда гость мало ел и пи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4" descr="3859"/>
          <p:cNvPicPr/>
          <p:nvPr/>
        </p:nvPicPr>
        <p:blipFill>
          <a:blip r:embed="rId1"/>
          <a:stretch/>
        </p:blipFill>
        <p:spPr>
          <a:xfrm>
            <a:off x="152280" y="2362320"/>
            <a:ext cx="4648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ого народа одежда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5" descr="i"/>
          <p:cNvPicPr/>
          <p:nvPr/>
        </p:nvPicPr>
        <p:blipFill>
          <a:blip r:embed="rId1"/>
          <a:stretch/>
        </p:blipFill>
        <p:spPr>
          <a:xfrm>
            <a:off x="1371600" y="2438280"/>
            <a:ext cx="2687760" cy="3848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i"/>
          <p:cNvPicPr/>
          <p:nvPr/>
        </p:nvPicPr>
        <p:blipFill>
          <a:blip r:embed="rId2"/>
          <a:stretch/>
        </p:blipFill>
        <p:spPr>
          <a:xfrm>
            <a:off x="5181480" y="2590920"/>
            <a:ext cx="25545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теприимство Башкир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028840" y="236232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ашкирский народ издавна видел в гостеприимстве надежное средство, позволяющее установить дружеские, теплые, чисто человеческие отношения с окружающими. Традиционным элементом гостеприимства считается то, что хозяин встречает гостей перед входом  в дом. Проводы гостей также происходят за воротами дома. Гостеприимство башкир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news_04062014_4"/>
          <p:cNvPicPr/>
          <p:nvPr/>
        </p:nvPicPr>
        <p:blipFill>
          <a:blip r:embed="rId1"/>
          <a:stretch/>
        </p:blipFill>
        <p:spPr>
          <a:xfrm>
            <a:off x="380880" y="2666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2438280"/>
            <a:ext cx="4419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остям говорят: «Пройдите на почетное место». При угощении гостей башкиры пользуются правилом: «Перед гостями поставь пищу, но не забудь, чтобы их рот и рука были свободны». Если кто-то пришел во время трапезы, его принято сажать за стол и угощать. Если пришедший отказывается, ему напоминают правила этикета: «Нельзя быть выше пищи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4" descr="i"/>
          <p:cNvPicPr/>
          <p:nvPr/>
        </p:nvPicPr>
        <p:blipFill>
          <a:blip r:embed="rId1"/>
          <a:stretch/>
        </p:blipFill>
        <p:spPr>
          <a:xfrm>
            <a:off x="152280" y="2514600"/>
            <a:ext cx="44960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0T04:25:37Z</dcterms:created>
  <dc:creator>Администратор</dc:creator>
  <dc:description/>
  <dc:language>en-US</dc:language>
  <cp:lastModifiedBy>Ценева Елена Петровна</cp:lastModifiedBy>
  <dcterms:modified xsi:type="dcterms:W3CDTF">2018-04-18T04:40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