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1AB4-DE19-4B9C-8390-88E3CB492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3EEA-DFDB-424C-8A3A-283AE9E8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8E6D-4F96-43BF-B01F-5C6D4B0B5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39AA-5E80-49B2-9A65-E09FCC24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4695-F362-46A8-AC52-B7C310ECB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ECA6-2814-4350-95E1-8D49C760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A1DC-C725-4F41-9B9C-2D738C8E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2A6A-879B-4070-AAC7-2374D1DC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8742-CE5B-4344-BF1B-52B7A514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753B-1F83-4CFE-AD26-F4281A1B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95BB-5358-443A-863D-1CA67C1A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B25B-3300-450D-A5A5-471001BE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0CAA-6EF9-4579-B48C-E28CD72F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C735-422C-4E25-8BC0-3C2E4C2E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9517-B639-4766-9584-B199B102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1DFB-4F6C-4298-8F19-0BDC3FEAD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3F24-B7D5-4A80-81EE-4F3441137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9BC13-D87D-42A3-878C-086D2FF87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416A2-AF6F-4D5B-AA36-FD5C5BEE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64F38-BB3D-49FA-96AD-ED020E90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95086-6D95-4220-8B93-25BE46C4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A6CBD-5314-4B64-BA50-E5A2A75F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7F0A-F147-4342-AB7A-C8331168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89E05-BF7A-43C2-A9F9-2B21A40C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F17FC-948B-4293-A768-DDD03E95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98773-811D-4453-B86D-6B40EC34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6B221-3626-468B-9B14-7FE5C034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23508-0282-4A8F-8D5D-EFE9A05A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5E8FE-34FA-4614-90CF-4BA5A1410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59DED-3458-4D4D-8977-8B628FBA8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89A1D-4FBE-4C36-9FDB-4215A6128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242E2-8BE8-47D7-BBB3-2ED65AA8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6F6A9-A852-48D4-9D3A-73D67896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AD88-CB92-440F-AE27-37B132B3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7ED14-0737-44DC-A591-19AE0AA9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28CEB-B842-4B5F-A11A-63EC0765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6186E-2AB4-433B-8056-93145ACB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2EBCB-7B39-426F-8491-C8ACEDFE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19B3D-05DE-4148-8A31-D9E98B00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C68C6-2C5B-4EDF-978D-943CE076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EB3A5-F67B-4E19-9CA2-112F8E09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DD7CF-52E9-4114-828F-656DBB290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1C1C8-09F9-4FB0-80EF-32A410926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EABB-2DEF-4174-8BBD-5F9E4B4F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CDAF-FC06-4BF6-B7BF-EB6582D7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3A84-0297-4B9F-BCB2-58ACCC34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639A-9D3C-408E-8665-FC31786B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B867-4628-4000-999E-F70BF4AA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E6F0-56F5-420A-9E8D-E86B1388A3B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6449-CD4D-4100-B47F-26A9AA08A09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8F6A-9E76-46DA-BE33-933459C2643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9F5C-9141-49AF-8CBD-DA10ACCA1BC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Rectangle 2" descr=""/>
          <p:cNvPicPr/>
          <p:nvPr/>
        </p:nvPicPr>
        <p:blipFill>
          <a:blip r:embed="rId1"/>
          <a:stretch/>
        </p:blipFill>
        <p:spPr>
          <a:xfrm>
            <a:off x="615960" y="1407960"/>
            <a:ext cx="7918560" cy="28782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3563640" y="4797360"/>
            <a:ext cx="4895640" cy="11988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d32eb"/>
                </a:solidFill>
                <a:latin typeface="Constantia"/>
              </a:rPr>
              <a:t>Автор: Ханафеева Роза Махмутовна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d32eb"/>
                </a:solidFill>
                <a:latin typeface="Constantia"/>
              </a:rPr>
              <a:t>руководитель РМО, учитель биологии высшей квалификационной категории МБОУ «Лицей №2 г.Мамадыш»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836640"/>
            <a:ext cx="8496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новная задача – это пропаганда научных знаний и развитие у детей интереса к предмету. Работа с одарёнными детьми осуществляется каждым учителем методического объединения. Все учителя заинтересованы в том, чтобы найти ученика, для которого стало бы глубокое изучение определённого предмета ступенькой для выбора будущей его профессии. В этом году учителя биологии активно включились в работу проекта «Одарённые дети». В течении года работали три группы одаренных детей района. Работа с одарёнными детьми осуществляется через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. школьные, городские, районные олимпиады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. подготовка к НОУ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3. посещение факультативных курсов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4. индивидуальная работа с одарёнными детьм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6836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В каждой школе района имеются пришкольные участки. На них выращивают цветы, плодовые и овощные культуры. Особых успехов добились участки: Зюринская СОШ, Кемеш-Кульская СОШ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539640" y="1052640"/>
            <a:ext cx="8353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соответствии с планом работы  МБУ «ИМЦ»  а также в целях создания в общеобразовательных учреждениях района материально-технических условий,  соответствующих требованиям, предъявляемым к оснащению образовательного процесса в соответствии с содержательным наполнением учебных предметов Федерального компонента государственного стандарта общего образования с 1 декабря  2012г.   по 10 марта  2013 года,  был проведен смотр-конкурс «Лучший учебный кабинет-2013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6836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сновная задача в обучении биологии является овладение учащихся умениями и навыками самостоятельно работать с книгой, вести наблюдения, вести работу по подготовке к ЕГЭ по биологии и экологии. Необходимо обратить внимание на оформление кабинета. Вести работу с одарёнными детьми, вводить факультативы и т. д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6836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3068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Методическая тема районного методического объединения учителей биологии</a:t>
            </a:r>
            <a:br>
              <a:rPr sz="3200"/>
            </a:br>
            <a:r>
              <a:rPr b="1" lang="ru-RU" sz="3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 «Совершенствование постановки научно-методической работы в школе с применением информационных технологий в школе».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468360" y="580536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755640" y="537372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6642000"/>
            <a:ext cx="91440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2700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                 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Задачи методического объединения.</a:t>
            </a:r>
            <a:br>
              <a:rPr sz="2400"/>
            </a:b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•      изучение нормативной и методической документации по вопросам образования;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•      утверждение индивидуальных планов работы по предмету; анализ авторских программ и методик;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•     утверждение аттестационного материала для итогового контроля в переводных классах, аттестационного материала для выпускных классов (для устных экзаменов);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•    ознакомление с анализом состояния преподавания предмета по итогам внутришкольного контроля;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Прямоугольник 3"/>
          <p:cNvSpPr/>
          <p:nvPr/>
        </p:nvSpPr>
        <p:spPr>
          <a:xfrm>
            <a:off x="395280" y="189000"/>
            <a:ext cx="8748720" cy="64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    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•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организация открытых уроков по определенной теме с целью ознакомления с методическими разработками сложных тем предмета;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•      изучение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передового педагогического опыта;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экспериментальная работа по предмету;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•      выработка единых требований к оценке результатов освоения программы на основе разработанных образовательных стандартов по предмету;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•      разработка системы промежуточной и итоговой аттестации обучающихся (тематическая, семестровая, зачетная и т.д.);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•     ознакомление с методическими разработками различных авторов по предмету; анализ методов преподавания предмета;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•      отчеты о профессиональном самообразовании учителей; работа на курсах повышения квалификации в институтах (университетах); отчеты о творческих командировках;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•    организация и проведение предметных недель (декад и т.д.); организация и проведение первого этапа предметных олимпиад, конкурсов, смотров; вопросы состояния внеклассной работы по предмету с обучающимися (факультативные курсы, кружки, НОУ и т.п.);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•      укрепление материальной базы и приведение средств обучения, в том числе учебно-наглядных пособий по предмету в соответствие с современными требованиями к учебному кабинету, к оснащению урока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4"/>
          <p:cNvSpPr/>
          <p:nvPr/>
        </p:nvSpPr>
        <p:spPr>
          <a:xfrm>
            <a:off x="1258920" y="1197000"/>
            <a:ext cx="3313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"/>
          <p:cNvSpPr/>
          <p:nvPr/>
        </p:nvSpPr>
        <p:spPr>
          <a:xfrm>
            <a:off x="250920" y="174600"/>
            <a:ext cx="8642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методических объединениях каждый учитель работает над своей темой самообразования, с обобщенными результатами которой он знакомит своих коллег на заседаниях методического объединени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м были рассмотрены такие вопрос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реподавание биологии в условиях ФГОС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Формирование здорового образа жизни детей и подростков через содержание курсов биологии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Интегративный подход в преподавании биологи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Внедрение компьютерных технологий на уроках биологи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одготовка к ЕГЭ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абота с одарёнными детьми. Методика подготовки учащихся к олимпиадам.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 О преподавании биологии в 2013-2014 учебном году.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6836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Главным условием успешной реализации задач является система методической работы объединения, а это, возможно, прежде всего, при четком, научно обоснованном планировании работы. Целенаправленно ведется работа по освоению учителями современных методик и технологий обучения. На методических объединениях каждый учитель работает над своей темой самообразования, с обобщенными результатами которой он знакомит своих коллег на заседаниях методического объединения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611280" y="404640"/>
            <a:ext cx="807552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f6fc6"/>
                </a:solidFill>
                <a:latin typeface="Constantia"/>
              </a:rPr>
              <a:t>В своей деятельности руководитель РМО руководствуется Конвенцией ООН о правах ребёнка, Конституцией и законами РФ, указами Президента РФ , решениями Правительства РФ, органов управления образованием по вопросам обучения и воспитания учащихся, Уставом, локальными и правовыми актами школы, приказами и  распоряжениями директора школ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0" y="189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ы работы РМО включают в себя: заседания, семинары, обсуждение вопросов и обмен опытом за «круглым столом», практические занятия, взаимопосещение и анализ уроков.</a:t>
            </a:r>
            <a:r>
              <a:rPr b="1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течение года проводились выездные семинары на базе школ:</a:t>
            </a:r>
            <a:r>
              <a:rPr b="1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ноябре в МБОУ Среднекирменская СОШ по теме: « Информационно-коммуникационные технологии в преподавании предмета и проектно-исследовательская деятельность учителя и учащихся на уроках биологии», в декабре в Красногорской СОШ по теме:  «Роль новых информационных технологий в обеспечении качества обучения биологии .», в  феврале в МБОУ «Лицей №2 г.Мамадыш» « Семинар для молодых учителей биологии»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250560" y="404640"/>
            <a:ext cx="8373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23560" indent="-22356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На каждом заседании учителя знакомились с методическими новинками из периодической печати, журнала «Преподавание биологии в школе», рассматривались вопросы, связанные технологиями игровой деятельности и проблемного обучения. Учителя биологии принимали участие в выставках ППО. В течение года педагогам оказывалась консультационная помощь по организации предпрофильной подготовк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05:13:28Z</dcterms:created>
  <dc:creator>пользователь6</dc:creator>
  <dc:description/>
  <dc:language>en-US</dc:language>
  <cp:lastModifiedBy>Роза</cp:lastModifiedBy>
  <dcterms:modified xsi:type="dcterms:W3CDTF">2014-05-23T15:38:55Z</dcterms:modified>
  <cp:revision>24</cp:revision>
  <dc:subject/>
  <dc:title>Интегрированные школьные методические объединения МОУ- СОШ № 13</dc:title>
</cp:coreProperties>
</file>