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C9B-8C72-485D-9C20-4B75E33C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FB1-1BE1-4B2F-8B89-8DB2E474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718-93C6-407E-8299-F81E4129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38B-7848-467B-8AC6-41025843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75C0-A53D-496E-B01B-E4741526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4F94-0F00-44E0-B2C0-4FF04BA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4DF-7FFD-4B44-8C0C-C1CB4424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2C7-6B6D-45FA-8B25-4DE933F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20A8-667C-4AC1-AF4E-38ED2ED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38F-9D1B-485D-9372-DAA497F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A03-CBB0-4B49-B40E-2790918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01A-DD10-41E1-99C0-B5E78722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8C85-B2A4-40D4-A15D-8EFE71C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B5D8-126B-437E-B7EC-EDD07DC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5DC-88B8-4AE0-ABF9-21425B5A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E46-CEF5-4E34-92DB-B88DBBFD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C54-EC3B-44F2-B0A9-34FA844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E853-1756-426A-941B-14FFCAE4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4685-0A63-4C6A-96B7-9EB0D4A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3BBB-99A8-4473-A644-CA9C8241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FC84-871B-4451-A940-AA4EE03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60BE-B740-43BD-9DBA-F24D2B0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C36-2876-4C48-9D47-A7C0876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8EAB-ACD5-428B-81C9-B32FBA1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9052-D119-436B-86FD-44D480B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6DD6-1F06-4631-A3A3-EBA6FB4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7A6C-D1BF-4E70-A813-9B1D2D3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189B-A73A-46A9-9143-12A0082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816E-14FA-4153-B0B1-C6707683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3598-BB9B-4B6E-BB93-6FC8F0F2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6849-06CC-47A9-9E03-BDB44C47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8034-3BAC-46D3-A695-CA3DDCB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2298-1E47-4E20-924E-0466FA1C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F4B-2D47-4AC3-AE6D-6C9827B9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1F26-316D-43FD-9FB5-8CCA6D8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799E-F202-44AA-AF2F-1C211B5A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C4C9-DE2B-4A64-BC67-47B5DC56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BE28-11BF-4BEB-AE5E-E4A2797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C396-1D35-4857-B3D2-7C74314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9D30-AA82-470D-9790-05E41B6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32B4-CB52-4EA9-B7B7-442994D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AD23-ACA6-4984-A64B-B4F4C18D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1D25-0468-4B27-A91D-6938E487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EE7-E502-49BC-954C-68905B5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91A-8A50-4055-9CBB-ED9A40B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9B6-45A9-41F4-BFB6-F8428D3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FEC-F8C8-452F-B69E-9813A65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87B-CD5D-4FC7-85AB-E043FD5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CB12-80E2-4164-9D7B-1600140375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CFF-113C-468C-83AF-962E5FD3792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133A-889B-4808-B1D6-CCBFBB03FF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BDD2-472F-459D-83DB-FDE2DC34A72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15960" y="1407960"/>
            <a:ext cx="7918560" cy="2878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563640" y="4797360"/>
            <a:ext cx="4895640" cy="119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32eb"/>
                </a:solidFill>
                <a:latin typeface="Constantia"/>
              </a:rPr>
              <a:t>Автор: Ханафеева Роза Махмутовна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32eb"/>
                </a:solidFill>
                <a:latin typeface="Constantia"/>
              </a:rPr>
              <a:t>руководитель РМО, учитель биологии высшей квалификационной категории МБОУ «Лицей №2 г.Мамадыш»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83664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ая задача – это пропаганда научных знаний и развитие у детей интереса к предмету. Работа с одарёнными детьми осуществляется каждым учителем методического объединения. Все учителя заинтересованы в том, чтобы найти ученика, для которого стало бы глубокое изучение определённого предмета ступенькой для выбора будущей его профессии. В этом году учителя биологии активно включились в работу проекта «Одарённые дети». В течении года работали три группы одаренных детей района. Работа с одарёнными детьми осуществляется через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школьные, городские, районные олимпиады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одготовка к НО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посещение факультативных курсов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индивидуальная работа с одарёнными деть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каждой школе района имеются пришкольные участки. На них выращивают цветы, плодовые и овощные культуры. Особых успехов добились участки: Зюринская СОШ, Кемеш-Кульская СОШ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105264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оответствии с планом работы  МБУ «ИМЦ»  а также в целях создания в общеобразовательных учреждениях района материально-технических условий,  соответствующих требованиям, предъявляемым к оснащению образовательного процесса в соответствии с содержательным наполнением учебных предметов Федерального компонента государственного стандарта общего образования с 1 декабря  2012г.   по 10 марта  2013 года,  был проведен смотр-конкурс «Лучший учебный кабинет-2013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36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ая задача в обучении биологии является овладение учащихся умениями и навыками самостоятельно работать с книгой, вести наблюдения, вести работу по подготовке к ЕГЭ по биологии и экологии. Необходимо обратить внимание на оформление кабинета. Вести работу с одарёнными детьми, вводить факультативы и т. 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етодическая тема районного методического объединения учителей биологии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«Совершенствование постановки научно-методической работы в школе с применением информационных технологий в школе».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68360" y="5805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55640" y="5373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664200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270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дачи методического объединения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 изучение нормативной и методической документации по вопросам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 утверждение индивидуальных планов работы по предмету; анализ авторских программ и методик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утверждение аттестационного материала для итогового контроля в переводных классах, аттестационного материала для выпускных классов (для устных экзаменов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ознакомление с анализом состояния преподавания предмета по итогам внутришкольного контроля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3"/>
          <p:cNvSpPr/>
          <p:nvPr/>
        </p:nvSpPr>
        <p:spPr>
          <a:xfrm>
            <a:off x="395280" y="189000"/>
            <a:ext cx="8748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рганизация открытых уроков по определенной теме с целью ознакомления с методическими разработками сложных тем предме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изучен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ередового педагогического опы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экспериментальная работа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выработка единых требований к оценке результатов освоения программы на основе разработанных образовательных стандартов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разработка системы промежуточной и итоговой аттестации обучающихся (тематическая, семестровая, зачетная и т.д.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ознакомление с методическими разработками различных авторов по предмету; анализ методов преподавания предме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отчеты о профессиональном самообразовании учителей; работа на курсах повышения квалификации в институтах (университетах); отчеты о творческих командировках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организация и проведение предметных недель (декад и т.д.); организация и проведение первого этапа предметных олимпиад, конкурсов, смотров; вопросы состояния внеклассной работы по предмету с обучающимися (факультативные курсы, кружки, НОУ и т.п.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укрепление материальной базы и приведение средств обучения, в том числе учебно-наглядных пособий по предмету в соответствие с современными требованиями к учебному кабинету, к оснащению урока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4"/>
          <p:cNvSpPr/>
          <p:nvPr/>
        </p:nvSpPr>
        <p:spPr>
          <a:xfrm>
            <a:off x="1258920" y="119700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250920" y="1746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етодических объединениях каждый учитель работает над своей темой самообразования, с обобщенными результатами которой он знакомит своих коллег на заседаниях методического объедин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м были рассмотрены такие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еподавание биологии в условиях ФГ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Формирование здорового образа жизни детей и подростков через содержание курсов биолог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нтегративный подход в преподавании биолог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недрение компьютерных технологий на уроках биолог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дготовка к ЕГЭ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бота с одарёнными детьми. Методика подготовки учащихся к олимпиадам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О преподавании биологии в 2013-2014 учебном году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Главным условием успешной реализации задач является система методической работы объединения, а это, возможно, прежде всего, при четком, научно обоснованном планировании работы. Целенаправленно ведется работа по освоению учителями современных методик и технологий обучения. На методических объединениях каждый учитель работает над своей темой самообразования, с обобщенными результатами которой он знакомит своих коллег на заседаниях методического объединени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404640"/>
            <a:ext cx="8075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f6fc6"/>
                </a:solidFill>
                <a:latin typeface="Constantia"/>
              </a:rPr>
              <a:t>В своей деятельности руководитель РМО руководствуется Конвенцией ООН о правах ребёнка, Конституцией и законами РФ, указами Президента РФ , решениями Правительства РФ, органов управления образованием по вопросам обучения и воспитания учащихся, Уставом, локальными и правовыми актами школы, приказами и  распоряжениями директора школ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РМО включают в себя: заседания, семинары, обсуждение вопросов и обмен опытом за «круглым столом», практические занятия, взаимопосещение и анализ уроков.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года проводились выездные семинары на базе школ: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оябре в МБОУ Среднекирменская СОШ по теме: « Информационно-коммуникационные технологии в преподавании предмета и проектно-исследовательская деятельность учителя и учащихся на уроках биологии», в декабре в Красногорской СОШ по теме:  «Роль новых информационных технологий в обеспечении качества обучения биологии .», в  феврале в МБОУ «Лицей №2 г.Мамадыш» « Семинар для молодых учителей биологии»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560" y="404640"/>
            <a:ext cx="83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а каждом заседании учителя знакомились с методическими новинками из периодической печати, журнала «Преподавание биологии в школе», рассматривались вопросы, связанные технологиями игровой деятельности и проблемного обучения. Учителя биологии принимали участие в выставках ППО. В течение года педагогам оказывалась консультационная помощь по организации предпрофильной подготов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5:13:28Z</dcterms:created>
  <dc:creator>пользователь6</dc:creator>
  <dc:description/>
  <dc:language>en-US</dc:language>
  <cp:lastModifiedBy>Роза</cp:lastModifiedBy>
  <dcterms:modified xsi:type="dcterms:W3CDTF">2014-05-23T15:38:55Z</dcterms:modified>
  <cp:revision>24</cp:revision>
  <dc:subject/>
  <dc:title>Интегрированные школьные методические объединения МОУ- СОШ № 13</dc:title>
</cp:coreProperties>
</file>