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15A2-2D1D-4AA2-BC26-48608195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AC83-2CE2-4D02-8847-CDCF4AAA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CF76-C8F5-4A81-A21A-6D28B99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FF0E-59BF-45B5-89E8-3F25A691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6DD8-AD8E-4649-83B7-2D710C59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E7B9-DD23-436E-84EC-90C6A71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5C00-6212-413E-889E-D36012C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3945-4ADE-41DC-AEFE-3C36E50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5EA9-876E-4F1D-8609-BE67D42E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A06F-518F-4682-AA04-A17E292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0E14-851C-4552-AD28-FF842E5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45B7-4CC9-48CE-B3AB-0B4E2928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BC8-CB73-4DAB-8400-43A23A979D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8600"/>
                </a:solidFill>
                <a:latin typeface="Arial"/>
              </a:rPr>
              <a:t>СП на дому и уход при ОНМК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00360" y="566064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брамова И.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31520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ечебные укладк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9" name="Picture 2" descr="C:\Users\olga_\Desktop\nazdorboku-e1467890137253.jpg"/>
          <p:cNvPicPr/>
          <p:nvPr/>
        </p:nvPicPr>
        <p:blipFill>
          <a:blip r:embed="rId1"/>
          <a:stretch/>
        </p:blipFill>
        <p:spPr>
          <a:xfrm>
            <a:off x="179280" y="907920"/>
            <a:ext cx="6424560" cy="361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olga_\Desktop\p-insulta-1.gif"/>
          <p:cNvPicPr/>
          <p:nvPr/>
        </p:nvPicPr>
        <p:blipFill>
          <a:blip r:embed="rId2"/>
          <a:stretch/>
        </p:blipFill>
        <p:spPr>
          <a:xfrm>
            <a:off x="3708360" y="4524480"/>
            <a:ext cx="5330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0908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ДЛЯ ВОССТАНОВЛЕНИЯ ДВИГАТЕЛЬНОЙ АКТИВНОСТИ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7640" y="1125000"/>
            <a:ext cx="4319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ивать двигательные нагрузки после инсульта необходимо постепенно, придерживаясь рекомендаций лечащего врач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рва пациенту необходимо научиться самостоятельно садиться, затем делать гимнастику для ног, вставать и только после этого – ходи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научить пациента самостоятельно садиться, сначала помогайте ему это делать. Затем больной должен научиться сидеть в постели без поддерж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том нужно обустроить кровать специальными приспособлениями, при помощи которых больной сможет самостоятельно привставать и сади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льше пациент учится спускать ноги с постели и пересаживаться в стоящее рядом крес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едующие занятия должны обучать пациент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оять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носить вес туловища с одной стороны на другу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агать на мест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облегчения процесса обучения рекомендуется приобрести ходунки. В то время, когда больной учится ходить, сопровождающий должен находиться со стороны пораженной половины туловищ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olga_\Desktop\Vosst-4.png"/>
          <p:cNvPicPr/>
          <p:nvPr/>
        </p:nvPicPr>
        <p:blipFill>
          <a:blip r:embed="rId1"/>
          <a:stretch/>
        </p:blipFill>
        <p:spPr>
          <a:xfrm>
            <a:off x="4500720" y="1700280"/>
            <a:ext cx="4503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Е ОСНОВЫ ВОССТАНОВЛЕНИЯ</a:t>
            </a:r>
            <a:br>
              <a:rPr sz="32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052640"/>
            <a:ext cx="507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сновная задача человека, который помогает больному, — максимально приблизить его к самостоятельному существованию. Необходимо поддерживать стремления пациента активно проводить время, одобрять его решения, советоваться, показывая, что его мнение важно и с ним считаютс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ля постинсультного состояния частая смена эмоция является нормой. Постарайтесь оставаться спокойными и не осуждайте больного за перепады настроения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больной хочет пригласить кого-то из друзей и знакомых, поспособствуйте встрече, однако людей не должно быть много, и такие посещения не должны утомлять пациен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ы должны быть уверены, что состояние больного улучшится, и заряжать его своей уверенностью. Стройте совместные планы, обсуждайте будущее, принимайте решения вмест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14560" indent="-171360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вы столкнулись с затяжной депрессией, которую не удается побороть, обратитесь за консультацией к лечащему врачу – возможно, понадобится лечение антидепрессант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olga_\Desktop\insult.jpg"/>
          <p:cNvPicPr/>
          <p:nvPr/>
        </p:nvPicPr>
        <p:blipFill>
          <a:blip r:embed="rId1"/>
          <a:stretch/>
        </p:blipFill>
        <p:spPr>
          <a:xfrm>
            <a:off x="5045040" y="2781360"/>
            <a:ext cx="4065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ОЕ ОСНАЩЕНИЕ КВАРТИРЫ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907560"/>
            <a:ext cx="88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агодаря специально разработанным приспособлениям можно несколько облегчить процесс ухода за тяжелобольными. Например, двух- или трехсекционные кровати позволяют придавать телу пациента правильное положение благодаря регулированию верхней и ножной част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же у такой кровати регулируется высота – с этой функцией проводить необходимые процедуры будет удобнее. Обеспечить высоту, при которой вам будет комфортнее ухаживать за больным, можно, уложив несколько матрасов на обычную крова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же конструкция специальной кровати предусматривает наличие боковых стоек, исключающих вероятность случайного падения больного. В домашних условиях сделать нечто похожее можно при помощи стульев, вставленных в каркас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ель должна быть просторной, чтобы больной находился в удобном положении, ведь он проводит в ней практически все время. Разместить кровать необходимо так, чтобы была возможность подойти к ней с любой стороны. Для профилактики появления пролежней используют специальные матрацы, оснащенные компрессор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C:\Users\olga_\Desktop\Особенности-при-выборе-для-пожилых-людей.jpg"/>
          <p:cNvPicPr/>
          <p:nvPr/>
        </p:nvPicPr>
        <p:blipFill>
          <a:blip r:embed="rId1"/>
          <a:stretch/>
        </p:blipFill>
        <p:spPr>
          <a:xfrm>
            <a:off x="1979640" y="3860640"/>
            <a:ext cx="543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1520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ЖНЫЕ ПРЕДМЕТЫ:</a:t>
            </a: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36640"/>
            <a:ext cx="87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Зная основы того, как ухаживать за больным, необходимо обеспечить пациенту возможность самостоятельно совершать действия, которые ему по силам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ядом с ним всегда должна быть чистая вода и кружка, пульт от телевизора, светильник, очки, книг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комендуется поставить на тумбу возле кровати колокольчик, чтобы больной мог позвать человека, который за ним ухаживает, когда потребуется помощь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ящиках тумбы размещают все, что понадобится для ухода: лекарства, аппарат для измерения давления и градусник, крем от пролежней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отдельном ящике хранятся подгузники, пеленки. Все эти предметы должны храниться так, чтобы пациент сам мог достать любую вещь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425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Если используется кресло-туалет, то располагать его также следует рядом с кровать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olga_\Desktop\Обустройство-комнаты-для-ухода-за-лежачим-больным.jpg"/>
          <p:cNvPicPr/>
          <p:nvPr/>
        </p:nvPicPr>
        <p:blipFill>
          <a:blip r:embed="rId1"/>
          <a:stretch/>
        </p:blipFill>
        <p:spPr>
          <a:xfrm>
            <a:off x="2322360" y="342900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olga_\Desktop\700-030d7e8e966169ab4c7f67c291c333f4.jpg"/>
          <p:cNvPicPr/>
          <p:nvPr/>
        </p:nvPicPr>
        <p:blipFill>
          <a:blip r:embed="rId1"/>
          <a:stretch/>
        </p:blipFill>
        <p:spPr>
          <a:xfrm>
            <a:off x="73080" y="1268280"/>
            <a:ext cx="90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6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3152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Oxygen"/>
              </a:rPr>
              <a:t>Острое нарушение мозгового кровообращения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267920"/>
            <a:ext cx="8640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Нарушение мозгового кровообращения, как правило, развивается на фоне сосудистых заболеваний, в основном атеросклероза и повышенного артериаль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C:\Users\olga_\Desktop\onmk.png"/>
          <p:cNvPicPr/>
          <p:nvPr/>
        </p:nvPicPr>
        <p:blipFill>
          <a:blip r:embed="rId1"/>
          <a:stretch/>
        </p:blipFill>
        <p:spPr>
          <a:xfrm>
            <a:off x="1979640" y="2276640"/>
            <a:ext cx="540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7640" y="64800"/>
            <a:ext cx="8280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актика сестринского процесса в лечении инсульта имеет 5 этапов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ервичный осмотр пациента и оценка его состояния. На этой стадии медицинская сестра определяет степень поражения, и в каком уходе нуждается больной. Для полной картины поможет тщательно собранный анамнез: жалобы или неврологическое состояние самого пациента, описание выпадения функций родственниками, предыдущий осмотр врачом и анамнез заболеваний в истории болезн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едварительный сестринский диагноз. После собранной информации сестра определяет степень угнетения жизненно необходимых функций организма, степень пареза конечностей. И на фоне собранной картины разграничивает потенциальные и настоящие проблемы, в борьбе с которыми нужна помощь со стороны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ап планирования. После установления степени поражения, медицинская сестра разрабатывает план по борьбе с выявленными симптомами для обеспечения жизнедеятельности пациента и скорейшего выздоровления. Поставленные цели и задачи должны быть выполнимыми, четко очерченными с конкретными заданиями и сроками выполн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ап выполнения. На данной ступени медицинская сестра, взаимодействуя с другими сотрудниками и специалистами, производит выполнение намеченного плана Эта ступень, по сути, и выполняется на протяжении всех периодов лечения (от острого периода до реабилитации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356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ценка эффективности проделанной работы. Заключительный этап производится практически на протяжении всего периода терапии по достижению поставленной цели. Выполненную работу должна оценивать сама медицинская сестра, но важно учитывать мнение пациент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89000"/>
            <a:ext cx="7921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ледний этап может быть оценен тремя градациям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выполнен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выполнена частично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цель не выполнен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случае неполного или недостижения поставленных задач, средний медицинский персонал должен указать причину, которая помешала полностью осуществить план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C:\Users\olga_\Desktop\admin-ajax.jpg"/>
          <p:cNvPicPr/>
          <p:nvPr/>
        </p:nvPicPr>
        <p:blipFill>
          <a:blip r:embed="rId1"/>
          <a:stretch/>
        </p:blipFill>
        <p:spPr>
          <a:xfrm>
            <a:off x="1235160" y="2133720"/>
            <a:ext cx="6703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962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ход за больными после инсульта на дому включает следующие направления:</a:t>
            </a:r>
            <a:br>
              <a:rPr sz="2500"/>
            </a:br>
            <a:endParaRPr b="0" lang="en-US" sz="25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268280"/>
            <a:ext cx="73152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гиенический ух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я в питан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илактика осложне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вающие зан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C:\Users\olga_\Desktop\profilaktika-prolejney.jpg"/>
          <p:cNvPicPr/>
          <p:nvPr/>
        </p:nvPicPr>
        <p:blipFill>
          <a:blip r:embed="rId1"/>
          <a:stretch/>
        </p:blipFill>
        <p:spPr>
          <a:xfrm>
            <a:off x="3995640" y="1268280"/>
            <a:ext cx="393552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lga_\Desktop\Самые-полезные-продукты-для-сосудов.jpg"/>
          <p:cNvPicPr/>
          <p:nvPr/>
        </p:nvPicPr>
        <p:blipFill>
          <a:blip r:embed="rId2"/>
          <a:stretch/>
        </p:blipFill>
        <p:spPr>
          <a:xfrm>
            <a:off x="108000" y="2997360"/>
            <a:ext cx="3759120" cy="337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olga_\Desktop\maxresdefault.jpg"/>
          <p:cNvPicPr/>
          <p:nvPr/>
        </p:nvPicPr>
        <p:blipFill>
          <a:blip r:embed="rId3"/>
          <a:stretch/>
        </p:blipFill>
        <p:spPr>
          <a:xfrm>
            <a:off x="4140360" y="3718080"/>
            <a:ext cx="48146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7978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ИЧЕСКИЙ УХОД ЗА ЛЕЖАЧИМИ БОЛЬНЫМИ ПОСЛЕ ИНСУЛЬТА НА ДОМУ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412640"/>
            <a:ext cx="446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Ежедневные гигиенические процедуры заключаются в умывании, мытье рук и тела, чистке зубов и поддержании чистоты области промеж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При мытье туловища необходимо уделять внимание местам, где образуются кожные складки – спина, ягодицы, так как именно в этих областях пролежни возникают в первую очередь. Для мытья используется губка, после процедуры туловище растирают жестким полотенцем, вытирают насухо, а кожные складки и места, в которых кожа соприкасается с постелью, смазывают кремом. Такая же процедура повторяется и при замене подгузника – интимная область обмывается, тщательно вытирается, а на кожу наносится кр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Во время замены постельного белья тянуть простынь из-под лежачего больного нельзя, так можно повредить кож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T Sans"/>
              </a:rPr>
              <a:t>Нательное белье должно быть из натуральных тканей, лучше выбрать бесшовные моде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Users\olga_\Desktop\Гигиенический-уход-за-лежачим-больным.jpg"/>
          <p:cNvPicPr/>
          <p:nvPr/>
        </p:nvPicPr>
        <p:blipFill>
          <a:blip r:embed="rId1"/>
          <a:stretch/>
        </p:blipFill>
        <p:spPr>
          <a:xfrm>
            <a:off x="4568760" y="1773360"/>
            <a:ext cx="4449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3152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 И ПОМОЩЬ В ПРИЕМЕ ПИЩИ</a:t>
            </a:r>
            <a:br>
              <a:rPr sz="36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28800" y="1052640"/>
            <a:ext cx="5221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-первых, необходимо исключить жирные продукты в связи с их негативным воздействием на состояние сосудов. Во-вторых, нужно контролировать общую калорийность употребляемой пищи, так как активность пациента ограничена, значит, расход калорий небольшой. Калорийность рациона лежачего больного должна составлять около 1500 кал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ационе в достаточном количестве должны присутствовать белки и минералы. Обязательными для включения в меню являются нежирные сорта мяса, рыбы, фрукты, овощи, молочная продукция, орех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ач должен оценить способность пациента проглатывать и пережевывать пищу. Если эти функции нарушены, то при приготовлении еды необходимо знать, что такому больному легче есть мягкую пищу, а не жидку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из парализованной половины рта наблюдается слюнотечение, необходимо следить за тем, чтобы кожа была сухой и чистой, используйте защитный крем для нанесения на область вокруг р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lnSpc>
                <a:spcPct val="8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сочки еды необходимо подносить сбоку и класть в ту половину рта, которая не парализована. После окончания приема пищи следует проверить, не осталось ли во рту кусочков 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C:\Users\olga_\Desktop\0.jpg"/>
          <p:cNvPicPr/>
          <p:nvPr/>
        </p:nvPicPr>
        <p:blipFill>
          <a:blip r:embed="rId1"/>
          <a:stretch/>
        </p:blipFill>
        <p:spPr>
          <a:xfrm>
            <a:off x="5281560" y="1278000"/>
            <a:ext cx="3756240" cy="28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olga_\Desktop\500_F_29686317_n3M9mIR69DfckLOQVeVkma1PgiOrTgU6.jpg"/>
          <p:cNvPicPr/>
          <p:nvPr/>
        </p:nvPicPr>
        <p:blipFill>
          <a:blip r:embed="rId2"/>
          <a:stretch/>
        </p:blipFill>
        <p:spPr>
          <a:xfrm>
            <a:off x="5297400" y="4245120"/>
            <a:ext cx="375624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3152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ФИЛАКТИКА ПРОЛЕЖНЕЙ 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855720"/>
            <a:ext cx="5364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лежни возникают при постоянном сдавливании мягких тканей. Чаще всего они возникают в области ягодиц, на затылке, пятках, локтях, реже проявляются на спине и бедра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тобы свести к минимуму вероятность возникновения пролежней, необходим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ждый день осматривать кожные покровы, следить, чтобы не возникало покраснений и изменений, с особой тщательностью осматривать места костных выступ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ожение туловища пациента меняют не реже раза в 2 час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пература в комнате не должна быть высокой, чтобы повышенное потоотделение не провоцировало появление опрелостей (оптимальная температура – 20 °С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обходимо следить за чистотой постельного белья; на простынь кладут впитывающую одноразовую пеленку, которая предотвращает возникновение опрел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альные приспособления уменьшают риск возникновения пролежней (резиновые круги, мягкие подушки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ить ежедневные гигиенические процедур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зическая активность, соответствующая состоянию пациен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больной не может двигаться сам, разрабатывает суставы человек, который смотрит за ни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фессиональный или самостоятельный массаж (поглаживания, похлопывания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80000"/>
              </a:lnSpc>
              <a:spcBef>
                <a:spcPts val="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ит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C:\Users\olga_\Desktop\Метод-профилактики-пролежней-у-больных-после-инсульта.jpg"/>
          <p:cNvPicPr/>
          <p:nvPr/>
        </p:nvPicPr>
        <p:blipFill>
          <a:blip r:embed="rId1"/>
          <a:stretch/>
        </p:blipFill>
        <p:spPr>
          <a:xfrm>
            <a:off x="5435640" y="1125360"/>
            <a:ext cx="35780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9786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ЮЩИЕ ЗАНЯТИЯ В ЗАВИСИМОСТИ ОТ ПОРАЖЕННОЙ ЧАСТИ ТЕЛА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13:24:49Z</dcterms:created>
  <dc:creator>Пользователь Windows</dc:creator>
  <dc:description/>
  <dc:language>en-US</dc:language>
  <cp:lastModifiedBy>user</cp:lastModifiedBy>
  <dcterms:modified xsi:type="dcterms:W3CDTF">2018-04-18T14:37:35Z</dcterms:modified>
  <cp:revision>11</cp:revision>
  <dc:subject/>
  <dc:title>СП на дому и уход при ОНМК</dc:title>
</cp:coreProperties>
</file>