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13.png" ContentType="image/png"/>
  <Override PartName="/ppt/media/image8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A7C1-1D4D-4FC3-AA10-CC06E8B44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E36-DE55-434D-9A9E-085252899B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3FA-61BD-4CCB-B58F-0927A15CF7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42C-A582-41E8-B354-09FC988072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D89-77B6-4B3C-AD9D-D6499106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76C-F4A7-4FAC-8F91-3BD21FE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B0D-3F36-49D9-92AF-7E1EF9EB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51C-E40C-4A4D-8BFA-D4FAEBE4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108-D607-4E92-8363-D9C4A573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936-D8E2-49D4-A294-442905E8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D98-A8CA-44CA-ACD6-76FB9E97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79F-DDDF-4B60-BDAF-6FDF8BBF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B44-7EDD-43F9-ABCB-0973DD18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92F-6604-4CAA-A74D-0F9465E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565-1E32-488E-8209-CFD56A3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9C5-F7BA-490A-B990-FD27735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C25-F141-4FFF-8AB7-D1B299E907AD}" type="slidenum">
              <a:rPr b="0" lang="ru-RU" sz="1200" spc="-1" strike="noStrike">
                <a:solidFill>
                  <a:srgbClr val="bcbcb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20840" y="785880"/>
            <a:ext cx="8296200" cy="241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3285720"/>
            <a:ext cx="71438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nstantia"/>
              </a:rPr>
              <a:t>русский  язык                      6 класс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учитель  русского языка и литературы школы № 143 Красногвардейского райо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      </a:t>
            </a:r>
            <a:r>
              <a:rPr b="0" lang="ru-RU" sz="2800" spc="-1" strike="noStrike">
                <a:solidFill>
                  <a:srgbClr val="00b0f0"/>
                </a:solidFill>
                <a:latin typeface="Constantia"/>
              </a:rPr>
              <a:t>Алябышева Татьяна Павл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Constantia"/>
              </a:rPr>
              <a:t>Краткая форма 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Славно! Славная работа!-сказал  преосвященный, раз-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ядывая двери и окна. А окна  были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обведе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угом красною краско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дверях  же  везде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нарисова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козаки  на лошадях, с трубками  в  зуб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3" descr="C:\Documents and Settings\Андрей\Мои документы\Мои рисунки\рисунок11.jpg"/>
          <p:cNvPicPr/>
          <p:nvPr/>
        </p:nvPicPr>
        <p:blipFill>
          <a:blip r:embed="rId1"/>
          <a:stretch/>
        </p:blipFill>
        <p:spPr>
          <a:xfrm>
            <a:off x="500040" y="2143080"/>
            <a:ext cx="3089160" cy="3019320"/>
          </a:xfrm>
          <a:prstGeom prst="rect">
            <a:avLst/>
          </a:prstGeom>
          <a:ln w="0">
            <a:noFill/>
          </a:ln>
        </p:spPr>
      </p:pic>
      <p:sp>
        <p:nvSpPr>
          <p:cNvPr id="215" name="4-конечная звезда 6"/>
          <p:cNvSpPr/>
          <p:nvPr/>
        </p:nvSpPr>
        <p:spPr>
          <a:xfrm>
            <a:off x="1357200" y="357120"/>
            <a:ext cx="914400" cy="914400"/>
          </a:xfrm>
          <a:custGeom>
            <a:avLst/>
            <a:gdLst>
              <a:gd name="textAreaLeft" fmla="*/ 416880 w 914400"/>
              <a:gd name="textAreaRight" fmla="*/ 497520 w 914400"/>
              <a:gd name="textAreaTop" fmla="*/ 416880 h 914400"/>
              <a:gd name="textAreaBottom" fmla="*/ 497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50" y="9850"/>
                </a:lnTo>
                <a:lnTo>
                  <a:pt x="10800" y="0"/>
                </a:lnTo>
                <a:lnTo>
                  <a:pt x="11750" y="9850"/>
                </a:lnTo>
                <a:lnTo>
                  <a:pt x="21600" y="10800"/>
                </a:lnTo>
                <a:lnTo>
                  <a:pt x="11750" y="11750"/>
                </a:lnTo>
                <a:lnTo>
                  <a:pt x="10800" y="21600"/>
                </a:lnTo>
                <a:lnTo>
                  <a:pt x="9850" y="1175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4-конечная звезда 7"/>
          <p:cNvSpPr/>
          <p:nvPr/>
        </p:nvSpPr>
        <p:spPr>
          <a:xfrm rot="20479800">
            <a:off x="3122280" y="336240"/>
            <a:ext cx="914400" cy="914400"/>
          </a:xfrm>
          <a:custGeom>
            <a:avLst/>
            <a:gdLst>
              <a:gd name="textAreaLeft" fmla="*/ 403200 w 914400"/>
              <a:gd name="textAreaRight" fmla="*/ 511200 w 914400"/>
              <a:gd name="textAreaTop" fmla="*/ 403200 h 914400"/>
              <a:gd name="textAreaBottom" fmla="*/ 511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3" y="9523"/>
                </a:lnTo>
                <a:lnTo>
                  <a:pt x="10800" y="0"/>
                </a:lnTo>
                <a:lnTo>
                  <a:pt x="12077" y="9523"/>
                </a:lnTo>
                <a:lnTo>
                  <a:pt x="21600" y="10800"/>
                </a:lnTo>
                <a:lnTo>
                  <a:pt x="12077" y="12077"/>
                </a:lnTo>
                <a:lnTo>
                  <a:pt x="10800" y="21600"/>
                </a:lnTo>
                <a:lnTo>
                  <a:pt x="9523" y="1207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4-конечная звезда 9"/>
          <p:cNvSpPr/>
          <p:nvPr/>
        </p:nvSpPr>
        <p:spPr>
          <a:xfrm rot="1059000">
            <a:off x="3071880" y="2858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5-конечная звезда 10"/>
          <p:cNvSpPr/>
          <p:nvPr/>
        </p:nvSpPr>
        <p:spPr>
          <a:xfrm>
            <a:off x="8072280" y="0"/>
            <a:ext cx="571680" cy="700200"/>
          </a:xfrm>
          <a:custGeom>
            <a:avLst/>
            <a:gdLst/>
            <a:ahLst/>
            <a:rect l="l" t="t" r="r" b="b"/>
            <a:pathLst>
              <a:path w="571500" h="700088">
                <a:moveTo>
                  <a:pt x="1" y="267409"/>
                </a:moveTo>
                <a:lnTo>
                  <a:pt x="218295" y="267411"/>
                </a:lnTo>
                <a:lnTo>
                  <a:pt x="285750" y="0"/>
                </a:lnTo>
                <a:lnTo>
                  <a:pt x="353205" y="267411"/>
                </a:lnTo>
                <a:lnTo>
                  <a:pt x="571499" y="267409"/>
                </a:lnTo>
                <a:lnTo>
                  <a:pt x="394895" y="432676"/>
                </a:lnTo>
                <a:lnTo>
                  <a:pt x="462353" y="700086"/>
                </a:lnTo>
                <a:lnTo>
                  <a:pt x="285750" y="534816"/>
                </a:lnTo>
                <a:lnTo>
                  <a:pt x="109147" y="700086"/>
                </a:lnTo>
                <a:lnTo>
                  <a:pt x="176605" y="432676"/>
                </a:lnTo>
                <a:lnTo>
                  <a:pt x="1" y="26740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4-конечная звезда 11"/>
          <p:cNvSpPr/>
          <p:nvPr/>
        </p:nvSpPr>
        <p:spPr>
          <a:xfrm rot="20174400">
            <a:off x="1428840" y="5571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4-конечная звезда 12"/>
          <p:cNvSpPr/>
          <p:nvPr/>
        </p:nvSpPr>
        <p:spPr>
          <a:xfrm>
            <a:off x="1357200" y="5572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4-конечная звезда 14"/>
          <p:cNvSpPr/>
          <p:nvPr/>
        </p:nvSpPr>
        <p:spPr>
          <a:xfrm rot="20359200">
            <a:off x="285480" y="285480"/>
            <a:ext cx="914400" cy="914400"/>
          </a:xfrm>
          <a:custGeom>
            <a:avLst/>
            <a:gdLst>
              <a:gd name="textAreaLeft" fmla="*/ 396720 w 914400"/>
              <a:gd name="textAreaRight" fmla="*/ 517680 w 914400"/>
              <a:gd name="textAreaTop" fmla="*/ 396720 h 914400"/>
              <a:gd name="textAreaBottom" fmla="*/ 5176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643880" y="6215040"/>
            <a:ext cx="785880" cy="471600"/>
          </a:xfrm>
          <a:custGeom>
            <a:avLst/>
            <a:gdLst>
              <a:gd name="textAreaLeft" fmla="*/ 30240 w 785880"/>
              <a:gd name="textAreaRight" fmla="*/ 755640 w 785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35984" h="21600">
                <a:moveTo>
                  <a:pt x="0" y="0"/>
                </a:moveTo>
                <a:lnTo>
                  <a:pt x="35984" y="0"/>
                </a:lnTo>
                <a:lnTo>
                  <a:pt x="35984" y="21600"/>
                </a:lnTo>
                <a:lnTo>
                  <a:pt x="0" y="21600"/>
                </a:lnTo>
                <a:close/>
              </a:path>
              <a:path fill="lightenLess" w="35984" h="21600">
                <a:moveTo>
                  <a:pt x="0" y="0"/>
                </a:moveTo>
                <a:lnTo>
                  <a:pt x="35984" y="0"/>
                </a:lnTo>
                <a:lnTo>
                  <a:pt x="34584" y="1400"/>
                </a:lnTo>
                <a:lnTo>
                  <a:pt x="1400" y="1400"/>
                </a:lnTo>
                <a:close/>
              </a:path>
              <a:path fill="darken" w="35984" h="21600">
                <a:moveTo>
                  <a:pt x="35984" y="0"/>
                </a:moveTo>
                <a:lnTo>
                  <a:pt x="35984" y="21600"/>
                </a:lnTo>
                <a:lnTo>
                  <a:pt x="34584" y="20200"/>
                </a:lnTo>
                <a:lnTo>
                  <a:pt x="34584" y="1400"/>
                </a:lnTo>
                <a:close/>
              </a:path>
              <a:path fill="darkenLess" w="35984" h="21600">
                <a:moveTo>
                  <a:pt x="3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4" y="20200"/>
                </a:lnTo>
                <a:close/>
              </a:path>
              <a:path fill="lighten" w="3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4" h="21600">
                <a:moveTo>
                  <a:pt x="10985" y="3794"/>
                </a:moveTo>
                <a:lnTo>
                  <a:pt x="24998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6929280" y="6215040"/>
            <a:ext cx="714600" cy="471600"/>
          </a:xfrm>
          <a:custGeom>
            <a:avLst/>
            <a:gdLst>
              <a:gd name="textAreaLeft" fmla="*/ 30240 w 714600"/>
              <a:gd name="textAreaRight" fmla="*/ 684360 w 7146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32721" h="21600">
                <a:moveTo>
                  <a:pt x="0" y="0"/>
                </a:moveTo>
                <a:lnTo>
                  <a:pt x="32721" y="0"/>
                </a:lnTo>
                <a:lnTo>
                  <a:pt x="32721" y="21600"/>
                </a:lnTo>
                <a:lnTo>
                  <a:pt x="0" y="21600"/>
                </a:lnTo>
                <a:close/>
              </a:path>
              <a:path fill="lightenLess" w="32721" h="21600">
                <a:moveTo>
                  <a:pt x="0" y="0"/>
                </a:moveTo>
                <a:lnTo>
                  <a:pt x="32721" y="0"/>
                </a:lnTo>
                <a:lnTo>
                  <a:pt x="31321" y="1400"/>
                </a:lnTo>
                <a:lnTo>
                  <a:pt x="1400" y="1400"/>
                </a:lnTo>
                <a:close/>
              </a:path>
              <a:path fill="darken" w="32721" h="21600">
                <a:moveTo>
                  <a:pt x="32721" y="0"/>
                </a:moveTo>
                <a:lnTo>
                  <a:pt x="32721" y="21600"/>
                </a:lnTo>
                <a:lnTo>
                  <a:pt x="31321" y="20200"/>
                </a:lnTo>
                <a:lnTo>
                  <a:pt x="31321" y="1400"/>
                </a:lnTo>
                <a:close/>
              </a:path>
              <a:path fill="darkenLess" w="32721" h="21600">
                <a:moveTo>
                  <a:pt x="3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21" y="20200"/>
                </a:lnTo>
                <a:close/>
              </a:path>
              <a:path fill="lighten" w="3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21" h="21600">
                <a:moveTo>
                  <a:pt x="9354" y="10800"/>
                </a:moveTo>
                <a:lnTo>
                  <a:pt x="23367" y="3794"/>
                </a:lnTo>
                <a:lnTo>
                  <a:pt x="2336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Управляющая кнопка: домой 17"/>
          <p:cNvSpPr/>
          <p:nvPr/>
        </p:nvSpPr>
        <p:spPr>
          <a:xfrm>
            <a:off x="6000840" y="6215040"/>
            <a:ext cx="928440" cy="471600"/>
          </a:xfrm>
          <a:custGeom>
            <a:avLst/>
            <a:gdLst>
              <a:gd name="textAreaLeft" fmla="*/ 30240 w 928440"/>
              <a:gd name="textAreaRight" fmla="*/ 898200 w 92844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42508" h="21600">
                <a:moveTo>
                  <a:pt x="0" y="0"/>
                </a:moveTo>
                <a:lnTo>
                  <a:pt x="42508" y="0"/>
                </a:lnTo>
                <a:lnTo>
                  <a:pt x="42508" y="21600"/>
                </a:lnTo>
                <a:lnTo>
                  <a:pt x="0" y="21600"/>
                </a:lnTo>
                <a:close/>
              </a:path>
              <a:path fill="lightenLess" w="42508" h="21600">
                <a:moveTo>
                  <a:pt x="0" y="0"/>
                </a:moveTo>
                <a:lnTo>
                  <a:pt x="42508" y="0"/>
                </a:lnTo>
                <a:lnTo>
                  <a:pt x="41108" y="1400"/>
                </a:lnTo>
                <a:lnTo>
                  <a:pt x="1400" y="1400"/>
                </a:lnTo>
                <a:close/>
              </a:path>
              <a:path fill="darken" w="42508" h="21600">
                <a:moveTo>
                  <a:pt x="42508" y="0"/>
                </a:moveTo>
                <a:lnTo>
                  <a:pt x="42508" y="21600"/>
                </a:lnTo>
                <a:lnTo>
                  <a:pt x="41108" y="20200"/>
                </a:lnTo>
                <a:lnTo>
                  <a:pt x="41108" y="1400"/>
                </a:lnTo>
                <a:close/>
              </a:path>
              <a:path fill="darkenLess" w="42508" h="21600">
                <a:moveTo>
                  <a:pt x="42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08" y="20200"/>
                </a:lnTo>
                <a:close/>
              </a:path>
              <a:path fill="lighten" w="42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08" h="21600">
                <a:moveTo>
                  <a:pt x="21254" y="3837"/>
                </a:moveTo>
                <a:lnTo>
                  <a:pt x="23830" y="6448"/>
                </a:lnTo>
                <a:lnTo>
                  <a:pt x="23830" y="4707"/>
                </a:lnTo>
                <a:lnTo>
                  <a:pt x="25606" y="4707"/>
                </a:lnTo>
                <a:lnTo>
                  <a:pt x="25606" y="8224"/>
                </a:lnTo>
                <a:lnTo>
                  <a:pt x="28217" y="10800"/>
                </a:lnTo>
                <a:lnTo>
                  <a:pt x="26563" y="10800"/>
                </a:lnTo>
                <a:lnTo>
                  <a:pt x="26563" y="17989"/>
                </a:lnTo>
                <a:lnTo>
                  <a:pt x="15945" y="17989"/>
                </a:lnTo>
                <a:lnTo>
                  <a:pt x="15945" y="10800"/>
                </a:lnTo>
                <a:lnTo>
                  <a:pt x="14291" y="10800"/>
                </a:lnTo>
                <a:close/>
              </a:path>
              <a:path fill="darkenLess" w="42508" h="21600">
                <a:moveTo>
                  <a:pt x="23830" y="6448"/>
                </a:moveTo>
                <a:lnTo>
                  <a:pt x="23830" y="4707"/>
                </a:lnTo>
                <a:lnTo>
                  <a:pt x="25606" y="4707"/>
                </a:lnTo>
                <a:lnTo>
                  <a:pt x="25606" y="8224"/>
                </a:lnTo>
                <a:close/>
              </a:path>
              <a:path fill="darkenLess" w="42508" h="21600">
                <a:moveTo>
                  <a:pt x="20331" y="14299"/>
                </a:moveTo>
                <a:lnTo>
                  <a:pt x="22177" y="14299"/>
                </a:lnTo>
                <a:lnTo>
                  <a:pt x="22177" y="17989"/>
                </a:lnTo>
                <a:lnTo>
                  <a:pt x="26563" y="17989"/>
                </a:lnTo>
                <a:lnTo>
                  <a:pt x="26563" y="10800"/>
                </a:lnTo>
                <a:lnTo>
                  <a:pt x="15945" y="10800"/>
                </a:lnTo>
                <a:lnTo>
                  <a:pt x="15945" y="17989"/>
                </a:lnTo>
                <a:lnTo>
                  <a:pt x="20331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9360">
            <a:solidFill>
              <a:srgbClr val="95b3d7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,4,5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5080" y="2362320"/>
            <a:ext cx="4356000" cy="378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1,2,3,6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II.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78680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3794"/>
                </a:moveTo>
                <a:lnTo>
                  <a:pt x="22430" y="10800"/>
                </a:lnTo>
                <a:lnTo>
                  <a:pt x="841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1438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10800"/>
                </a:moveTo>
                <a:lnTo>
                  <a:pt x="20891" y="3794"/>
                </a:lnTo>
                <a:lnTo>
                  <a:pt x="20891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Управляющая кнопка: домой 8"/>
          <p:cNvSpPr/>
          <p:nvPr/>
        </p:nvSpPr>
        <p:spPr>
          <a:xfrm>
            <a:off x="6286680" y="635796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8508" y="3837"/>
                </a:moveTo>
                <a:lnTo>
                  <a:pt x="21084" y="6448"/>
                </a:ln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lnTo>
                  <a:pt x="25471" y="10800"/>
                </a:lnTo>
                <a:lnTo>
                  <a:pt x="23817" y="10800"/>
                </a:lnTo>
                <a:lnTo>
                  <a:pt x="23817" y="17989"/>
                </a:lnTo>
                <a:lnTo>
                  <a:pt x="13198" y="17989"/>
                </a:lnTo>
                <a:lnTo>
                  <a:pt x="13198" y="10800"/>
                </a:lnTo>
                <a:lnTo>
                  <a:pt x="11545" y="10800"/>
                </a:lnTo>
                <a:close/>
              </a:path>
              <a:path fill="darkenLess" w="37015" h="21600">
                <a:moveTo>
                  <a:pt x="21084" y="6448"/>
                </a:move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close/>
              </a:path>
              <a:path fill="darkenLess" w="37015" h="21600">
                <a:moveTo>
                  <a:pt x="17585" y="14299"/>
                </a:moveTo>
                <a:lnTo>
                  <a:pt x="19430" y="14299"/>
                </a:lnTo>
                <a:lnTo>
                  <a:pt x="19430" y="17989"/>
                </a:lnTo>
                <a:lnTo>
                  <a:pt x="23817" y="17989"/>
                </a:lnTo>
                <a:lnTo>
                  <a:pt x="23817" y="10800"/>
                </a:lnTo>
                <a:lnTo>
                  <a:pt x="13198" y="10800"/>
                </a:lnTo>
                <a:lnTo>
                  <a:pt x="13198" y="17989"/>
                </a:lnTo>
                <a:lnTo>
                  <a:pt x="17585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вторить правило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пражне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3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(1, 2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659240" y="4365720"/>
            <a:ext cx="551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Успехов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">
            <a:hlinkClick r:id="" action="ppaction://hlinkshowjump?jump=firstslide"/>
          </p:cNvPr>
          <p:cNvSpPr/>
          <p:nvPr/>
        </p:nvSpPr>
        <p:spPr>
          <a:xfrm>
            <a:off x="7236000" y="544500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6192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j0195384"/>
          <p:cNvPicPr/>
          <p:nvPr/>
        </p:nvPicPr>
        <p:blipFill>
          <a:blip r:embed="rId2"/>
          <a:stretch/>
        </p:blipFill>
        <p:spPr>
          <a:xfrm>
            <a:off x="5715000" y="1143000"/>
            <a:ext cx="2960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12800" y="981000"/>
            <a:ext cx="8832960" cy="117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71680" y="2356920"/>
            <a:ext cx="81151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ормирование умения правописания Н-Н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ричастия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репление умения  различать прилагательные  и  причаст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работка  орфографических  и пунктуационных  навыков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072200" y="6143760"/>
            <a:ext cx="714600" cy="542880"/>
          </a:xfrm>
          <a:custGeom>
            <a:avLst/>
            <a:gdLst>
              <a:gd name="textAreaLeft" fmla="*/ 34920 w 714600"/>
              <a:gd name="textAreaRight" fmla="*/ 679680 w 7146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8428" h="21600">
                <a:moveTo>
                  <a:pt x="0" y="0"/>
                </a:moveTo>
                <a:lnTo>
                  <a:pt x="28428" y="0"/>
                </a:lnTo>
                <a:lnTo>
                  <a:pt x="28428" y="21600"/>
                </a:lnTo>
                <a:lnTo>
                  <a:pt x="0" y="21600"/>
                </a:lnTo>
                <a:close/>
              </a:path>
              <a:path fill="lightenLess" w="28428" h="21600">
                <a:moveTo>
                  <a:pt x="0" y="0"/>
                </a:moveTo>
                <a:lnTo>
                  <a:pt x="28428" y="0"/>
                </a:lnTo>
                <a:lnTo>
                  <a:pt x="27028" y="1400"/>
                </a:lnTo>
                <a:lnTo>
                  <a:pt x="1400" y="1400"/>
                </a:lnTo>
                <a:close/>
              </a:path>
              <a:path fill="darken" w="28428" h="21600">
                <a:moveTo>
                  <a:pt x="28428" y="0"/>
                </a:moveTo>
                <a:lnTo>
                  <a:pt x="28428" y="21600"/>
                </a:lnTo>
                <a:lnTo>
                  <a:pt x="27028" y="20200"/>
                </a:lnTo>
                <a:lnTo>
                  <a:pt x="27028" y="1400"/>
                </a:lnTo>
                <a:close/>
              </a:path>
              <a:path fill="darkenLess" w="28428" h="21600">
                <a:moveTo>
                  <a:pt x="28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8" y="20200"/>
                </a:lnTo>
                <a:close/>
              </a:path>
              <a:path fill="lighten" w="28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28" h="21600">
                <a:moveTo>
                  <a:pt x="7207" y="3794"/>
                </a:moveTo>
                <a:lnTo>
                  <a:pt x="21220" y="10800"/>
                </a:lnTo>
                <a:lnTo>
                  <a:pt x="720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6357960" y="6143760"/>
            <a:ext cx="714240" cy="542880"/>
          </a:xfrm>
          <a:custGeom>
            <a:avLst/>
            <a:gdLst>
              <a:gd name="textAreaLeft" fmla="*/ 34920 w 714240"/>
              <a:gd name="textAreaRight" fmla="*/ 679320 w 71424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8414" h="21600">
                <a:moveTo>
                  <a:pt x="0" y="0"/>
                </a:moveTo>
                <a:lnTo>
                  <a:pt x="28414" y="0"/>
                </a:lnTo>
                <a:lnTo>
                  <a:pt x="28414" y="21600"/>
                </a:lnTo>
                <a:lnTo>
                  <a:pt x="0" y="21600"/>
                </a:lnTo>
                <a:close/>
              </a:path>
              <a:path fill="lightenLess" w="28414" h="21600">
                <a:moveTo>
                  <a:pt x="0" y="0"/>
                </a:moveTo>
                <a:lnTo>
                  <a:pt x="28414" y="0"/>
                </a:lnTo>
                <a:lnTo>
                  <a:pt x="27014" y="1400"/>
                </a:lnTo>
                <a:lnTo>
                  <a:pt x="1400" y="1400"/>
                </a:lnTo>
                <a:close/>
              </a:path>
              <a:path fill="darken" w="28414" h="21600">
                <a:moveTo>
                  <a:pt x="28414" y="0"/>
                </a:moveTo>
                <a:lnTo>
                  <a:pt x="28414" y="21600"/>
                </a:lnTo>
                <a:lnTo>
                  <a:pt x="27014" y="20200"/>
                </a:lnTo>
                <a:lnTo>
                  <a:pt x="27014" y="1400"/>
                </a:lnTo>
                <a:close/>
              </a:path>
              <a:path fill="darkenLess" w="28414" h="21600">
                <a:moveTo>
                  <a:pt x="28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4" y="20200"/>
                </a:lnTo>
                <a:close/>
              </a:path>
              <a:path fill="lighten" w="28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14" h="21600">
                <a:moveTo>
                  <a:pt x="7200" y="10800"/>
                </a:moveTo>
                <a:lnTo>
                  <a:pt x="21213" y="3794"/>
                </a:lnTo>
                <a:lnTo>
                  <a:pt x="2121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Управляющая кнопка: домой 5">
            <a:hlinkClick r:id="rId2" action="ppaction://hlinksldjump"/>
          </p:cNvPr>
          <p:cNvSpPr/>
          <p:nvPr/>
        </p:nvSpPr>
        <p:spPr>
          <a:xfrm>
            <a:off x="5429160" y="6143760"/>
            <a:ext cx="928800" cy="542880"/>
          </a:xfrm>
          <a:custGeom>
            <a:avLst/>
            <a:gdLst>
              <a:gd name="textAreaLeft" fmla="*/ 34920 w 928800"/>
              <a:gd name="textAreaRight" fmla="*/ 893880 w 9288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36945" h="21600">
                <a:moveTo>
                  <a:pt x="0" y="0"/>
                </a:moveTo>
                <a:lnTo>
                  <a:pt x="36945" y="0"/>
                </a:lnTo>
                <a:lnTo>
                  <a:pt x="36945" y="21600"/>
                </a:lnTo>
                <a:lnTo>
                  <a:pt x="0" y="21600"/>
                </a:lnTo>
                <a:close/>
              </a:path>
              <a:path fill="lightenLess" w="36945" h="21600">
                <a:moveTo>
                  <a:pt x="0" y="0"/>
                </a:moveTo>
                <a:lnTo>
                  <a:pt x="36945" y="0"/>
                </a:lnTo>
                <a:lnTo>
                  <a:pt x="35545" y="1400"/>
                </a:lnTo>
                <a:lnTo>
                  <a:pt x="1400" y="1400"/>
                </a:lnTo>
                <a:close/>
              </a:path>
              <a:path fill="darken" w="36945" h="21600">
                <a:moveTo>
                  <a:pt x="36945" y="0"/>
                </a:moveTo>
                <a:lnTo>
                  <a:pt x="36945" y="21600"/>
                </a:lnTo>
                <a:lnTo>
                  <a:pt x="35545" y="20200"/>
                </a:lnTo>
                <a:lnTo>
                  <a:pt x="35545" y="1400"/>
                </a:lnTo>
                <a:close/>
              </a:path>
              <a:path fill="darkenLess" w="36945" h="21600">
                <a:moveTo>
                  <a:pt x="36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5" y="20200"/>
                </a:lnTo>
                <a:close/>
              </a:path>
              <a:path fill="lighten" w="36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5" h="21600">
                <a:moveTo>
                  <a:pt x="18472" y="3837"/>
                </a:moveTo>
                <a:lnTo>
                  <a:pt x="21049" y="6448"/>
                </a:lnTo>
                <a:lnTo>
                  <a:pt x="21049" y="4707"/>
                </a:lnTo>
                <a:lnTo>
                  <a:pt x="22824" y="4707"/>
                </a:lnTo>
                <a:lnTo>
                  <a:pt x="22824" y="8224"/>
                </a:lnTo>
                <a:lnTo>
                  <a:pt x="25435" y="10800"/>
                </a:lnTo>
                <a:lnTo>
                  <a:pt x="23782" y="10800"/>
                </a:lnTo>
                <a:lnTo>
                  <a:pt x="23782" y="17989"/>
                </a:lnTo>
                <a:lnTo>
                  <a:pt x="13163" y="17989"/>
                </a:lnTo>
                <a:lnTo>
                  <a:pt x="13163" y="10800"/>
                </a:lnTo>
                <a:lnTo>
                  <a:pt x="11509" y="10800"/>
                </a:lnTo>
                <a:close/>
              </a:path>
              <a:path fill="darkenLess" w="36945" h="21600">
                <a:moveTo>
                  <a:pt x="21049" y="6448"/>
                </a:moveTo>
                <a:lnTo>
                  <a:pt x="21049" y="4707"/>
                </a:lnTo>
                <a:lnTo>
                  <a:pt x="22824" y="4707"/>
                </a:lnTo>
                <a:lnTo>
                  <a:pt x="22824" y="8224"/>
                </a:lnTo>
                <a:close/>
              </a:path>
              <a:path fill="darkenLess" w="36945" h="21600">
                <a:moveTo>
                  <a:pt x="17550" y="14299"/>
                </a:moveTo>
                <a:lnTo>
                  <a:pt x="19395" y="14299"/>
                </a:lnTo>
                <a:lnTo>
                  <a:pt x="19395" y="17989"/>
                </a:lnTo>
                <a:lnTo>
                  <a:pt x="23782" y="17989"/>
                </a:lnTo>
                <a:lnTo>
                  <a:pt x="23782" y="10800"/>
                </a:lnTo>
                <a:lnTo>
                  <a:pt x="13163" y="10800"/>
                </a:lnTo>
                <a:lnTo>
                  <a:pt x="13163" y="17989"/>
                </a:lnTo>
                <a:lnTo>
                  <a:pt x="17550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2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НН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Краткая форм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ристав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кроме  </a:t>
            </a:r>
            <a:r>
              <a:rPr b="0" lang="ru-RU" sz="3200" spc="-1" strike="noStrike">
                <a:solidFill>
                  <a:srgbClr val="ffc000"/>
                </a:solidFill>
                <a:latin typeface="Constantia"/>
              </a:rPr>
              <a:t>не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зависимо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ло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.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Есть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суффиксы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–ова-,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-ева-(-ирова-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Образовано  о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есприставочно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лагола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овершенно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ви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Прямая соединительная линия 7"/>
          <p:cNvSpPr/>
          <p:nvPr/>
        </p:nvSpPr>
        <p:spPr>
          <a:xfrm>
            <a:off x="7858080" y="3571920"/>
            <a:ext cx="21420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 flipH="1">
            <a:off x="7643520" y="3571200"/>
            <a:ext cx="21420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22"/>
          <p:cNvSpPr/>
          <p:nvPr/>
        </p:nvSpPr>
        <p:spPr>
          <a:xfrm flipV="1">
            <a:off x="5214960" y="4000680"/>
            <a:ext cx="21420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24"/>
          <p:cNvSpPr/>
          <p:nvPr/>
        </p:nvSpPr>
        <p:spPr>
          <a:xfrm>
            <a:off x="5429160" y="4000680"/>
            <a:ext cx="2145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ая соединительная линия 31"/>
          <p:cNvSpPr/>
          <p:nvPr/>
        </p:nvSpPr>
        <p:spPr>
          <a:xfrm flipV="1">
            <a:off x="5929200" y="4000680"/>
            <a:ext cx="4287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ая соединительная линия 33"/>
          <p:cNvSpPr/>
          <p:nvPr/>
        </p:nvSpPr>
        <p:spPr>
          <a:xfrm>
            <a:off x="6357960" y="4000680"/>
            <a:ext cx="428760" cy="142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44"/>
          <p:cNvSpPr/>
          <p:nvPr/>
        </p:nvSpPr>
        <p:spPr>
          <a:xfrm>
            <a:off x="5214960" y="2786040"/>
            <a:ext cx="500040" cy="144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46"/>
          <p:cNvSpPr/>
          <p:nvPr/>
        </p:nvSpPr>
        <p:spPr>
          <a:xfrm flipH="1">
            <a:off x="5715000" y="2786040"/>
            <a:ext cx="1440" cy="14292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Documents and Settings\Андрей\Мои документы\анимация\12.gif"/>
          <p:cNvPicPr/>
          <p:nvPr/>
        </p:nvPicPr>
        <p:blipFill>
          <a:blip r:embed="rId2"/>
          <a:stretch/>
        </p:blipFill>
        <p:spPr>
          <a:xfrm>
            <a:off x="376200" y="4357800"/>
            <a:ext cx="2421000" cy="2421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429680" y="645804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6929280" y="6458040"/>
            <a:ext cx="500400" cy="399960"/>
          </a:xfrm>
          <a:custGeom>
            <a:avLst/>
            <a:gdLst>
              <a:gd name="textAreaLeft" fmla="*/ 25920 w 500400"/>
              <a:gd name="textAreaRight" fmla="*/ 474480 w 5004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19" h="21600">
                <a:moveTo>
                  <a:pt x="0" y="0"/>
                </a:moveTo>
                <a:lnTo>
                  <a:pt x="27019" y="0"/>
                </a:lnTo>
                <a:lnTo>
                  <a:pt x="27019" y="21600"/>
                </a:lnTo>
                <a:lnTo>
                  <a:pt x="0" y="21600"/>
                </a:lnTo>
                <a:close/>
              </a:path>
              <a:path fill="lightenLess" w="27019" h="21600">
                <a:moveTo>
                  <a:pt x="0" y="0"/>
                </a:moveTo>
                <a:lnTo>
                  <a:pt x="27019" y="0"/>
                </a:lnTo>
                <a:lnTo>
                  <a:pt x="25619" y="1400"/>
                </a:lnTo>
                <a:lnTo>
                  <a:pt x="1400" y="1400"/>
                </a:lnTo>
                <a:close/>
              </a:path>
              <a:path fill="darken" w="27019" h="21600">
                <a:moveTo>
                  <a:pt x="27019" y="0"/>
                </a:moveTo>
                <a:lnTo>
                  <a:pt x="27019" y="21600"/>
                </a:lnTo>
                <a:lnTo>
                  <a:pt x="25619" y="20200"/>
                </a:lnTo>
                <a:lnTo>
                  <a:pt x="25619" y="1400"/>
                </a:lnTo>
                <a:close/>
              </a:path>
              <a:path fill="darkenLess" w="27019" h="21600">
                <a:moveTo>
                  <a:pt x="27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9" y="20200"/>
                </a:lnTo>
                <a:close/>
              </a:path>
              <a:path fill="lighten" w="27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9" h="21600">
                <a:moveTo>
                  <a:pt x="6503" y="10800"/>
                </a:moveTo>
                <a:lnTo>
                  <a:pt x="20516" y="3794"/>
                </a:lnTo>
                <a:lnTo>
                  <a:pt x="2051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Выноска-облако 4"/>
          <p:cNvGrpSpPr/>
          <p:nvPr/>
        </p:nvGrpSpPr>
        <p:grpSpPr>
          <a:xfrm>
            <a:off x="6211800" y="506520"/>
            <a:ext cx="2719440" cy="1620720"/>
            <a:chOff x="6211800" y="506520"/>
            <a:chExt cx="2719440" cy="1620720"/>
          </a:xfrm>
        </p:grpSpPr>
        <p:pic>
          <p:nvPicPr>
            <p:cNvPr id="72" name="Выноска-облако 4" descr=""/>
            <p:cNvPicPr/>
            <p:nvPr/>
          </p:nvPicPr>
          <p:blipFill>
            <a:blip r:embed="rId1"/>
            <a:stretch/>
          </p:blipFill>
          <p:spPr>
            <a:xfrm>
              <a:off x="6211800" y="506520"/>
              <a:ext cx="27194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640560" y="765000"/>
              <a:ext cx="16812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ви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Выноска-облако 5"/>
          <p:cNvGrpSpPr/>
          <p:nvPr/>
        </p:nvGrpSpPr>
        <p:grpSpPr>
          <a:xfrm>
            <a:off x="3571920" y="146160"/>
            <a:ext cx="2646360" cy="1206360"/>
            <a:chOff x="3571920" y="146160"/>
            <a:chExt cx="2646360" cy="1206360"/>
          </a:xfrm>
        </p:grpSpPr>
        <p:pic>
          <p:nvPicPr>
            <p:cNvPr id="75" name="Выноска-облако 5" descr=""/>
            <p:cNvPicPr/>
            <p:nvPr/>
          </p:nvPicPr>
          <p:blipFill>
            <a:blip r:embed="rId2"/>
            <a:stretch/>
          </p:blipFill>
          <p:spPr>
            <a:xfrm>
              <a:off x="3571920" y="146160"/>
              <a:ext cx="2646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987720" y="353880"/>
              <a:ext cx="1633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га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Выноска-облако 6"/>
          <p:cNvGrpSpPr/>
          <p:nvPr/>
        </p:nvGrpSpPr>
        <p:grpSpPr>
          <a:xfrm>
            <a:off x="927000" y="219240"/>
            <a:ext cx="2791080" cy="1506240"/>
            <a:chOff x="927000" y="219240"/>
            <a:chExt cx="2791080" cy="1506240"/>
          </a:xfrm>
        </p:grpSpPr>
        <p:pic>
          <p:nvPicPr>
            <p:cNvPr id="78" name="Выноска-облако 6" descr=""/>
            <p:cNvPicPr/>
            <p:nvPr/>
          </p:nvPicPr>
          <p:blipFill>
            <a:blip r:embed="rId3"/>
            <a:stretch/>
          </p:blipFill>
          <p:spPr>
            <a:xfrm>
              <a:off x="927000" y="219240"/>
              <a:ext cx="279108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363680" y="465120"/>
              <a:ext cx="172728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e1c11"/>
                  </a:solidFill>
                  <a:latin typeface="Constantia"/>
                </a:rPr>
                <a:t>нежд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1e1c11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Выноска-облако 7"/>
          <p:cNvGrpSpPr/>
          <p:nvPr/>
        </p:nvGrpSpPr>
        <p:grpSpPr>
          <a:xfrm>
            <a:off x="3998880" y="1073160"/>
            <a:ext cx="2292480" cy="1212840"/>
            <a:chOff x="3998880" y="1073160"/>
            <a:chExt cx="2292480" cy="1212840"/>
          </a:xfrm>
        </p:grpSpPr>
        <p:pic>
          <p:nvPicPr>
            <p:cNvPr id="81" name="Выноска-облако 7" descr=""/>
            <p:cNvPicPr/>
            <p:nvPr/>
          </p:nvPicPr>
          <p:blipFill>
            <a:blip r:embed="rId4"/>
            <a:stretch/>
          </p:blipFill>
          <p:spPr>
            <a:xfrm>
              <a:off x="3998880" y="1073160"/>
              <a:ext cx="22924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367160" y="1282680"/>
              <a:ext cx="14004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жел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Выноска-облако 8"/>
          <p:cNvGrpSpPr/>
          <p:nvPr/>
        </p:nvGrpSpPr>
        <p:grpSpPr>
          <a:xfrm>
            <a:off x="1139760" y="1292400"/>
            <a:ext cx="2792520" cy="1292040"/>
            <a:chOff x="1139760" y="1292400"/>
            <a:chExt cx="2792520" cy="1292040"/>
          </a:xfrm>
        </p:grpSpPr>
        <p:pic>
          <p:nvPicPr>
            <p:cNvPr id="84" name="Выноска-облако 8" descr=""/>
            <p:cNvPicPr/>
            <p:nvPr/>
          </p:nvPicPr>
          <p:blipFill>
            <a:blip r:embed="rId5"/>
            <a:stretch/>
          </p:blipFill>
          <p:spPr>
            <a:xfrm>
              <a:off x="1139760" y="1292400"/>
              <a:ext cx="27925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577880" y="1508040"/>
              <a:ext cx="17272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вящ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Выноска-облако 9"/>
          <p:cNvGrpSpPr/>
          <p:nvPr/>
        </p:nvGrpSpPr>
        <p:grpSpPr>
          <a:xfrm>
            <a:off x="3425760" y="1932120"/>
            <a:ext cx="3005280" cy="1755720"/>
            <a:chOff x="3425760" y="1932120"/>
            <a:chExt cx="3005280" cy="1755720"/>
          </a:xfrm>
        </p:grpSpPr>
        <p:pic>
          <p:nvPicPr>
            <p:cNvPr id="87" name="Выноска-облако 9" descr=""/>
            <p:cNvPicPr/>
            <p:nvPr/>
          </p:nvPicPr>
          <p:blipFill>
            <a:blip r:embed="rId6"/>
            <a:stretch/>
          </p:blipFill>
          <p:spPr>
            <a:xfrm>
              <a:off x="3425760" y="1932120"/>
              <a:ext cx="300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894120" y="2173320"/>
              <a:ext cx="18669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медл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Выноска-облако 10"/>
          <p:cNvGrpSpPr/>
          <p:nvPr/>
        </p:nvGrpSpPr>
        <p:grpSpPr>
          <a:xfrm>
            <a:off x="6145200" y="3078000"/>
            <a:ext cx="2644920" cy="1517760"/>
            <a:chOff x="6145200" y="3078000"/>
            <a:chExt cx="2644920" cy="1517760"/>
          </a:xfrm>
        </p:grpSpPr>
        <p:pic>
          <p:nvPicPr>
            <p:cNvPr id="90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6145200" y="3078000"/>
              <a:ext cx="2644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559560" y="3324240"/>
              <a:ext cx="16336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чая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Выноска-облако 11"/>
          <p:cNvGrpSpPr/>
          <p:nvPr/>
        </p:nvGrpSpPr>
        <p:grpSpPr>
          <a:xfrm>
            <a:off x="5924520" y="1719360"/>
            <a:ext cx="3079800" cy="1706400"/>
            <a:chOff x="5924520" y="1719360"/>
            <a:chExt cx="3079800" cy="1706400"/>
          </a:xfrm>
        </p:grpSpPr>
        <p:pic>
          <p:nvPicPr>
            <p:cNvPr id="93" name="Выноска-облако 11" descr=""/>
            <p:cNvPicPr/>
            <p:nvPr/>
          </p:nvPicPr>
          <p:blipFill>
            <a:blip r:embed="rId8"/>
            <a:stretch/>
          </p:blipFill>
          <p:spPr>
            <a:xfrm>
              <a:off x="5924520" y="1719360"/>
              <a:ext cx="3079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04040" y="1990800"/>
              <a:ext cx="191448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слых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н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7-конечная звезда 13"/>
          <p:cNvGrpSpPr/>
          <p:nvPr/>
        </p:nvGrpSpPr>
        <p:grpSpPr>
          <a:xfrm>
            <a:off x="3743280" y="3670200"/>
            <a:ext cx="4376880" cy="3016440"/>
            <a:chOff x="3743280" y="3670200"/>
            <a:chExt cx="4376880" cy="3016440"/>
          </a:xfrm>
        </p:grpSpPr>
        <p:pic>
          <p:nvPicPr>
            <p:cNvPr id="96" name="7-конечная звезда 13" descr=""/>
            <p:cNvPicPr/>
            <p:nvPr/>
          </p:nvPicPr>
          <p:blipFill>
            <a:blip r:embed="rId9"/>
            <a:stretch/>
          </p:blipFill>
          <p:spPr>
            <a:xfrm>
              <a:off x="3743280" y="3670200"/>
              <a:ext cx="437688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780080" y="4338720"/>
              <a:ext cx="229860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</a:rPr>
                <a:t>Запомни 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Выноска-облако 15"/>
          <p:cNvGrpSpPr/>
          <p:nvPr/>
        </p:nvGrpSpPr>
        <p:grpSpPr>
          <a:xfrm>
            <a:off x="2457360" y="3176640"/>
            <a:ext cx="2590920" cy="1706400"/>
            <a:chOff x="2457360" y="3176640"/>
            <a:chExt cx="2590920" cy="1706400"/>
          </a:xfrm>
        </p:grpSpPr>
        <p:pic>
          <p:nvPicPr>
            <p:cNvPr id="99" name="Выноска-облако 15" descr=""/>
            <p:cNvPicPr/>
            <p:nvPr/>
          </p:nvPicPr>
          <p:blipFill>
            <a:blip r:embed="rId10"/>
            <a:stretch/>
          </p:blipFill>
          <p:spPr>
            <a:xfrm>
              <a:off x="2457360" y="3176640"/>
              <a:ext cx="25909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897280" y="3479760"/>
              <a:ext cx="1539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назва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</a:t>
              </a: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ый  бра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Выноска-облако 16"/>
          <p:cNvGrpSpPr/>
          <p:nvPr/>
        </p:nvGrpSpPr>
        <p:grpSpPr>
          <a:xfrm>
            <a:off x="590400" y="2530440"/>
            <a:ext cx="2799000" cy="1511280"/>
            <a:chOff x="590400" y="2530440"/>
            <a:chExt cx="2799000" cy="1511280"/>
          </a:xfrm>
        </p:grpSpPr>
        <p:pic>
          <p:nvPicPr>
            <p:cNvPr id="102" name="Выноска-облако 16" descr=""/>
            <p:cNvPicPr/>
            <p:nvPr/>
          </p:nvPicPr>
          <p:blipFill>
            <a:blip r:embed="rId11"/>
            <a:stretch/>
          </p:blipFill>
          <p:spPr>
            <a:xfrm>
              <a:off x="590400" y="2530440"/>
              <a:ext cx="27990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66680" y="2811600"/>
              <a:ext cx="167004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смышле</a:t>
              </a: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н</a:t>
              </a:r>
              <a:r>
                <a:rPr b="0" lang="ru-RU" sz="2000" spc="-1" strike="noStrike">
                  <a:solidFill>
                    <a:srgbClr val="17375e"/>
                  </a:solidFill>
                  <a:latin typeface="Constantia"/>
                </a:rPr>
                <a:t>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Управляющая кнопка: назад 19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642960" cy="542880"/>
          </a:xfrm>
          <a:custGeom>
            <a:avLst/>
            <a:gdLst>
              <a:gd name="textAreaLeft" fmla="*/ 34920 w 642960"/>
              <a:gd name="textAreaRight" fmla="*/ 608040 w 6429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5579" h="21600">
                <a:moveTo>
                  <a:pt x="0" y="0"/>
                </a:moveTo>
                <a:lnTo>
                  <a:pt x="25579" y="0"/>
                </a:lnTo>
                <a:lnTo>
                  <a:pt x="25579" y="21600"/>
                </a:lnTo>
                <a:lnTo>
                  <a:pt x="0" y="21600"/>
                </a:lnTo>
                <a:close/>
              </a:path>
              <a:path fill="lightenLess" w="25579" h="21600">
                <a:moveTo>
                  <a:pt x="0" y="0"/>
                </a:moveTo>
                <a:lnTo>
                  <a:pt x="25579" y="0"/>
                </a:lnTo>
                <a:lnTo>
                  <a:pt x="24179" y="1400"/>
                </a:lnTo>
                <a:lnTo>
                  <a:pt x="1400" y="1400"/>
                </a:lnTo>
                <a:close/>
              </a:path>
              <a:path fill="darken" w="25579" h="21600">
                <a:moveTo>
                  <a:pt x="25579" y="0"/>
                </a:moveTo>
                <a:lnTo>
                  <a:pt x="25579" y="21600"/>
                </a:lnTo>
                <a:lnTo>
                  <a:pt x="24179" y="20200"/>
                </a:lnTo>
                <a:lnTo>
                  <a:pt x="24179" y="1400"/>
                </a:lnTo>
                <a:close/>
              </a:path>
              <a:path fill="darkenLess" w="25579" h="21600">
                <a:moveTo>
                  <a:pt x="2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9" y="20200"/>
                </a:lnTo>
                <a:close/>
              </a:path>
              <a:path fill="lighten" w="2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9" h="21600">
                <a:moveTo>
                  <a:pt x="5783" y="10800"/>
                </a:moveTo>
                <a:lnTo>
                  <a:pt x="19796" y="3794"/>
                </a:lnTo>
                <a:lnTo>
                  <a:pt x="1979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8143920" y="6072120"/>
            <a:ext cx="571320" cy="542880"/>
          </a:xfrm>
          <a:custGeom>
            <a:avLst/>
            <a:gdLst>
              <a:gd name="textAreaLeft" fmla="*/ 34920 w 571320"/>
              <a:gd name="textAreaRight" fmla="*/ 536400 w 57132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3794"/>
                </a:moveTo>
                <a:lnTo>
                  <a:pt x="18372" y="10800"/>
                </a:lnTo>
                <a:lnTo>
                  <a:pt x="435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500040" y="4932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1800" indent="-406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3600" spc="-1" strike="noStrike">
                <a:solidFill>
                  <a:srgbClr val="ffc000"/>
                </a:solidFill>
                <a:latin typeface="Constantia"/>
              </a:rPr>
              <a:t>1809-185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720" y="2361960"/>
            <a:ext cx="42861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« Ночь  перед Рождеством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Picture 2" descr="C:\Documents and Settings\Андрей\Мои документы\Мои рисунки\рисунок 8.jpg"/>
          <p:cNvPicPr/>
          <p:nvPr/>
        </p:nvPicPr>
        <p:blipFill>
          <a:blip r:embed="rId2"/>
          <a:stretch/>
        </p:blipFill>
        <p:spPr>
          <a:xfrm>
            <a:off x="714240" y="1643040"/>
            <a:ext cx="2895840" cy="37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ндрей\Мои документы\Мои рисунки\рисунок 9.jpeg"/>
          <p:cNvPicPr/>
          <p:nvPr/>
        </p:nvPicPr>
        <p:blipFill>
          <a:blip r:embed="rId3"/>
          <a:stretch/>
        </p:blipFill>
        <p:spPr>
          <a:xfrm>
            <a:off x="4857840" y="3214800"/>
            <a:ext cx="3813120" cy="173340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86800" y="64292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072200" y="6429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Управляющая кнопка: домой 13">
            <a:hlinkClick r:id="rId4" action="ppaction://hlinksldjump"/>
          </p:cNvPr>
          <p:cNvSpPr/>
          <p:nvPr/>
        </p:nvSpPr>
        <p:spPr>
          <a:xfrm>
            <a:off x="6357960" y="64292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7985" y="3837"/>
                </a:moveTo>
                <a:lnTo>
                  <a:pt x="20561" y="6448"/>
                </a:lnTo>
                <a:lnTo>
                  <a:pt x="20561" y="4707"/>
                </a:lnTo>
                <a:lnTo>
                  <a:pt x="22337" y="4707"/>
                </a:lnTo>
                <a:lnTo>
                  <a:pt x="22337" y="8224"/>
                </a:lnTo>
                <a:lnTo>
                  <a:pt x="24948" y="10800"/>
                </a:lnTo>
                <a:lnTo>
                  <a:pt x="23294" y="10800"/>
                </a:lnTo>
                <a:lnTo>
                  <a:pt x="23294" y="17989"/>
                </a:lnTo>
                <a:lnTo>
                  <a:pt x="12676" y="17989"/>
                </a:lnTo>
                <a:lnTo>
                  <a:pt x="12676" y="10800"/>
                </a:lnTo>
                <a:lnTo>
                  <a:pt x="11022" y="10800"/>
                </a:lnTo>
                <a:close/>
              </a:path>
              <a:path fill="darkenLess" w="35970" h="21600">
                <a:moveTo>
                  <a:pt x="20561" y="6448"/>
                </a:moveTo>
                <a:lnTo>
                  <a:pt x="20561" y="4707"/>
                </a:lnTo>
                <a:lnTo>
                  <a:pt x="22337" y="4707"/>
                </a:lnTo>
                <a:lnTo>
                  <a:pt x="22337" y="8224"/>
                </a:lnTo>
                <a:close/>
              </a:path>
              <a:path fill="darkenLess" w="35970" h="21600">
                <a:moveTo>
                  <a:pt x="17062" y="14299"/>
                </a:moveTo>
                <a:lnTo>
                  <a:pt x="18907" y="14299"/>
                </a:lnTo>
                <a:lnTo>
                  <a:pt x="18907" y="17989"/>
                </a:lnTo>
                <a:lnTo>
                  <a:pt x="23294" y="17989"/>
                </a:lnTo>
                <a:lnTo>
                  <a:pt x="23294" y="10800"/>
                </a:lnTo>
                <a:lnTo>
                  <a:pt x="12676" y="10800"/>
                </a:lnTo>
                <a:lnTo>
                  <a:pt x="12676" y="17989"/>
                </a:lnTo>
                <a:lnTo>
                  <a:pt x="17062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о торжеством его искусства была одна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алева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я  картина, в которой  изобразил он святого Петра в день страшного суда,  изгонявшего из ада злого духа;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ис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уга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ый черт метался во все стороны, предчувствуя свою погибель, а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з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люч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енн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ые грешники били и гоняли его кнутами , поленами и всем ,чем ни попало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Picture 2" descr="C:\Documents and Settings\Андрей\Мои документы\Мои рисунки\рисунок 11.jpg"/>
          <p:cNvPicPr/>
          <p:nvPr/>
        </p:nvPicPr>
        <p:blipFill>
          <a:blip r:embed="rId2"/>
          <a:stretch/>
        </p:blipFill>
        <p:spPr>
          <a:xfrm>
            <a:off x="1928880" y="4429080"/>
            <a:ext cx="2881080" cy="2095560"/>
          </a:xfrm>
          <a:prstGeom prst="rect">
            <a:avLst/>
          </a:prstGeom>
          <a:ln w="0">
            <a:noFill/>
          </a:ln>
        </p:spPr>
      </p:pic>
      <p:sp>
        <p:nvSpPr>
          <p:cNvPr id="119" name="4-конечная звезда 16"/>
          <p:cNvSpPr/>
          <p:nvPr/>
        </p:nvSpPr>
        <p:spPr>
          <a:xfrm rot="1815000">
            <a:off x="8240760" y="1025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ятно 1 17"/>
          <p:cNvSpPr/>
          <p:nvPr/>
        </p:nvSpPr>
        <p:spPr>
          <a:xfrm>
            <a:off x="785880" y="857160"/>
            <a:ext cx="571320" cy="700200"/>
          </a:xfrm>
          <a:prstGeom prst="irregularSeal1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5-конечная звезда 18"/>
          <p:cNvSpPr/>
          <p:nvPr/>
        </p:nvSpPr>
        <p:spPr>
          <a:xfrm>
            <a:off x="7215120" y="285840"/>
            <a:ext cx="500040" cy="557280"/>
          </a:xfrm>
          <a:custGeom>
            <a:avLst/>
            <a:gdLst/>
            <a:ahLst/>
            <a:rect l="l" t="t" r="r" b="b"/>
            <a:pathLst>
              <a:path w="500062" h="557213">
                <a:moveTo>
                  <a:pt x="1" y="212836"/>
                </a:moveTo>
                <a:lnTo>
                  <a:pt x="191008" y="212837"/>
                </a:lnTo>
                <a:lnTo>
                  <a:pt x="250031" y="0"/>
                </a:lnTo>
                <a:lnTo>
                  <a:pt x="309054" y="212837"/>
                </a:lnTo>
                <a:lnTo>
                  <a:pt x="500061" y="212836"/>
                </a:lnTo>
                <a:lnTo>
                  <a:pt x="345533" y="344375"/>
                </a:lnTo>
                <a:lnTo>
                  <a:pt x="404558" y="557212"/>
                </a:lnTo>
                <a:lnTo>
                  <a:pt x="250031" y="425670"/>
                </a:lnTo>
                <a:lnTo>
                  <a:pt x="95504" y="557212"/>
                </a:lnTo>
                <a:lnTo>
                  <a:pt x="154529" y="344375"/>
                </a:lnTo>
                <a:lnTo>
                  <a:pt x="1" y="212836"/>
                </a:lnTo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-конечная звезда 19"/>
          <p:cNvSpPr/>
          <p:nvPr/>
        </p:nvSpPr>
        <p:spPr>
          <a:xfrm>
            <a:off x="1928880" y="285840"/>
            <a:ext cx="500040" cy="628560"/>
          </a:xfrm>
          <a:custGeom>
            <a:avLst/>
            <a:gdLst>
              <a:gd name="textAreaLeft" fmla="*/ 205920 w 500040"/>
              <a:gd name="textAreaRight" fmla="*/ 294120 w 500040"/>
              <a:gd name="textAreaTop" fmla="*/ 258840 h 628560"/>
              <a:gd name="textAreaBottom" fmla="*/ 3697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36"/>
          <p:cNvSpPr/>
          <p:nvPr/>
        </p:nvSpPr>
        <p:spPr>
          <a:xfrm>
            <a:off x="3786120" y="714240"/>
            <a:ext cx="571680" cy="180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40"/>
          <p:cNvSpPr/>
          <p:nvPr/>
        </p:nvSpPr>
        <p:spPr>
          <a:xfrm flipH="1">
            <a:off x="4355640" y="714240"/>
            <a:ext cx="1800" cy="214560"/>
          </a:xfrm>
          <a:prstGeom prst="line">
            <a:avLst/>
          </a:prstGeom>
          <a:ln w="118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Прямая со стрелкой 42"/>
          <p:cNvCxnSpPr/>
          <p:nvPr/>
        </p:nvCxnSpPr>
        <p:spPr>
          <a:xfrm>
            <a:off x="4642920" y="856800"/>
            <a:ext cx="1001160" cy="252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6" name="Управляющая кнопка: далее 45">
            <a:hlinkClick r:id="" action="ppaction://hlinkshowjump?jump=nextslide"/>
          </p:cNvPr>
          <p:cNvSpPr/>
          <p:nvPr/>
        </p:nvSpPr>
        <p:spPr>
          <a:xfrm>
            <a:off x="7858080" y="635796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2" h="21600">
                <a:moveTo>
                  <a:pt x="8424" y="3794"/>
                </a:moveTo>
                <a:lnTo>
                  <a:pt x="22437" y="10800"/>
                </a:lnTo>
                <a:lnTo>
                  <a:pt x="842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Управляющая кнопка: назад 47">
            <a:hlinkClick r:id="" action="ppaction://hlinkshowjump?jump=previousslide"/>
          </p:cNvPr>
          <p:cNvSpPr/>
          <p:nvPr/>
        </p:nvSpPr>
        <p:spPr>
          <a:xfrm>
            <a:off x="7072200" y="635796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8" h="21600">
                <a:moveTo>
                  <a:pt x="9963" y="10800"/>
                </a:moveTo>
                <a:lnTo>
                  <a:pt x="23976" y="3794"/>
                </a:lnTo>
                <a:lnTo>
                  <a:pt x="23976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Управляющая кнопка: домой 48">
            <a:hlinkClick r:id="rId3" action="ppaction://hlinksldjump"/>
          </p:cNvPr>
          <p:cNvSpPr/>
          <p:nvPr/>
        </p:nvSpPr>
        <p:spPr>
          <a:xfrm>
            <a:off x="6072120" y="6286680"/>
            <a:ext cx="1000080" cy="57132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0" h="21600">
                <a:moveTo>
                  <a:pt x="18900" y="3837"/>
                </a:moveTo>
                <a:lnTo>
                  <a:pt x="21476" y="6448"/>
                </a:lnTo>
                <a:lnTo>
                  <a:pt x="21476" y="4707"/>
                </a:lnTo>
                <a:lnTo>
                  <a:pt x="23252" y="4707"/>
                </a:lnTo>
                <a:lnTo>
                  <a:pt x="23252" y="8224"/>
                </a:lnTo>
                <a:lnTo>
                  <a:pt x="25863" y="10800"/>
                </a:lnTo>
                <a:lnTo>
                  <a:pt x="24209" y="10800"/>
                </a:lnTo>
                <a:lnTo>
                  <a:pt x="24209" y="17989"/>
                </a:lnTo>
                <a:lnTo>
                  <a:pt x="13591" y="17989"/>
                </a:lnTo>
                <a:lnTo>
                  <a:pt x="13591" y="10800"/>
                </a:lnTo>
                <a:lnTo>
                  <a:pt x="11937" y="10800"/>
                </a:lnTo>
                <a:close/>
              </a:path>
              <a:path fill="darkenLess" w="37800" h="21600">
                <a:moveTo>
                  <a:pt x="21476" y="6448"/>
                </a:moveTo>
                <a:lnTo>
                  <a:pt x="21476" y="4707"/>
                </a:lnTo>
                <a:lnTo>
                  <a:pt x="23252" y="4707"/>
                </a:lnTo>
                <a:lnTo>
                  <a:pt x="23252" y="8224"/>
                </a:lnTo>
                <a:close/>
              </a:path>
              <a:path fill="darkenLess" w="37800" h="21600">
                <a:moveTo>
                  <a:pt x="17977" y="14299"/>
                </a:moveTo>
                <a:lnTo>
                  <a:pt x="19823" y="14299"/>
                </a:lnTo>
                <a:lnTo>
                  <a:pt x="19823" y="17989"/>
                </a:lnTo>
                <a:lnTo>
                  <a:pt x="24209" y="17989"/>
                </a:lnTo>
                <a:lnTo>
                  <a:pt x="24209" y="10800"/>
                </a:lnTo>
                <a:lnTo>
                  <a:pt x="13591" y="10800"/>
                </a:lnTo>
                <a:lnTo>
                  <a:pt x="13591" y="17989"/>
                </a:lnTo>
                <a:lnTo>
                  <a:pt x="17977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43200" y="285840"/>
            <a:ext cx="51120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на знала и слышала все, что про нее          говорили, и была капризна ,как красавица. Парубки гонялись за нею толпами , но потерявши терпение , оставляли  мало-помалу и обращались к   не таким бал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м, как она. Один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лько кузнец был упрям и, словно       околд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й, очар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ова</a:t>
            </a:r>
            <a:r>
              <a:rPr b="0" lang="ru-RU" sz="1800" spc="-1" strike="noStrike" u="sng">
                <a:solidFill>
                  <a:srgbClr val="92d050"/>
                </a:solidFill>
                <a:uFillTx/>
                <a:latin typeface="Constantia"/>
              </a:rPr>
              <a:t>нн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ый, не оставлял  своего  волокитства ,несмотря  на то , что  и с ним  поступаемо   было ничуть не лучше, как с други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2d050"/>
                </a:solidFill>
                <a:uFillTx/>
                <a:latin typeface="Constantia"/>
              </a:rPr>
              <a:t>           </a:t>
            </a: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- ова-   -ева-  (ирова-)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2" descr="C:\Documents and Settings\Андрей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428760" y="1766880"/>
            <a:ext cx="3051000" cy="40194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25"/>
          <p:cNvSpPr/>
          <p:nvPr/>
        </p:nvSpPr>
        <p:spPr>
          <a:xfrm>
            <a:off x="5214240" y="4429080"/>
            <a:ext cx="214200" cy="28584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 flipH="1">
            <a:off x="5000400" y="4429080"/>
            <a:ext cx="21420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31"/>
          <p:cNvSpPr/>
          <p:nvPr/>
        </p:nvSpPr>
        <p:spPr>
          <a:xfrm>
            <a:off x="6286680" y="4429080"/>
            <a:ext cx="35712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34"/>
          <p:cNvSpPr/>
          <p:nvPr/>
        </p:nvSpPr>
        <p:spPr>
          <a:xfrm flipH="1">
            <a:off x="6000840" y="4429080"/>
            <a:ext cx="28584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42"/>
          <p:cNvSpPr/>
          <p:nvPr/>
        </p:nvSpPr>
        <p:spPr>
          <a:xfrm>
            <a:off x="7500960" y="4357800"/>
            <a:ext cx="50004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45"/>
          <p:cNvSpPr/>
          <p:nvPr/>
        </p:nvSpPr>
        <p:spPr>
          <a:xfrm flipH="1">
            <a:off x="6929280" y="4357800"/>
            <a:ext cx="571680" cy="357120"/>
          </a:xfrm>
          <a:prstGeom prst="line">
            <a:avLst/>
          </a:prstGeom>
          <a:ln w="118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-конечная звезда 12"/>
          <p:cNvSpPr/>
          <p:nvPr/>
        </p:nvSpPr>
        <p:spPr>
          <a:xfrm rot="19546800">
            <a:off x="714240" y="356760"/>
            <a:ext cx="428760" cy="557280"/>
          </a:xfrm>
          <a:custGeom>
            <a:avLst/>
            <a:gdLst>
              <a:gd name="textAreaLeft" fmla="*/ 176760 w 428760"/>
              <a:gd name="textAreaRight" fmla="*/ 252000 w 428760"/>
              <a:gd name="textAreaTop" fmla="*/ 229680 h 557280"/>
              <a:gd name="textAreaBottom" fmla="*/ 327600 h 5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6-конечная звезда 13"/>
          <p:cNvSpPr/>
          <p:nvPr/>
        </p:nvSpPr>
        <p:spPr>
          <a:xfrm>
            <a:off x="2786040" y="714240"/>
            <a:ext cx="357120" cy="414360"/>
          </a:xfrm>
          <a:custGeom>
            <a:avLst/>
            <a:gdLst/>
            <a:ahLst/>
            <a:rect l="l" t="t" r="r" b="b"/>
            <a:pathLst>
              <a:path w="357187" h="414338">
                <a:moveTo>
                  <a:pt x="0" y="103585"/>
                </a:moveTo>
                <a:lnTo>
                  <a:pt x="119061" y="103583"/>
                </a:lnTo>
                <a:lnTo>
                  <a:pt x="178594" y="0"/>
                </a:lnTo>
                <a:lnTo>
                  <a:pt x="238126" y="103583"/>
                </a:lnTo>
                <a:lnTo>
                  <a:pt x="357187" y="103585"/>
                </a:lnTo>
                <a:lnTo>
                  <a:pt x="297658" y="207169"/>
                </a:lnTo>
                <a:lnTo>
                  <a:pt x="357187" y="310754"/>
                </a:lnTo>
                <a:lnTo>
                  <a:pt x="238126" y="310755"/>
                </a:lnTo>
                <a:lnTo>
                  <a:pt x="178594" y="414338"/>
                </a:lnTo>
                <a:lnTo>
                  <a:pt x="119061" y="310755"/>
                </a:lnTo>
                <a:lnTo>
                  <a:pt x="0" y="310754"/>
                </a:lnTo>
                <a:lnTo>
                  <a:pt x="59529" y="207169"/>
                </a:lnTo>
                <a:lnTo>
                  <a:pt x="0" y="10358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6-конечная звезда 15"/>
          <p:cNvSpPr/>
          <p:nvPr/>
        </p:nvSpPr>
        <p:spPr>
          <a:xfrm>
            <a:off x="8429760" y="428760"/>
            <a:ext cx="428400" cy="485640"/>
          </a:xfrm>
          <a:custGeom>
            <a:avLst/>
            <a:gdLst/>
            <a:ahLst/>
            <a:rect l="l" t="t" r="r" b="b"/>
            <a:pathLst>
              <a:path w="428625" h="485775">
                <a:moveTo>
                  <a:pt x="0" y="121444"/>
                </a:moveTo>
                <a:lnTo>
                  <a:pt x="142874" y="121442"/>
                </a:lnTo>
                <a:lnTo>
                  <a:pt x="214313" y="0"/>
                </a:lnTo>
                <a:lnTo>
                  <a:pt x="285751" y="121442"/>
                </a:lnTo>
                <a:lnTo>
                  <a:pt x="428625" y="121444"/>
                </a:lnTo>
                <a:lnTo>
                  <a:pt x="357190" y="242888"/>
                </a:lnTo>
                <a:lnTo>
                  <a:pt x="428625" y="364331"/>
                </a:lnTo>
                <a:lnTo>
                  <a:pt x="285751" y="364333"/>
                </a:lnTo>
                <a:lnTo>
                  <a:pt x="214313" y="485775"/>
                </a:lnTo>
                <a:lnTo>
                  <a:pt x="142874" y="364333"/>
                </a:lnTo>
                <a:lnTo>
                  <a:pt x="0" y="364331"/>
                </a:lnTo>
                <a:lnTo>
                  <a:pt x="71435" y="242888"/>
                </a:lnTo>
                <a:lnTo>
                  <a:pt x="0" y="121444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5-конечная звезда 16"/>
          <p:cNvSpPr/>
          <p:nvPr/>
        </p:nvSpPr>
        <p:spPr>
          <a:xfrm>
            <a:off x="3929040" y="5857920"/>
            <a:ext cx="571680" cy="414360"/>
          </a:xfrm>
          <a:custGeom>
            <a:avLst/>
            <a:gdLst/>
            <a:ahLst/>
            <a:rect l="l" t="t" r="r" b="b"/>
            <a:pathLst>
              <a:path w="571500" h="414338">
                <a:moveTo>
                  <a:pt x="1" y="158263"/>
                </a:moveTo>
                <a:lnTo>
                  <a:pt x="218295" y="158264"/>
                </a:lnTo>
                <a:lnTo>
                  <a:pt x="285750" y="0"/>
                </a:lnTo>
                <a:lnTo>
                  <a:pt x="353205" y="158264"/>
                </a:lnTo>
                <a:lnTo>
                  <a:pt x="571499" y="158263"/>
                </a:lnTo>
                <a:lnTo>
                  <a:pt x="394895" y="256074"/>
                </a:lnTo>
                <a:lnTo>
                  <a:pt x="462353" y="414337"/>
                </a:lnTo>
                <a:lnTo>
                  <a:pt x="285750" y="316524"/>
                </a:lnTo>
                <a:lnTo>
                  <a:pt x="109147" y="414337"/>
                </a:lnTo>
                <a:lnTo>
                  <a:pt x="176605" y="256074"/>
                </a:lnTo>
                <a:lnTo>
                  <a:pt x="1" y="158263"/>
                </a:lnTo>
                <a:close/>
              </a:path>
            </a:pathLst>
          </a:custGeom>
          <a:solidFill>
            <a:srgbClr val="b9cde5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-конечная звезда 17"/>
          <p:cNvSpPr/>
          <p:nvPr/>
        </p:nvSpPr>
        <p:spPr>
          <a:xfrm rot="1795200">
            <a:off x="1642680" y="213840"/>
            <a:ext cx="642960" cy="700200"/>
          </a:xfrm>
          <a:custGeom>
            <a:avLst/>
            <a:gdLst>
              <a:gd name="textAreaLeft" fmla="*/ 264960 w 642960"/>
              <a:gd name="textAreaRight" fmla="*/ 378000 w 642960"/>
              <a:gd name="textAreaTop" fmla="*/ 288360 h 700200"/>
              <a:gd name="textAreaBottom" fmla="*/ 411840 h 7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ятно 1 18"/>
          <p:cNvSpPr/>
          <p:nvPr/>
        </p:nvSpPr>
        <p:spPr>
          <a:xfrm>
            <a:off x="3786120" y="3929040"/>
            <a:ext cx="500040" cy="628560"/>
          </a:xfrm>
          <a:prstGeom prst="irregularSeal1">
            <a:avLst/>
          </a:prstGeom>
          <a:solidFill>
            <a:srgbClr val="00b0f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5-конечная звезда 19"/>
          <p:cNvSpPr/>
          <p:nvPr/>
        </p:nvSpPr>
        <p:spPr>
          <a:xfrm>
            <a:off x="3500280" y="214200"/>
            <a:ext cx="571680" cy="500040"/>
          </a:xfrm>
          <a:custGeom>
            <a:avLst/>
            <a:gdLst/>
            <a:ahLst/>
            <a:rect l="l" t="t" r="r" b="b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1"/>
                </a:lnTo>
                <a:lnTo>
                  <a:pt x="109147" y="500061"/>
                </a:lnTo>
                <a:lnTo>
                  <a:pt x="176605" y="309054"/>
                </a:lnTo>
                <a:lnTo>
                  <a:pt x="1" y="1910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4-конечная звезда 20"/>
          <p:cNvSpPr/>
          <p:nvPr/>
        </p:nvSpPr>
        <p:spPr>
          <a:xfrm rot="2321400">
            <a:off x="7286400" y="3499920"/>
            <a:ext cx="642960" cy="771840"/>
          </a:xfrm>
          <a:custGeom>
            <a:avLst/>
            <a:gdLst>
              <a:gd name="textAreaLeft" fmla="*/ 264960 w 642960"/>
              <a:gd name="textAreaRight" fmla="*/ 378000 w 642960"/>
              <a:gd name="textAreaTop" fmla="*/ 317880 h 771840"/>
              <a:gd name="textAreaBottom" fmla="*/ 453960 h 7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-конечная звезда 22"/>
          <p:cNvSpPr/>
          <p:nvPr/>
        </p:nvSpPr>
        <p:spPr>
          <a:xfrm rot="2455200">
            <a:off x="5489280" y="5195520"/>
            <a:ext cx="611280" cy="628560"/>
          </a:xfrm>
          <a:custGeom>
            <a:avLst/>
            <a:gdLst>
              <a:gd name="textAreaLeft" fmla="*/ 252000 w 611280"/>
              <a:gd name="textAreaRight" fmla="*/ 359280 w 611280"/>
              <a:gd name="textAreaTop" fmla="*/ 258840 h 628560"/>
              <a:gd name="textAreaBottom" fmla="*/ 3697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8eb4e3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8684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Управляющая кнопка: назад 24">
            <a:hlinkClick r:id="" action="ppaction://hlinkshowjump?jump=previousslide"/>
          </p:cNvPr>
          <p:cNvSpPr/>
          <p:nvPr/>
        </p:nvSpPr>
        <p:spPr>
          <a:xfrm>
            <a:off x="7715160" y="621504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10800"/>
                </a:moveTo>
                <a:lnTo>
                  <a:pt x="19353" y="3794"/>
                </a:lnTo>
                <a:lnTo>
                  <a:pt x="1935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Управляющая кнопка: домой 26"/>
          <p:cNvSpPr/>
          <p:nvPr/>
        </p:nvSpPr>
        <p:spPr>
          <a:xfrm>
            <a:off x="6858000" y="621504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8508" y="3837"/>
                </a:moveTo>
                <a:lnTo>
                  <a:pt x="21084" y="6448"/>
                </a:ln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lnTo>
                  <a:pt x="25471" y="10800"/>
                </a:lnTo>
                <a:lnTo>
                  <a:pt x="23817" y="10800"/>
                </a:lnTo>
                <a:lnTo>
                  <a:pt x="23817" y="17989"/>
                </a:lnTo>
                <a:lnTo>
                  <a:pt x="13198" y="17989"/>
                </a:lnTo>
                <a:lnTo>
                  <a:pt x="13198" y="10800"/>
                </a:lnTo>
                <a:lnTo>
                  <a:pt x="11545" y="10800"/>
                </a:lnTo>
                <a:close/>
              </a:path>
              <a:path fill="darkenLess" w="37015" h="21600">
                <a:moveTo>
                  <a:pt x="21084" y="6448"/>
                </a:moveTo>
                <a:lnTo>
                  <a:pt x="21084" y="4707"/>
                </a:lnTo>
                <a:lnTo>
                  <a:pt x="22859" y="4707"/>
                </a:lnTo>
                <a:lnTo>
                  <a:pt x="22859" y="8224"/>
                </a:lnTo>
                <a:close/>
              </a:path>
              <a:path fill="darkenLess" w="37015" h="21600">
                <a:moveTo>
                  <a:pt x="17585" y="14299"/>
                </a:moveTo>
                <a:lnTo>
                  <a:pt x="19430" y="14299"/>
                </a:lnTo>
                <a:lnTo>
                  <a:pt x="19430" y="17989"/>
                </a:lnTo>
                <a:lnTo>
                  <a:pt x="23817" y="17989"/>
                </a:lnTo>
                <a:lnTo>
                  <a:pt x="23817" y="10800"/>
                </a:lnTo>
                <a:lnTo>
                  <a:pt x="13198" y="10800"/>
                </a:lnTo>
                <a:lnTo>
                  <a:pt x="13198" y="17989"/>
                </a:lnTo>
                <a:lnTo>
                  <a:pt x="17585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5aae7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ут заметил Вакула, что ни галушек, ни  кадушки  перед ним  не было. На полу стояли  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наполн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енн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ые варениками  и сметаною </a:t>
            </a:r>
            <a:r>
              <a:rPr b="1" i="1" lang="ru-RU" sz="2200" spc="-1" strike="noStrike">
                <a:solidFill>
                  <a:srgbClr val="ffc000"/>
                </a:solidFill>
                <a:latin typeface="Constantia"/>
              </a:rPr>
              <a:t>миски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.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нег свистел под тысячью летящих  со всех сторон сан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ешеходы  жались  и  теснились под </a:t>
            </a:r>
            <a:r>
              <a:rPr b="1" i="1" lang="ru-RU" sz="2200" spc="-1" strike="noStrike">
                <a:solidFill>
                  <a:srgbClr val="ffc000"/>
                </a:solidFill>
                <a:latin typeface="Constantia"/>
              </a:rPr>
              <a:t>домами,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униза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нн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ыми плошкам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Огромные тени и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лькали  по стенам ,досяга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оловой  труб  и   крыш. С изумлением  оглядывался  кузнец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все сторон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98240" indent="-374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ffff00"/>
                </a:solidFill>
                <a:uFillTx/>
                <a:latin typeface="Constantia"/>
              </a:rPr>
              <a:t>      </a:t>
            </a:r>
            <a:r>
              <a:rPr b="0" i="1" lang="ru-RU" sz="3100" spc="-1" strike="noStrike" u="sng">
                <a:solidFill>
                  <a:srgbClr val="ffff00"/>
                </a:solidFill>
                <a:uFillTx/>
                <a:latin typeface="Constantia"/>
              </a:rPr>
              <a:t>Есть зависимое  слово!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Documents and Settings\Андрей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785880" y="285840"/>
            <a:ext cx="210960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Андрей\Мои документы\Мои рисунки\Рисунок5.jpg"/>
          <p:cNvPicPr/>
          <p:nvPr/>
        </p:nvPicPr>
        <p:blipFill>
          <a:blip r:embed="rId2"/>
          <a:stretch/>
        </p:blipFill>
        <p:spPr>
          <a:xfrm>
            <a:off x="1214280" y="3643200"/>
            <a:ext cx="2333880" cy="285120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1516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00092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10800"/>
                </a:moveTo>
                <a:lnTo>
                  <a:pt x="22430" y="3794"/>
                </a:lnTo>
                <a:lnTo>
                  <a:pt x="22430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Управляющая кнопка: домой 13"/>
          <p:cNvSpPr/>
          <p:nvPr/>
        </p:nvSpPr>
        <p:spPr>
          <a:xfrm>
            <a:off x="6143760" y="6286680"/>
            <a:ext cx="857160" cy="57132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ятно 1 14"/>
          <p:cNvSpPr/>
          <p:nvPr/>
        </p:nvSpPr>
        <p:spPr>
          <a:xfrm>
            <a:off x="3071880" y="571680"/>
            <a:ext cx="642960" cy="771480"/>
          </a:xfrm>
          <a:prstGeom prst="irregularSeal1">
            <a:avLst/>
          </a:pr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4-конечная звезда 15"/>
          <p:cNvSpPr/>
          <p:nvPr/>
        </p:nvSpPr>
        <p:spPr>
          <a:xfrm rot="1560000">
            <a:off x="7714800" y="15001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5-конечная звезда 16"/>
          <p:cNvSpPr/>
          <p:nvPr/>
        </p:nvSpPr>
        <p:spPr>
          <a:xfrm rot="1255200">
            <a:off x="3311280" y="1757160"/>
            <a:ext cx="449280" cy="625320"/>
          </a:xfrm>
          <a:custGeom>
            <a:avLst/>
            <a:gdLst/>
            <a:ahLst/>
            <a:rect l="l" t="t" r="r" b="b"/>
            <a:pathLst>
              <a:path w="449263" h="625475">
                <a:moveTo>
                  <a:pt x="0" y="238910"/>
                </a:moveTo>
                <a:lnTo>
                  <a:pt x="171604" y="238911"/>
                </a:lnTo>
                <a:lnTo>
                  <a:pt x="224632" y="0"/>
                </a:lnTo>
                <a:lnTo>
                  <a:pt x="277659" y="238911"/>
                </a:lnTo>
                <a:lnTo>
                  <a:pt x="449263" y="238910"/>
                </a:lnTo>
                <a:lnTo>
                  <a:pt x="310432" y="386563"/>
                </a:lnTo>
                <a:lnTo>
                  <a:pt x="363461" y="625473"/>
                </a:lnTo>
                <a:lnTo>
                  <a:pt x="224632" y="477817"/>
                </a:lnTo>
                <a:lnTo>
                  <a:pt x="85802" y="625473"/>
                </a:lnTo>
                <a:lnTo>
                  <a:pt x="138831" y="386563"/>
                </a:lnTo>
                <a:lnTo>
                  <a:pt x="0" y="23891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4-конечная звезда 17"/>
          <p:cNvSpPr/>
          <p:nvPr/>
        </p:nvSpPr>
        <p:spPr>
          <a:xfrm rot="19180800">
            <a:off x="4654440" y="1457280"/>
            <a:ext cx="860400" cy="932040"/>
          </a:xfrm>
          <a:custGeom>
            <a:avLst/>
            <a:gdLst>
              <a:gd name="textAreaLeft" fmla="*/ 394560 w 860400"/>
              <a:gd name="textAreaRight" fmla="*/ 465840 w 860400"/>
              <a:gd name="textAreaTop" fmla="*/ 427680 h 932040"/>
              <a:gd name="textAreaBottom" fmla="*/ 504360 h 932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08" y="9908"/>
                </a:lnTo>
                <a:lnTo>
                  <a:pt x="10800" y="0"/>
                </a:lnTo>
                <a:lnTo>
                  <a:pt x="11692" y="9908"/>
                </a:lnTo>
                <a:lnTo>
                  <a:pt x="21600" y="10800"/>
                </a:lnTo>
                <a:lnTo>
                  <a:pt x="11692" y="11692"/>
                </a:lnTo>
                <a:lnTo>
                  <a:pt x="10800" y="21600"/>
                </a:lnTo>
                <a:lnTo>
                  <a:pt x="9908" y="11692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-конечная звезда 18"/>
          <p:cNvSpPr/>
          <p:nvPr/>
        </p:nvSpPr>
        <p:spPr>
          <a:xfrm>
            <a:off x="7786800" y="1571760"/>
            <a:ext cx="714240" cy="771480"/>
          </a:xfrm>
          <a:custGeom>
            <a:avLst/>
            <a:gdLst>
              <a:gd name="textAreaLeft" fmla="*/ 294120 w 714240"/>
              <a:gd name="textAreaRight" fmla="*/ 420120 w 714240"/>
              <a:gd name="textAreaTop" fmla="*/ 317880 h 771480"/>
              <a:gd name="textAreaBottom" fmla="*/ 45360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2968560" cy="58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35434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214200"/>
            <a:ext cx="8398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79240" indent="-45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Constantia"/>
              </a:rPr>
              <a:t>Совершенный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                                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2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buClr>
                <a:srgbClr val="f9f9f9"/>
              </a:buClr>
              <a:buSzPct val="6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?……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акула и не думал о тех испытаниях, которые его ожидали.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.   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?…….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ена хватила кочергою мужа по рука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кача по спине и уже стояла возле мешк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.   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………?…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кузнец тихо поцеловал ее, и лицо ее пуще прежнего загорелось, и она стала еще лучш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Восхище..ый, броше..ый, образова..ый, да..ы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924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непобежде..ый, обиже..ы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3929040" y="1071720"/>
            <a:ext cx="428760" cy="428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435780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478620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521496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564372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607212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11"/>
          <p:cNvSpPr/>
          <p:nvPr/>
        </p:nvSpPr>
        <p:spPr>
          <a:xfrm>
            <a:off x="650088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2"/>
          <p:cNvSpPr/>
          <p:nvPr/>
        </p:nvSpPr>
        <p:spPr>
          <a:xfrm>
            <a:off x="692928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3"/>
          <p:cNvSpPr/>
          <p:nvPr/>
        </p:nvSpPr>
        <p:spPr>
          <a:xfrm>
            <a:off x="735804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14"/>
          <p:cNvSpPr/>
          <p:nvPr/>
        </p:nvSpPr>
        <p:spPr>
          <a:xfrm>
            <a:off x="7786800" y="107172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8215200" y="107172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6"/>
          <p:cNvSpPr/>
          <p:nvPr/>
        </p:nvSpPr>
        <p:spPr>
          <a:xfrm>
            <a:off x="3929040" y="1928880"/>
            <a:ext cx="428760" cy="428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7"/>
          <p:cNvSpPr/>
          <p:nvPr/>
        </p:nvSpPr>
        <p:spPr>
          <a:xfrm>
            <a:off x="3929040" y="1500120"/>
            <a:ext cx="428760" cy="414360"/>
          </a:xfrm>
          <a:prstGeom prst="rect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8"/>
          <p:cNvSpPr/>
          <p:nvPr/>
        </p:nvSpPr>
        <p:spPr>
          <a:xfrm>
            <a:off x="264312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221472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178596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135720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2"/>
          <p:cNvSpPr/>
          <p:nvPr/>
        </p:nvSpPr>
        <p:spPr>
          <a:xfrm>
            <a:off x="350028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3"/>
          <p:cNvSpPr/>
          <p:nvPr/>
        </p:nvSpPr>
        <p:spPr>
          <a:xfrm>
            <a:off x="307188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24"/>
          <p:cNvSpPr/>
          <p:nvPr/>
        </p:nvSpPr>
        <p:spPr>
          <a:xfrm>
            <a:off x="435780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5"/>
          <p:cNvSpPr/>
          <p:nvPr/>
        </p:nvSpPr>
        <p:spPr>
          <a:xfrm>
            <a:off x="92880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26"/>
          <p:cNvSpPr/>
          <p:nvPr/>
        </p:nvSpPr>
        <p:spPr>
          <a:xfrm>
            <a:off x="350028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27"/>
          <p:cNvSpPr/>
          <p:nvPr/>
        </p:nvSpPr>
        <p:spPr>
          <a:xfrm>
            <a:off x="307188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478620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30"/>
          <p:cNvSpPr/>
          <p:nvPr/>
        </p:nvSpPr>
        <p:spPr>
          <a:xfrm>
            <a:off x="521496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564372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6072120" y="1500120"/>
            <a:ext cx="42876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6500880" y="1500120"/>
            <a:ext cx="428400" cy="42876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435780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478620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521496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5643720" y="1928880"/>
            <a:ext cx="42840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1"/>
          <p:cNvSpPr/>
          <p:nvPr/>
        </p:nvSpPr>
        <p:spPr>
          <a:xfrm>
            <a:off x="6072120" y="1928880"/>
            <a:ext cx="428760" cy="428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Управляющая кнопка: далее 42">
            <a:hlinkClick r:id="" action="ppaction://hlinkshowjump?jump=nextslide"/>
          </p:cNvPr>
          <p:cNvSpPr/>
          <p:nvPr/>
        </p:nvSpPr>
        <p:spPr>
          <a:xfrm>
            <a:off x="778680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3794"/>
                </a:moveTo>
                <a:lnTo>
                  <a:pt x="19345" y="10800"/>
                </a:lnTo>
                <a:lnTo>
                  <a:pt x="5332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Управляющая кнопка: назад 43">
            <a:hlinkClick r:id="" action="ppaction://hlinkshowjump?jump=previousslide"/>
          </p:cNvPr>
          <p:cNvSpPr/>
          <p:nvPr/>
        </p:nvSpPr>
        <p:spPr>
          <a:xfrm>
            <a:off x="7215120" y="635796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10800"/>
                </a:moveTo>
                <a:lnTo>
                  <a:pt x="19353" y="3794"/>
                </a:lnTo>
                <a:lnTo>
                  <a:pt x="1935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Управляющая кнопка: домой 45"/>
          <p:cNvSpPr/>
          <p:nvPr/>
        </p:nvSpPr>
        <p:spPr>
          <a:xfrm>
            <a:off x="650088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5-конечная звезда 40"/>
          <p:cNvSpPr/>
          <p:nvPr/>
        </p:nvSpPr>
        <p:spPr>
          <a:xfrm>
            <a:off x="7500960" y="214200"/>
            <a:ext cx="642960" cy="628920"/>
          </a:xfrm>
          <a:custGeom>
            <a:avLst/>
            <a:gdLst/>
            <a:ahLst/>
            <a:rect l="l" t="t" r="r" b="b"/>
            <a:pathLst>
              <a:path w="642937" h="628650">
                <a:moveTo>
                  <a:pt x="1" y="240122"/>
                </a:moveTo>
                <a:lnTo>
                  <a:pt x="245581" y="240124"/>
                </a:lnTo>
                <a:lnTo>
                  <a:pt x="321469" y="0"/>
                </a:lnTo>
                <a:lnTo>
                  <a:pt x="397356" y="240124"/>
                </a:lnTo>
                <a:lnTo>
                  <a:pt x="642936" y="240122"/>
                </a:lnTo>
                <a:lnTo>
                  <a:pt x="444256" y="388525"/>
                </a:lnTo>
                <a:lnTo>
                  <a:pt x="520147" y="628648"/>
                </a:lnTo>
                <a:lnTo>
                  <a:pt x="321469" y="480243"/>
                </a:lnTo>
                <a:lnTo>
                  <a:pt x="122790" y="628648"/>
                </a:lnTo>
                <a:lnTo>
                  <a:pt x="198681" y="388525"/>
                </a:lnTo>
                <a:lnTo>
                  <a:pt x="1" y="240122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4-конечная звезда 44"/>
          <p:cNvSpPr/>
          <p:nvPr/>
        </p:nvSpPr>
        <p:spPr>
          <a:xfrm>
            <a:off x="8072280" y="2428920"/>
            <a:ext cx="914400" cy="914400"/>
          </a:xfrm>
          <a:custGeom>
            <a:avLst/>
            <a:gdLst>
              <a:gd name="textAreaLeft" fmla="*/ 437040 w 914400"/>
              <a:gd name="textAreaRight" fmla="*/ 477360 w 914400"/>
              <a:gd name="textAreaTop" fmla="*/ 437040 h 914400"/>
              <a:gd name="textAreaBottom" fmla="*/ 477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325" y="10325"/>
                </a:lnTo>
                <a:lnTo>
                  <a:pt x="10800" y="0"/>
                </a:lnTo>
                <a:lnTo>
                  <a:pt x="11275" y="10325"/>
                </a:lnTo>
                <a:lnTo>
                  <a:pt x="21600" y="10800"/>
                </a:lnTo>
                <a:lnTo>
                  <a:pt x="11275" y="11275"/>
                </a:lnTo>
                <a:lnTo>
                  <a:pt x="10800" y="21600"/>
                </a:lnTo>
                <a:lnTo>
                  <a:pt x="10325" y="1127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4-конечная звезда 46"/>
          <p:cNvSpPr/>
          <p:nvPr/>
        </p:nvSpPr>
        <p:spPr>
          <a:xfrm rot="19947600">
            <a:off x="1071720" y="928440"/>
            <a:ext cx="914400" cy="914400"/>
          </a:xfrm>
          <a:custGeom>
            <a:avLst/>
            <a:gdLst>
              <a:gd name="textAreaLeft" fmla="*/ 406800 w 914400"/>
              <a:gd name="textAreaRight" fmla="*/ 507600 w 914400"/>
              <a:gd name="textAreaTop" fmla="*/ 406800 h 914400"/>
              <a:gd name="textAreaBottom" fmla="*/ 507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12" y="9612"/>
                </a:lnTo>
                <a:lnTo>
                  <a:pt x="10800" y="0"/>
                </a:lnTo>
                <a:lnTo>
                  <a:pt x="11988" y="9612"/>
                </a:lnTo>
                <a:lnTo>
                  <a:pt x="21600" y="10800"/>
                </a:lnTo>
                <a:lnTo>
                  <a:pt x="11988" y="11988"/>
                </a:lnTo>
                <a:lnTo>
                  <a:pt x="10800" y="21600"/>
                </a:lnTo>
                <a:lnTo>
                  <a:pt x="9612" y="1198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4-конечная звезда 47"/>
          <p:cNvSpPr/>
          <p:nvPr/>
        </p:nvSpPr>
        <p:spPr>
          <a:xfrm>
            <a:off x="1143000" y="1000080"/>
            <a:ext cx="714240" cy="771480"/>
          </a:xfrm>
          <a:custGeom>
            <a:avLst/>
            <a:gdLst>
              <a:gd name="textAreaLeft" fmla="*/ 294120 w 714240"/>
              <a:gd name="textAreaRight" fmla="*/ 420120 w 714240"/>
              <a:gd name="textAreaTop" fmla="*/ 317880 h 771480"/>
              <a:gd name="textAreaBottom" fmla="*/ 45360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4-конечная звезда 48"/>
          <p:cNvSpPr/>
          <p:nvPr/>
        </p:nvSpPr>
        <p:spPr>
          <a:xfrm rot="19121400">
            <a:off x="5072040" y="0"/>
            <a:ext cx="914400" cy="914400"/>
          </a:xfrm>
          <a:custGeom>
            <a:avLst/>
            <a:gdLst>
              <a:gd name="textAreaLeft" fmla="*/ 389520 w 914400"/>
              <a:gd name="textAreaRight" fmla="*/ 524880 w 914400"/>
              <a:gd name="textAreaTop" fmla="*/ 389520 h 914400"/>
              <a:gd name="textAreaBottom" fmla="*/ 5248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98" y="9198"/>
                </a:lnTo>
                <a:lnTo>
                  <a:pt x="10800" y="0"/>
                </a:lnTo>
                <a:lnTo>
                  <a:pt x="12402" y="9198"/>
                </a:lnTo>
                <a:lnTo>
                  <a:pt x="21600" y="10800"/>
                </a:lnTo>
                <a:lnTo>
                  <a:pt x="12402" y="12402"/>
                </a:lnTo>
                <a:lnTo>
                  <a:pt x="10800" y="21600"/>
                </a:lnTo>
                <a:lnTo>
                  <a:pt x="9198" y="1240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4-конечная звезда 49"/>
          <p:cNvSpPr/>
          <p:nvPr/>
        </p:nvSpPr>
        <p:spPr>
          <a:xfrm>
            <a:off x="5143680" y="0"/>
            <a:ext cx="914400" cy="914400"/>
          </a:xfrm>
          <a:custGeom>
            <a:avLst/>
            <a:gdLst>
              <a:gd name="textAreaLeft" fmla="*/ 406800 w 914400"/>
              <a:gd name="textAreaRight" fmla="*/ 507600 w 914400"/>
              <a:gd name="textAreaTop" fmla="*/ 406800 h 914400"/>
              <a:gd name="textAreaBottom" fmla="*/ 507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13" y="9613"/>
                </a:lnTo>
                <a:lnTo>
                  <a:pt x="10800" y="0"/>
                </a:lnTo>
                <a:lnTo>
                  <a:pt x="11987" y="9613"/>
                </a:lnTo>
                <a:lnTo>
                  <a:pt x="21600" y="10800"/>
                </a:lnTo>
                <a:lnTo>
                  <a:pt x="11987" y="11987"/>
                </a:lnTo>
                <a:lnTo>
                  <a:pt x="10800" y="21600"/>
                </a:lnTo>
                <a:lnTo>
                  <a:pt x="9613" y="1198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ятно 2 50"/>
          <p:cNvSpPr/>
          <p:nvPr/>
        </p:nvSpPr>
        <p:spPr>
          <a:xfrm>
            <a:off x="7072200" y="2143080"/>
            <a:ext cx="642960" cy="557280"/>
          </a:xfrm>
          <a:prstGeom prst="irregularSeal2">
            <a:avLst/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4-конечная звезда 51"/>
          <p:cNvSpPr/>
          <p:nvPr/>
        </p:nvSpPr>
        <p:spPr>
          <a:xfrm rot="20346600">
            <a:off x="6929280" y="1928520"/>
            <a:ext cx="914400" cy="914400"/>
          </a:xfrm>
          <a:custGeom>
            <a:avLst/>
            <a:gdLst>
              <a:gd name="textAreaLeft" fmla="*/ 396720 w 914400"/>
              <a:gd name="textAreaRight" fmla="*/ 517680 w 914400"/>
              <a:gd name="textAreaTop" fmla="*/ 396720 h 914400"/>
              <a:gd name="textAreaBottom" fmla="*/ 5176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28:27Z</dcterms:created>
  <dc:creator>Андрей</dc:creator>
  <dc:description/>
  <dc:language>en-US</dc:language>
  <cp:lastModifiedBy>Таня</cp:lastModifiedBy>
  <dcterms:modified xsi:type="dcterms:W3CDTF">2018-03-28T17:59:20Z</dcterms:modified>
  <cp:revision>208</cp:revision>
  <dc:subject/>
  <dc:title>Н и НН всу</dc:title>
</cp:coreProperties>
</file>