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84C8-FE42-415E-B4FD-0AD0486CC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1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3781-5837-40A8-81C9-301524021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937F-92A9-4EA6-9ED9-100F80270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67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21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713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67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21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B815-9FE8-4103-9044-7F5E1CF68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D2ED4-E1E5-432A-8230-F895F57C5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B4F69-9C76-4DDF-948B-1BF939F1A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30D17-1FC4-47CD-8B15-CF8B92CED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2B3C4-6C9F-43AC-B9B9-D98DC45FA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25A5F-171A-4192-8B1E-B7D3FE86D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D497E-14AF-4AC9-A587-3BA1C525D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0569A-1CBB-4E46-AB70-9F9DC3F9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DB19-2FA6-4754-A520-E2BC23814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2D460-8948-497E-92BC-6ED3A4C3D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823B9-E9B9-41A1-A761-9ACFD1A7A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7474A-631D-4A84-AC21-E47530195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C3E9D-FA99-490A-9057-A62FAAF9C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767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821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713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767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821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F40DA-510B-42F1-99DA-30121BC44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A9B1-2476-4599-9C66-AD16F40DA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CACD-6501-4990-BE5E-1874F67DE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4CF2-1C00-42A3-8149-AD4BE7731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AE33-0878-48D3-989C-E8F4ACC81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06B9-8652-4C84-81D0-F4040E38E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667D-EB88-4CB7-862A-F86DD6359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D201-F458-4633-8A8F-D09E84E04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08852-F2D4-46A2-BCB5-6447A847B7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8C752-BC7D-41AD-98CB-C45C24F922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Проблемное обучение</a:t>
            </a:r>
            <a:endParaRPr b="0" lang="en-US" sz="6000" spc="-1" strike="noStrike">
              <a:solidFill>
                <a:srgbClr val="ff0000"/>
              </a:solidFill>
              <a:latin typeface="Calibri"/>
            </a:endParaRPr>
          </a:p>
        </p:txBody>
      </p:sp>
      <p:pic>
        <p:nvPicPr>
          <p:cNvPr id="83" name="Рисунок 22" descr=""/>
          <p:cNvPicPr/>
          <p:nvPr/>
        </p:nvPicPr>
        <p:blipFill>
          <a:blip r:embed="rId1"/>
          <a:stretch/>
        </p:blipFill>
        <p:spPr>
          <a:xfrm>
            <a:off x="571680" y="3174840"/>
            <a:ext cx="2928600" cy="338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8785440" cy="67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блемность как принцип обучения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001000" cy="1512720"/>
          </a:xfrm>
          <a:prstGeom prst="rect">
            <a:avLst/>
          </a:prstGeom>
          <a:solidFill>
            <a:srgbClr val="eaead6"/>
          </a:solidFill>
          <a:ln w="57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Проблемная ситуаци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характеризует определенное психологическое состояние учащегося, возникающее в процессе выполнения задания, для которого нет готовых средств и которое требует усвоения новых знаний о предмете, способах или условиях его выполнения. Условием возникновения проблемной ситуации является необходимость в раскрытии нового отношения, свойства или способа действия 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395280" y="335772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мпоненты проблемной ситу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468360" y="4005360"/>
            <a:ext cx="3025800" cy="2014200"/>
          </a:xfrm>
          <a:prstGeom prst="rect">
            <a:avLst/>
          </a:prstGeom>
          <a:solidFill>
            <a:srgbClr val="ffebb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обходимость выполнения такого действия, при котором возникает познавательная потребность в новом неизвестном отношении, способе или условии действ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3708360" y="4005360"/>
            <a:ext cx="2106720" cy="1739880"/>
          </a:xfrm>
          <a:prstGeom prst="rect">
            <a:avLst/>
          </a:prstGeom>
          <a:solidFill>
            <a:srgbClr val="ffebb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известное, которое должно быть раскрыто в возникшей проблемной ситуаци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6012000" y="4005360"/>
            <a:ext cx="2500200" cy="1739880"/>
          </a:xfrm>
          <a:prstGeom prst="rect">
            <a:avLst/>
          </a:prstGeom>
          <a:solidFill>
            <a:srgbClr val="ffebb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зможности учащихся в выполнении поставленного задания, в анализе условий и открытии неизвестног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13880" y="500040"/>
            <a:ext cx="7961400" cy="67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авила создан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блемных ситуаций  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8001000" cy="942840"/>
          </a:xfrm>
          <a:prstGeom prst="rect">
            <a:avLst/>
          </a:prstGeom>
          <a:solidFill>
            <a:srgbClr val="eaead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подаватель дает обучаемым практическое или теоретическое задание, выполняя которое, они должны получить новые знания или способы действий, которые надлежит усвоить по данной тем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611280" y="2565360"/>
            <a:ext cx="8001000" cy="942840"/>
          </a:xfrm>
          <a:prstGeom prst="rect">
            <a:avLst/>
          </a:prstGeom>
          <a:solidFill>
            <a:srgbClr val="eaea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длагаемое учащимся проблемное задание должно соответствовать их интеллектуальным возможностям, т.е. быть достаточно трудным, но разрешимы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611280" y="3645000"/>
            <a:ext cx="8001000" cy="584280"/>
          </a:xfrm>
          <a:prstGeom prst="rect">
            <a:avLst/>
          </a:prstGeom>
          <a:solidFill>
            <a:srgbClr val="eaea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 предъявлении проблемного задания преподаватель должен учитывать реальный уровень знаний обучаемы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611280" y="4365720"/>
            <a:ext cx="8001000" cy="849240"/>
          </a:xfrm>
          <a:prstGeom prst="rect">
            <a:avLst/>
          </a:prstGeom>
          <a:solidFill>
            <a:srgbClr val="eaea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179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качестве проблемных заданий могут выступать учебные задачи, вопросы,  практические задания, которые должны ставить обучаемых в проблемные ситу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179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611280" y="5373720"/>
            <a:ext cx="8001000" cy="1285920"/>
          </a:xfrm>
          <a:prstGeom prst="rect">
            <a:avLst/>
          </a:prstGeom>
          <a:solidFill>
            <a:srgbClr val="eaea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сли обучаемые не смогли разобраться с проблемной ситуацией, то преподаватель должен сформулировать возникшую проблемную ситуацию и тем самым как бы зафиксировать ее, указать причины невыполнения задания и приступить к объяснению материала, необходимого для его реш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9280" y="47628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менение мотивирующих примеров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pic>
        <p:nvPicPr>
          <p:cNvPr id="118" name="Содержимое 3" descr=""/>
          <p:cNvPicPr/>
          <p:nvPr/>
        </p:nvPicPr>
        <p:blipFill>
          <a:blip r:embed="rId1"/>
          <a:stretch/>
        </p:blipFill>
        <p:spPr>
          <a:xfrm>
            <a:off x="566640" y="1523880"/>
            <a:ext cx="8163000" cy="413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ействия ученика при создании учителем проблемной  ситуации :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pic>
        <p:nvPicPr>
          <p:cNvPr id="120" name="Схема 4" descr=""/>
          <p:cNvPicPr/>
          <p:nvPr/>
        </p:nvPicPr>
        <p:blipFill>
          <a:blip r:embed="rId1"/>
          <a:stretch/>
        </p:blipFill>
        <p:spPr>
          <a:xfrm>
            <a:off x="128520" y="1908000"/>
            <a:ext cx="8820360" cy="402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31680" y="764640"/>
            <a:ext cx="760068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стоинства и недостатки проблемного обучения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4849920" y="1782720"/>
            <a:ext cx="4079880" cy="4670640"/>
          </a:xfrm>
          <a:prstGeom prst="rect">
            <a:avLst/>
          </a:prstGeom>
          <a:solidFill>
            <a:srgbClr val="b7dee8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доста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80000"/>
              </a:lnSpc>
              <a:spcBef>
                <a:spcPts val="499"/>
              </a:spcBef>
              <a:buClr>
                <a:srgbClr val="4f81bd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меньшей мере чем другие типы обучения применимо при формировании практических умений и навы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80000"/>
              </a:lnSpc>
              <a:spcBef>
                <a:spcPts val="499"/>
              </a:spcBef>
              <a:buClr>
                <a:srgbClr val="4f81bd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ребует больших затрат времени для усвоения одного и того же объема знаний по сравнению с другими типами обу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80000"/>
              </a:lnSpc>
              <a:spcBef>
                <a:spcPts val="499"/>
              </a:spcBef>
              <a:buClr>
                <a:srgbClr val="4f81bd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 обеспечивает эффективного развития мыслительных способностей обучающихся потому, что базируется на закономерностях репродуктивного мышления, а не творческой деятель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4f81bd"/>
              </a:buClr>
              <a:buSzPct val="7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428760" y="1785960"/>
            <a:ext cx="3929040" cy="4619520"/>
          </a:xfrm>
          <a:prstGeom prst="rect">
            <a:avLst/>
          </a:prstGeom>
          <a:solidFill>
            <a:srgbClr val="b7dee8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стоин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4f81bd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еспечивает особый тип мышления, глубину убеждений, прочность усвоения знаний и творческое их применение в практическ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4f81bd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пособствует формированию мотивации достижения успе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4f81bd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вивает мыслительные способности обучаю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179280" y="189000"/>
          <a:ext cx="8785440" cy="6188040"/>
        </p:xfrm>
        <a:graphic>
          <a:graphicData uri="http://schemas.openxmlformats.org/drawingml/2006/table">
            <a:tbl>
              <a:tblPr/>
              <a:tblGrid>
                <a:gridCol w="4105440"/>
                <a:gridCol w="2232000"/>
                <a:gridCol w="2448000"/>
              </a:tblGrid>
              <a:tr h="520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тоды проблемного обуч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следовательский мет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блемного излож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вристическая бесе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18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Основные этапы исследовательск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процесса: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выявление неизвестных фактов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лежащих исследованию; уточнение 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ормулировка проблемы; выдвижение гипотез; составление плана исследования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уществление исследовательского плана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следование неизвестных фактов и их связей с другими, проверка выдвинутых гипотез; формулировка результата; оценка значимости полученного нового знания, возможностей его примене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Отличие исследовательского метода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ебная проблема не является нов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тиной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Стимулы учащихся к проведению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следования отличны от стимулов, побуждающих ученого к исследованию.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итель раскрывает перед учащимися путь исследования, поиска и открытия новых знаний, готовя их тем самым к самостоятельному поиску в дальнейшем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блемное изложение подготавливает базу для применения эвристического метода, а эвристический метод - для применения исследовательского метода.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епень проблемности проявляется по-разному: цепочка вопросов, обращенных к опыту, знаниям, размышлениям учеников; «называние» темы , постановка проблемы, которую дети решают под руководством преподавателя, выдвигая гипотезу, формулируя возможные пути ее решения, совместно обсуждая ход и результаты решения, экспериментируя, подтверждая или опровергая выдвинутую гипотезу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826560" y="1267920"/>
            <a:ext cx="76741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Знать что-либо наизусть – все равно, что не знать ничего; это значит владеть тем, что дано лишь на хранение памяти.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М.Монтен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3" descr="j0355323[1]"/>
          <p:cNvPicPr/>
          <p:nvPr/>
        </p:nvPicPr>
        <p:blipFill>
          <a:blip r:embed="rId1"/>
          <a:stretch/>
        </p:blipFill>
        <p:spPr>
          <a:xfrm>
            <a:off x="3500280" y="4286160"/>
            <a:ext cx="202104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блемное обучение 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42600" y="1285920"/>
            <a:ext cx="80010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стоянно ставит обучаемого в ситуацию задачи, решение которой непременно требует работы мышления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1" descr=""/>
          <p:cNvPicPr/>
          <p:nvPr/>
        </p:nvPicPr>
        <p:blipFill>
          <a:blip r:embed="rId1"/>
          <a:stretch/>
        </p:blipFill>
        <p:spPr>
          <a:xfrm>
            <a:off x="4857840" y="3214800"/>
            <a:ext cx="2833560" cy="29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571320" y="714240"/>
            <a:ext cx="80010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632523"/>
                </a:solidFill>
                <a:uFillTx/>
                <a:latin typeface="Calibri"/>
              </a:rPr>
              <a:t>Проблем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дание, задача, теоретический или практический вопрос, требующий разрешен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731901"/>
                </a:solidFill>
                <a:uFillTx/>
                <a:latin typeface="Calibri"/>
              </a:rPr>
              <a:t>проблемная ситуация в обучении</a:t>
            </a:r>
            <a:r>
              <a:rPr b="1" lang="ru-RU" sz="3200" spc="-1" strike="noStrike">
                <a:solidFill>
                  <a:srgbClr val="731901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ланированное, специальн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думанное средство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правленное на пробуждени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тереса у учащихс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 обсуждаемой тем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Картинка 38 из 64000"/>
          <p:cNvPicPr/>
          <p:nvPr/>
        </p:nvPicPr>
        <p:blipFill>
          <a:blip r:embed="rId1"/>
          <a:stretch/>
        </p:blipFill>
        <p:spPr>
          <a:xfrm>
            <a:off x="6429240" y="3214800"/>
            <a:ext cx="2000520" cy="344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чины эффективности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8000" y="1143000"/>
            <a:ext cx="849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ольшая интеллектуальная активность учащегося, вызываемая познавательной потребностью – желанием найти искомое неизвестное, без которого он не сможет решить поставленную задачу. 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нания усваиваются как некие общие закономерности или способы действий, позволяющие использовать их и впредь при решении широкого класса других задач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ли проблемного обучения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42600" y="1357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формировать у учащихся необходимую систему знаний, умений и навык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стигнуть высокого уровня развития школьников, развития способности к самообучению, самообразованию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формировать особый стиль умственной деятельности, исследовательскую активность и самостоятельность учащихся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36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ущность проблемного обучения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 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39280" y="14130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984807"/>
                </a:solidFill>
                <a:latin typeface="Times New Roman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водится к тому, что в процессе обучения в корне изменяется характер и структура познавательной деятельности учащегося, приводящее к развитию творческого потенциала личности учащегося. Главным и характерным признаком проблемного обучения является проблемная ситуаци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1680" y="356760"/>
            <a:ext cx="815328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нципы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50560" y="1052640"/>
            <a:ext cx="87138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вязь предмета изучения с жизнью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нцип дифференциации при решении творческих задач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бор художественного материала по различным видам искусства, обусловленный возрастными особенностями и возможностями учащихс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ичностная значимость изучаемого и сделанного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ктивное включение обучающихся в изучение различных сторон традиционной культур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ет и рассмотрение региональных особенностей, привычного детям природного окружения, национальных и народных художественных традиций, изучение истории родного края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нцип единства восприятия и созида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витие художественно-образного мышл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ворческое освоение ИКТ  при решении художественных задач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Схема 3" descr=""/>
          <p:cNvPicPr/>
          <p:nvPr/>
        </p:nvPicPr>
        <p:blipFill>
          <a:blip r:embed="rId1"/>
          <a:stretch/>
        </p:blipFill>
        <p:spPr>
          <a:xfrm>
            <a:off x="781200" y="1158840"/>
            <a:ext cx="6948360" cy="412596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5"/>
          <p:cNvSpPr/>
          <p:nvPr/>
        </p:nvSpPr>
        <p:spPr>
          <a:xfrm>
            <a:off x="785880" y="50004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сто проблемного обуч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Группа 9" descr=""/>
          <p:cNvPicPr/>
          <p:nvPr/>
        </p:nvPicPr>
        <p:blipFill>
          <a:blip r:embed="rId2"/>
          <a:stretch/>
        </p:blipFill>
        <p:spPr>
          <a:xfrm>
            <a:off x="4632480" y="1328760"/>
            <a:ext cx="3006720" cy="3030480"/>
          </a:xfrm>
          <a:prstGeom prst="rect">
            <a:avLst/>
          </a:prstGeom>
          <a:ln w="0">
            <a:noFill/>
          </a:ln>
        </p:spPr>
      </p:pic>
      <p:pic>
        <p:nvPicPr>
          <p:cNvPr id="102" name="Группа 12" descr=""/>
          <p:cNvPicPr/>
          <p:nvPr/>
        </p:nvPicPr>
        <p:blipFill>
          <a:blip r:embed="rId3"/>
          <a:stretch/>
        </p:blipFill>
        <p:spPr>
          <a:xfrm>
            <a:off x="4632480" y="3389400"/>
            <a:ext cx="3006720" cy="3030480"/>
          </a:xfrm>
          <a:prstGeom prst="rect">
            <a:avLst/>
          </a:prstGeom>
          <a:ln w="0">
            <a:noFill/>
          </a:ln>
        </p:spPr>
      </p:pic>
      <p:sp>
        <p:nvSpPr>
          <p:cNvPr id="103" name="TextBox 16"/>
          <p:cNvSpPr/>
          <p:nvPr/>
        </p:nvSpPr>
        <p:spPr>
          <a:xfrm>
            <a:off x="5334120" y="2168640"/>
            <a:ext cx="2228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На любом предметном содержа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7"/>
          <p:cNvSpPr/>
          <p:nvPr/>
        </p:nvSpPr>
        <p:spPr>
          <a:xfrm>
            <a:off x="5334120" y="4232160"/>
            <a:ext cx="207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На любом возрастном этап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3T09:44:30Z</dcterms:created>
  <dc:creator>Татьяна</dc:creator>
  <dc:description/>
  <cp:keywords/>
  <dc:language>en-US</dc:language>
  <cp:lastModifiedBy>comp1</cp:lastModifiedBy>
  <dcterms:modified xsi:type="dcterms:W3CDTF">2011-04-15T04:39:06Z</dcterms:modified>
  <cp:revision>16</cp:revision>
  <dc:subject/>
  <dc:title>Проблемное обучени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9087049991</vt:lpwstr>
  </property>
</Properties>
</file>