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jpeg" ContentType="image/jpeg"/>
  <Override PartName="/ppt/media/image6.png" ContentType="image/png"/>
  <Override PartName="/ppt/media/image7.png" ContentType="image/png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ED09-0123-4E4E-BC10-B4DF455A4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9A05-A23B-44B3-98B1-5B317D69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9849-CDF0-4BB9-BF58-CF7B1B610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0206-3416-406C-9C17-BB4DC34A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2890-AA00-43AF-B507-274FFF24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EFE1-967D-4090-A3DC-87C1F989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2AD3-9489-47D0-9D8B-11C3DD9F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E708-BF38-4614-A43A-BAF80749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47F5-9843-4F57-AE25-DFA79A80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7B0D-3A8F-4AAA-8D9E-B0CBC3AE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B597-CFBA-477F-A696-55C4BC6A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05F7-0093-47A2-AD70-8B91F98D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DD96-D91E-472E-9A26-B03BE72A0B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Объект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3" name="TextBox 8"/>
          <p:cNvSpPr/>
          <p:nvPr/>
        </p:nvSpPr>
        <p:spPr>
          <a:xfrm>
            <a:off x="1403280" y="692280"/>
            <a:ext cx="662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русского языка в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Б класс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3708360" y="5229360"/>
            <a:ext cx="4896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0"/>
          <p:cNvSpPr/>
          <p:nvPr/>
        </p:nvSpPr>
        <p:spPr>
          <a:xfrm>
            <a:off x="3460680" y="4265640"/>
            <a:ext cx="50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ашева Татьяна Михайл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C:\Documents and Settings\Admin\Рабочий стол\картинки2\516994.gif"/>
          <p:cNvPicPr/>
          <p:nvPr/>
        </p:nvPicPr>
        <p:blipFill>
          <a:blip r:embed="rId1"/>
          <a:stretch/>
        </p:blipFill>
        <p:spPr>
          <a:xfrm rot="10800000"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2" descr=""/>
          <p:cNvPicPr/>
          <p:nvPr/>
        </p:nvPicPr>
        <p:blipFill>
          <a:blip r:embed="rId2"/>
          <a:stretch/>
        </p:blipFill>
        <p:spPr>
          <a:xfrm>
            <a:off x="1231920" y="3828960"/>
            <a:ext cx="690552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1500120" y="285840"/>
            <a:ext cx="678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дем мы учиться</a:t>
            </a:r>
            <a:r>
              <a:rPr b="0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1511280" y="1343160"/>
            <a:ext cx="585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дем вспоминать</a:t>
            </a:r>
            <a:r>
              <a:rPr b="0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1484280" y="2500200"/>
            <a:ext cx="605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, конечно, нов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2771640" y="3571920"/>
            <a:ext cx="585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дем открыва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3" descr="C:\Users\user\Desktop\открытый урок 23 октября 2015\Рисунок3.png"/>
          <p:cNvPicPr/>
          <p:nvPr/>
        </p:nvPicPr>
        <p:blipFill>
          <a:blip r:embed="rId1"/>
          <a:stretch/>
        </p:blipFill>
        <p:spPr>
          <a:xfrm>
            <a:off x="-9360" y="-316080"/>
            <a:ext cx="9153360" cy="715968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2357280" y="2357280"/>
            <a:ext cx="35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2143080" y="3571920"/>
            <a:ext cx="357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285840" y="5857920"/>
            <a:ext cx="350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то делает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4643280" y="5786280"/>
            <a:ext cx="45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то сделае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3357720" y="500040"/>
            <a:ext cx="13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.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220320" y="2071800"/>
            <a:ext cx="108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.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5857920" y="2428920"/>
            <a:ext cx="178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.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1714680" y="4714920"/>
            <a:ext cx="52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 предм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Прямая со стрелкой 12"/>
          <p:cNvCxnSpPr/>
          <p:nvPr/>
        </p:nvCxnSpPr>
        <p:spPr>
          <a:xfrm flipH="1">
            <a:off x="3357360" y="3143160"/>
            <a:ext cx="2160" cy="6433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14"/>
          <p:cNvCxnSpPr/>
          <p:nvPr/>
        </p:nvCxnSpPr>
        <p:spPr>
          <a:xfrm>
            <a:off x="3142080" y="4286160"/>
            <a:ext cx="570600" cy="6433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16"/>
          <p:cNvCxnSpPr/>
          <p:nvPr/>
        </p:nvCxnSpPr>
        <p:spPr>
          <a:xfrm flipH="1">
            <a:off x="1928160" y="5500800"/>
            <a:ext cx="786600" cy="3578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18"/>
          <p:cNvCxnSpPr/>
          <p:nvPr/>
        </p:nvCxnSpPr>
        <p:spPr>
          <a:xfrm>
            <a:off x="5715000" y="5429160"/>
            <a:ext cx="714960" cy="2865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21"/>
          <p:cNvCxnSpPr/>
          <p:nvPr/>
        </p:nvCxnSpPr>
        <p:spPr>
          <a:xfrm flipV="1">
            <a:off x="3429000" y="1285200"/>
            <a:ext cx="357840" cy="11437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26"/>
          <p:cNvCxnSpPr>
            <a:endCxn id="52" idx="3"/>
          </p:cNvCxnSpPr>
          <p:nvPr/>
        </p:nvCxnSpPr>
        <p:spPr>
          <a:xfrm flipV="1">
            <a:off x="4500720" y="2771280"/>
            <a:ext cx="1357920" cy="151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28"/>
          <p:cNvCxnSpPr/>
          <p:nvPr/>
        </p:nvCxnSpPr>
        <p:spPr>
          <a:xfrm flipH="1" flipV="1">
            <a:off x="1356840" y="2785680"/>
            <a:ext cx="858240" cy="2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TextBox 29"/>
          <p:cNvSpPr/>
          <p:nvPr/>
        </p:nvSpPr>
        <p:spPr>
          <a:xfrm>
            <a:off x="6429240" y="7142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л,2 л,3 л, ед.ч., мн.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0"/>
          <p:cNvSpPr/>
          <p:nvPr/>
        </p:nvSpPr>
        <p:spPr>
          <a:xfrm>
            <a:off x="214200" y="35712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.р., м.р. с.р., ед.ч., мн.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1"/>
          <p:cNvSpPr/>
          <p:nvPr/>
        </p:nvSpPr>
        <p:spPr>
          <a:xfrm>
            <a:off x="7358040" y="27860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л,2 л,3 л, ед.ч., мн.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58" descr="солнце"/>
          <p:cNvPicPr/>
          <p:nvPr/>
        </p:nvPicPr>
        <p:blipFill>
          <a:blip r:embed="rId2"/>
          <a:stretch/>
        </p:blipFill>
        <p:spPr>
          <a:xfrm>
            <a:off x="6248520" y="3357720"/>
            <a:ext cx="289548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1.66667E-006 -4.44444E-006 L -0.21719 0.00278 E">
                                      <p:cBhvr>
                                        <p:cTn id="106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9305 0.00417 L -0.04879 0.00417 E">
                                      <p:cBhvr>
                                        <p:cTn id="113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 0.33333 E">
                                      <p:cBhvr>
                                        <p:cTn id="124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F:\обла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1"/>
          <p:cNvSpPr/>
          <p:nvPr/>
        </p:nvSpPr>
        <p:spPr>
          <a:xfrm>
            <a:off x="785880" y="214200"/>
            <a:ext cx="764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лагол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3929040" y="2928960"/>
            <a:ext cx="20001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250" autoRev="1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6" dur="250" autoRev="1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" dur="250" autoRev="1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6" name="Picture 2" descr="C:\Users\user\Desktop\открытый урок 23 октября 2015\Рисунок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3"/>
          <p:cNvSpPr/>
          <p:nvPr/>
        </p:nvSpPr>
        <p:spPr>
          <a:xfrm rot="21310800">
            <a:off x="1840320" y="1599120"/>
            <a:ext cx="6070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Двадцать третье октябр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Классн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user\Desktop\открытый урок 23 октября 2015\Рисунок3.png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468360" y="1397160"/>
          <a:ext cx="8136000" cy="3903480"/>
        </p:xfrm>
        <a:graphic>
          <a:graphicData uri="http://schemas.openxmlformats.org/drawingml/2006/table">
            <a:tbl>
              <a:tblPr/>
              <a:tblGrid>
                <a:gridCol w="4341600"/>
                <a:gridCol w="3794400"/>
              </a:tblGrid>
              <a:tr h="97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мотрите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андашом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7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жились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орожк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74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ует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кн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7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жит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костр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C:\Users\user\Desktop\открытый урок 23 октября 2015\Рисунок3.png"/>
          <p:cNvPicPr/>
          <p:nvPr/>
        </p:nvPicPr>
        <p:blipFill>
          <a:blip r:embed="rId1"/>
          <a:stretch/>
        </p:blipFill>
        <p:spPr>
          <a:xfrm>
            <a:off x="11160" y="-9360"/>
            <a:ext cx="9185400" cy="6867360"/>
          </a:xfrm>
          <a:prstGeom prst="rect">
            <a:avLst/>
          </a:prstGeom>
          <a:ln w="0">
            <a:noFill/>
          </a:ln>
        </p:spPr>
      </p:pic>
      <p:sp>
        <p:nvSpPr>
          <p:cNvPr id="81" name="TextBox 1"/>
          <p:cNvSpPr/>
          <p:nvPr/>
        </p:nvSpPr>
        <p:spPr>
          <a:xfrm>
            <a:off x="714240" y="857160"/>
            <a:ext cx="59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смотрите в окно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В.п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714240" y="1571760"/>
            <a:ext cx="69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сположились у костра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Р.п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714240" y="235728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исует карандашом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.п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714240" y="314316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ежит по дорожке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Д.п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58" descr="солнце"/>
          <p:cNvPicPr/>
          <p:nvPr/>
        </p:nvPicPr>
        <p:blipFill>
          <a:blip r:embed="rId2"/>
          <a:stretch/>
        </p:blipFill>
        <p:spPr>
          <a:xfrm>
            <a:off x="5072040" y="3429000"/>
            <a:ext cx="328608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6" descr="C:\Users\user\Desktop\открытый урок 23 октября 2015\Рисунок3.png"/>
          <p:cNvPicPr/>
          <p:nvPr/>
        </p:nvPicPr>
        <p:blipFill>
          <a:blip r:embed="rId1"/>
          <a:stretch/>
        </p:blipFill>
        <p:spPr>
          <a:xfrm>
            <a:off x="0" y="-20520"/>
            <a:ext cx="9201240" cy="68785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1"/>
          <p:cNvSpPr/>
          <p:nvPr/>
        </p:nvSpPr>
        <p:spPr>
          <a:xfrm>
            <a:off x="1071720" y="500040"/>
            <a:ext cx="47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смотрите в  окн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1000080" y="128592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сположились  у костр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3"/>
          <p:cNvSpPr/>
          <p:nvPr/>
        </p:nvSpPr>
        <p:spPr>
          <a:xfrm>
            <a:off x="1071720" y="1928880"/>
            <a:ext cx="48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исует карандаш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1157400" y="257184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ежит за  дорожк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5572080" y="7142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7043760" y="142884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5286240" y="21430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5286240" y="271476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1357200" y="52862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8b45"/>
                </a:solidFill>
                <a:latin typeface="Times New Roman"/>
                <a:ea typeface="Times New Roman"/>
              </a:rPr>
              <a:t>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6215040" y="13352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5929200" y="464328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3"/>
          <p:cNvSpPr/>
          <p:nvPr/>
        </p:nvSpPr>
        <p:spPr>
          <a:xfrm>
            <a:off x="4857840" y="542916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4" descr="G:\думает.gif"/>
          <p:cNvPicPr/>
          <p:nvPr/>
        </p:nvPicPr>
        <p:blipFill>
          <a:blip r:embed="rId2"/>
          <a:stretch/>
        </p:blipFill>
        <p:spPr>
          <a:xfrm>
            <a:off x="6143760" y="3286080"/>
            <a:ext cx="265752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5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05556E-006 -2.96296E-006 L 0.38906 -0.69097 E">
                                      <p:cBhvr>
                                        <p:cTn id="157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1224 0.53195 L 8.33333E-007 -4.81481E-006 E">
                                      <p:cBhvr>
                                        <p:cTn id="163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05556E-006 -1.11111E-006 L -0.13785 -0.39167 E">
                                      <p:cBhvr>
                                        <p:cTn id="16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1354 -0.00439 L -0.00677 -0.4118 E">
                                      <p:cBhvr>
                                        <p:cTn id="175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Users\user\Desktop\открытый урок 23 октября 2015\Рисунок3.png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"/>
          <p:cNvSpPr/>
          <p:nvPr/>
        </p:nvSpPr>
        <p:spPr>
          <a:xfrm>
            <a:off x="1763640" y="1916280"/>
            <a:ext cx="6121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 в предложении требует от существительного определённого косвенного падежа (без предлога или с предлогом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3132000" y="549360"/>
            <a:ext cx="33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05:50:35Z</dcterms:created>
  <dc:creator>isosh</dc:creator>
  <dc:description/>
  <dc:language>en-US</dc:language>
  <cp:lastModifiedBy>Абашева</cp:lastModifiedBy>
  <dcterms:modified xsi:type="dcterms:W3CDTF">2015-10-23T04:37:45Z</dcterms:modified>
  <cp:revision>46</cp:revision>
  <dc:subject/>
  <dc:title>Урок русского языка</dc:title>
</cp:coreProperties>
</file>