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EA2-0835-49F9-AA7F-806F3AAB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6FB-175F-4B82-91CB-C4011287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4C4-C88E-4D5D-B366-4A2826AB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C13-99EB-4D2D-957E-9125C660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B79-753F-4A0C-8484-31C5D62E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6AE-575F-45F8-8FF1-A0406CD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A60-B853-4A01-9482-88F876B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F06-98E2-4E79-9CE6-7B0D97B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FD4-261D-4DAF-842B-C6AD65D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F70-70B8-403D-9081-520F5B55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594-E368-4877-8D8A-65EF61A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9CF-F0AE-4676-8208-2C4EA70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363-4868-49CE-9594-C56DEC895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1403280" y="69228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708360" y="5229360"/>
            <a:ext cx="489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460680" y="4265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ше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C:\Documents and Settings\Admin\Рабочий стол\картинки2\516994.gif"/>
          <p:cNvPicPr/>
          <p:nvPr/>
        </p:nvPicPr>
        <p:blipFill>
          <a:blip r:embed="rId1"/>
          <a:stretch/>
        </p:blipFill>
        <p:spPr>
          <a:xfrm rot="10800000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3828960"/>
            <a:ext cx="6905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500120" y="285840"/>
            <a:ext cx="678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мы учитьс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511280" y="134316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вспоминать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484280" y="2500200"/>
            <a:ext cx="60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, конечно, н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771640" y="357192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открыв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3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-9360" y="-316080"/>
            <a:ext cx="9153360" cy="7159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2357280" y="2357280"/>
            <a:ext cx="35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143080" y="35719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85840" y="585792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делае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643280" y="57862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дел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357720" y="50004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20320" y="2071800"/>
            <a:ext cx="10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857920" y="24289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14680" y="47149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2"/>
          <p:cNvCxnSpPr/>
          <p:nvPr/>
        </p:nvCxnSpPr>
        <p:spPr>
          <a:xfrm flipH="1">
            <a:off x="3357360" y="3143160"/>
            <a:ext cx="216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>
            <a:off x="3142080" y="4286160"/>
            <a:ext cx="5706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1928160" y="5500800"/>
            <a:ext cx="786600" cy="357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>
            <a:off x="5715000" y="5429160"/>
            <a:ext cx="714960" cy="286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1"/>
          <p:cNvCxnSpPr/>
          <p:nvPr/>
        </p:nvCxnSpPr>
        <p:spPr>
          <a:xfrm flipV="1">
            <a:off x="3429000" y="1285200"/>
            <a:ext cx="357840" cy="1143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6"/>
          <p:cNvCxnSpPr>
            <a:endCxn id="52" idx="3"/>
          </p:cNvCxnSpPr>
          <p:nvPr/>
        </p:nvCxnSpPr>
        <p:spPr>
          <a:xfrm flipV="1">
            <a:off x="4500720" y="2771280"/>
            <a:ext cx="1357920" cy="15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8"/>
          <p:cNvCxnSpPr/>
          <p:nvPr/>
        </p:nvCxnSpPr>
        <p:spPr>
          <a:xfrm flipH="1" flipV="1">
            <a:off x="1356840" y="2785680"/>
            <a:ext cx="85824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29"/>
          <p:cNvSpPr/>
          <p:nvPr/>
        </p:nvSpPr>
        <p:spPr>
          <a:xfrm>
            <a:off x="6429240" y="7142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,2 л,3 л, ед.ч.,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214200" y="3571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.р., м.р. с.р., ед.ч.,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7358040" y="27860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,2 л,3 л, ед.ч., мн.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58" descr="солнце"/>
          <p:cNvPicPr/>
          <p:nvPr/>
        </p:nvPicPr>
        <p:blipFill>
          <a:blip r:embed="rId2"/>
          <a:stretch/>
        </p:blipFill>
        <p:spPr>
          <a:xfrm>
            <a:off x="6248520" y="3357720"/>
            <a:ext cx="28954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-4.44444E-006 L -0.21719 0.00278 E">
                                      <p:cBhvr>
                                        <p:cTn id="10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9305 0.00417 L -0.04879 0.00417 E">
                                      <p:cBhvr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1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:\обла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785880" y="21420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929040" y="2928960"/>
            <a:ext cx="2000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user\Desktop\открытый урок 23 октября 2015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 rot="21310800">
            <a:off x="1840320" y="1599120"/>
            <a:ext cx="607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Двадцать третье октяб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68360" y="1397160"/>
          <a:ext cx="8136000" cy="3903480"/>
        </p:xfrm>
        <a:graphic>
          <a:graphicData uri="http://schemas.openxmlformats.org/drawingml/2006/table">
            <a:tbl>
              <a:tblPr/>
              <a:tblGrid>
                <a:gridCol w="4341600"/>
                <a:gridCol w="3794400"/>
              </a:tblGrid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отрит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ом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илис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рожк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е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кн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стр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11160" y="-9360"/>
            <a:ext cx="9185400" cy="6867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14240" y="85716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мотрите в окно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714240" y="157176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ложились у костра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14240" y="23572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исует карандаш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14240" y="31431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ит по дорожк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58" descr="солнце"/>
          <p:cNvPicPr/>
          <p:nvPr/>
        </p:nvPicPr>
        <p:blipFill>
          <a:blip r:embed="rId2"/>
          <a:stretch/>
        </p:blipFill>
        <p:spPr>
          <a:xfrm>
            <a:off x="5072040" y="3429000"/>
            <a:ext cx="3286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-20520"/>
            <a:ext cx="920124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071720" y="50004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мотрите в  окн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000080" y="1285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ложились  у костр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071720" y="192888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исует карандаш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157400" y="2571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ит за  дорожк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572080" y="714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043760" y="1428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28624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286240" y="2714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357200" y="5286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8b45"/>
                </a:solidFill>
                <a:latin typeface="Times New Roman"/>
                <a:ea typeface="Times New Roman"/>
              </a:rPr>
              <a:t>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215040" y="1335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929200" y="46432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857840" y="5429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G:\думает.gif"/>
          <p:cNvPicPr/>
          <p:nvPr/>
        </p:nvPicPr>
        <p:blipFill>
          <a:blip r:embed="rId2"/>
          <a:stretch/>
        </p:blipFill>
        <p:spPr>
          <a:xfrm>
            <a:off x="6143760" y="3286080"/>
            <a:ext cx="2657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2.96296E-006 L 0.38906 -0.69097 E">
                                      <p:cBhvr>
                                        <p:cTn id="1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224 0.53195 L 8.33333E-007 -4.81481E-006 E">
                                      <p:cBhvr>
                                        <p:cTn id="16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1.11111E-006 L -0.13785 -0.39167 E">
                                      <p:cBhvr>
                                        <p:cTn id="16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354 -0.00439 L -0.00677 -0.4118 E">
                                      <p:cBhvr>
                                        <p:cTn id="1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763640" y="1916280"/>
            <a:ext cx="61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в предложении требует от существительного определённого косвенного падежа (без предлога или с предлого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132000" y="54936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5:50:35Z</dcterms:created>
  <dc:creator>isosh</dc:creator>
  <dc:description/>
  <dc:language>en-US</dc:language>
  <cp:lastModifiedBy>Абашева</cp:lastModifiedBy>
  <dcterms:modified xsi:type="dcterms:W3CDTF">2015-10-23T04:37:45Z</dcterms:modified>
  <cp:revision>46</cp:revision>
  <dc:subject/>
  <dc:title>Урок русского языка</dc:title>
</cp:coreProperties>
</file>