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329-EC89-4359-BD4A-69FBC7AC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92E-2504-4AF2-901A-63EDDF14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4D5-0249-4028-A5EC-882E6FAD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E99-CCA4-4536-8780-45A71C8D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820-5C22-43D7-B87D-479ACEB9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174-16D6-4755-83BC-79483978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0B3-1303-46CC-A6FD-6F7017C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2B3-C46F-498D-A5D4-8F5E6387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8F3-CD52-41E6-8F2E-6C471FD2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2D0-4402-4AD6-9AF2-7ABF59A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F1D-2741-443A-A3F2-57C7B7C0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2F5-CDAB-4B0F-89B5-5A1A88F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9D0-FD58-40F8-9745-1C4ADA26F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« Старошайговский детский сад  комбинированного вида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шайговского муниципального района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71640" y="60339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для старших дошкольников                                                      Выполнила: воспитатель Дудина Е.Н. ,воспитатель второй младше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3" descr="C:\Users\1\Desktop\2018-04-16-17-21-38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young-soldier-16"/>
          <p:cNvPicPr/>
          <p:nvPr/>
        </p:nvPicPr>
        <p:blipFill>
          <a:blip r:embed="rId2"/>
          <a:stretch/>
        </p:blipFill>
        <p:spPr>
          <a:xfrm>
            <a:off x="395280" y="260280"/>
            <a:ext cx="5068800" cy="5689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865840" y="8031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лись против фашистов в партизанских отря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4_warkids_80601"/>
          <p:cNvPicPr/>
          <p:nvPr/>
        </p:nvPicPr>
        <p:blipFill>
          <a:blip r:embed="rId2"/>
          <a:stretch/>
        </p:blipFill>
        <p:spPr>
          <a:xfrm>
            <a:off x="395280" y="333360"/>
            <a:ext cx="4043520" cy="575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788000" y="83664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ановились сынами полка, участвовали в боевых действиях и удостаивались на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410866-fbf5bd16360fd2da"/>
          <p:cNvPicPr/>
          <p:nvPr/>
        </p:nvPicPr>
        <p:blipFill>
          <a:blip r:embed="rId1"/>
          <a:stretch/>
        </p:blipFill>
        <p:spPr>
          <a:xfrm>
            <a:off x="-1116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51911920_Sestrica"/>
          <p:cNvPicPr/>
          <p:nvPr/>
        </p:nvPicPr>
        <p:blipFill>
          <a:blip r:embed="rId2"/>
          <a:stretch/>
        </p:blipFill>
        <p:spPr>
          <a:xfrm>
            <a:off x="179280" y="260280"/>
            <a:ext cx="510552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435640" y="69228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тоже участвовали в войне: они были связистками, снайперами, врачами и медсест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250507471_s16-7"/>
          <p:cNvPicPr/>
          <p:nvPr/>
        </p:nvPicPr>
        <p:blipFill>
          <a:blip r:embed="rId2"/>
          <a:stretch/>
        </p:blipFill>
        <p:spPr>
          <a:xfrm>
            <a:off x="250920" y="260280"/>
            <a:ext cx="7129440" cy="583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7373880" y="333360"/>
            <a:ext cx="144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даты боролись до последней капли крови: даже раненые, пока могли держать оружие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0"/>
            <a:ext cx="9151920" cy="668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74245040_sevastop"/>
          <p:cNvPicPr/>
          <p:nvPr/>
        </p:nvPicPr>
        <p:blipFill>
          <a:blip r:embed="rId2"/>
          <a:stretch/>
        </p:blipFill>
        <p:spPr>
          <a:xfrm>
            <a:off x="468360" y="260280"/>
            <a:ext cx="8424720" cy="4624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596880" y="4927680"/>
            <a:ext cx="76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 и на м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1912334_A"/>
          <p:cNvPicPr/>
          <p:nvPr/>
        </p:nvPicPr>
        <p:blipFill>
          <a:blip r:embed="rId2"/>
          <a:stretch/>
        </p:blipFill>
        <p:spPr>
          <a:xfrm>
            <a:off x="620640" y="260280"/>
            <a:ext cx="7921800" cy="5384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476360" y="58294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И на су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74002922_41_V_Panteleev_Na_novuye_pozicii_1984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3bf3994928ba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187280" y="558972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возду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502392SovietPictures020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459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5661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партизанских отрядах громили враг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826411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51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выпадали минуты затишья: солдаты отдыхали, пели песни и писали письма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11160"/>
            <a:ext cx="9252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395280" y="588960"/>
            <a:ext cx="86407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ировать патриотические чувства, воспитывать любовь и уважение к защитникам отечества, к Родине. Способствовать расширению представления детей о подвиге русского солдата в годы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нравственно-патриотические чувства у детей через расширение общего кругоз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элементарные знания о событиях Великой Отечественной войны на основе ярких представлений, доступных детям и вызвать у них эмоциональные пережи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важение к защитникам Родины, гордость за русский народ, любовь к Роди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звитию совместной деятельности ребенка и его родителей в процессе ознакомления с историей Великой Отечественной войн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а проектор, слайды о 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53341336_1262654265_0_29209_f5e241_orig"/>
          <p:cNvPicPr/>
          <p:nvPr/>
        </p:nvPicPr>
        <p:blipFill>
          <a:blip r:embed="rId2"/>
          <a:stretch/>
        </p:blipFill>
        <p:spPr>
          <a:xfrm>
            <a:off x="468360" y="260280"/>
            <a:ext cx="8180280" cy="5457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971640" y="56847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солдатские треугольники приходили с фр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e88f3b3dd1b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608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971640" y="4869000"/>
            <a:ext cx="786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- город Ленинград. Во время войны фашисты окружили его в кольцо. Жители умирали от голода и холода. Блокада длилась 900 дней и ночей. Три зимы без топлива, воды, электричества, под непрерывным вражеским огнем. Ленинградцы выстоял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how_image_NpAdvSinglePhoto"/>
          <p:cNvPicPr/>
          <p:nvPr/>
        </p:nvPicPr>
        <p:blipFill>
          <a:blip r:embed="rId2"/>
          <a:srcRect l="0" t="0" r="0" b="13311"/>
          <a:stretch/>
        </p:blipFill>
        <p:spPr>
          <a:xfrm>
            <a:off x="324000" y="260280"/>
            <a:ext cx="6480000" cy="6294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6804000" y="404640"/>
            <a:ext cx="194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ой кусок хлеба получали жители блокадного Ленинграда на день (чуть больше спичечного короб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g3"/>
          <p:cNvPicPr/>
          <p:nvPr/>
        </p:nvPicPr>
        <p:blipFill>
          <a:blip r:embed="rId2"/>
          <a:stretch/>
        </p:blipFill>
        <p:spPr>
          <a:xfrm>
            <a:off x="82692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042920" y="508464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дневник Ленинградской девочки Тани, у которой умерли все родные – она осталась одна. Ее перевезли в Шатки, около Арзамаса, где она все равно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410866-fbf5bd16360fd2da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67400053_1291398881_A_Kitaev_Vozvr_spobedoy_1985"/>
          <p:cNvPicPr/>
          <p:nvPr/>
        </p:nvPicPr>
        <p:blipFill>
          <a:blip r:embed="rId2"/>
          <a:stretch/>
        </p:blipFill>
        <p:spPr>
          <a:xfrm>
            <a:off x="358920" y="285840"/>
            <a:ext cx="5508360" cy="5664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867280" y="981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долгожданная победа! Солдаты возвращаются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74108909_4000579_113e47013743"/>
          <p:cNvPicPr/>
          <p:nvPr/>
        </p:nvPicPr>
        <p:blipFill>
          <a:blip r:embed="rId2"/>
          <a:stretch/>
        </p:blipFill>
        <p:spPr>
          <a:xfrm>
            <a:off x="250920" y="260280"/>
            <a:ext cx="4775040" cy="5761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5580000" y="8985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2879_or"/>
          <p:cNvPicPr/>
          <p:nvPr/>
        </p:nvPicPr>
        <p:blipFill>
          <a:blip r:embed="rId2"/>
          <a:stretch/>
        </p:blipFill>
        <p:spPr>
          <a:xfrm>
            <a:off x="539640" y="260280"/>
            <a:ext cx="8137800" cy="5446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116000" y="57340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ая война, которая длилась 4года закончилась в Бер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58765454_021"/>
          <p:cNvPicPr/>
          <p:nvPr/>
        </p:nvPicPr>
        <p:blipFill>
          <a:blip r:embed="rId2"/>
          <a:stretch/>
        </p:blipFill>
        <p:spPr>
          <a:xfrm>
            <a:off x="539640" y="404640"/>
            <a:ext cx="8209080" cy="5059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179280" y="544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юди не забывали эту войну, помнили тех, кто отдал свою жизнь, чтобы жили мы с вами в мире – во многих городах был зажжен Вечный ого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81160" y="258840"/>
            <a:ext cx="87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из нас через войну прошли бабушки и дедушки, прабабушки и прадедушки. Они воевали на фронте, трудились день и ночь в тылу – на заводах и фабриках, в колхозах. К сожалению, с каждым годом таких людей становится все и меньше, и поэтому все они должны быть окружены вниманием, почетом и уваж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854"/>
          <p:cNvPicPr/>
          <p:nvPr/>
        </p:nvPicPr>
        <p:blipFill>
          <a:blip r:embed="rId2"/>
          <a:stretch/>
        </p:blipFill>
        <p:spPr>
          <a:xfrm>
            <a:off x="826920" y="172404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d84597bee124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5405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684360" y="5661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 День Победы звучит праздничный сал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189000"/>
            <a:ext cx="287964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АЯ СВЯЩЕНН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 часа утра 22 июня 1941 года войска фашистской Германии напали на нашу Родину. Сотни самолетов  и танков вторглись на нашу землю. Началась Великая Отечественная война. До этого германская армия уже успела завоевать много стран, и от многих городов не осталось камня на камне – было разрушено много городов и сел и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762_233124354_big"/>
          <p:cNvPicPr/>
          <p:nvPr/>
        </p:nvPicPr>
        <p:blipFill>
          <a:blip r:embed="rId2"/>
          <a:stretch/>
        </p:blipFill>
        <p:spPr>
          <a:xfrm>
            <a:off x="324000" y="981000"/>
            <a:ext cx="58305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en_pobedy_str_4"/>
          <p:cNvPicPr/>
          <p:nvPr/>
        </p:nvPicPr>
        <p:blipFill>
          <a:blip r:embed="rId1"/>
          <a:stretch/>
        </p:blipFill>
        <p:spPr>
          <a:xfrm>
            <a:off x="-541440" y="-387360"/>
            <a:ext cx="10160280" cy="765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7af4e54c6633"/>
          <p:cNvPicPr/>
          <p:nvPr/>
        </p:nvPicPr>
        <p:blipFill>
          <a:blip r:embed="rId2"/>
          <a:stretch/>
        </p:blipFill>
        <p:spPr>
          <a:xfrm>
            <a:off x="0" y="0"/>
            <a:ext cx="914544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5013360"/>
            <a:ext cx="63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стская крепость первой приняла удар врага. Нападение было неожиданным, так как Германия напала без объявления войны. Солдаты выскакивали из постели и брались за оружие. Немцев было в 10 раз больше, чем наших защитников и они рассчитывали захватить крепость в течение часа, но это сделать не удалось, бои продолжались неделю. В живых не осталось н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9f4222015d0"/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4819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11280" y="5084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щиту Родины встал весь народ: и молодые и старые, женщины и дети. Все, кто остались в тылу рыли окопы, заменили своих мужчин у станков и в поле, шили теплые вещи для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8233e_78247eb4_XL"/>
          <p:cNvPicPr/>
          <p:nvPr/>
        </p:nvPicPr>
        <p:blipFill>
          <a:blip r:embed="rId2"/>
          <a:stretch/>
        </p:blipFill>
        <p:spPr>
          <a:xfrm>
            <a:off x="395280" y="260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49d2096cdbe"/>
          <p:cNvPicPr/>
          <p:nvPr/>
        </p:nvPicPr>
        <p:blipFill>
          <a:blip r:embed="rId2"/>
          <a:stretch/>
        </p:blipFill>
        <p:spPr>
          <a:xfrm>
            <a:off x="1042920" y="404640"/>
            <a:ext cx="727236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50920" y="5445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ам небольшого роста ставили подставки, так как они не доставали до станка. Иногда они от голода и усталости падали прямо у ста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pg2045210983"/>
          <p:cNvPicPr/>
          <p:nvPr/>
        </p:nvPicPr>
        <p:blipFill>
          <a:blip r:embed="rId2"/>
          <a:stretch/>
        </p:blipFill>
        <p:spPr>
          <a:xfrm>
            <a:off x="539640" y="333360"/>
            <a:ext cx="8004240" cy="5253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566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ыстро становились взрослыми, оказывая посильную помощь взросл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410866-fbf5bd16360fd2da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2_warkids_76844"/>
          <p:cNvPicPr/>
          <p:nvPr/>
        </p:nvPicPr>
        <p:blipFill>
          <a:blip r:embed="rId2"/>
          <a:stretch/>
        </p:blipFill>
        <p:spPr>
          <a:xfrm>
            <a:off x="468360" y="260280"/>
            <a:ext cx="8209080" cy="549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75564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грибы и я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6:38:11Z</dcterms:created>
  <dc:creator>Пользователь</dc:creator>
  <dc:description/>
  <dc:language>en-US</dc:language>
  <cp:lastModifiedBy>1</cp:lastModifiedBy>
  <dcterms:modified xsi:type="dcterms:W3CDTF">2018-04-20T01:50:08Z</dcterms:modified>
  <cp:revision>24</cp:revision>
  <dc:subject/>
  <dc:title>Слайд 1</dc:title>
</cp:coreProperties>
</file>