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EBDC-5E47-4393-9AF3-943ED24EF6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6502-D12A-4DF4-A961-7EF5D311C5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46C-4032-430E-84B7-816A9C9D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8C0-88E4-4BF7-8B9B-BD38451C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CFA-13F5-4EF2-876A-3D518191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F85-C0B5-4F0D-8E8D-9C35E8E5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862-292E-454B-87A0-7ECECD61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4BD-74DE-40EA-9FAE-A455DED1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A9C-CA91-48BB-80C2-CE02F617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792-3D6F-4BA5-A3AC-A8EE5855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A08-63F1-4ED7-9BEF-2AB18E7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484-F8A4-448D-859E-8AA119F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AE1-D42D-4E48-B621-7534AD1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8A5-31CD-44D6-ACB6-51699C35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52E5-0C9E-4A5E-9B49-6407DA7F2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дошкольное образовательное учреждение «Детский сад № 101 «Березка»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57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ные волонтеры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воспитатель Н.А. Егорова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Н.П. Толщи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ский городской округ, 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. Формирование волонтёрского движения в детском саду № 101 «Березка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. Социально-психологическая подготовка волонтё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. Развитие волонтёрского движения.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агаемые результаты:</a:t>
            </a:r>
            <a:br>
              <a:rPr sz="29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рить представление о волонтерском движении у детей 5-7 лет, педагогов детского сада, родителей воспитанник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бщить детей и родителей воспитанников к социокультурным нормам, традициям семьи, общества, государ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ировать у детей предпосылки толерантного отношения к другим людям независимо от культурной среды и этнической принадлеж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лечь родителей воспитанников в образовательный процесс ДОУ. Обеспечить преемственность целей, задач и содержания образования дошкольного и начального общего образ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rcRect l="0" t="0" r="0" b="15503"/>
          <a:stretch/>
        </p:blipFill>
        <p:spPr>
          <a:xfrm>
            <a:off x="1332000" y="1341360"/>
            <a:ext cx="6192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ел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Де Сервантес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70c"/>
                </a:solidFill>
                <a:latin typeface="Times New Roman"/>
                <a:ea typeface="Calibri"/>
              </a:rPr>
              <a:t>«Ничто не обходится нам так дешево и не ценится так дорого, как вежливость и доброт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н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фр. volontaire - доброволец) — любое физическое лицо, включая иностранных граждан и лиц без гражданства, которое вносит свой вклад в развитие волонтёрства, осуществляя волонтерскую деяте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825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опыта у детей старшего дошкольного возраста в проявлении социально нравственной позиции  связанной с различными сторонами общественной жизни человека во всей их целостности и многообрази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волонтерского движения в детском саду как социальном институте, который должен готовить к жиз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6156360" y="4578480"/>
            <a:ext cx="22525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зна проекта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волонтерского движения предполагается в  условиях детского с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1305000" y="2700360"/>
            <a:ext cx="597996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ект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30000"/>
              </a:lnSpc>
              <a:spcBef>
                <a:spcPts val="7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в детском саду № 101 «Березка» волонтерского движения «Юные волонтеры» через объединение активных, творческих педагогов, заинтересованных родителей и детей старшего дошкольного возраста и их  участие в добровольческих мероприятия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екта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рить представления о волонтерском движении у детей 5-7 лет, педагогов детского сада, родителей  воспитанников детского сада №  101 «Березка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ь практические навыки участия в волонтерском движении всем участникам образовательного процесс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организационно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оек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 (1989 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«Об образовании в Российской Федерации» (2012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нитарно - эпидемические  требования к устройству, содержанию и организации режима работы дошкольных образовательных учреждений» 2.4.1.3049-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 (2013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в ДОУ(2015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образовательная программа ДОУ(2016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0T02:10:20Z</dcterms:created>
  <dc:creator>натусик пупсик</dc:creator>
  <dc:description/>
  <dc:language>en-US</dc:language>
  <cp:lastModifiedBy>Комп</cp:lastModifiedBy>
  <dcterms:modified xsi:type="dcterms:W3CDTF">2018-04-22T13:08:22Z</dcterms:modified>
  <cp:revision>15</cp:revision>
  <dc:subject/>
  <dc:title>Муниципальное  дошкольное образовательное учреждение «Детский сад № 101 «Березка»»</dc:title>
</cp:coreProperties>
</file>