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ED32-4F6A-4104-9C7C-86B3789432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CA3F-375F-4016-B512-76803C237D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DCC-E8A5-4407-A4BC-C8396F26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2335-B0C0-4D57-A231-EE98AAF5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0733-FCB6-4A2E-A1F5-DCC04702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58BD-9350-400B-AE38-59797E66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DAFF-8525-416B-B128-FC30613D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48D-93E9-432C-863F-AE8D5589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B404-4727-4DEA-9E29-B4AF9544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8984-2EAF-47F4-B21A-71172F2F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9FE-17B9-422C-B902-162CBCF7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EF4-7196-43E5-8391-F5C4F410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A6B-1552-4855-87C1-3E84B0C6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5DC-9529-41C8-984B-92AF716C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DFB1-4AA3-441A-90C4-873B60CF38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 дошкольное образовательное учреждение «Детский сад № 101 «Березка»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557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Юные волонтеры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воспитатель Н.А. Егорова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 Н.П. Толщин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опьевский городской округ, 20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этапы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. Формирование волонтёрского движения в детском саду № 101 «Березка»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. Социально-психологическая подготовка волонтёр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. Развитие волонтёрского движения.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полагаемые результаты:</a:t>
            </a:r>
            <a:br>
              <a:rPr sz="29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ширить представление о волонтерском движении у детей 5-7 лет, педагогов детского сада, родителей воспитанник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бщить детей и родителей воспитанников к социокультурным нормам, традициям семьи, общества, государ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формировать у детей предпосылки толерантного отношения к другим людям независимо от культурной среды и этнической принадлеж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лечь родителей воспитанников в образовательный процесс ДОУ. Обеспечить преемственность целей, задач и содержания образования дошкольного и начального общего образов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rcRect l="0" t="0" r="0" b="15503"/>
          <a:stretch/>
        </p:blipFill>
        <p:spPr>
          <a:xfrm>
            <a:off x="1332000" y="1341360"/>
            <a:ext cx="61927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еля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Де Сервантес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70c"/>
                </a:solidFill>
                <a:latin typeface="Times New Roman"/>
                <a:ea typeface="Calibri"/>
              </a:rPr>
              <a:t>«Ничто не обходится нам так дешево и не ценится так дорого, как вежливость и доброт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нт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фр. volontaire - доброволец) — любое физическое лицо, включая иностранных граждан и лиц без гражданства, которое вносит свой вклад в развитие волонтёрства, осуществляя волонтерскую деятель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825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сутствие опыта у детей старшего дошкольного возраста в проявлении социально нравственной позиции  связанной с различными сторонами общественной жизни человека во всей их целостности и многообразии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волонтерского движения в детском саду как социальном институте, который должен готовить к жизн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"/>
          <p:cNvPicPr/>
          <p:nvPr/>
        </p:nvPicPr>
        <p:blipFill>
          <a:blip r:embed="rId2"/>
          <a:stretch/>
        </p:blipFill>
        <p:spPr>
          <a:xfrm>
            <a:off x="6156360" y="4578480"/>
            <a:ext cx="22525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зна проекта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ация волонтерского движения предполагается в  условиях детского с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4" descr=""/>
          <p:cNvPicPr/>
          <p:nvPr/>
        </p:nvPicPr>
        <p:blipFill>
          <a:blip r:embed="rId2"/>
          <a:stretch/>
        </p:blipFill>
        <p:spPr>
          <a:xfrm>
            <a:off x="1305000" y="2700360"/>
            <a:ext cx="597996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проекта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30000"/>
              </a:lnSpc>
              <a:spcBef>
                <a:spcPts val="7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ация в детском саду № 101 «Березка» волонтерского движения «Юные волонтеры» через объединение активных, творческих педагогов, заинтересованных родителей и детей старшего дошкольного возраста и их  участие в добровольческих мероприятия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екта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ширить представления о волонтерском движении у детей 5-7 лет, педагогов детского сада, родителей  воспитанников детского сада №  101 «Березка»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ть практические навыки участия в волонтерском движении всем участникам образовательного процесс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организационно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оек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о правах ребенка (1989 г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«Об образовании в Российской Федерации» (2012г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анитарно - эпидемические  требования к устройству, содержанию и организации режима работы дошкольных образовательных учреждений» 2.4.1.3049-1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ДО (2013г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в ДОУ(2015г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образовательная программа ДОУ(2016г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0T02:10:20Z</dcterms:created>
  <dc:creator>натусик пупсик</dc:creator>
  <dc:description/>
  <dc:language>en-US</dc:language>
  <cp:lastModifiedBy>Комп</cp:lastModifiedBy>
  <dcterms:modified xsi:type="dcterms:W3CDTF">2018-04-22T13:08:22Z</dcterms:modified>
  <cp:revision>15</cp:revision>
  <dc:subject/>
  <dc:title>Муниципальное  дошкольное образовательное учреждение «Детский сад № 101 «Березка»»</dc:title>
</cp:coreProperties>
</file>