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483920" y="899640"/>
            <a:ext cx="458460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9EB84-3ACD-41B7-A6F4-1C5C62B524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15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133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17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19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21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23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25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27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29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31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DE4-9DA9-48A6-BD30-94F954DF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881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1EE-DB8D-4AC3-A436-F807AC39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01E-75BD-49C3-911D-C571F637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E03-47AD-4A27-A9CA-687C38EA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CFB5-29D9-4DF6-8F95-33FAADC2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90BF-D6F4-4737-B595-97714684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FC43-BBD4-41FE-B141-BE39124A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FD31-7CE9-434E-8F89-D6929A07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26ED-0050-4664-809E-44F714B3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576000"/>
            <a:ext cx="7194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C510-0B51-49B7-BB9F-E57A3E8F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CB11-51FA-4C85-992B-F6FF003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F5F-1BEE-46BA-970E-8FF887C5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980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0D53-76FC-437E-8F2C-798223E0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A0C7-418C-4675-87B0-C7C22A60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0881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EE87-E248-4F89-95BF-739DC14B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980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483E-8814-4181-B70A-D4D8B633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16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16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B2AC-4054-4F9F-A281-49753A75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B3A-B6BC-4F0C-98EA-B968B501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5A4-2F12-45A4-8E12-6687BF2A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04F-CD3E-48B8-B203-39C22450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76000"/>
            <a:ext cx="7194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30C-3E06-466F-AAE5-B5B537D4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2A6-710B-4985-9AD2-DDBCBE84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2F5-AE9A-4D9B-9B50-BD987D68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4B7-6A82-4124-8288-896B532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F5235-9661-47B0-9A7F-CADB325F3419}" type="slidenum">
              <a:rPr b="0" lang="zx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CAFB8-6B30-4784-9DBF-CE8E569868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360360"/>
            <a:ext cx="828036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Формирование орфографической зоркости у младших школьник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24360" y="4859280"/>
            <a:ext cx="4535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а И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ибенюко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39640"/>
            <a:ext cx="75596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бота по формированию орфографической зоркости должна вестись учителе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целенаправленно и систематичес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с использованием дополнительного дидактического материал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задания должны носить «поисковый» характер («выпиши…», «отметь…», «найди…»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123640"/>
            <a:ext cx="9252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рфографическая зоркост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— способность (или умение) обнаруживать орфограмму на основе известных опознавательных призна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рфографическая зоркост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же предполагает умение обнаруживать ошибки, допущенные пишущим (собственные и чужи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03160"/>
            <a:ext cx="90723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методике выделяютс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ве группы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жнен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преобладанию активности слуха или зр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личные виды диктан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) различные виды списы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иды диктант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едупредительны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ъ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яснительны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мментированное письм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ыборочный диктан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ажно: списывание смысловыми единицам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ффективны следующие упражнения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ставление диктанта (подбор слов с орфограммой определенного тип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исьмо по памя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корректировка письм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6000" y="1728360"/>
            <a:ext cx="95774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змени слова по командам вопросов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1) что делать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2) что делаю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ью, кричит, дружу, молч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Запиши слова, которые у тебя получилис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означь опасные ме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60360" y="576360"/>
            <a:ext cx="864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сь слов с подчёркиванием букв, которые вызывают сомнение при на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800000"/>
            <a:ext cx="90723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 транскрипции поставь знак ударения. Подчеркни безударные гласные. Запиши сначала проверочные слова, а затем буквенную запись сл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[трава] ………… [нага]…………… [вада]……………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[вра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]………….. [вална]…………… [врач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] …………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2680" y="611280"/>
            <a:ext cx="8943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сь слов с подчёркиванием букв, которые вы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нение при на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64764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е в тексте всех известных орфограмм или орфограм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ённ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означь орфограммы в подчёркнутых слов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Бельчоно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одился весной. Вс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окру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ыл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елё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А когда появился первый красный лист, бельчонок испугался, что это пожар. Он начал дуть на лист, а лист всё равно оставался красным. Потом покраснели и друг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листь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Пришла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сен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640" y="2556000"/>
            <a:ext cx="18072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1800000"/>
            <a:ext cx="90723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ыпиши из текста слова с изученными орфограммами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уд – за околицей, совсем близко от деревни. Сидит Петька на бережку, слышит, как мальчишки у школы кричат. Слышит – и завидует. Одному-то с гусями – ой, как тоскливо! Пруд старый, заглохший. Воды в нём по колено, да и та зеленая как щи. Ни тебе выкупаться, ни рыбку половить. Торчи пнём и считай гусиные хвосты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ялся Петька, маялся, а после на травку лёг и засну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39640"/>
            <a:ext cx="75596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е в тексте всех известных орфограмм или орфограмм определённ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cp:keywords/>
  <dc:language>en-US</dc:language>
  <cp:lastModifiedBy>polyakovaIA</cp:lastModifiedBy>
  <dcterms:modified xsi:type="dcterms:W3CDTF">2016-11-03T06:13:05Z</dcterms:modified>
  <cp:revision>14</cp:revision>
  <dc:subject/>
  <dc:title> «Орфографическая зоркость. Комплекс упражнений для формирования ОЗ»</dc:title>
</cp:coreProperties>
</file>