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483920" y="899640"/>
            <a:ext cx="4584600" cy="34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20720" y="4680000"/>
            <a:ext cx="611496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469EA-2F6B-4689-9A36-88D34D1C75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15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7840" cy="3440160"/>
          </a:xfrm>
          <a:prstGeom prst="rect">
            <a:avLst/>
          </a:prstGeom>
          <a:ln w="0">
            <a:noFill/>
          </a:ln>
        </p:spPr>
      </p:sp>
      <p:sp>
        <p:nvSpPr>
          <p:cNvPr id="133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17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19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21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23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25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27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29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31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1CB-BA7E-48D7-9646-2172FD55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9067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88160"/>
            <a:ext cx="9067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A5AC-56B1-42FC-96DF-DCEA515D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881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881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2B6-CB63-48A9-AE1F-2C520E41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003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8003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881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881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881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811-79D1-42C6-B69F-A54DE00A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82E1-A258-4D6B-A132-6F5A45E8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3280" y="1800360"/>
            <a:ext cx="906768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79B2-5367-4FA2-9E4D-F078E993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906768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7DA2-A0B6-41FC-A61C-7E776523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76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800" y="1800360"/>
            <a:ext cx="442476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7C6B-8D3B-4E3E-8ABE-E37092E9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3479-CC85-42C5-AFC4-F5C6919C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576000"/>
            <a:ext cx="7194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306B-4319-4859-9BDA-54B2ED43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1800360"/>
            <a:ext cx="442476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3280" y="40881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7C08-6B4F-4859-94FB-863F13F4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00360"/>
            <a:ext cx="906768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2C4-9D0B-41BF-BA16-5F3F1A86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76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80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9800" y="40881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19A0-85E5-42CF-B5B4-2089FDA3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980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" y="4088160"/>
            <a:ext cx="9067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A4AF-42D8-4CBC-975B-FF44AE28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9067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" y="4088160"/>
            <a:ext cx="9067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6FBC-959D-4E3F-BC37-50D722D8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980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40881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9800" y="40881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525C-8788-4D2C-AB53-61CB0D0B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400" y="18003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5160" y="18003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280" y="40881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400" y="40881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5160" y="4088160"/>
            <a:ext cx="291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046F-98EB-4544-B880-53BF0969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906768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73CB-3627-4A86-AF66-0F3620B8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76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800360"/>
            <a:ext cx="442476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1FC7-DD28-442C-AC94-154120F7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E10C-D363-4A63-9C5D-0BBCF147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76000"/>
            <a:ext cx="7194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2C02-4BFD-43ED-8672-E1ECEE8A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800360"/>
            <a:ext cx="442476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881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4AAB-DBFC-4AED-B0D4-7CFE8E78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76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881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C328-EC18-4DE7-822E-3CFD36A2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800360"/>
            <a:ext cx="4424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88160"/>
            <a:ext cx="90676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D47C-D428-4F52-A0FC-ADD0B8BB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2B080-242D-45D5-BC83-DAD283B3C5CA}" type="slidenum">
              <a:rPr b="0" lang="zx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3280" y="1800360"/>
            <a:ext cx="906768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ACCE3-7A70-4097-8CC3-01348196D9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0360" y="360360"/>
            <a:ext cx="828036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Формирование орфографической зоркости у младших школьнико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24360" y="4859280"/>
            <a:ext cx="4535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а И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ибенюкова И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39640"/>
            <a:ext cx="75596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бота по формированию орфографической зоркости должна вестись учителе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целенаправленно и систематичес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с использованием дополнительного дидактического материал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задания должны носить «поисковый» характер («выпиши…», «отметь…», «найди…»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2123640"/>
            <a:ext cx="9252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446040"/>
                <a:tab algn="l" pos="895320"/>
                <a:tab algn="l" pos="134604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рфографическая зоркость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— способность (или умение) обнаруживать орфограмму на основе известных опознавательных призна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446040"/>
                <a:tab algn="l" pos="895320"/>
                <a:tab algn="l" pos="134604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446040"/>
                <a:tab algn="l" pos="895320"/>
                <a:tab algn="l" pos="134604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рфографическая зоркость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же предполагает умение обнаруживать ошибки, допущенные пишущим (собственные и чужие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446040"/>
                <a:tab algn="l" pos="895320"/>
                <a:tab algn="l" pos="134604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446040"/>
                <a:tab algn="l" pos="895320"/>
                <a:tab algn="l" pos="134604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446040"/>
                <a:tab algn="l" pos="895320"/>
                <a:tab algn="l" pos="134604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446040"/>
                <a:tab algn="l" pos="895320"/>
                <a:tab algn="l" pos="134604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446040"/>
                <a:tab algn="l" pos="895320"/>
                <a:tab algn="l" pos="134604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446040"/>
                <a:tab algn="l" pos="895320"/>
                <a:tab algn="l" pos="134604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ПРАЖ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03160"/>
            <a:ext cx="90723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методике выделяются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ве группы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пражнени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преобладанию активности слуха или зрен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азличные виды диктан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2) различные виды списыв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ПРАЖ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иды диктанто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едупредительны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ъ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яснительны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комментированное письмо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ыборочный диктан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ажно: списывание смысловыми единицами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ПРАЖ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ффективны следующие упражнения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ставление диктанта (подбор слов с орфограммой определенного тип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исьмо по памя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корректировка письма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16000" y="1728360"/>
            <a:ext cx="95774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змени слова по командам вопросов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1) что делать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2) что делаю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ью, кричит, дружу, молчи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Запиши слова, которые у тебя получилис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бозначь опасные мес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60360" y="576360"/>
            <a:ext cx="864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ись слов с подчёркиванием букв, которые вызывают сомнение при на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1800000"/>
            <a:ext cx="90723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 транскрипции поставь знак ударения. Подчеркни безударные гласные. Запиши сначала проверочные слова, а затем буквенную запись сло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[трава] ………… [нага]…………… [вада]……………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[враг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]………….. [вална]…………… [врач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] …………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2680" y="611280"/>
            <a:ext cx="89438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ись слов с подчёркиванием букв, которые вызы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мнение при на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0" y="64764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ждение в тексте всех известных орфограмм или орфограм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ённ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бозначь орфограммы в подчёркнутых слова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Бельчоно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одился весной. Вс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округ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был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зелёны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А когда появился первый красный лист, бельчонок испугался, что это пожар. Он начал дуть на лист, а лист всё равно оставался красным. Потом покраснели и други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листь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Пришла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осен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640" y="2556000"/>
            <a:ext cx="18072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000" y="1800000"/>
            <a:ext cx="90723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ыпиши из текста слова с изученными орфограммами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уд – за околицей, совсем близко от деревни. Сидит Петька на бережку, слышит, как мальчишки у школы кричат. Слышит – и завидует. Одному-то с гусями – ой, как тоскливо! Пруд старый, заглохший. Воды в нём по колено, да и та зеленая как щи. Ни тебе выкупаться, ни рыбку половить. Торчи пнём и считай гусиные хвосты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ялся Петька, маялся, а после на травку лёг и засну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539640"/>
            <a:ext cx="75596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ждение в тексте всех известных орфограмм или орфограмм определённ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cp:keywords/>
  <dc:language>en-US</dc:language>
  <cp:lastModifiedBy>polyakovaIA</cp:lastModifiedBy>
  <dcterms:modified xsi:type="dcterms:W3CDTF">2016-11-03T06:13:05Z</dcterms:modified>
  <cp:revision>14</cp:revision>
  <dc:subject/>
  <dc:title> «Орфографическая зоркость. Комплекс упражнений для формирования ОЗ»</dc:title>
</cp:coreProperties>
</file>