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CA19-714A-4853-88AD-5BAC8E8937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72D4-F160-49E8-B491-13617B28E2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9F1-019B-4D4E-9832-035CFB63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D00-9947-4996-BF32-FD53A0B0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A16-E668-42F9-B430-754345E9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E13-F00F-4FBE-91BB-FA956048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796-2A98-4FCC-BADE-F16B53FD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6FE-38E2-4BAE-A8D2-5F52DE4A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BE1-E596-49B9-9E7E-90689E0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562-E6B7-4060-9F52-F827893F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B3E-3A4F-42AD-8E1A-E3880208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DF2-C0B4-4BF6-AA95-1D4DAD3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BE3-227E-4C3E-ABD5-D43779A0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57E-E304-472A-8A72-7FE03D9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7E13-79BB-4DE2-94D9-50774448A813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AE87-5686-4353-B0AA-387911C594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390600" y="2992320"/>
            <a:ext cx="8240760" cy="173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92360" y="5013360"/>
            <a:ext cx="3419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Выполнила Ракаева В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НОУ «Немецкая гимназ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«Петершуле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0A8C-6943-484F-A236-4538A5812D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3600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44440" y="-6480"/>
            <a:ext cx="7356600" cy="178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4000" y="1915920"/>
            <a:ext cx="8002440" cy="4392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 flipV="1">
            <a:off x="179280" y="-4593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Helvetica Neue"/>
                <a:ea typeface="Arial"/>
              </a:rPr>
              <a:t>(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Горизонтальный свиток 5"/>
          <p:cNvSpPr/>
          <p:nvPr/>
        </p:nvSpPr>
        <p:spPr>
          <a:xfrm>
            <a:off x="684360" y="1341360"/>
            <a:ext cx="7704000" cy="5112000"/>
          </a:xfrm>
          <a:prstGeom prst="horizontalScroll">
            <a:avLst>
              <a:gd name="adj" fmla="val 12500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27130e"/>
                </a:solidFill>
                <a:latin typeface="Verdana"/>
              </a:rPr>
              <a:t>Звучишь, думаешь, слышишь, дышим, пищат, знакомишь, вертят, хрустят, дарят, смотришь, кладете, жаришь, терпят, трясет, держат, жариш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89FB-0DFF-4B1D-A613-259BD37009E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иться определять спряжение глагола с безударным личным окончан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Начать формировать навык написания безударных личных окончаний глаг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Прививать любовь к языку через    нестандартное проведение уро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15E1-80D3-496F-8B60-186FD525CE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5920" y="1844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Глаго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самостоятельная часть речи, которая обозначает действие предмета и отвечает на вопросы:  что делать?   что сделат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32d2e"/>
                </a:solidFill>
                <a:latin typeface="Verdana"/>
              </a:rPr>
              <a:t>Постоянные морфологические признаки глагола</a:t>
            </a:r>
            <a:r>
              <a:rPr b="0" lang="ru-RU" sz="2000" spc="-1" strike="noStrike">
                <a:solidFill>
                  <a:srgbClr val="c32d2e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ид (совершенный или несоверш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Возврат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Переход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пря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32d2e"/>
                </a:solidFill>
                <a:latin typeface="Verdana"/>
              </a:rPr>
              <a:t>Непостоянные морфологические признаки глагол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Наклон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Вр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Лицо ( настоящее и будущее врем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Чис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Род (прошедшее время, единственное числ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Горизонтальный свиток 5"/>
          <p:cNvSpPr/>
          <p:nvPr/>
        </p:nvSpPr>
        <p:spPr>
          <a:xfrm>
            <a:off x="1763640" y="0"/>
            <a:ext cx="5472360" cy="1484280"/>
          </a:xfrm>
          <a:prstGeom prst="horizontalScroll">
            <a:avLst>
              <a:gd name="adj" fmla="val 1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ВСПОМНИ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9655-15F4-4453-8F4F-F92FCE1292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6264000"/>
            <a:ext cx="7632720" cy="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2520" bIns="-2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291960" y="158760"/>
            <a:ext cx="8699760" cy="6261120"/>
          </a:xfrm>
          <a:prstGeom prst="rect">
            <a:avLst/>
          </a:prstGeom>
          <a:ln w="0">
            <a:noFill/>
          </a:ln>
        </p:spPr>
      </p:pic>
      <p:sp>
        <p:nvSpPr>
          <p:cNvPr id="61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DB3A-1408-43DC-92A6-E6209D59FF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2"/>
          <a:stretch/>
        </p:blipFill>
        <p:spPr>
          <a:xfrm>
            <a:off x="1816200" y="347760"/>
            <a:ext cx="543240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611617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95640" y="2133720"/>
            <a:ext cx="829152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необходимо для тог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правильно напис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d2e"/>
                </a:solidFill>
                <a:latin typeface="Verdana"/>
              </a:rPr>
              <a:t>      </a:t>
            </a:r>
            <a:r>
              <a:rPr b="1" lang="ru-RU" sz="2400" spc="-1" strike="noStrike" u="sng">
                <a:solidFill>
                  <a:srgbClr val="c32d2e"/>
                </a:solidFill>
                <a:uFillTx/>
                <a:latin typeface="Verdana"/>
              </a:rPr>
              <a:t>безударное личное оконч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ru-RU" sz="2800" spc="-1" strike="noStrike">
                <a:solidFill>
                  <a:srgbClr val="27130e"/>
                </a:solidFill>
                <a:latin typeface="Verdana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 ? ш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 ? 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 ? 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Рисунок 3" descr="фото думающего.jpg"/>
          <p:cNvPicPr/>
          <p:nvPr/>
        </p:nvPicPr>
        <p:blipFill>
          <a:blip r:embed="rId1"/>
          <a:stretch/>
        </p:blipFill>
        <p:spPr>
          <a:xfrm>
            <a:off x="0" y="550800"/>
            <a:ext cx="2658960" cy="280836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3C03-DB0C-4A49-BAB0-38E4C3AE2D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Выноска-облако 5"/>
          <p:cNvSpPr/>
          <p:nvPr/>
        </p:nvSpPr>
        <p:spPr>
          <a:xfrm>
            <a:off x="1042920" y="115920"/>
            <a:ext cx="6769080" cy="1838160"/>
          </a:xfrm>
          <a:prstGeom prst="cloudCallout">
            <a:avLst>
              <a:gd name="adj1" fmla="val -41388"/>
              <a:gd name="adj2" fmla="val 66805"/>
            </a:avLst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d47"/>
                </a:solidFill>
                <a:latin typeface="Verdana"/>
              </a:rPr>
              <a:t>Зачем нам определять спряжение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лагола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603360" y="-55440"/>
            <a:ext cx="836928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826560" y="191592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тавим глагол в инфинитив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неопределенную форму), сохраняя вид: 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что делать? –игрАт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мотрим, на что заканчивается инфинити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Если наш глаго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- на ИТЬ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кроме брить, стелить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есл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этот глагол -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исключение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слышать, дышать,    держать, гнать, видеть, обидеть, смотреть, зависеть, вертеть, терпеть, ненавидеть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, то он –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 спряж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о всех остальных случаях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ru-RU" sz="1900" spc="-1" strike="noStrike">
                <a:solidFill>
                  <a:srgbClr val="002060"/>
                </a:solidFill>
                <a:latin typeface="Verdana"/>
              </a:rPr>
              <a:t>брить, стелить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– это  глагол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 спряж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Итак,   игрАть – на АТЬ – 1 спр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Смотрим в таблицу и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ыбираем нужное личное окончани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Стрелка вниз 4"/>
          <p:cNvSpPr/>
          <p:nvPr/>
        </p:nvSpPr>
        <p:spPr>
          <a:xfrm>
            <a:off x="4427640" y="5877000"/>
            <a:ext cx="485640" cy="792000"/>
          </a:xfrm>
          <a:prstGeom prst="downArrow">
            <a:avLst>
              <a:gd name="adj1" fmla="val 50000"/>
              <a:gd name="adj2" fmla="val 4989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2271-EAAD-4EA4-8CD9-D44633E8F9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G:\презентация по глаголу\conjugation (1).gif"/>
          <p:cNvPicPr/>
          <p:nvPr/>
        </p:nvPicPr>
        <p:blipFill>
          <a:blip r:embed="rId2"/>
          <a:stretch/>
        </p:blipFill>
        <p:spPr>
          <a:xfrm>
            <a:off x="468360" y="1268280"/>
            <a:ext cx="8211960" cy="532944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A661-7AB2-4176-8FC3-DC58509875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11280" y="585720"/>
            <a:ext cx="5832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70c0"/>
              </a:solidFill>
              <a:latin typeface="Arial"/>
              <a:ea typeface="Arial"/>
            </a:endParaRPr>
          </a:p>
        </p:txBody>
      </p:sp>
      <p:pic>
        <p:nvPicPr>
          <p:cNvPr id="76" name="Picture 2" descr="G:\презентация по глаголу\i (7).jpg"/>
          <p:cNvPicPr/>
          <p:nvPr/>
        </p:nvPicPr>
        <p:blipFill>
          <a:blip r:embed="rId1"/>
          <a:stretch/>
        </p:blipFill>
        <p:spPr>
          <a:xfrm>
            <a:off x="306360" y="260280"/>
            <a:ext cx="2033640" cy="20066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"/>
          <p:cNvPicPr/>
          <p:nvPr/>
        </p:nvPicPr>
        <p:blipFill>
          <a:blip r:embed="rId2"/>
          <a:stretch/>
        </p:blipFill>
        <p:spPr>
          <a:xfrm>
            <a:off x="450720" y="2286000"/>
            <a:ext cx="8089920" cy="402912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A3CE-6305-4A77-A115-AC26CA6440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Выноска-облако 3"/>
          <p:cNvSpPr/>
          <p:nvPr/>
        </p:nvSpPr>
        <p:spPr>
          <a:xfrm>
            <a:off x="3429000" y="42840"/>
            <a:ext cx="5076720" cy="2266920"/>
          </a:xfrm>
          <a:prstGeom prst="cloudCallout">
            <a:avLst>
              <a:gd name="adj1" fmla="val -86513"/>
              <a:gd name="adj2" fmla="val -4999"/>
            </a:avLst>
          </a:prstGeom>
          <a:solidFill>
            <a:srgbClr val="3891a7"/>
          </a:solidFill>
          <a:ln w="2556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гр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ть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-1 спр., поэтому пишем -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ИГРА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600" spc="-1" strike="noStrike">
                <a:solidFill>
                  <a:srgbClr val="475a8d"/>
                </a:solidFill>
                <a:latin typeface="Comic Sans MS"/>
              </a:rPr>
              <a:t>. Вычеркните лишнее слово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Пишем, вяжем, стираем, дружи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Строим, клеим, отвечаем,  говорим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Молчат, посеют, думают, живу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Читать, делать, лететь, накрыл, пе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Брить, стелить, ненавидеть, слышать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роить, гнать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2" descr="G:\презентация по глаголу\i (5).jpg"/>
          <p:cNvPicPr/>
          <p:nvPr/>
        </p:nvPicPr>
        <p:blipFill>
          <a:blip r:embed="rId2"/>
          <a:stretch/>
        </p:blipFill>
        <p:spPr>
          <a:xfrm>
            <a:off x="7164360" y="0"/>
            <a:ext cx="1728720" cy="155736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DFC4-DB38-49FC-AE73-3E0F14EB2E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11:58:35Z</dcterms:created>
  <dc:creator>U</dc:creator>
  <dc:description/>
  <dc:language>en-US</dc:language>
  <cp:lastModifiedBy>user</cp:lastModifiedBy>
  <dcterms:modified xsi:type="dcterms:W3CDTF">2014-07-07T09:56:11Z</dcterms:modified>
  <cp:revision>63</cp:revision>
  <dc:subject/>
  <dc:title>СПРЯЖЕНИЕ ГЛАГОЛА</dc:title>
</cp:coreProperties>
</file>