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4DB-52D8-492A-A886-B94B073551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947-39CC-4F03-B618-C706EE186C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CAA-6682-443F-896B-FEC5BE17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63C-CB24-464B-B1F0-5483AA3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E4C-A4A0-4F9F-8591-A3427E0F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486-44A9-4F70-9239-AF77C1F1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03B-8E09-4593-8B9B-1AD47C6F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CCD-23FE-4CF2-8F1C-1EA2FA4C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C19-9770-4129-BD42-9ABB20CA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6E4-2D53-4904-B74B-36DCCA80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0EE-716C-48A4-9E56-BFF9C173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16F-D213-4F10-9B77-E07614A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EEE-8CB8-486A-8EF7-590AE720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1A8-EE4C-4F61-94D8-F1E18608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F79F-6529-41FD-B518-16B49914BF9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2E46-5547-434A-820D-F0BC5DB49C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390600" y="2992320"/>
            <a:ext cx="8240760" cy="173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92360" y="5013360"/>
            <a:ext cx="3419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Выполнила Ракаева В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НОУ «Немецкая гимназ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232d47"/>
                </a:solidFill>
                <a:latin typeface="Verdana"/>
              </a:rPr>
              <a:t>«Петершуле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9C94-F40D-44F4-8D0F-AC72659CA0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3600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7356600" cy="178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4000" y="1915920"/>
            <a:ext cx="8002440" cy="4392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 flipV="1">
            <a:off x="179280" y="-4593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Helvetica Neue"/>
                <a:ea typeface="Arial"/>
              </a:rPr>
              <a:t>(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Горизонтальный свиток 5"/>
          <p:cNvSpPr/>
          <p:nvPr/>
        </p:nvSpPr>
        <p:spPr>
          <a:xfrm>
            <a:off x="684360" y="1341360"/>
            <a:ext cx="7704000" cy="5112000"/>
          </a:xfrm>
          <a:prstGeom prst="horizontalScroll">
            <a:avLst>
              <a:gd name="adj" fmla="val 12500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27130e"/>
                </a:solidFill>
                <a:latin typeface="Verdana"/>
              </a:rPr>
              <a:t>Звучишь, думаешь, слышишь, дышим, пищат, знакомишь, вертят, хрустят, дарят, смотришь, кладете, жаришь, терпят, трясет, держат, жариш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7D71-94EC-4879-AFFF-0D44AAAA90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иться определять спряжение глагола с безударным личным оконча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Начать формировать навык написания безударных личных окончаний глаг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рививать любовь к языку через    нестандартное проведение уро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E4B-92B4-4A2E-92E5-A0EEF17C8D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5920" y="1844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Глаго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самостоятельная часть речи, которая обозначает действие предмета и отвечает на вопросы:  что делать?   что сдела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2d2e"/>
                </a:solidFill>
                <a:latin typeface="Verdana"/>
              </a:rPr>
              <a:t>Постоянные морфологические признаки глагола</a:t>
            </a:r>
            <a:r>
              <a:rPr b="0" lang="ru-RU" sz="2000" spc="-1" strike="noStrike">
                <a:solidFill>
                  <a:srgbClr val="c32d2e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ид (совершенный или несоверш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озврат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ереход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пря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2d2e"/>
                </a:solidFill>
                <a:latin typeface="Verdana"/>
              </a:rPr>
              <a:t>Непостоянные морфологические признаки глагол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Наклон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р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Лицо ( настоящее и будущее врем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Чис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од (прошедшее время, единственное числ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Горизонтальный свиток 5"/>
          <p:cNvSpPr/>
          <p:nvPr/>
        </p:nvSpPr>
        <p:spPr>
          <a:xfrm>
            <a:off x="1763640" y="0"/>
            <a:ext cx="5472360" cy="1484280"/>
          </a:xfrm>
          <a:prstGeom prst="horizont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ВСПОМНИ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7F83-DFB0-4322-8D62-837802DC04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6264000"/>
            <a:ext cx="7632720" cy="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2520" bIns="-2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291960" y="158760"/>
            <a:ext cx="8699760" cy="626112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4B49-5803-4DDD-BEE3-1F0C81E78F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2"/>
          <a:stretch/>
        </p:blipFill>
        <p:spPr>
          <a:xfrm>
            <a:off x="1816200" y="347760"/>
            <a:ext cx="543240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611617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95640" y="2133720"/>
            <a:ext cx="82915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необходимо для тог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правильно напис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d2e"/>
                </a:solidFill>
                <a:latin typeface="Verdana"/>
              </a:rPr>
              <a:t>      </a:t>
            </a:r>
            <a:r>
              <a:rPr b="1" lang="ru-RU" sz="2400" spc="-1" strike="noStrike" u="sng">
                <a:solidFill>
                  <a:srgbClr val="c32d2e"/>
                </a:solidFill>
                <a:uFillTx/>
                <a:latin typeface="Verdana"/>
              </a:rPr>
              <a:t>безударное личное оконч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ru-RU" sz="2800" spc="-1" strike="noStrike">
                <a:solidFill>
                  <a:srgbClr val="27130e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 ? ш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 ? 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 ? 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Рисунок 3" descr="фото думающего.jpg"/>
          <p:cNvPicPr/>
          <p:nvPr/>
        </p:nvPicPr>
        <p:blipFill>
          <a:blip r:embed="rId1"/>
          <a:stretch/>
        </p:blipFill>
        <p:spPr>
          <a:xfrm>
            <a:off x="0" y="550800"/>
            <a:ext cx="2658960" cy="280836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CF64-BF5B-4BE0-ABCC-6DA09F315F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Выноска-облако 5"/>
          <p:cNvSpPr/>
          <p:nvPr/>
        </p:nvSpPr>
        <p:spPr>
          <a:xfrm>
            <a:off x="1042920" y="115920"/>
            <a:ext cx="6769080" cy="1838160"/>
          </a:xfrm>
          <a:prstGeom prst="cloudCallout">
            <a:avLst>
              <a:gd name="adj1" fmla="val -41388"/>
              <a:gd name="adj2" fmla="val 66805"/>
            </a:avLst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Verdana"/>
              </a:rPr>
              <a:t>Зачем нам определять спряжение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лагола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603360" y="-55440"/>
            <a:ext cx="836928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26560" y="191592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тавим глагол в инфинитив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неопределенную форму), сохраняя вид: 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что делать? –игрАт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мотрим, на что заканчивается инфинити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Если наш глаго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- на ИТЬ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кроме брить, стелит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есл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этот глагол -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сключение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слышать, дышать,    держать, гнать, видеть, обидеть, смотреть, зависеть, вертеть, терпеть, ненавидет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, то он –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 спряж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о всех остальных случаях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ru-RU" sz="1900" spc="-1" strike="noStrike">
                <a:solidFill>
                  <a:srgbClr val="002060"/>
                </a:solidFill>
                <a:latin typeface="Verdana"/>
              </a:rPr>
              <a:t>брить, стелить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– это  глагол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 спряж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Итак,   игрАть – на АТЬ – 1 спр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Смотрим в таблицу и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ыбираем нужное личное окончан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Стрелка вниз 4"/>
          <p:cNvSpPr/>
          <p:nvPr/>
        </p:nvSpPr>
        <p:spPr>
          <a:xfrm>
            <a:off x="4427640" y="5877000"/>
            <a:ext cx="485640" cy="792000"/>
          </a:xfrm>
          <a:prstGeom prst="downArrow">
            <a:avLst>
              <a:gd name="adj1" fmla="val 50000"/>
              <a:gd name="adj2" fmla="val 4989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22F1-5B09-4668-AD8C-E5D1AEED24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G:\презентация по глаголу\conjugation (1).gif"/>
          <p:cNvPicPr/>
          <p:nvPr/>
        </p:nvPicPr>
        <p:blipFill>
          <a:blip r:embed="rId2"/>
          <a:stretch/>
        </p:blipFill>
        <p:spPr>
          <a:xfrm>
            <a:off x="468360" y="1268280"/>
            <a:ext cx="8211960" cy="53294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9DB1-92BE-4042-9982-2AE909D2A4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11280" y="585720"/>
            <a:ext cx="5832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70c0"/>
              </a:solidFill>
              <a:latin typeface="Arial"/>
              <a:ea typeface="Arial"/>
            </a:endParaRPr>
          </a:p>
        </p:txBody>
      </p:sp>
      <p:pic>
        <p:nvPicPr>
          <p:cNvPr id="76" name="Picture 2" descr="G:\презентация по глаголу\i (7).jpg"/>
          <p:cNvPicPr/>
          <p:nvPr/>
        </p:nvPicPr>
        <p:blipFill>
          <a:blip r:embed="rId1"/>
          <a:stretch/>
        </p:blipFill>
        <p:spPr>
          <a:xfrm>
            <a:off x="306360" y="260280"/>
            <a:ext cx="2033640" cy="20066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"/>
          <p:cNvPicPr/>
          <p:nvPr/>
        </p:nvPicPr>
        <p:blipFill>
          <a:blip r:embed="rId2"/>
          <a:stretch/>
        </p:blipFill>
        <p:spPr>
          <a:xfrm>
            <a:off x="450720" y="2286000"/>
            <a:ext cx="8089920" cy="40291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12E-F1A3-44DB-80BC-D3654A51E7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Выноска-облако 3"/>
          <p:cNvSpPr/>
          <p:nvPr/>
        </p:nvSpPr>
        <p:spPr>
          <a:xfrm>
            <a:off x="3429000" y="42840"/>
            <a:ext cx="5076720" cy="2266920"/>
          </a:xfrm>
          <a:prstGeom prst="cloudCallout">
            <a:avLst>
              <a:gd name="adj1" fmla="val -86513"/>
              <a:gd name="adj2" fmla="val -4999"/>
            </a:avLst>
          </a:prstGeom>
          <a:solidFill>
            <a:srgbClr val="3891a7"/>
          </a:solidFill>
          <a:ln w="2556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гр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ть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-1 спр., поэтому пишем -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ИГРА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600" spc="-1" strike="noStrike">
                <a:solidFill>
                  <a:srgbClr val="475a8d"/>
                </a:solidFill>
                <a:latin typeface="Comic Sans MS"/>
              </a:rPr>
              <a:t>. Вычеркните лишнее слово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Пишем, вяжем, стираем, друж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Строим, клеим, отвечаем,  говорим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Молчат, посеют, думают, живу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Читать, делать, лететь, накрыл, пе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Брить, стелить, ненавидеть, слышать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роить, гнать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G:\презентация по глаголу\i (5).jpg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55736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B21-5A71-4554-8B7B-DAC553DCFC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11:58:35Z</dcterms:created>
  <dc:creator>U</dc:creator>
  <dc:description/>
  <dc:language>en-US</dc:language>
  <cp:lastModifiedBy>user</cp:lastModifiedBy>
  <dcterms:modified xsi:type="dcterms:W3CDTF">2014-07-07T09:56:11Z</dcterms:modified>
  <cp:revision>63</cp:revision>
  <dc:subject/>
  <dc:title>СПРЯЖЕНИЕ ГЛАГОЛА</dc:title>
</cp:coreProperties>
</file>