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33A-9866-473B-B936-2B3D688A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468-B995-4969-8B64-CF19D820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6F6-34D8-407C-98F0-1A0C2437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09B-CF4F-4605-BCD0-95F743F5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8DF2-06E5-4184-AAED-2D24576C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3B75-6DAF-474C-BCD5-31ECC53E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BB0C-355F-45F3-B835-33E41E11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37C1-0A70-47B0-8485-D639AD6D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7A78-0277-4BE9-8F96-8AEBB802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151C-B071-4D14-9133-5F6AF45C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EC0F-A7BF-41B5-80D3-3854EAAF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1D5-FC62-4484-9791-50DB2818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037E-EEC7-4E9E-9BC5-0EFFA1BE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6EF9-6DB3-4C90-9AAD-7434955F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B5B0-5780-446C-AF1F-AC44EF28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077F-D6AB-49DB-8ED1-0AE8BB14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28AC-00BF-4A53-8164-E1C747B7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EE3-AC18-4BEF-AC39-712B29C0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E9B-507F-4630-A523-7B91AD5A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FD8-61EB-4DDC-9EF9-36E6597D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200-65C1-4D23-894D-14B1B66B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5DA-0353-4078-B6D0-A5043D08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5AA-C00C-47EB-96BC-EA380F47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F24-AEB2-45DA-9F02-16BBD09A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ec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e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ec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e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7CAF-A176-4CD9-9CE1-F371B8B24E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ec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e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ec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e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7A04-AB67-418A-B163-B529BE5CE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dic.academic.ru/pictures/wiki/files/72/Household_Soda_0456.jpg&amp;imgrefurl=http://dic.academic.ru/dic.nsf/ruwiki/194&amp;usg=__kO-JDq2b7hDv6rcFhL7jsGRmtDA=&amp;h=1500&amp;w=1200&amp;sz=317&amp;hl=ru&amp;start=43&amp;um=1&amp;itbs=1&amp;tbnid=Ud8vtZ8XcpaS6M:&amp;tbnh=150&amp;tbnw=120&amp;prev=/images%3Fq%3D%25D1%2581%25D0%25BE%25D0%25B4%25D0%25B0%26start%3D36%26um%3D1%26hl%3Dru%26lr%3D%26newwindow%3D1%26sa%3DN%26ndsp%3D18%26tbs%3Disch:1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C:\Documents and Settings\comp\Рабочий стол\D (717).JPG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Карбонатная жест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ременная) обусловлена присутствием в воде гидрокарбонатов кальция и маг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304920" y="2590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раняется кипячением, действием известкового «молока» или соды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1523880" y="1219320"/>
            <a:ext cx="647712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a(HC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(H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M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2H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990720" y="3581280"/>
            <a:ext cx="754380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a(HC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a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(H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Mg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a(HC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Ca(OH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2CaC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2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>
            <a:off x="39625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 flipV="1">
            <a:off x="58672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7"/>
          <p:cNvSpPr/>
          <p:nvPr/>
        </p:nvSpPr>
        <p:spPr>
          <a:xfrm>
            <a:off x="40384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0"/>
          <p:cNvSpPr/>
          <p:nvPr/>
        </p:nvSpPr>
        <p:spPr>
          <a:xfrm flipV="1">
            <a:off x="594360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1"/>
          <p:cNvSpPr/>
          <p:nvPr/>
        </p:nvSpPr>
        <p:spPr>
          <a:xfrm>
            <a:off x="5638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карбонатная жестк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постоянная) обусловлена присутствием в воде сульфатов и хлоридов кальция и магния. Устраняют некарбонатную жесткость чаще всего добавлением с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4" descr="Household_Soda_04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4495680"/>
            <a:ext cx="1692360" cy="182880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pic>
        <p:nvPicPr>
          <p:cNvPr id="248" name="Picture 16" descr="35907793_1227510985_0"/>
          <p:cNvPicPr/>
          <p:nvPr/>
        </p:nvPicPr>
        <p:blipFill>
          <a:blip r:embed="rId3"/>
          <a:stretch/>
        </p:blipFill>
        <p:spPr>
          <a:xfrm>
            <a:off x="6248520" y="4572000"/>
            <a:ext cx="1828800" cy="174636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sp>
        <p:nvSpPr>
          <p:cNvPr id="249" name="Text Box 17"/>
          <p:cNvSpPr/>
          <p:nvPr/>
        </p:nvSpPr>
        <p:spPr>
          <a:xfrm>
            <a:off x="990720" y="2057400"/>
            <a:ext cx="784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914400" y="2209680"/>
            <a:ext cx="731520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Ca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g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-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2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-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g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2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g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42670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"/>
          <p:cNvSpPr/>
          <p:nvPr/>
        </p:nvSpPr>
        <p:spPr>
          <a:xfrm>
            <a:off x="42670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>
            <a:off x="57150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3"/>
          <p:cNvSpPr/>
          <p:nvPr/>
        </p:nvSpPr>
        <p:spPr>
          <a:xfrm>
            <a:off x="3733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Влияние жесткости на качество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кая жесткость ухудшает свойства воды, придавая ей горьковатый вкус и оказывая отрицательное действие на органы пищева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46e0012e7080"/>
          <p:cNvPicPr/>
          <p:nvPr/>
        </p:nvPicPr>
        <p:blipFill>
          <a:blip r:embed="rId1"/>
          <a:stretch/>
        </p:blipFill>
        <p:spPr>
          <a:xfrm>
            <a:off x="990720" y="2743200"/>
            <a:ext cx="3504960" cy="3809880"/>
          </a:xfrm>
          <a:prstGeom prst="rect">
            <a:avLst/>
          </a:prstGeom>
          <a:ln w="22320">
            <a:solidFill>
              <a:srgbClr val="3366ff"/>
            </a:solidFill>
            <a:miter/>
          </a:ln>
        </p:spPr>
      </p:pic>
      <p:pic>
        <p:nvPicPr>
          <p:cNvPr id="258" name="Picture 7" descr="20080801-160753-905"/>
          <p:cNvPicPr/>
          <p:nvPr/>
        </p:nvPicPr>
        <p:blipFill>
          <a:blip r:embed="rId2"/>
          <a:stretch/>
        </p:blipFill>
        <p:spPr>
          <a:xfrm>
            <a:off x="4724280" y="2743200"/>
            <a:ext cx="4077000" cy="38005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солей жесткости с моющими веществами происходит образование "мыльных шлаков" в виде пены. Это приводит к перерасходу моющих средств. Пена после высыхания остается в виде налета на сантехнике, белье, коже, волосах . Жёсткая вода при умывании сушит кожу, в ней плохо образуется п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voda2"/>
          <p:cNvPicPr/>
          <p:nvPr/>
        </p:nvPicPr>
        <p:blipFill>
          <a:blip r:embed="rId1"/>
          <a:stretch/>
        </p:blipFill>
        <p:spPr>
          <a:xfrm>
            <a:off x="304920" y="2514600"/>
            <a:ext cx="4038480" cy="411480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pic>
        <p:nvPicPr>
          <p:cNvPr id="261" name="Picture 8" descr="Файл:Foam - big.jpg"/>
          <p:cNvPicPr/>
          <p:nvPr/>
        </p:nvPicPr>
        <p:blipFill>
          <a:blip r:embed="rId2"/>
          <a:stretch/>
        </p:blipFill>
        <p:spPr>
          <a:xfrm>
            <a:off x="4648320" y="2514600"/>
            <a:ext cx="4267080" cy="411480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873"/>
                </a:solidFill>
                <a:latin typeface="Arial"/>
              </a:rPr>
              <a:t>Образующийся карбонатный продукт реакции оседает на стенках сосуда, возникает накип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295280" y="190512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 flipV="1">
            <a:off x="5791320" y="1904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shlam"/>
          <p:cNvPicPr/>
          <p:nvPr/>
        </p:nvPicPr>
        <p:blipFill>
          <a:blip r:embed="rId1"/>
          <a:stretch/>
        </p:blipFill>
        <p:spPr>
          <a:xfrm>
            <a:off x="4724280" y="1981080"/>
            <a:ext cx="3886200" cy="44197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266" name="Прямоугольник 11"/>
          <p:cNvSpPr/>
          <p:nvPr/>
        </p:nvSpPr>
        <p:spPr>
          <a:xfrm>
            <a:off x="0" y="32288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Ca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+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6019560"/>
            <a:ext cx="4800600" cy="37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йка душа забита накип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showerhead_limescale1"/>
          <p:cNvPicPr/>
          <p:nvPr/>
        </p:nvPicPr>
        <p:blipFill>
          <a:blip r:embed="rId1"/>
          <a:stretch/>
        </p:blipFill>
        <p:spPr>
          <a:xfrm>
            <a:off x="533520" y="1447920"/>
            <a:ext cx="4876560" cy="4190760"/>
          </a:xfrm>
          <a:prstGeom prst="rect">
            <a:avLst/>
          </a:prstGeom>
          <a:ln w="41400">
            <a:solidFill>
              <a:srgbClr val="3366ff"/>
            </a:solidFill>
            <a:miter/>
          </a:ln>
        </p:spPr>
      </p:pic>
      <p:pic>
        <p:nvPicPr>
          <p:cNvPr id="269" name="Picture 5" descr="facuet_bathroom1"/>
          <p:cNvPicPr/>
          <p:nvPr/>
        </p:nvPicPr>
        <p:blipFill>
          <a:blip r:embed="rId2"/>
          <a:stretch/>
        </p:blipFill>
        <p:spPr>
          <a:xfrm>
            <a:off x="5715000" y="1447920"/>
            <a:ext cx="3048120" cy="4190760"/>
          </a:xfrm>
          <a:prstGeom prst="rect">
            <a:avLst/>
          </a:prstGeom>
          <a:ln w="41400">
            <a:solidFill>
              <a:srgbClr val="3366ff"/>
            </a:solidFill>
            <a:miter/>
          </a:ln>
        </p:spPr>
      </p:pic>
      <p:sp>
        <p:nvSpPr>
          <p:cNvPr id="270" name="Rectangle 6"/>
          <p:cNvSpPr/>
          <p:nvPr/>
        </p:nvSpPr>
        <p:spPr>
          <a:xfrm>
            <a:off x="5105520" y="6019920"/>
            <a:ext cx="47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кипь на смесител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1447920" y="1522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Накипь в быт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акип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вёрдые отложения, образующиеся на внутренних стенках труб паровых котлов, пароперегревателей, испарителей и др. теплообменных аппаратов, в которых происходит испарение или нагревание воды, содержащей те или иные соли. Пример накипи — твёрдые отложения внутри чай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10"/>
          <p:cNvGrpSpPr/>
          <p:nvPr/>
        </p:nvGrpSpPr>
        <p:grpSpPr>
          <a:xfrm>
            <a:off x="304920" y="2590920"/>
            <a:ext cx="8609760" cy="4037400"/>
            <a:chOff x="304920" y="2590920"/>
            <a:chExt cx="8609760" cy="4037400"/>
          </a:xfrm>
        </p:grpSpPr>
        <p:cxnSp>
          <p:nvCxnSpPr>
            <p:cNvPr id="274" name="_s2052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5713560" y="3100680"/>
              <a:ext cx="808200" cy="3016800"/>
            </a:xfrm>
            <a:prstGeom prst="bentConnector3">
              <a:avLst>
                <a:gd name="adj1" fmla="val 207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2053"/>
            <p:cNvCxnSpPr>
              <a:stCxn id="278" idx="0"/>
              <a:endCxn id="276" idx="2"/>
            </p:cNvCxnSpPr>
            <p:nvPr/>
          </p:nvCxnSpPr>
          <p:spPr>
            <a:xfrm flipV="1">
              <a:off x="4609440" y="4205160"/>
              <a:ext cx="3240" cy="80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2054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2698920" y="3102480"/>
              <a:ext cx="808200" cy="3013920"/>
            </a:xfrm>
            <a:prstGeom prst="bentConnector3">
              <a:avLst>
                <a:gd name="adj1" fmla="val 207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2055"/>
            <p:cNvSpPr/>
            <p:nvPr/>
          </p:nvSpPr>
          <p:spPr>
            <a:xfrm>
              <a:off x="3318120" y="2590920"/>
              <a:ext cx="2583000" cy="16149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Накипь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056"/>
            <p:cNvSpPr/>
            <p:nvPr/>
          </p:nvSpPr>
          <p:spPr>
            <a:xfrm>
              <a:off x="304920" y="5013360"/>
              <a:ext cx="2583000" cy="16149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Карбонатна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углекислые сол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альция и маг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MgC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2057"/>
            <p:cNvSpPr/>
            <p:nvPr/>
          </p:nvSpPr>
          <p:spPr>
            <a:xfrm>
              <a:off x="3318120" y="5013360"/>
              <a:ext cx="2583000" cy="16149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66ff"/>
                  </a:solidFill>
                  <a:latin typeface="Arial"/>
                </a:rPr>
                <a:t>Сульфатная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CaS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2058"/>
            <p:cNvSpPr/>
            <p:nvPr/>
          </p:nvSpPr>
          <p:spPr>
            <a:xfrm>
              <a:off x="6331680" y="5013360"/>
              <a:ext cx="2583000" cy="16149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3366ff"/>
                  </a:solidFill>
                  <a:latin typeface="Arial"/>
                </a:rPr>
                <a:t>Силикатная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кремнекислые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оединения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Mg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Fe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Состояние воды в Липец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одская водопроводная сеть на 100 % питается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земных источников, качество воды в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а очень высо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0_859a_eff1d837_L"/>
          <p:cNvPicPr/>
          <p:nvPr/>
        </p:nvPicPr>
        <p:blipFill>
          <a:blip r:embed="rId1"/>
          <a:stretch/>
        </p:blipFill>
        <p:spPr>
          <a:xfrm>
            <a:off x="304920" y="2514600"/>
            <a:ext cx="3298680" cy="380988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graphicFrame>
        <p:nvGraphicFramePr>
          <p:cNvPr id="284" name=""/>
          <p:cNvGraphicFramePr/>
          <p:nvPr/>
        </p:nvGraphicFramePr>
        <p:xfrm>
          <a:off x="3962520" y="1752480"/>
          <a:ext cx="4952880" cy="5105520"/>
        </p:xfrm>
        <a:graphic>
          <a:graphicData uri="http://schemas.openxmlformats.org/drawingml/2006/table">
            <a:tbl>
              <a:tblPr/>
              <a:tblGrid>
                <a:gridCol w="2014560"/>
                <a:gridCol w="2938320"/>
              </a:tblGrid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ип вод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начение жесткости, мг-экв/л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чень мягк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 1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ягк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5 – 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редней жесткост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 – 8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жестк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 – 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Липецк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,6 – 7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873"/>
                </a:solidFill>
                <a:latin typeface="Arial"/>
              </a:rPr>
              <a:t>Помочь чайник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28240" y="12949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ь уравнения реакций процессов образования накипи, ее устранения и предотвра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C:\Users\user\Desktop\чайник.jpg"/>
          <p:cNvPicPr/>
          <p:nvPr/>
        </p:nvPicPr>
        <p:blipFill>
          <a:blip r:embed="rId1"/>
          <a:stretch/>
        </p:blipFill>
        <p:spPr>
          <a:xfrm>
            <a:off x="5105520" y="2133720"/>
            <a:ext cx="3429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Тесты по теме</a:t>
            </a:r>
            <a:br>
              <a:rPr sz="4000"/>
            </a:b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 «Жесткость во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28240" y="16002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условлена жесткость 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количеством растворимых солей каль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.  количеством растворимых солей маг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. количеством растворимых солей каль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 маг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873"/>
                </a:solidFill>
                <a:latin typeface="Arial"/>
              </a:rPr>
              <a:t>Какие из этих соединений могут встречаться в природной в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Ca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a(OH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aC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 (H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(H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Тесты по теме</a:t>
            </a:r>
            <a:br>
              <a:rPr sz="4000"/>
            </a:b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 «Жесткость во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называется временная жесткость 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. карбона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. фосфа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хлори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Тесты по теме</a:t>
            </a:r>
            <a:br>
              <a:rPr sz="4000"/>
            </a:b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 «Жесткость во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Постоянную жесткость воды можно удал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отстаи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. кипяч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. взаимодействием с со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Тесты по теме</a:t>
            </a:r>
            <a:br>
              <a:rPr sz="4000"/>
            </a:b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 «Жесткость во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Временную жесткость воды можно удал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отстаи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. кипяч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взаимодействием с хлоридом на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Тесты по теме</a:t>
            </a:r>
            <a:br>
              <a:rPr sz="4000"/>
            </a:b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 «Жесткость во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меренная жесткость  -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чество для питьевой воды, поскольку из нее мы получаем значительную часть кальция, нужную органи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необяз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. обяз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873"/>
                </a:solidFill>
                <a:latin typeface="Arial"/>
              </a:rPr>
              <a:t>Рекламная пауза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C:\Users\user\Desktop\вода.jpg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873"/>
                </a:solidFill>
                <a:latin typeface="Arial"/>
              </a:rPr>
              <a:t>Виват, Калгон! Вива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http://www.kotoblog.ru/foto/Annaalisa/142/7261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3810240"/>
          </a:xfrm>
          <a:prstGeom prst="rect">
            <a:avLst/>
          </a:prstGeom>
          <a:ln w="31680">
            <a:solidFill>
              <a:srgbClr val="3366ff"/>
            </a:solidFill>
            <a:miter/>
          </a:ln>
        </p:spPr>
      </p:pic>
      <p:pic>
        <p:nvPicPr>
          <p:cNvPr id="302" name="Picture 2" descr="C:\Users\user\Desktop\калгон.jpg"/>
          <p:cNvPicPr/>
          <p:nvPr/>
        </p:nvPicPr>
        <p:blipFill>
          <a:blip r:embed="rId2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228600"/>
            <a:ext cx="44956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сфаты натр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карбоксила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сталлическая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люл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этиленглик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48320" y="380520"/>
            <a:ext cx="4038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сф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карбокси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ик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нз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душки и отбели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C:\Users\user\Desktop\калгон.jpg"/>
          <p:cNvPicPr/>
          <p:nvPr/>
        </p:nvPicPr>
        <p:blipFill>
          <a:blip r:embed="rId1"/>
          <a:stretch/>
        </p:blipFill>
        <p:spPr>
          <a:xfrm>
            <a:off x="0" y="3809880"/>
            <a:ext cx="4495680" cy="30481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C:\Users\user\Desktop\СМС.jpg"/>
          <p:cNvPicPr/>
          <p:nvPr/>
        </p:nvPicPr>
        <p:blipFill>
          <a:blip r:embed="rId2"/>
          <a:stretch/>
        </p:blipFill>
        <p:spPr>
          <a:xfrm>
            <a:off x="4572000" y="304920"/>
            <a:ext cx="4343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мочь чайнику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242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шите уравнения реакций, лежащих в основе процессов образования накипи и ее уст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C:\Documents and Settings\comp\Рабочий стол\чайник.jpg"/>
          <p:cNvPicPr/>
          <p:nvPr/>
        </p:nvPicPr>
        <p:blipFill>
          <a:blip r:embed="rId1"/>
          <a:stretch/>
        </p:blipFill>
        <p:spPr>
          <a:xfrm>
            <a:off x="228600" y="4572000"/>
            <a:ext cx="291456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C:\Documents and Settings\comp\Рабочий стол\накипь в чайнике.jpg"/>
          <p:cNvPicPr/>
          <p:nvPr/>
        </p:nvPicPr>
        <p:blipFill>
          <a:blip r:embed="rId2"/>
          <a:stretch/>
        </p:blipFill>
        <p:spPr>
          <a:xfrm>
            <a:off x="6095880" y="152388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C:\Users\user\Desktop\фразеологизмы.jpg"/>
          <p:cNvPicPr/>
          <p:nvPr/>
        </p:nvPicPr>
        <p:blipFill>
          <a:blip r:embed="rId3"/>
          <a:stretch/>
        </p:blipFill>
        <p:spPr>
          <a:xfrm>
            <a:off x="45720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380880"/>
            <a:ext cx="4040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ло – труб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ше воды, ниже 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ести на чистую в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увствую себя, как рыба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42-16213595"/>
          <p:cNvPicPr/>
          <p:nvPr/>
        </p:nvPicPr>
        <p:blipFill>
          <a:blip r:embed="rId1"/>
          <a:stretch/>
        </p:blipFill>
        <p:spPr>
          <a:xfrm>
            <a:off x="4648320" y="533520"/>
            <a:ext cx="4267080" cy="579096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429000" cy="2470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Творческое домашнее задание </a:t>
            </a:r>
            <a:br>
              <a:rPr sz="4000"/>
            </a:b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по те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7960" y="272520"/>
            <a:ext cx="42670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есный графический способ передач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и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гов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32767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Жесткость воды и способы ее устран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873"/>
                </a:solidFill>
                <a:latin typeface="Arial"/>
              </a:rPr>
              <a:t>Какие из этих соединений могут встречаться в природной в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 (H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(H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Помочь чайник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8240" y="12949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ь уравнения реакций процессов образования накипи, ее устранения и предотвра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Users\user\Desktop\чайник.jpg"/>
          <p:cNvPicPr/>
          <p:nvPr/>
        </p:nvPicPr>
        <p:blipFill>
          <a:blip r:embed="rId1"/>
          <a:stretch/>
        </p:blipFill>
        <p:spPr>
          <a:xfrm>
            <a:off x="5105520" y="2133720"/>
            <a:ext cx="3429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487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873"/>
                </a:solidFill>
                <a:latin typeface="Arial"/>
              </a:rPr>
              <a:t>Жесткость воды и способы ее устра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showerhead_limescale1"/>
          <p:cNvPicPr/>
          <p:nvPr/>
        </p:nvPicPr>
        <p:blipFill>
          <a:blip r:embed="rId1"/>
          <a:stretch/>
        </p:blipFill>
        <p:spPr>
          <a:xfrm>
            <a:off x="4648320" y="1066680"/>
            <a:ext cx="4038480" cy="5181840"/>
          </a:xfrm>
          <a:prstGeom prst="rect">
            <a:avLst/>
          </a:prstGeom>
          <a:ln w="4140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873"/>
                </a:solidFill>
                <a:latin typeface="Arial"/>
              </a:rPr>
              <a:t>Алгоритм 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2860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природу жесткости воды и методы ее уст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ыдвину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отез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будем знать состав и свойства жесткой воды, сможем бороться с 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остави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редстави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873"/>
                </a:solidFill>
                <a:latin typeface="Arial"/>
              </a:rPr>
              <a:t>План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75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Уточнить значение термина «жесткость воды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75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Проанализировать информацию о причинах образования жесткой воды, ее влиянии на деятельность человека, способах умягчения воды и устранения накип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75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Составить уравнения реакций , иллюстрирующих процессы насыщения воды солями и способы устранения жесткост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75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Пользуясь полученной информацией, провести эксперимент по распознаванию жесткой воды, устранению накип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75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Результаты работы представить в виде таблицы «Жесткость воды и способы ее устранения»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75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-152280"/>
          <a:ext cx="9296280" cy="7907040"/>
        </p:xfrm>
        <a:graphic>
          <a:graphicData uri="http://schemas.openxmlformats.org/drawingml/2006/table">
            <a:tbl>
              <a:tblPr/>
              <a:tblGrid>
                <a:gridCol w="1292400"/>
                <a:gridCol w="1049040"/>
                <a:gridCol w="1533600"/>
                <a:gridCol w="1154160"/>
                <a:gridCol w="4267080"/>
              </a:tblGrid>
              <a:tr h="504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ость воды и способы ее устране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a4bc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жесткой вод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жестк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 устран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ио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ио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остав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особу ее устран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 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+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 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СО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бонат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кипяч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НСО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MgСО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Н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 + СО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добавление изве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(НСО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+ Са(ОН)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2CaCO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 + 2H</a:t>
                      </a:r>
                      <a:r>
                        <a:rPr b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</a:tr>
              <a:tr h="177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 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+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 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9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l</a:t>
                      </a:r>
                      <a:r>
                        <a:rPr b="1" lang="ru-RU" sz="2000" spc="-1" strike="noStrike" baseline="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-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ru-RU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000" spc="-1" strike="noStrike" baseline="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9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екарбонат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9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9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остоян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9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9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обавление сод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9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aCl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+Na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aCO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+ 2NaC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9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MgSO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+Na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MgCO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+ Na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0f4f5"/>
                    </a:solidFill>
                  </a:tcPr>
                </a:tc>
              </a:tr>
              <a:tr h="110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яют смесь гашеной извести и соды:  содово – известковый мет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0e7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Жёсткость воды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окупность свойств воды, связанных с содержанием в ней растворённых солей щёлочноземельных металлов, главным образом, кальция и маг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Organization Chart 8"/>
          <p:cNvGrpSpPr/>
          <p:nvPr/>
        </p:nvGrpSpPr>
        <p:grpSpPr>
          <a:xfrm>
            <a:off x="685800" y="1523880"/>
            <a:ext cx="7923960" cy="2285280"/>
            <a:chOff x="685800" y="1523880"/>
            <a:chExt cx="7923960" cy="2285280"/>
          </a:xfrm>
        </p:grpSpPr>
        <p:cxnSp>
          <p:nvCxnSpPr>
            <p:cNvPr id="231" name="_s1028"/>
            <p:cNvCxnSpPr>
              <a:stCxn id="232" idx="0"/>
              <a:endCxn id="233" idx="2"/>
            </p:cNvCxnSpPr>
            <p:nvPr/>
          </p:nvCxnSpPr>
          <p:spPr>
            <a:xfrm flipV="1" rot="16200000">
              <a:off x="5485680" y="1599120"/>
              <a:ext cx="457560" cy="2133360"/>
            </a:xfrm>
            <a:prstGeom prst="bentConnector3">
              <a:avLst>
                <a:gd name="adj1" fmla="val 12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4" name="_s1029"/>
            <p:cNvCxnSpPr>
              <a:stCxn id="235" idx="0"/>
              <a:endCxn id="233" idx="2"/>
            </p:cNvCxnSpPr>
            <p:nvPr/>
          </p:nvCxnSpPr>
          <p:spPr>
            <a:xfrm flipH="1" flipV="1" rot="5400000">
              <a:off x="3352320" y="1598760"/>
              <a:ext cx="457560" cy="2134440"/>
            </a:xfrm>
            <a:prstGeom prst="bentConnector3">
              <a:avLst>
                <a:gd name="adj1" fmla="val 12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_s1030"/>
            <p:cNvSpPr/>
            <p:nvPr/>
          </p:nvSpPr>
          <p:spPr>
            <a:xfrm>
              <a:off x="2819520" y="1523880"/>
              <a:ext cx="3657240" cy="914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Жесткост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оды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1"/>
            <p:cNvSpPr/>
            <p:nvPr/>
          </p:nvSpPr>
          <p:spPr>
            <a:xfrm>
              <a:off x="685800" y="2895120"/>
              <a:ext cx="3657240" cy="914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Временная жёсткость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(карбонатная)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2"/>
            <p:cNvSpPr/>
            <p:nvPr/>
          </p:nvSpPr>
          <p:spPr>
            <a:xfrm>
              <a:off x="4952520" y="2895120"/>
              <a:ext cx="3657240" cy="914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стоянная жесткость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некарбонатная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7"/>
          <p:cNvSpPr/>
          <p:nvPr/>
        </p:nvSpPr>
        <p:spPr>
          <a:xfrm>
            <a:off x="228600" y="4038480"/>
            <a:ext cx="8686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Временная жёстк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словлена присутствием в во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идрокарбона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альция и магния (Са(НС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Мg(НС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Постоянная жестк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оды обусловлена присутствием в во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льфа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лорид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а и Мg (СаSO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CaC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MgSO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gC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90" dur="250" autoRev="1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50" autoRev="1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93" dur="250" autoRev="1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94" dur="250" autoRev="1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4-15T06:52:11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