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8366-8AFF-4D3E-9312-747D8EC70E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2DB2-786D-4DE9-988D-D6D277A8BC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DB8-9A88-4316-BE84-96F6C15B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6E2-D36E-4029-8BE4-B454AF67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BF9-70D9-4624-A1E5-0D7C211B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C74-F32C-46D0-BEE6-7161BB96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2BD-5BF8-48E5-9F33-7B5BD8F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627-FDAA-4227-8D54-67AF9331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077-BB94-4E79-9449-340A450F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2E9-75DE-49E9-A6C6-3E61518B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13A-B7B9-4A94-A964-BB372217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801-AECB-409A-A5CB-988DF42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4D3-E7A0-495A-B76D-CBB6328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5D8-EAE7-4022-9499-D022B9F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8017-C844-48A3-AA38-E499ACD4D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1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Detskaya-29.jpg"/>
          <p:cNvPicPr/>
          <p:nvPr/>
        </p:nvPicPr>
        <p:blipFill>
          <a:blip r:embed="rId1"/>
          <a:stretch/>
        </p:blipFill>
        <p:spPr>
          <a:xfrm>
            <a:off x="-252360" y="49320"/>
            <a:ext cx="9671040" cy="6954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571760" y="1571760"/>
            <a:ext cx="590364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1 квалификационной категор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дензон Алл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младшая групп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ДОУ г. Омска «Центр развития ребенка – д/с 3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Компьютер\Desktop\мама презентация\Экскурсия в медкабинет\патриот\S1053709.JPG"/>
          <p:cNvPicPr/>
          <p:nvPr/>
        </p:nvPicPr>
        <p:blipFill>
          <a:blip r:embed="rId2"/>
          <a:stretch/>
        </p:blipFill>
        <p:spPr>
          <a:xfrm>
            <a:off x="642960" y="785880"/>
            <a:ext cx="413712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Компьютер\Desktop\мама презентация\Экскурсия в медкабинет\патриот\img007.jpg"/>
          <p:cNvPicPr/>
          <p:nvPr/>
        </p:nvPicPr>
        <p:blipFill>
          <a:blip r:embed="rId3"/>
          <a:stretch/>
        </p:blipFill>
        <p:spPr>
          <a:xfrm>
            <a:off x="2786040" y="3143160"/>
            <a:ext cx="47293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Компьютер\Desktop\мама презентация\Экскурсия в медкабинет\территория\S1055583.JPG"/>
          <p:cNvPicPr/>
          <p:nvPr/>
        </p:nvPicPr>
        <p:blipFill>
          <a:blip r:embed="rId2"/>
          <a:stretch/>
        </p:blipFill>
        <p:spPr>
          <a:xfrm rot="20751600">
            <a:off x="379080" y="774720"/>
            <a:ext cx="42004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Компьютер\Desktop\мама презентация\Экскурсия в медкабинет\территория\S1055584.JPG"/>
          <p:cNvPicPr/>
          <p:nvPr/>
        </p:nvPicPr>
        <p:blipFill>
          <a:blip r:embed="rId3"/>
          <a:stretch/>
        </p:blipFill>
        <p:spPr>
          <a:xfrm rot="675600">
            <a:off x="4335120" y="1231920"/>
            <a:ext cx="4138560" cy="310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Компьютер\Desktop\мама презентация\Экскурсия в медкабинет\территория\S1055586.JPG"/>
          <p:cNvPicPr/>
          <p:nvPr/>
        </p:nvPicPr>
        <p:blipFill>
          <a:blip r:embed="rId4"/>
          <a:stretch/>
        </p:blipFill>
        <p:spPr>
          <a:xfrm rot="5105400">
            <a:off x="2302200" y="378504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Компьютер\Desktop\мама презентация\Экскурсия в медкабинет\экологич\img006.jpg"/>
          <p:cNvPicPr/>
          <p:nvPr/>
        </p:nvPicPr>
        <p:blipFill>
          <a:blip r:embed="rId2"/>
          <a:stretch/>
        </p:blipFill>
        <p:spPr>
          <a:xfrm>
            <a:off x="571680" y="714240"/>
            <a:ext cx="428616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Компьютер\Desktop\мама презентация\Экскурсия в медкабинет\экологич\S1055856.JPG"/>
          <p:cNvPicPr/>
          <p:nvPr/>
        </p:nvPicPr>
        <p:blipFill>
          <a:blip r:embed="rId3"/>
          <a:stretch/>
        </p:blipFill>
        <p:spPr>
          <a:xfrm>
            <a:off x="4429080" y="121428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Компьютер\Desktop\мама презентация\Экскурсия в медкабинет\экологич\DSC03246.JPG"/>
          <p:cNvPicPr/>
          <p:nvPr/>
        </p:nvPicPr>
        <p:blipFill>
          <a:blip r:embed="rId4"/>
          <a:stretch/>
        </p:blipFill>
        <p:spPr>
          <a:xfrm>
            <a:off x="1785960" y="3214800"/>
            <a:ext cx="4387680" cy="329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2004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Компьютер\Desktop\мама презентация\Экскурсия в медкабинет\детский сад\DSC01110.JPG"/>
          <p:cNvPicPr/>
          <p:nvPr/>
        </p:nvPicPr>
        <p:blipFill>
          <a:blip r:embed="rId2"/>
          <a:stretch/>
        </p:blipFill>
        <p:spPr>
          <a:xfrm rot="20859000">
            <a:off x="318960" y="466200"/>
            <a:ext cx="3849840" cy="288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Компьютер\Desktop\мама презентация\Экскурсия в медкабинет\детский сад\DSC01150.JPG"/>
          <p:cNvPicPr/>
          <p:nvPr/>
        </p:nvPicPr>
        <p:blipFill>
          <a:blip r:embed="rId3"/>
          <a:stretch/>
        </p:blipFill>
        <p:spPr>
          <a:xfrm>
            <a:off x="1857240" y="3286080"/>
            <a:ext cx="3754440" cy="281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Компьютер\Desktop\мама презентация\Экскурсия в медкабинет\детский сад\DSC02005.JPG"/>
          <p:cNvPicPr/>
          <p:nvPr/>
        </p:nvPicPr>
        <p:blipFill>
          <a:blip r:embed="rId4"/>
          <a:stretch/>
        </p:blipFill>
        <p:spPr>
          <a:xfrm rot="576600">
            <a:off x="4509720" y="1099800"/>
            <a:ext cx="4016520" cy="301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Компьютер\Desktop\мама презентация\Экскурсия в медкабинет\театр\DSC01058.JPG"/>
          <p:cNvPicPr/>
          <p:nvPr/>
        </p:nvPicPr>
        <p:blipFill>
          <a:blip r:embed="rId2"/>
          <a:stretch/>
        </p:blipFill>
        <p:spPr>
          <a:xfrm>
            <a:off x="4786200" y="1809720"/>
            <a:ext cx="3476880" cy="463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Компьютер\Desktop\мама презентация\Экскурсия в медкабинет\театр\DSC01059.JPG"/>
          <p:cNvPicPr/>
          <p:nvPr/>
        </p:nvPicPr>
        <p:blipFill>
          <a:blip r:embed="rId3"/>
          <a:stretch/>
        </p:blipFill>
        <p:spPr>
          <a:xfrm>
            <a:off x="285840" y="214200"/>
            <a:ext cx="3930480" cy="294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Компьютер\Desktop\мама презентация\Экскурсия в медкабинет\театр\DSC01067.JPG"/>
          <p:cNvPicPr/>
          <p:nvPr/>
        </p:nvPicPr>
        <p:blipFill>
          <a:blip r:embed="rId4"/>
          <a:stretch/>
        </p:blipFill>
        <p:spPr>
          <a:xfrm>
            <a:off x="285840" y="3286080"/>
            <a:ext cx="4097160" cy="3073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Компьютер\Desktop\мама презентация\Экскурсия в медкабинет\патриот\img008.jpg"/>
          <p:cNvPicPr/>
          <p:nvPr/>
        </p:nvPicPr>
        <p:blipFill>
          <a:blip r:embed="rId5"/>
          <a:stretch/>
        </p:blipFill>
        <p:spPr>
          <a:xfrm>
            <a:off x="4572000" y="285840"/>
            <a:ext cx="4275000" cy="267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Компьютер\Desktop\мама презентация\Экскурсия в медкабинет\детский сад\DSC01082.JPG"/>
          <p:cNvPicPr/>
          <p:nvPr/>
        </p:nvPicPr>
        <p:blipFill>
          <a:blip r:embed="rId2"/>
          <a:stretch/>
        </p:blipFill>
        <p:spPr>
          <a:xfrm>
            <a:off x="5715000" y="357120"/>
            <a:ext cx="2946240" cy="392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Компьютер\Desktop\мама презентация\Экскурсия в медкабинет\детский сад\DSC01083.JPG"/>
          <p:cNvPicPr/>
          <p:nvPr/>
        </p:nvPicPr>
        <p:blipFill>
          <a:blip r:embed="rId3"/>
          <a:stretch/>
        </p:blipFill>
        <p:spPr>
          <a:xfrm>
            <a:off x="428760" y="357120"/>
            <a:ext cx="2946240" cy="39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Компьютер\Desktop\мама презентация\Экскурсия в медкабинет\детский сад\DSC01086.JPG"/>
          <p:cNvPicPr/>
          <p:nvPr/>
        </p:nvPicPr>
        <p:blipFill>
          <a:blip r:embed="rId4"/>
          <a:stretch/>
        </p:blipFill>
        <p:spPr>
          <a:xfrm>
            <a:off x="2786040" y="392904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Компьютер\Desktop\мама презентация\Экскурсия в медкабинет\детский сад\DSC01093.JPG"/>
          <p:cNvPicPr/>
          <p:nvPr/>
        </p:nvPicPr>
        <p:blipFill>
          <a:blip r:embed="rId5"/>
          <a:stretch/>
        </p:blipFill>
        <p:spPr>
          <a:xfrm>
            <a:off x="3214800" y="357120"/>
            <a:ext cx="284004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Компьютер\Desktop\мама презентация\Экскурсия в медкабинет\мед каб\IMG_7451.JPG"/>
          <p:cNvPicPr/>
          <p:nvPr/>
        </p:nvPicPr>
        <p:blipFill>
          <a:blip r:embed="rId2"/>
          <a:stretch/>
        </p:blipFill>
        <p:spPr>
          <a:xfrm rot="21286800">
            <a:off x="4857480" y="12855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Компьютер\Desktop\мама презентация\Экскурсия в медкабинет\мед каб\IMG_7452.JPG"/>
          <p:cNvPicPr/>
          <p:nvPr/>
        </p:nvPicPr>
        <p:blipFill>
          <a:blip r:embed="rId3"/>
          <a:stretch/>
        </p:blipFill>
        <p:spPr>
          <a:xfrm rot="385800">
            <a:off x="391680" y="460440"/>
            <a:ext cx="4578480" cy="34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Компьютер\Desktop\мама презентация\Экскурсия в медкабинет\мед каб\IMG_7463.JPG"/>
          <p:cNvPicPr/>
          <p:nvPr/>
        </p:nvPicPr>
        <p:blipFill>
          <a:blip r:embed="rId4"/>
          <a:stretch/>
        </p:blipFill>
        <p:spPr>
          <a:xfrm rot="492600">
            <a:off x="2356920" y="3499920"/>
            <a:ext cx="393552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59200" cy="258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924360" cy="257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356000" y="476280"/>
            <a:ext cx="4621320" cy="3051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468360" y="3860640"/>
            <a:ext cx="42688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гостях Омс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д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ществен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Ветеранск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ратств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PSD_Funny_Photo_Frame_For_Children_3484x26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3643200" y="142920"/>
            <a:ext cx="5286600" cy="352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 rot="324000">
            <a:off x="491760" y="1990440"/>
            <a:ext cx="4505400" cy="309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Компьютер\Desktop\мама презентация\Экскурсия в медкабинет\патриот\S1053801.JPG"/>
          <p:cNvPicPr/>
          <p:nvPr/>
        </p:nvPicPr>
        <p:blipFill>
          <a:blip r:embed="rId5"/>
          <a:stretch/>
        </p:blipFill>
        <p:spPr>
          <a:xfrm>
            <a:off x="4840200" y="3429000"/>
            <a:ext cx="430380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4a7d2671_49d8ac19_49c6e9fc_320-20autum202_resiz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3" descr=""/>
          <p:cNvPicPr/>
          <p:nvPr/>
        </p:nvPicPr>
        <p:blipFill>
          <a:blip r:embed="rId2"/>
          <a:stretch/>
        </p:blipFill>
        <p:spPr>
          <a:xfrm>
            <a:off x="1122480" y="42840"/>
            <a:ext cx="7515000" cy="193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2567160" y="993600"/>
            <a:ext cx="6583320" cy="142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08000" y="0"/>
            <a:ext cx="2646360" cy="24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6912000" y="4591080"/>
            <a:ext cx="2262240" cy="22622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4"/>
          <a:stretch/>
        </p:blipFill>
        <p:spPr>
          <a:xfrm>
            <a:off x="1420920" y="1255680"/>
            <a:ext cx="6046560" cy="5254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/>
          <p:cNvPicPr/>
          <p:nvPr/>
        </p:nvPicPr>
        <p:blipFill>
          <a:blip r:embed="rId5"/>
          <a:stretch/>
        </p:blipFill>
        <p:spPr>
          <a:xfrm>
            <a:off x="3481560" y="328680"/>
            <a:ext cx="259524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1319023126_3.jpg"/>
          <p:cNvPicPr/>
          <p:nvPr/>
        </p:nvPicPr>
        <p:blipFill>
          <a:blip r:embed="rId1"/>
          <a:stretch/>
        </p:blipFill>
        <p:spPr>
          <a:xfrm>
            <a:off x="0" y="4127400"/>
            <a:ext cx="3357720" cy="25434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2"/>
          <a:stretch/>
        </p:blipFill>
        <p:spPr>
          <a:xfrm>
            <a:off x="2597040" y="128520"/>
            <a:ext cx="3584520" cy="822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395280" y="112536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-это  средство общения ; обогащение активного словаря; развитие связной, грамматически правильной диалогической и монологической речи; развитие речевого творчества; развитие звуковой и интонационной культуры речи, фонематического слуха; знакомство с книжной культу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й литературой, понимание на слух текстов различных жанров детской литературы.  Отметим , что задачи речевого развития детей могут реализовываться в различных видах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через восприятие художественной литературы и фолькл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то не только подтверждает современность выбранной темы, но и её акту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Компьютер\Desktop\мама презентация\Экскурсия в медкабинет\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Компьютер\Desktop\мама презентация\Экскурсия в медкабинет\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785880" y="76500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курсия, как метод развития речи детей,  дает возможность изучить предметы или явления в естественной обстан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Компьютер\Desktop\мама презентация\Экскурсия в медкабинет\территория\DSC02066.JPG"/>
          <p:cNvPicPr/>
          <p:nvPr/>
        </p:nvPicPr>
        <p:blipFill>
          <a:blip r:embed="rId2"/>
          <a:stretch/>
        </p:blipFill>
        <p:spPr>
          <a:xfrm>
            <a:off x="2000160" y="194616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-3348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Компьютер\Desktop\мама презентация\Экскурсия в медкабинет\природа\DSC02720.JPG"/>
          <p:cNvPicPr/>
          <p:nvPr/>
        </p:nvPicPr>
        <p:blipFill>
          <a:blip r:embed="rId2"/>
          <a:stretch/>
        </p:blipFill>
        <p:spPr>
          <a:xfrm>
            <a:off x="642960" y="9288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Компьютер\Desktop\мама презентация\Экскурсия в медкабинет\природа\DSC00286.JPG"/>
          <p:cNvPicPr/>
          <p:nvPr/>
        </p:nvPicPr>
        <p:blipFill>
          <a:blip r:embed="rId3"/>
          <a:stretch/>
        </p:blipFill>
        <p:spPr>
          <a:xfrm>
            <a:off x="4286160" y="92880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Компьютер\Desktop\мама презентация\Экскурсия в медкабинет\природа\DSC02865.JPG"/>
          <p:cNvPicPr/>
          <p:nvPr/>
        </p:nvPicPr>
        <p:blipFill>
          <a:blip r:embed="rId4"/>
          <a:stretch/>
        </p:blipFill>
        <p:spPr>
          <a:xfrm>
            <a:off x="2357280" y="342900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-31680" y="-3492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4284720" y="1989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Компьютер\Desktop\мама презентация\Экскурсия в медкабинет\зхнакомство с группой\DSC00238.JPG"/>
          <p:cNvPicPr/>
          <p:nvPr/>
        </p:nvPicPr>
        <p:blipFill>
          <a:blip r:embed="rId2"/>
          <a:stretch/>
        </p:blipFill>
        <p:spPr>
          <a:xfrm rot="21141600">
            <a:off x="606240" y="60480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Компьютер\Desktop\мама презентация\Экскурсия в медкабинет\зхнакомство с группой\DSC00329.JPG"/>
          <p:cNvPicPr/>
          <p:nvPr/>
        </p:nvPicPr>
        <p:blipFill>
          <a:blip r:embed="rId3"/>
          <a:stretch/>
        </p:blipFill>
        <p:spPr>
          <a:xfrm rot="556200">
            <a:off x="4429080" y="1371600"/>
            <a:ext cx="3965760" cy="297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Компьютер\Desktop\мама презентация\Экскурсия в медкабинет\зхнакомство с группой\DSC00309.JPG"/>
          <p:cNvPicPr/>
          <p:nvPr/>
        </p:nvPicPr>
        <p:blipFill>
          <a:blip r:embed="rId4"/>
          <a:stretch/>
        </p:blipFill>
        <p:spPr>
          <a:xfrm>
            <a:off x="1143000" y="3214800"/>
            <a:ext cx="3780000" cy="283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Компьютер\Desktop\мама презентация\Экскурсия в медкабинет\территория\DSC02092.JPG"/>
          <p:cNvPicPr/>
          <p:nvPr/>
        </p:nvPicPr>
        <p:blipFill>
          <a:blip r:embed="rId2"/>
          <a:stretch/>
        </p:blipFill>
        <p:spPr>
          <a:xfrm>
            <a:off x="2357280" y="3429000"/>
            <a:ext cx="3870360" cy="2903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Компьютер\Desktop\мама презентация\Экскурсия в медкабинет\территория\DSC02127.JPG"/>
          <p:cNvPicPr/>
          <p:nvPr/>
        </p:nvPicPr>
        <p:blipFill>
          <a:blip r:embed="rId3"/>
          <a:stretch/>
        </p:blipFill>
        <p:spPr>
          <a:xfrm>
            <a:off x="4572000" y="1071720"/>
            <a:ext cx="3678120" cy="275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Компьютер\Desktop\мама презентация\Экскурсия в медкабинет\территория\S1055593.JPG"/>
          <p:cNvPicPr/>
          <p:nvPr/>
        </p:nvPicPr>
        <p:blipFill>
          <a:blip r:embed="rId4"/>
          <a:stretch/>
        </p:blipFill>
        <p:spPr>
          <a:xfrm>
            <a:off x="785880" y="7142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ьютер</dc:creator>
  <dc:description/>
  <dc:language>en-US</dc:language>
  <cp:lastModifiedBy>Компьютер</cp:lastModifiedBy>
  <dcterms:modified xsi:type="dcterms:W3CDTF">2018-04-26T14:39:05Z</dcterms:modified>
  <cp:revision>105</cp:revision>
  <dc:subject/>
  <dc:title>Слайд 1</dc:title>
</cp:coreProperties>
</file>