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441-5D99-4634-B377-157B27C6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388-E8C7-4B88-82D6-CC87A21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279-7BFF-4F17-930D-1C071B52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30E-F99A-4F72-8FB0-8D98A22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E957-EE33-4BCC-9F21-501CC3A4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2E38-87B5-4ECB-B155-012665D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74B3-2FBC-4386-840D-A5911FD2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1AFE-7CA7-4EC4-9F62-8291D938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CD54-7AC7-4DB3-9021-6EFF15A2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35CA-CFC0-43D5-9527-6E26843C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23C5-CB35-4160-9208-6E958B5D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1E7-1014-4487-8423-9E6617EB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65D6-9663-4D56-A9B7-6A149E0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805-561F-4D52-AE1F-E99E5EB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26BD-EB12-45C4-AA40-692BC71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C48-5918-4AF9-83D5-12BBD5A1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CD8A-3B97-4F29-B7ED-AB497778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4D0-9E3D-4910-8518-E5F1A145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ED2-4484-4923-9197-52C97A21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0F1-CC27-41A8-91BF-FB620285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6FE-538A-450D-8812-A7F91D35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510-BE7E-4983-A310-260CFF0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F6B-359C-473F-836E-0489D4DE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155-6752-45D3-9932-C67214D8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5141-A614-4671-B49A-B30AEDD014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637-0304-4007-AF6F-05046A1523D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Музыкальные странички для родителей от музыкального руководител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698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Технология проектного обучения:               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                 Мастер – класс 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«Играем на ложках вместе со своими детьми»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160" y="476280"/>
            <a:ext cx="3616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мимо описанных выше шести приемов, которые являются основными, существует еще много разновидностей игры на ложках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пример, в каждой руке создается своеобразный веер: по четыре ложки за черенки зажимаются между пальцев рук таким образом, чтобы черпаки ложек были обращены друг к другу выпуклыми сторонами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Когда исполнитель ударяет ложками друг о друга или совершает ими глиссандирующие удары, то они не только самобытно звучат, но и очень зрелищно смотрятся в процессе игр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43f0dfc3deaf"/>
          <p:cNvPicPr/>
          <p:nvPr/>
        </p:nvPicPr>
        <p:blipFill>
          <a:blip r:embed="rId1"/>
          <a:stretch/>
        </p:blipFill>
        <p:spPr>
          <a:xfrm>
            <a:off x="4211640" y="1052640"/>
            <a:ext cx="3063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астучали наши ложк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важаемые родители и педагоги!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ждый год в нашем детском саду я провожу фольклорные досуги и праздники. Особое внимание уделяю игре на деревянных ложках. Родители всегда удивляются, как дети легко справляются с этим народным инструментом. На самом деле не так уж это и просто. Поэтому я предлагаю мастер – класс, который поможет Вам вместе с нами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грать на ложка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риемы игры на ложках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. Игра двумя ложками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Самый простой прием игры на ложках. Черенки ложек находятся в обеих руках, в каждой руке по ложке. Черпаки ложек обращены друг к другу тыльными сторонами, которые при ударе образуют характерный сухой звук. С освоения этого простейшего приема начинается обучение игре на ложках. Возможность без особого навыка выполнять самые сложные ритмические рисунки позволяет ребенку сразу включиться в процесс творчеств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af5a9d8a6e66"/>
          <p:cNvPicPr/>
          <p:nvPr/>
        </p:nvPicPr>
        <p:blipFill>
          <a:blip r:embed="rId1"/>
          <a:stretch/>
        </p:blipFill>
        <p:spPr>
          <a:xfrm>
            <a:off x="4211640" y="1628640"/>
            <a:ext cx="2813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-414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765000"/>
            <a:ext cx="3616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I. Игра двумя ложками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лость черпака одной ложки зажата в ладони (обычно левой руки). Удар производится другой ложкой. Приоткрывание полости между ложкой и ладонью, которая выполняет роль резонатора, позволяет извлекать звуки различной высоты. Дети этому приему игры придумали название – «Лошадка», так как при последовательном чередовании звуков различной высоты создается имитация цоканья копыт лошади. </a:t>
            </a:r>
            <a:br>
              <a:rPr sz="1600"/>
            </a:br>
            <a:r>
              <a:rPr b="0" lang="ru-RU" sz="1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ысокий или низкий, глухой или звонкий - все это ребенок слышит, когда он играет на ложках «Лошадку». Он не просто воспроизводит какие-то звуки, а учится анализировать и сравнивать услышанное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1c31e1bc3e46"/>
          <p:cNvPicPr/>
          <p:nvPr/>
        </p:nvPicPr>
        <p:blipFill>
          <a:blip r:embed="rId1"/>
          <a:stretch/>
        </p:blipFill>
        <p:spPr>
          <a:xfrm>
            <a:off x="4427640" y="1341360"/>
            <a:ext cx="2789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Ритм можно выстукивать также следующим образом: зажать черпаки обеих ложек в ладонях и, разворачивая в разные стороны кисти рук, производить удар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52af55154fbe"/>
          <p:cNvPicPr/>
          <p:nvPr/>
        </p:nvPicPr>
        <p:blipFill>
          <a:blip r:embed="rId1"/>
          <a:stretch/>
        </p:blipFill>
        <p:spPr>
          <a:xfrm>
            <a:off x="4284720" y="1268280"/>
            <a:ext cx="278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476280"/>
            <a:ext cx="3616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На двух ложках также можно играть следующим образом: одна ложка находится у немного приоткрытого рта таким образом, что ее полость (черпак) и полость рта создают своеобразный резонатор. Удар производится другой ложкой. Изменяя величину резонатора (открывая или закрывая рот), образуются звуки разной высоты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астерски владея этим приемом, можно на ложках исполнить даже ритм-мелодию с небольшим диапазоном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етей дошкольного возраста этому приему, как правило, обучать следует осторожно, так как повышается опасность приобретения ими различных инфекций. Ведь ложка, находящаяся у рта ребенка, обычно оказывается не у рта, а в не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361659b6f0fb"/>
          <p:cNvPicPr/>
          <p:nvPr/>
        </p:nvPicPr>
        <p:blipFill>
          <a:blip r:embed="rId1"/>
          <a:stretch/>
        </p:blipFill>
        <p:spPr>
          <a:xfrm>
            <a:off x="4284720" y="836640"/>
            <a:ext cx="313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620280"/>
            <a:ext cx="36162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II. Игра двумя ложками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Ложки держат в правой руке; между их черенками (посередине) находится указательный палец. Выпуклые стороны черпаков обращены друг к другу (интервал между ложками 1-3 см), черенки ложек зажаты в ладони руки. Удары осуществляются: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ладони левой руки;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правой и левой ногам (место немного выше колена);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ноге и ладони, которая находится над ногой;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- по плечу и ладони (тремоло)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1e65b836db45"/>
          <p:cNvPicPr/>
          <p:nvPr/>
        </p:nvPicPr>
        <p:blipFill>
          <a:blip r:embed="rId1"/>
          <a:stretch/>
        </p:blipFill>
        <p:spPr>
          <a:xfrm>
            <a:off x="4427640" y="1125360"/>
            <a:ext cx="28382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476280"/>
            <a:ext cx="3616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V. Игра тремя ложками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Две ложки зажимаются в левой руке: их черпаки находятся со стороны ладони, а черенки (у основания черенка) зажаты между большим-указательным и средним-безымянным пальцами. Черпаки ложек обращены друг к другу выпуклыми сторонами с интервалом между ними 3-5 см. Третья ложка находится в правой руке. </a:t>
            </a: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Черпачок ложки, зажатой в правой руке, тремолирует между черпаками, черенками ложек, которые находятся в левой руке, а также наносит всевозможные прямые и скользящие (глиссандирующие) удар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72ba45e70220"/>
          <p:cNvPicPr/>
          <p:nvPr/>
        </p:nvPicPr>
        <p:blipFill>
          <a:blip r:embed="rId1"/>
          <a:stretch/>
        </p:blipFill>
        <p:spPr>
          <a:xfrm>
            <a:off x="4140360" y="404640"/>
            <a:ext cx="1647720" cy="216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af4cf973408"/>
          <p:cNvPicPr/>
          <p:nvPr/>
        </p:nvPicPr>
        <p:blipFill>
          <a:blip r:embed="rId2"/>
          <a:stretch/>
        </p:blipFill>
        <p:spPr>
          <a:xfrm>
            <a:off x="5651640" y="2060640"/>
            <a:ext cx="1788840" cy="23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af4cf973408"/>
          <p:cNvPicPr/>
          <p:nvPr/>
        </p:nvPicPr>
        <p:blipFill>
          <a:blip r:embed="rId3"/>
          <a:stretch/>
        </p:blipFill>
        <p:spPr>
          <a:xfrm>
            <a:off x="4140360" y="3789360"/>
            <a:ext cx="18237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-129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V. Игра на четырех ложках</a:t>
            </a: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каждой руке находится по две ложки, которые закреплены в руках так, как в четвертом приеме пара ложек в левой руке. Прямые удары чередуются в этом приеме с глиссандирующим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4" descr="35e24038514f"/>
          <p:cNvPicPr/>
          <p:nvPr/>
        </p:nvPicPr>
        <p:blipFill>
          <a:blip r:embed="rId1"/>
          <a:stretch/>
        </p:blipFill>
        <p:spPr>
          <a:xfrm>
            <a:off x="4067280" y="1197000"/>
            <a:ext cx="2965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2:14:06Z</dcterms:created>
  <dc:creator>Алёна</dc:creator>
  <dc:description/>
  <dc:language>en-US</dc:language>
  <cp:lastModifiedBy>Admin</cp:lastModifiedBy>
  <dcterms:modified xsi:type="dcterms:W3CDTF">2018-04-28T14:04:41Z</dcterms:modified>
  <cp:revision>10</cp:revision>
  <dc:subject/>
  <dc:title>Музыкальные странички для родителей от музыкального руководителя</dc:title>
</cp:coreProperties>
</file>