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27E-B606-4CA9-B67C-76DCFE91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90C-D165-42AA-AF1A-4938837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BAE-A1E4-4C1E-9D8C-7F3A479C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117-C00B-4F7E-80B9-A6386268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7A34-F65B-4460-8867-980D7C1D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0C66-8BCD-4CEA-A5B3-636D923C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C0DE-2DEB-4837-A70A-B3849831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788A-D537-47E7-9658-BDC475A5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6EE1-DB43-4C98-9CC4-8690FB3F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CC4B-511F-4F55-8B5A-40069943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609E-9A79-4997-9A88-0BB88D0C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708-0494-4051-8F03-143CE59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B2C4-1494-45D1-BBBA-8DF8B135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8A6A-F523-4BF2-A946-91C2542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3EE5-BBE4-46C7-A820-9AC390DB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1098-7078-4A6A-9566-065A8386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3586-FCB1-40BE-AA76-3FE041B1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198-A7FC-46D4-9CED-249EB39C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1C7-5290-4B4C-8385-64828564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5CE-21EA-43FD-8142-DCADA7C2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5E1-2D25-49FB-BD34-AF057B94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A74-60E3-4961-B80A-CAB1DE5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23F-D075-47E7-AF19-390107E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6C5-6FDF-4E12-89FE-CD6470A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F95C-B7C7-4638-A220-78A577AA6D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60A8-B24B-496E-997B-E8037FED879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818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Музыкальные странички для родителей от музыкального руководител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6983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Технология проектного обучения:               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                     Мастер – класс для родителей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    «Играем на ложках вместе со своими детьми»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160" y="476280"/>
            <a:ext cx="36162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имо описанных выше шести приемов, которые являются основными, существует еще много разновидностей игры на ложках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пример, в каждой руке создается своеобразный веер: по четыре ложки за черенки зажимаются между пальцев рук таким образом, чтобы черпаки ложек были обращены друг к другу выпуклыми сторонами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гда исполнитель ударяет ложками друг о друга или совершает ими глиссандирующие удары, то они не только самобытно звучат, но и очень зрелищно смотрятся в процессе игры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43f0dfc3deaf"/>
          <p:cNvPicPr/>
          <p:nvPr/>
        </p:nvPicPr>
        <p:blipFill>
          <a:blip r:embed="rId1"/>
          <a:stretch/>
        </p:blipFill>
        <p:spPr>
          <a:xfrm>
            <a:off x="4211640" y="1052640"/>
            <a:ext cx="3063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Застучали наши ложк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важаемые родители и педагоги!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ждый год в нашем детском саду я провожу фольклорные досуги и праздники. Особое внимание уделяю игре на деревянных ложках. Родители всегда удивляются, как дети легко справляются с этим народным инструментом. На самом деле не так уж это и просто. Поэтому я предлагаю мастер – класс, который поможет Вам вместе с нами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грать на ложка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риемы игры на ложках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. Игра двумя ложками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амый простой прием игры на ложках. Черенки ложек находятся в обеих руках, в каждой руке по ложке. Черпаки ложек обращены друг к другу тыльными сторонами, которые при ударе образуют характерный сухой звук. С освоения этого простейшего приема начинается обучение игре на ложках. Возможность без особого навыка выполнять самые сложные ритмические рисунки позволяет ребенку сразу включиться в процесс творчеств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af5a9d8a6e66"/>
          <p:cNvPicPr/>
          <p:nvPr/>
        </p:nvPicPr>
        <p:blipFill>
          <a:blip r:embed="rId1"/>
          <a:stretch/>
        </p:blipFill>
        <p:spPr>
          <a:xfrm>
            <a:off x="4211640" y="1628640"/>
            <a:ext cx="2813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765000"/>
            <a:ext cx="3616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I. Игра двумя ложками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лость черпака одной ложки зажата в ладони (обычно левой руки). Удар производится другой ложкой. Приоткрывание полости между ложкой и ладонью, которая выполняет роль резонатора, позволяет извлекать звуки различной высоты. Дети этому приему игры придумали название – «Лошадка», так как при последовательном чередовании звуков различной высоты создается имитация цоканья копыт лошади. </a:t>
            </a:r>
            <a:br>
              <a:rPr sz="1600"/>
            </a:b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сокий или низкий, глухой или звонкий - все это ребенок слышит, когда он играет на ложках «Лошадку». Он не просто воспроизводит какие-то звуки, а учится анализировать и сравнивать услышанное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1c31e1bc3e46"/>
          <p:cNvPicPr/>
          <p:nvPr/>
        </p:nvPicPr>
        <p:blipFill>
          <a:blip r:embed="rId1"/>
          <a:stretch/>
        </p:blipFill>
        <p:spPr>
          <a:xfrm>
            <a:off x="4427640" y="1341360"/>
            <a:ext cx="2789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итм можно выстукивать также следующим образом: зажать черпаки обеих ложек в ладонях и, разворачивая в разные стороны кисти рук, производить удары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52af55154fbe"/>
          <p:cNvPicPr/>
          <p:nvPr/>
        </p:nvPicPr>
        <p:blipFill>
          <a:blip r:embed="rId1"/>
          <a:stretch/>
        </p:blipFill>
        <p:spPr>
          <a:xfrm>
            <a:off x="4284720" y="1268280"/>
            <a:ext cx="278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476280"/>
            <a:ext cx="36162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 двух ложках также можно играть следующим образом: одна ложка находится у немного приоткрытого рта таким образом, что ее полость (черпак) и полость рта создают своеобразный резонатор. Удар производится другой ложкой. Изменяя величину резонатора (открывая или закрывая рот), образуются звуки разной высоты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стерски владея этим приемом, можно на ложках исполнить даже ритм-мелодию с небольшим диапазоном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етей дошкольного возраста этому приему, как правило, обучать следует осторожно, так как повышается опасность приобретения ими различных инфекций. Ведь ложка, находящаяся у рта ребенка, обычно оказывается не у рта, а в нем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361659b6f0fb"/>
          <p:cNvPicPr/>
          <p:nvPr/>
        </p:nvPicPr>
        <p:blipFill>
          <a:blip r:embed="rId1"/>
          <a:stretch/>
        </p:blipFill>
        <p:spPr>
          <a:xfrm>
            <a:off x="4284720" y="836640"/>
            <a:ext cx="313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620280"/>
            <a:ext cx="36162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II. Игра двумя ложками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ожки держат в правой руке; между их черенками (посередине) находится указательный палец. Выпуклые стороны черпаков обращены друг к другу (интервал между ложками 1-3 см), черенки ложек зажаты в ладони руки. Удары осуществляются: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по ладони левой руки;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по правой и левой ногам (место немного выше колена);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по ноге и ладони, которая находится над ногой;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по плечу и ладони (тремоло)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1e65b836db45"/>
          <p:cNvPicPr/>
          <p:nvPr/>
        </p:nvPicPr>
        <p:blipFill>
          <a:blip r:embed="rId1"/>
          <a:stretch/>
        </p:blipFill>
        <p:spPr>
          <a:xfrm>
            <a:off x="4427640" y="1125360"/>
            <a:ext cx="283824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476280"/>
            <a:ext cx="36162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V. Игра тремя ложками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ве ложки зажимаются в левой руке: их черпаки находятся со стороны ладони, а черенки (у основания черенка) зажаты между большим-указательным и средним-безымянным пальцами. Черпаки ложек обращены друг к другу выпуклыми сторонами с интервалом между ними 3-5 см. Третья ложка находится в правой руке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ерпачок ложки, зажатой в правой руке, тремолирует между черпаками, черенками ложек, которые находятся в левой руке, а также наносит всевозможные прямые и скользящие (глиссандирующие) удары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72ba45e70220"/>
          <p:cNvPicPr/>
          <p:nvPr/>
        </p:nvPicPr>
        <p:blipFill>
          <a:blip r:embed="rId1"/>
          <a:stretch/>
        </p:blipFill>
        <p:spPr>
          <a:xfrm>
            <a:off x="4140360" y="404640"/>
            <a:ext cx="1647720" cy="216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baf4cf973408"/>
          <p:cNvPicPr/>
          <p:nvPr/>
        </p:nvPicPr>
        <p:blipFill>
          <a:blip r:embed="rId2"/>
          <a:stretch/>
        </p:blipFill>
        <p:spPr>
          <a:xfrm>
            <a:off x="5651640" y="2060640"/>
            <a:ext cx="1788840" cy="23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af4cf973408"/>
          <p:cNvPicPr/>
          <p:nvPr/>
        </p:nvPicPr>
        <p:blipFill>
          <a:blip r:embed="rId3"/>
          <a:stretch/>
        </p:blipFill>
        <p:spPr>
          <a:xfrm>
            <a:off x="4140360" y="3789360"/>
            <a:ext cx="18237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V. Игра на четырех ложках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каждой руке находится по две ложки, которые закреплены в руках так, как в четвертом приеме пара ложек в левой руке. Прямые удары чередуются в этом приеме с глиссандирующим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4" descr="35e24038514f"/>
          <p:cNvPicPr/>
          <p:nvPr/>
        </p:nvPicPr>
        <p:blipFill>
          <a:blip r:embed="rId1"/>
          <a:stretch/>
        </p:blipFill>
        <p:spPr>
          <a:xfrm>
            <a:off x="4067280" y="1197000"/>
            <a:ext cx="2965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2:14:06Z</dcterms:created>
  <dc:creator>Алёна</dc:creator>
  <dc:description/>
  <dc:language>en-US</dc:language>
  <cp:lastModifiedBy>Admin</cp:lastModifiedBy>
  <dcterms:modified xsi:type="dcterms:W3CDTF">2018-04-28T14:04:41Z</dcterms:modified>
  <cp:revision>10</cp:revision>
  <dc:subject/>
  <dc:title>Музыкальные странички для родителей от музыкального руководителя</dc:title>
</cp:coreProperties>
</file>