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D02-12DD-4290-BFB9-A66EB88E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348-2948-4882-AAC5-4638550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C60-4F2B-4310-A53F-513C982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EA2-38E6-4F83-9742-865A85A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07B-F426-4C10-AA5C-E4C9F25F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C96-81B7-4E65-9D1C-95D1D517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429-6A7F-4FF0-8B84-C7BB7CE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4CF-30EC-44EE-AE59-E5B46B2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545-9147-4D23-9116-912B431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3F4-1662-4AF9-9B3F-DCABEB4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C14-409A-42BE-85B8-F8D0936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7E9-5904-4D0E-AFA8-4DF1F2A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FD5A-C564-423E-824D-B03B372E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viacosmofond.ru/demo/h/Nauka/Mezhdurech/Mezhdurechie.res/Assiria/Assiria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viacosmofond.ru/demo/h/Nauka/Mezhdurech/Mezhdurechie.res/Assiria/Assiri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hk.spb.ru/images/mesopotamia/shedu_assiria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syria-cmw.narod.ru/kult.files/0002842b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present.ru/katalog/az_mini/0002933b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36000" y="4869000"/>
            <a:ext cx="145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7 из 1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14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165720"/>
            <a:ext cx="914400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страны, изображенные на карте. Территория какого государства обозначена оранжевым цве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ужие и доспех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5373720"/>
            <a:ext cx="3313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елезные м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п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Лу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5 из 11"/>
          <p:cNvPicPr/>
          <p:nvPr/>
        </p:nvPicPr>
        <p:blipFill>
          <a:blip r:embed="rId1"/>
          <a:stretch/>
        </p:blipFill>
        <p:spPr>
          <a:xfrm>
            <a:off x="1116000" y="1434960"/>
            <a:ext cx="6769080" cy="38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64000" y="5373720"/>
            <a:ext cx="345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нци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572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0" y="169992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читайте текст на стр. 93 из летописи ассирийского ц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то можно сказать об ассирийских завоевате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естокость ассирийц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жали, на кол, ослепляли, сдирали ко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ушали храмы и крепостные ст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одили в плен целые 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били покоренные 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757680"/>
            <a:ext cx="84247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ссирийские ц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5057280"/>
            <a:ext cx="8291520" cy="13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ссирии царь не считался, как в Египте, бо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вую очередь он был военачальником,                            а затем уже жрецом и судь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850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рь Ашшурбанап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3640" y="2205000"/>
            <a:ext cx="3610080" cy="3240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шшурбанапал - последний царь Асси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59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76280"/>
            <a:ext cx="493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шшурбанапал охотится на ль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2 из 15"/>
          <p:cNvPicPr/>
          <p:nvPr/>
        </p:nvPicPr>
        <p:blipFill>
          <a:blip r:embed="rId2"/>
          <a:stretch/>
        </p:blipFill>
        <p:spPr>
          <a:xfrm>
            <a:off x="5059440" y="0"/>
            <a:ext cx="387504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35640" y="5589720"/>
            <a:ext cx="35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877000"/>
            <a:ext cx="35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шшурбанапал в колес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8164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льефы из дворца царя                в г. Нине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88000" y="4437000"/>
            <a:ext cx="20988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66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6093000"/>
            <a:ext cx="820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ьер царского дворца в Нинев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уя крылатого быка, охранявшая вход в царский дворе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81560" cy="619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05 из 149"/>
          <p:cNvPicPr/>
          <p:nvPr/>
        </p:nvPicPr>
        <p:blipFill>
          <a:blip r:embed="rId2"/>
          <a:stretch/>
        </p:blipFill>
        <p:spPr>
          <a:xfrm>
            <a:off x="179280" y="260280"/>
            <a:ext cx="4373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 Ашшурбанап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577044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казал собирать книги из разны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ниги были написаны на глиняных таблич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блиотека сгорела, а книги ост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44640"/>
            <a:ext cx="25718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рушение Нинев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0000" y="1773360"/>
            <a:ext cx="338472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612 г. до н.э. вавилоняне объединились             с мидийцами               и восс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невия была захвачена и сож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рийская держава погиб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5329440" cy="35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6262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ссирий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443664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189000"/>
            <a:ext cx="462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27 из 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008160"/>
            <a:ext cx="572436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05 из 1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421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507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3399"/>
                </a:solidFill>
                <a:latin typeface="Arial"/>
              </a:rPr>
              <a:t>Повторим</a:t>
            </a:r>
            <a:r>
              <a:rPr b="1" i="1" lang="en-US" sz="31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980640"/>
            <a:ext cx="8258040" cy="568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лицу Ассирии, город ____________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ывали «логовищем львов», «городом кров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сирийцы впервые стали широко использовать в военном  деле 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разрушения вражеской крепости ассирийцы применяли  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уть войску преграждала река, ассирийцы надували ________________ и на них переправлялись 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ины были вооружены мечами и топориками из твёрдого металла 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невия была захвачена и сожжена врагами в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______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ду до н.э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907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не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нни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9440" y="27082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а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440" y="342756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ожаные м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1440" y="3427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пла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3440" y="42195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458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67280" y="2133360"/>
            <a:ext cx="4619520" cy="3273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си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исать про библиотеку и про конец Ассирийского царства. (п. 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064040"/>
            <a:ext cx="3492360" cy="2793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1733400" cy="3024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ируйте вопросы, на которые мы должны ответить в ходе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7840" y="3232080"/>
            <a:ext cx="7724520" cy="3018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Где находится Ассир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занятия были у жителей этой страны в древ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 управлялась это госуда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евало ли оно с другими стран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36000" y="4869000"/>
            <a:ext cx="145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7 из 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43280" y="4076280"/>
            <a:ext cx="2243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спользуя карту на стр.9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овите государ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воев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ссирий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6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8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514836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0720" y="2060280"/>
            <a:ext cx="4186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вы думаете, почему Ассирии удалось завоевать так много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797280" cy="595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5950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ылатый 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-X вв. до н.э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ссирийская ар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5057280"/>
            <a:ext cx="8361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 каких родов войск состояла ассирийская арм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35 из 1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13000"/>
            <a:ext cx="4356000" cy="3668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619280" y="1413000"/>
            <a:ext cx="3211560" cy="35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40 из 1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247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0920" y="2707920"/>
            <a:ext cx="253044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8 из 11"/>
          <p:cNvPicPr/>
          <p:nvPr/>
        </p:nvPicPr>
        <p:blipFill>
          <a:blip r:embed="rId1"/>
          <a:stretch/>
        </p:blipFill>
        <p:spPr>
          <a:xfrm>
            <a:off x="1042920" y="189000"/>
            <a:ext cx="734544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50920" y="5734080"/>
            <a:ext cx="851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сирийцы умели переплавляться через реку                     на кожаных меш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32508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штурма крепостей использ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раны и осадные баш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1:28:12Z</dcterms:created>
  <dc:creator>ADMINISTRATOR</dc:creator>
  <dc:description/>
  <dc:language>en-US</dc:language>
  <cp:lastModifiedBy>qwe</cp:lastModifiedBy>
  <dcterms:modified xsi:type="dcterms:W3CDTF">2016-11-15T14:06:49Z</dcterms:modified>
  <cp:revision>21</cp:revision>
  <dc:subject/>
  <dc:title>Слайд 1</dc:title>
</cp:coreProperties>
</file>