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542-1BD9-46DD-B9A5-77B56EE4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CB6-5E33-4087-91CE-850A6C6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B40-D70A-4A90-A26F-76FA0D87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F22-CA3E-46F7-AE70-6C3A7249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125A-BA64-44C9-964B-0F2EF7F8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221-D789-4E8E-A861-AE0E272B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1F71-D3B5-4F1B-A672-5E67DA72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37B9-F96E-4CCB-8C34-84A3607B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279E-2725-48CF-8E77-73AD14CA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D4A6-669A-494A-8DE7-DB4D3E2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6BBA-0DF3-4CF5-B93B-7B0F25B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1A0-E318-4714-BCEA-740C6AC0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D0E1-FECF-4693-90FF-4B60B26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CFD7-6D85-4ABD-BB32-D85E432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ABD-95D9-4C80-AD11-3E3D98E7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6AA8-2806-4577-BDD6-ECAAD923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FC4E-1B66-4BCD-862E-B879592C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8B09-7D67-4455-8884-C7407FC3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0B44-6D2B-4D92-BD75-2A96B427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1E68-AC0A-4F29-BFA3-DF2AF9AB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DBD4-125A-4DF0-94E5-7B2CF553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BAE4-26D2-4A9B-AA20-7E8DE70A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3A1-5927-4E9C-94A6-40A7223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0188-CE6F-454E-AE7A-0C85063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F604-F041-4FC4-843C-550BDD5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B832-311B-4F11-B0BF-9BE1AF8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3D18-910C-47B4-93AD-0BFA2A8D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D6E0-3B36-4E81-9235-B984DA4D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21C3-49B4-4C84-A7B8-8D17CE29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81F2-B45A-463C-862F-C98FA8C5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7DC-5421-4ECE-9FEF-6F6B9F2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D04-E973-4991-A57A-94EAC2D3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0A2-C674-4DD7-B62D-B54EAA75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E61-3003-4949-8BEB-B6E353D2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DB5-B6F9-4FE7-88B9-4279857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00B-EE10-4D5F-9154-D4259B1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7280" cy="6864480"/>
            <a:chOff x="4680" y="0"/>
            <a:chExt cx="1727280" cy="686448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8480" cy="6399360"/>
            </a:xfrm>
            <a:custGeom>
              <a:avLst/>
              <a:gdLst>
                <a:gd name="textAreaLeft" fmla="*/ 0 w 798480"/>
                <a:gd name="textAreaRight" fmla="*/ 399240 w 798480"/>
                <a:gd name="textAreaTop" fmla="*/ 0 h 6399360"/>
                <a:gd name="textAreaBottom" fmla="*/ 6399360 h 63993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fb5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480" y="465120"/>
              <a:ext cx="798480" cy="6399360"/>
            </a:xfrm>
            <a:custGeom>
              <a:avLst/>
              <a:gdLst>
                <a:gd name="textAreaLeft" fmla="*/ 399240 w 798480"/>
                <a:gd name="textAreaRight" fmla="*/ 798480 w 798480"/>
                <a:gd name="textAreaTop" fmla="*/ 0 h 6399360"/>
                <a:gd name="textAreaBottom" fmla="*/ 6399360 h 63993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fb5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5240" cy="6854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3680" y="2609640"/>
              <a:ext cx="722160" cy="5698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19954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200040" y="639900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23708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ADFBEA-9145-4AB0-83F9-CC1D2028CB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BC26A1-5EDC-43E2-A344-E0623C52EF0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7490AA-24C9-4E60-B669-4D828CF2C1C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ahoma"/>
              </a:rPr>
              <a:t>Маркетинг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Консалтинг и маркетинг"/>
          <p:cNvPicPr/>
          <p:nvPr/>
        </p:nvPicPr>
        <p:blipFill>
          <a:blip r:embed="rId1"/>
          <a:stretch/>
        </p:blipFill>
        <p:spPr>
          <a:xfrm>
            <a:off x="4716360" y="3529080"/>
            <a:ext cx="44276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629080" cy="26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-1004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YaHei"/>
              </a:rPr>
              <a:t>Маркетинг</a:t>
            </a:r>
            <a:r>
              <a:rPr b="1" lang="ru-RU" sz="3200" spc="-1" strike="noStrike">
                <a:solidFill>
                  <a:srgbClr val="000099"/>
                </a:solidFill>
                <a:latin typeface="Microsoft YaHei"/>
              </a:rPr>
              <a:t> – это деятельность, направленная на формирование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99"/>
                </a:solidFill>
                <a:latin typeface="Microsoft YaHei"/>
              </a:rPr>
              <a:t>и удовлетворение рыночного спроса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2468880" cy="2838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51280" y="3213000"/>
            <a:ext cx="2374920" cy="432000"/>
          </a:xfrm>
          <a:custGeom>
            <a:avLst/>
            <a:gdLst>
              <a:gd name="textAreaLeft" fmla="*/ 415440 w 2374920"/>
              <a:gd name="textAreaRight" fmla="*/ 1721880 w 23749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47640" y="5445000"/>
            <a:ext cx="2100600" cy="34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5840">
                  <a:solidFill>
                    <a:srgbClr val="0066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требности</a:t>
            </a:r>
            <a:endParaRPr b="1" lang="en-US" sz="1800" spc="1" strike="noStrike">
              <a:ln w="15840">
                <a:solidFill>
                  <a:srgbClr val="0066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32720" y="5445000"/>
            <a:ext cx="1666800" cy="27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5840">
                  <a:solidFill>
                    <a:srgbClr val="0066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быль</a:t>
            </a:r>
            <a:endParaRPr b="1" lang="en-US" sz="1800" spc="1" strike="noStrike">
              <a:ln w="15840">
                <a:solidFill>
                  <a:srgbClr val="0066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0" r="0" b="18740"/>
          <a:stretch/>
        </p:blipFill>
        <p:spPr>
          <a:xfrm>
            <a:off x="5796000" y="3860640"/>
            <a:ext cx="2665440" cy="245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crosoft YaHei"/>
              </a:rPr>
              <a:t>Цели             Кред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icrosoft YaHei"/>
              </a:rPr>
              <a:t>Максимизация прибы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icrosoft YaHei"/>
              </a:rPr>
              <a:t>Устойчивый рост доходов фир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icrosoft YaHei"/>
              </a:rPr>
              <a:t>Удовлетворение потребностей обще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7672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ff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изводить то, что покупается,            а не продавать то, что производи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8920" y="2519280"/>
            <a:ext cx="770400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8" name="" descr="Файл:4Ps.jpg"/>
          <p:cNvPicPr/>
          <p:nvPr/>
        </p:nvPicPr>
        <p:blipFill>
          <a:blip r:embed="rId1"/>
          <a:stretch/>
        </p:blipFill>
        <p:spPr>
          <a:xfrm>
            <a:off x="1523880" y="1916280"/>
            <a:ext cx="7620120" cy="3744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crosoft YaHei"/>
              </a:rPr>
              <a:t>Четыре «П» маркетин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4292640"/>
            <a:ext cx="374508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дук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и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движ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дажная ц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crosoft YaHei"/>
              </a:rPr>
              <a:t>Функции маркетин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следование ры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нансирова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нспортиров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ртиров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хов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даж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кла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00720" y="401472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crosoft YaHei"/>
              </a:rPr>
              <a:t>Исследование ры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YaHei"/>
              </a:rPr>
              <a:t>Сегментация – разделение покупателей на группы (сегменты) с одинаковыми предпочтениями в приобретении тов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YaHei"/>
              </a:rPr>
              <a:t>Социально-экономическа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YaHei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YaHei"/>
              </a:rPr>
              <a:t>Географич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YaHei"/>
              </a:rPr>
              <a:t>Психографическа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Сетевой маркетинг в России"/>
          <p:cNvPicPr/>
          <p:nvPr/>
        </p:nvPicPr>
        <p:blipFill>
          <a:blip r:embed="rId1"/>
          <a:stretch/>
        </p:blipFill>
        <p:spPr>
          <a:xfrm>
            <a:off x="5580000" y="4122720"/>
            <a:ext cx="3564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crosoft YaHei"/>
              </a:rPr>
              <a:t>Продвижени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4000" y="1989000"/>
            <a:ext cx="8569080" cy="4386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Маркетинговые каналы &quot;бизнес - потребителю&quot; и &quot;бизнес - бизнесу&quot;"/>
          <p:cNvPicPr/>
          <p:nvPr/>
        </p:nvPicPr>
        <p:blipFill>
          <a:blip r:embed="rId2">
            <a:lum bright="-42000"/>
          </a:blip>
          <a:srcRect l="0" t="0" r="0" b="53766"/>
          <a:stretch/>
        </p:blipFill>
        <p:spPr>
          <a:xfrm>
            <a:off x="1187280" y="3789360"/>
            <a:ext cx="67993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0920" y="4508640"/>
            <a:ext cx="2448000" cy="2261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2134800"/>
            <a:ext cx="43909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Microsoft YaHei"/>
              </a:rPr>
              <a:t>1. Поставщики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Microsoft YaHei"/>
              </a:rPr>
              <a:t>2. Посредники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Microsoft YaHei"/>
              </a:rPr>
              <a:t>3. Клиентура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Microsoft YaHei"/>
              </a:rPr>
              <a:t>4. Конкуренты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Microsoft YaHei"/>
              </a:rPr>
              <a:t>5. Общественность 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2298960"/>
            <a:ext cx="48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Microsoft YaHei"/>
              </a:rPr>
              <a:t>1. Демографическая среда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Microsoft YaHei"/>
              </a:rPr>
              <a:t>2. Экономическая среда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Microsoft YaHei"/>
              </a:rPr>
              <a:t>3. Природная среда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Microsoft YaHei"/>
              </a:rPr>
              <a:t>4. Научно-техническая среда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Microsoft YaHei"/>
              </a:rPr>
              <a:t>5. Политическая среда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Microsoft YaHei"/>
              </a:rPr>
              <a:t>6. Культурная среда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33336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акторы микросреды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33336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акторы макросреды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crosoft YaHei"/>
              </a:rPr>
              <a:t>Реклам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914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оплаченное спонсором распространение 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информации с целью привлечения вним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к объекту рекламирования, формирования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или поддержания интереса к не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Увещевательная (сравнительная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crosoft YaHei"/>
              </a:rPr>
              <a:t>Напомин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rot="531000">
            <a:off x="7524720" y="260280"/>
            <a:ext cx="1362240" cy="1916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1217400">
            <a:off x="3995280" y="333360"/>
            <a:ext cx="1606680" cy="1606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Кошачий клипарт от Whiskas"/>
          <p:cNvPicPr/>
          <p:nvPr/>
        </p:nvPicPr>
        <p:blipFill>
          <a:blip r:embed="rId3"/>
          <a:stretch/>
        </p:blipFill>
        <p:spPr>
          <a:xfrm rot="696600">
            <a:off x="4427640" y="5229000"/>
            <a:ext cx="1944720" cy="1268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0" t="0" r="0" b="19559"/>
          <a:stretch/>
        </p:blipFill>
        <p:spPr>
          <a:xfrm rot="20686800">
            <a:off x="6659280" y="4723920"/>
            <a:ext cx="1647720" cy="1873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 rot="545400">
            <a:off x="6948000" y="3429000"/>
            <a:ext cx="1943280" cy="1382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 rot="21129000">
            <a:off x="5940360" y="259920"/>
            <a:ext cx="117000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22:09:46Z</dcterms:created>
  <dc:creator>Таня</dc:creator>
  <dc:description/>
  <dc:language>en-US</dc:language>
  <cp:lastModifiedBy>qwe</cp:lastModifiedBy>
  <dcterms:modified xsi:type="dcterms:W3CDTF">2018-04-29T14:54:43Z</dcterms:modified>
  <cp:revision>14</cp:revision>
  <dc:subject/>
  <dc:title>Дисциплина «Маркетинг» Специальность 190604 «ТОРА» Курс 4</dc:title>
</cp:coreProperties>
</file>