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9E0-EF3D-4B59-B46C-310A3AE9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4AE-831D-4AB0-A69F-F4BD27F9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F289-86AA-46E2-9E24-BBA3B00A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A5B-BC4D-43F0-927F-67488D2C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6B8F-CCAE-4431-808D-EB7FC1D3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2280-4BF0-4471-88F5-015A7791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671D-2F2A-445F-86B2-04D7174D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F05C-ED89-440E-938F-A4A0AB94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07D6-5F49-4887-A3D1-5485EFF1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0A2F-52FD-4DBC-BCB4-399D3F9B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AB96-D537-42D9-95F9-BE8207D6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4B8F-87D4-4784-94C7-FD878752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9B3A-6675-4F3F-9F2C-44AF0EF8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99DE-38E5-447E-BE6F-FDB82390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F9B3-E7B5-4E32-B279-A5BF3B77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4C65-754D-4459-BEB4-9C4B80DA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DA51-898A-4ADF-95CC-23DC9045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D00C-C3B6-4FE4-BA3C-E3334B47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5A5-0B99-421C-B2DB-30E1093A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740-3B94-49BA-BAB1-4F2960A3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5CE3-DE72-4341-B51F-5329E1B1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4CB2-A275-4716-8EAE-3128A09E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9F4E-4682-4206-A29A-DF9DB87A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7EE-4115-46F7-877B-42FC16C2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9996-91C3-4195-9934-84255CDFE8F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68E0-E451-4E06-B0AB-8CA4304435B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ы приветствуем вас и приглашаем вместе изучать химию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ДОБРЕНИЯ – вещества или смеси веществ, содержащие важнейшие для питания растений элемен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Классификация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        удобрений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по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                 происхождению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НЕРАЛЬНЫЕ содержат неорганические вещества для питания растений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(N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KCl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ЧЕСКИЕ- удобрения, которые содержат питательные вещества растительного и животного происхожд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воз, торф, куриный помет, жмых, люпи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Классификация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         удобрений по составу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СТЫЕ содержат только один питательный элемент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Cl, NaN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Ca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S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2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ПЛЕКСНЫЕ содержат два или три основных питательных элемента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N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трофос, нитрофос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Классификация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        минеральных удобрений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ЗОТНЫЕ: аммиачная селитр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рбамид   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(N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лийская селитр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N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СФОРНЫЕ: простой суперфосфат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(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CaSO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H2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ЛИЙНЫЕ: хлорид кал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C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Содержание питательных элементов в удобрениях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26920" y="1500120"/>
          <a:ext cx="7783560" cy="5531040"/>
        </p:xfrm>
        <a:graphic>
          <a:graphicData uri="http://schemas.openxmlformats.org/drawingml/2006/table">
            <a:tbl>
              <a:tblPr/>
              <a:tblGrid>
                <a:gridCol w="5113440"/>
                <a:gridCol w="26701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добр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держание пита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льного элемен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трат аммония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(N)=3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рбамид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CO(N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(N)=4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трат калия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KNO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(N)=14%  W(K)=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лорид калия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C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(K)=52%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стой суперфосфа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SO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. 2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(P)=1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войной суперфосф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(P)=2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и внесении удобрений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           необходимо учитывать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ребности сельскохозяйственных культур в различных питательных элемент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азы развития раст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четаемость вносимых удобрений с веществами почвы и друг с друг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Как растения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усваивают азо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трат N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трит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онитрит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дроксиламин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ммиак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минокислот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вели эксперимент по обнаружению нитратов в продуктах питан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3232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экспериментального обнаружения нитратов используют раствор дифенилам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нию подвергалис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дис (со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пуста (со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DSC00492"/>
          <p:cNvPicPr/>
          <p:nvPr/>
        </p:nvPicPr>
        <p:blipFill>
          <a:blip r:embed="rId1"/>
          <a:stretch/>
        </p:blipFill>
        <p:spPr>
          <a:xfrm>
            <a:off x="4710240" y="3284640"/>
            <a:ext cx="443376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1520" y="0"/>
            <a:ext cx="81421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Результаты эксперимента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6" name="Picture 3" descr="DSC00490"/>
          <p:cNvPicPr/>
          <p:nvPr/>
        </p:nvPicPr>
        <p:blipFill>
          <a:blip r:embed="rId1"/>
          <a:stretch/>
        </p:blipFill>
        <p:spPr>
          <a:xfrm>
            <a:off x="0" y="62064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DSC00491"/>
          <p:cNvPicPr/>
          <p:nvPr/>
        </p:nvPicPr>
        <p:blipFill>
          <a:blip r:embed="rId2"/>
          <a:stretch/>
        </p:blipFill>
        <p:spPr>
          <a:xfrm>
            <a:off x="5286240" y="62064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DSC00494"/>
          <p:cNvPicPr/>
          <p:nvPr/>
        </p:nvPicPr>
        <p:blipFill>
          <a:blip r:embed="rId3"/>
          <a:stretch/>
        </p:blipFill>
        <p:spPr>
          <a:xfrm>
            <a:off x="2195640" y="3789360"/>
            <a:ext cx="3857400" cy="28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в почве избыток нитратов, они не успевают полностью превратиться в аминокислоты, накапливаются в растениях, попадают в организм человека и способствуют развитию тяжелых заболев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Верны ли следующие суждения о предложенном вам веществе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вариант – нитрат аммо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вариант – фосфат кал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Группы растений по способности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          накапливать нитраты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66680" y="1981080"/>
          <a:ext cx="7543800" cy="4718160"/>
        </p:xfrm>
        <a:graphic>
          <a:graphicData uri="http://schemas.openxmlformats.org/drawingml/2006/table">
            <a:tbl>
              <a:tblPr/>
              <a:tblGrid>
                <a:gridCol w="2857680"/>
                <a:gridCol w="4686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 нитратов н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г овоще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ст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лее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алат, редис, петруш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–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векла, зеленый лу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–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пуста, морковь, лу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–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кроп, тык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нее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гурец, помидор, арбуз, картофе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Как распределяются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                нитраты в овощах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66680" y="1981080"/>
          <a:ext cx="7543800" cy="4443480"/>
        </p:xfrm>
        <a:graphic>
          <a:graphicData uri="http://schemas.openxmlformats.org/drawingml/2006/table">
            <a:tbl>
              <a:tblPr/>
              <a:tblGrid>
                <a:gridCol w="2136960"/>
                <a:gridCol w="54068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во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сто наибольшей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центрации нитрат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век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хняя часть корнепл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рков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нтральная часть корнепл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пус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черыжка и толстая часть листье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ртофе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 кожур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Как уменьшить содержание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                     нитратов в овощах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мывать овощи (на 10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тить (на 15-20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аривать (на 50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мачивать в течение 1-2 часов (на 20-30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иновать, квасить, солить (на 20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оль химии в сельском хозяйстве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урожайности сельскохозяйственных культу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оль химии в сельском хозяйстве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урожайности сельскохозяйственных культу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условии грамотного применения достижений химической нау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адачи урока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характеризовать роль основных питательных элементов (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, K, P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жизни раст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ыяснить, какие вещества применяют как удобрен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лассифицировать минеральные удобрения по составу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пределить некоторые научные принципы использования минеральных удобр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сследовать некоторые экологические аспекты использования азотных удобр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учиться готовить растворы минеральных удобрений для использования в домашних услов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яснить роль химии в повышении урожайности сельскохозяйственных культур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Верны ли следующие суждения о предложенном вам веществе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фосфат щелочного метал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ль хорошо растворяется в в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ль образована ионами слабого основания и силь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исл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рактер среды в растворе этой соли щелоч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казанное вещество относится  к классу средних со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щество содержит азот – необходимый для пит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ений элем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ль не растворяется в в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щество содержит фосфор – необходимый для пит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ений элем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авильные отве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 вариант -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2, 3, 5,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фосфат щелочного метал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оль хорошо растворяется в в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оль образована ионами слабого основания и сильной кисл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рактер среды в растворе этой соли щелоч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5.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Указанное вещество относится  к классу средних со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6.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ещество содержит азот – необходимый для питания растений элем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ль не растворяется в в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щество содержит фосфор – необходимый для питания растений элем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авильные отве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  вариант –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1, 2, 4, 5,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1.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Это фосфат щелочного метал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2.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ль хорошо растворяется в в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ль образована ионами слабого основания и сильной кисл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4.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Характер среды в растворе этой соли щелоч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5.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Указанное вещество относится  к классу средних со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щество содержит азот – необходимый для питания растений элем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ль не растворяется в в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.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Вещество содержит фосфор – необходимый для питания растений элем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адачи урока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характеризовать роль основных питательных элементов (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, K, P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жизни раст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ыяснить, какие вещества применяют как удобрен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лассифицировать минеральные удобрения по составу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пределить некоторые научные принципы использования минеральных удобр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сследовать некоторые экологические аспекты использования азотных удобр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учиться готовить растворы минеральных удобрений для использования в домашних услов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яснить роль химии в повышении урожайности сельскохозяйственных культур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DSC00497"/>
          <p:cNvPicPr/>
          <p:nvPr/>
        </p:nvPicPr>
        <p:blipFill>
          <a:blip r:embed="rId1"/>
          <a:stretch/>
        </p:blipFill>
        <p:spPr>
          <a:xfrm>
            <a:off x="0" y="-857160"/>
            <a:ext cx="9144000" cy="7983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А  УРО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ИНЕРАЛЬН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ДОБР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адачи урока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характеризовать роль основных питательных элементов (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, K, P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жизни раст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ыяснить, какие вещества применяют как удобрен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лассифицировать минеральные удобрения по составу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пределить некоторые научные принципы использования минеральных удобр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сследовать некоторые экологические аспекты использования азотных удобр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учиться готовить растворы минеральных удобрений для использования в домашних услов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яснить роль химии в повышении урожайности сельскохозяйственных культур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Химические элементы 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в  живых  клетках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роэлементы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глерод, кислород, водород, азот, фосфор, калий, сера, магний, кальци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кроэлементы (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езо, марганец, бор, медь, цинк, молибден, кобальт и друг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19:15Z</dcterms:created>
  <dc:creator>Пользователь</dc:creator>
  <dc:description/>
  <dc:language>en-US</dc:language>
  <cp:lastModifiedBy>Пользователь</cp:lastModifiedBy>
  <dcterms:modified xsi:type="dcterms:W3CDTF">2012-02-26T18:09:53Z</dcterms:modified>
  <cp:revision>53</cp:revision>
  <dc:subject/>
  <dc:title>Минеральные удобрения</dc:title>
</cp:coreProperties>
</file>