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6C6-CC95-43F8-A7FE-7EECEDD0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760-972C-4AAD-BBDC-7D9F50D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7BD-FF74-45B2-ACCC-A432D5B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B6C-CA26-4DAD-A144-FA6424EA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3F2-969B-478F-878D-C4AB10CD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045-F4B9-489C-AEF2-FE9933D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EE4-4E2E-4064-BA9D-FE41653C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F6F3-3993-4D4E-9BB7-AD203D7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AD2-823B-44CF-B133-6B73E401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CFD4-947B-4F37-AED6-CB63076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B54-BF48-417B-8885-4CCEFFB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613-521A-4930-9297-A5936E0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5C10-0E9C-4AD2-94BC-D938B45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E043-0E70-41B9-BE12-AFEC46F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295A-0AA7-4E31-BA6C-16482BF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A60C-7BD4-4718-A4D0-015E4041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049-CE3B-4C23-843A-AFAAB37E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FDC-8B4A-4924-A971-4537F4FC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EB0-344D-44DA-B3BC-03440E6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336-28EC-41F0-AFFD-E836C759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C6B-C4C9-4997-8DFB-AC382EB9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6B6-79AC-47B1-9056-5E4A9A5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A4E-9C0F-4DAD-B667-2D212B9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D7C-5B5D-4488-8FE3-CC8EFD5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854C-C8FB-4F5C-8DD2-A36D3B5858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66FA-8E2D-4E1B-93D1-BECD8099A33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ы приветствуем вас и приглашаем вместе изучать химию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БРЕНИЯ – вещества или смеси веществ, содержащие важнейшие для питания растений эле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удобрений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по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        происхождению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ЕРАЛЬНЫЕ содержат неорганические вещества для питания растений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(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K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ЧЕСКИЕ- удобрения, которые содержат питательные вещества растительного и животного происхожд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оз, торф, куриный помет, жмых, люпи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удобрений по состав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ЫЕ содержат только один питательный элемент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Cl, Na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2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ЛЕКСНЫЕ содержат два или три основных питательных элемента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офос, нитрофос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лассификация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минеральных удобрени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ЗОТНЫЕ: аммиачная селит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бамид   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(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лийская селит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СФОРНЫЕ: простой суперфосфа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(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CaS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H2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ИЙНЫЕ: хлорид кал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Содержание питательных элементов в удобрениях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1500120"/>
          <a:ext cx="7783560" cy="5531040"/>
        </p:xfrm>
        <a:graphic>
          <a:graphicData uri="http://schemas.openxmlformats.org/drawingml/2006/table">
            <a:tbl>
              <a:tblPr/>
              <a:tblGrid>
                <a:gridCol w="5113440"/>
                <a:gridCol w="2670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об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ит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льного элем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 аммония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3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бами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CO(N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4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 кал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N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N)=14%  W(K)=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ид калия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C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K)=52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ой суперфосфа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. 2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P)=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ойной суперфосф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(P)=2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 внесении удобрени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необходимо учитыва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и сельскохозяйственных культур в различных питательных элем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зы развития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етаемость вносимых удобрений с веществами почвы и друг с друг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ак растения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усваивают азо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 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и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нитри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ксилами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миак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инокисло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ели эксперимент по обнаружению нитратов в продуктах пит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3232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кспериментального обнаружения нитратов используют раствор дифенил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ю подвергалис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дис (с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пуста (с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DSC00492"/>
          <p:cNvPicPr/>
          <p:nvPr/>
        </p:nvPicPr>
        <p:blipFill>
          <a:blip r:embed="rId1"/>
          <a:stretch/>
        </p:blipFill>
        <p:spPr>
          <a:xfrm>
            <a:off x="4710240" y="3284640"/>
            <a:ext cx="44337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1520" y="0"/>
            <a:ext cx="8142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Результаты эксперимент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3" descr="DSC00490"/>
          <p:cNvPicPr/>
          <p:nvPr/>
        </p:nvPicPr>
        <p:blipFill>
          <a:blip r:embed="rId1"/>
          <a:stretch/>
        </p:blipFill>
        <p:spPr>
          <a:xfrm>
            <a:off x="0" y="6206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SC00491"/>
          <p:cNvPicPr/>
          <p:nvPr/>
        </p:nvPicPr>
        <p:blipFill>
          <a:blip r:embed="rId2"/>
          <a:stretch/>
        </p:blipFill>
        <p:spPr>
          <a:xfrm>
            <a:off x="5286240" y="6206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00494"/>
          <p:cNvPicPr/>
          <p:nvPr/>
        </p:nvPicPr>
        <p:blipFill>
          <a:blip r:embed="rId3"/>
          <a:stretch/>
        </p:blipFill>
        <p:spPr>
          <a:xfrm>
            <a:off x="2195640" y="378936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в почве избыток нитратов, они не успевают полностью превратиться в аминокислоты, накапливаются в растениях, попадают в организм человека и способствуют развитию тяжелых заболев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ерны ли следующие суждения о предложенном вам веществ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вариант – нитрат амм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вариант – фосфат кал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Группы растений по способности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накапливать нитраты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981080"/>
          <a:ext cx="7543800" cy="4718160"/>
        </p:xfrm>
        <a:graphic>
          <a:graphicData uri="http://schemas.openxmlformats.org/drawingml/2006/table">
            <a:tbl>
              <a:tblPr/>
              <a:tblGrid>
                <a:gridCol w="2857680"/>
                <a:gridCol w="4686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 нитратов н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г овощ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лее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лат, редис, петру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екла, зеленый лу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–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пуста, морковь, лу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кроп, тык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гурец, помидор, арбуз, 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 распределяются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 нитраты в овощах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1981080"/>
          <a:ext cx="7543800" cy="4443480"/>
        </p:xfrm>
        <a:graphic>
          <a:graphicData uri="http://schemas.openxmlformats.org/drawingml/2006/table">
            <a:tbl>
              <a:tblPr/>
              <a:tblGrid>
                <a:gridCol w="2136960"/>
                <a:gridCol w="54068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во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то наибольшей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ентрации нитра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хняя часть корнепл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ков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тральная часть корнепл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пу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черыжка и толстая часть листь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 кожур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 уменьшить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      нитратов в овощах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вать овощи (на 1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тить (на 15-2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аривать (на 5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мачивать в течение 1-2 часов (на 20-3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овать, квасить, солить (на 2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оль химии в сельском хозяйст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урожайности сельскохозяйственных культу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оль химии в сельском хозяйст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урожайности сельскохозяйственных культу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условии грамотного применения достижений химической нау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ерны ли следующие суждения о предложенном вам веществ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образована ионами слабого основания и силь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азот – необходимый для 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фосфор – необходимый для пит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ьные от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вариант -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2, 3, 5,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ль образована ионами слабого основания и сильной 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ещество содержит азот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фосфор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ьные от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 вариант –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1, 2, 4, 5,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Это фосфат щелочного метал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2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хорошо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образована ионами слабого основания и сильной кисл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Характер среды в растворе этой соли щело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Указанное вещество относится  к классу средних с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щество содержит азот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ь не растворяется в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ещество содержит фосфор – необходимый для питания растений эле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DSC00497"/>
          <p:cNvPicPr/>
          <p:nvPr/>
        </p:nvPicPr>
        <p:blipFill>
          <a:blip r:embed="rId1"/>
          <a:stretch/>
        </p:blipFill>
        <p:spPr>
          <a:xfrm>
            <a:off x="0" y="-857160"/>
            <a:ext cx="9144000" cy="7983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 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ИНЕРАЛЬ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и уро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характеризовать роль основных питательных элементов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, K, 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жизни раст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яснить, какие вещества применяют как удобр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лассифицировать минеральные удобрения по состав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пределить некоторые научные принципы использования минераль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сследовать некоторые экологические аспекты использования азотных удобр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учиться готовить растворы минеральных удобрений для использования в домашних услов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яснить роль химии в повышении урожайности сельскохозяйственных культу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имические элемент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в  живых  клетк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элементы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лерод, кислород, водород, азот, фосфор, калий, сера, магний, кальц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элементы (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езо, марганец, бор, медь, цинк, молибден, кобальт и друг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9:15Z</dcterms:created>
  <dc:creator>Пользователь</dc:creator>
  <dc:description/>
  <dc:language>en-US</dc:language>
  <cp:lastModifiedBy>Пользователь</cp:lastModifiedBy>
  <dcterms:modified xsi:type="dcterms:W3CDTF">2012-02-26T18:09:53Z</dcterms:modified>
  <cp:revision>53</cp:revision>
  <dc:subject/>
  <dc:title>Минеральные удобрения</dc:title>
</cp:coreProperties>
</file>