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04E-5A28-44D9-966F-EE650CAC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A09-A7C5-4B51-AF8B-6A770AC4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4A6-7191-4201-8618-CF60B4AE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FF6-95FF-4C5B-8C70-8BB25951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5A51-2472-4CCF-800F-894C63D4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667A-793A-452B-92CA-DC15D23E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44A2-DD81-4D96-A7BA-EE281882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51BA-382B-420C-96AD-B91CD3E6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2813-B314-48CB-AC09-8ABF6A72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80CA-2356-4DDE-8D8A-B1B13E90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4363-8CCD-45D3-BF4B-DFBDE96F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4649-0DE2-46D4-93A1-89EBD98B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E93F-30FB-45D4-B215-C433AB18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E7B0-0100-4D9B-ACCE-D77F6897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BF5C-4A62-4773-9B50-5FFC6396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5AF8-A58E-4119-9F63-E9B23C36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26EF-AFA6-4F26-BEFA-DC2463B7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495-9BA2-4D76-9AAE-3907AAF4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3CB-09D9-40C4-AB4A-D179379E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569-063C-4387-80C9-C41C27BC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A74-A015-4570-8E44-010C72A7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D45-E593-429C-B8AB-7556FFAE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23D-9818-4F1F-A6F3-A36BB339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AB6-6509-4C2F-BF39-47F53398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7B63-A2E9-4F2D-B30D-ACCCA8A450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37EC-A79F-4E7B-B748-F55D2F0AF0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77240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Муниципальное автономное дошкольное образовательное         учреждение д/с «Радуга»</a:t>
            </a:r>
            <a:br>
              <a:rPr sz="18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идактическая игра для                              интерактивной дос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42560" y="1916280"/>
            <a:ext cx="678204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«Найди лишнее»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ла : Шамсутдинова С.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Советский 20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йди лишне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5" descr="Замечательные обои-Заяц притаился в траве с животными на стол обои - с размерами x px скачать бесплатно."/>
          <p:cNvPicPr/>
          <p:nvPr/>
        </p:nvPicPr>
        <p:blipFill>
          <a:blip r:embed="rId1"/>
          <a:stretch/>
        </p:blipFill>
        <p:spPr>
          <a:xfrm>
            <a:off x="468360" y="1916280"/>
            <a:ext cx="2232000" cy="1873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Картинки диких животных - Мой домашний зверек"/>
          <p:cNvPicPr/>
          <p:nvPr/>
        </p:nvPicPr>
        <p:blipFill>
          <a:blip r:embed="rId2"/>
          <a:stretch/>
        </p:blipFill>
        <p:spPr>
          <a:xfrm>
            <a:off x="6300720" y="4653000"/>
            <a:ext cx="2338560" cy="220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Обои Лисы ( Лиса ) Животные Фото 217596"/>
          <p:cNvPicPr/>
          <p:nvPr/>
        </p:nvPicPr>
        <p:blipFill>
          <a:blip r:embed="rId3"/>
          <a:stretch/>
        </p:blipFill>
        <p:spPr>
          <a:xfrm>
            <a:off x="6156360" y="1989000"/>
            <a:ext cx="2411280" cy="1944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5" descr="i?id=bc04ecfd9aa01cc42ecaec5bd12857a1&amp;n=33&amp;h=190"/>
          <p:cNvPicPr/>
          <p:nvPr/>
        </p:nvPicPr>
        <p:blipFill>
          <a:blip r:embed="rId4"/>
          <a:stretch/>
        </p:blipFill>
        <p:spPr>
          <a:xfrm>
            <a:off x="468360" y="4653000"/>
            <a:ext cx="2409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йди лишне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820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Скачать Дикие животные картинки для детей 2"/>
          <p:cNvPicPr/>
          <p:nvPr/>
        </p:nvPicPr>
        <p:blipFill>
          <a:blip r:embed="rId1"/>
          <a:stretch/>
        </p:blipFill>
        <p:spPr>
          <a:xfrm>
            <a:off x="0" y="1700280"/>
            <a:ext cx="270036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Обои Волки Животные Фото 246079"/>
          <p:cNvPicPr/>
          <p:nvPr/>
        </p:nvPicPr>
        <p:blipFill>
          <a:blip r:embed="rId2"/>
          <a:stretch/>
        </p:blipFill>
        <p:spPr>
          <a:xfrm>
            <a:off x="5940360" y="4581360"/>
            <a:ext cx="2808360" cy="182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Животные обои. . Картинки, фото скачать. . Страница 111."/>
          <p:cNvPicPr/>
          <p:nvPr/>
        </p:nvPicPr>
        <p:blipFill>
          <a:blip r:embed="rId3"/>
          <a:stretch/>
        </p:blipFill>
        <p:spPr>
          <a:xfrm>
            <a:off x="539640" y="4581360"/>
            <a:ext cx="3024360" cy="191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i?id=20aa25dbb758d1e96a8d646ed7e0a324&amp;n=33&amp;h=190"/>
          <p:cNvPicPr/>
          <p:nvPr/>
        </p:nvPicPr>
        <p:blipFill>
          <a:blip r:embed="rId4"/>
          <a:stretch/>
        </p:blipFill>
        <p:spPr>
          <a:xfrm>
            <a:off x="6227640" y="1989000"/>
            <a:ext cx="2352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йди лишне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5" descr="Животный мир, Из жизни диких птиц, birds wild life, птицы, дикие, Фотографии птиц, фотографии природы, птицы, птички, дикие птиц"/>
          <p:cNvPicPr/>
          <p:nvPr/>
        </p:nvPicPr>
        <p:blipFill>
          <a:blip r:embed="rId1"/>
          <a:stretch/>
        </p:blipFill>
        <p:spPr>
          <a:xfrm>
            <a:off x="468360" y="1700280"/>
            <a:ext cx="3166920" cy="208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i?id=2085e3158b7b925aac2313a34746d050&amp;n=33&amp;h=190"/>
          <p:cNvPicPr/>
          <p:nvPr/>
        </p:nvPicPr>
        <p:blipFill>
          <a:blip r:embed="rId2"/>
          <a:stretch/>
        </p:blipFill>
        <p:spPr>
          <a:xfrm>
            <a:off x="5580000" y="1700280"/>
            <a:ext cx="2952720" cy="2089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9" descr="i?id=b8170e6650384993eb6c7693d6cf289e&amp;n=33&amp;h=190"/>
          <p:cNvPicPr/>
          <p:nvPr/>
        </p:nvPicPr>
        <p:blipFill>
          <a:blip r:embed="rId3"/>
          <a:stretch/>
        </p:blipFill>
        <p:spPr>
          <a:xfrm>
            <a:off x="611280" y="4508640"/>
            <a:ext cx="3024000" cy="22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>
            <a:off x="5580000" y="4202280"/>
            <a:ext cx="309564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62000" y="446040"/>
            <a:ext cx="3978360" cy="273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s://im0-tub-ru.yandex.net/i?id=2f21ff12f53d029fb4138f0f0544a33d-l&amp;n=13"/>
          <p:cNvPicPr/>
          <p:nvPr/>
        </p:nvPicPr>
        <p:blipFill>
          <a:blip r:embed="rId2"/>
          <a:stretch/>
        </p:blipFill>
        <p:spPr>
          <a:xfrm>
            <a:off x="4929120" y="476280"/>
            <a:ext cx="3870360" cy="273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https://www.1zoom.ru/big2/86/227516-5873.jpg"/>
          <p:cNvPicPr/>
          <p:nvPr/>
        </p:nvPicPr>
        <p:blipFill>
          <a:blip r:embed="rId3"/>
          <a:stretch/>
        </p:blipFill>
        <p:spPr>
          <a:xfrm>
            <a:off x="463680" y="3933720"/>
            <a:ext cx="3821040" cy="266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http://fotodes.ru/upload/img1346175209.jpg"/>
          <p:cNvPicPr/>
          <p:nvPr/>
        </p:nvPicPr>
        <p:blipFill>
          <a:blip r:embed="rId4"/>
          <a:stretch/>
        </p:blipFill>
        <p:spPr>
          <a:xfrm>
            <a:off x="4778280" y="3933720"/>
            <a:ext cx="41767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Молодцы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5T15:54:50Z</dcterms:created>
  <dc:creator>Пользователь Windows</dc:creator>
  <dc:description/>
  <dc:language>en-US</dc:language>
  <cp:lastModifiedBy>Пользователь Windows</cp:lastModifiedBy>
  <dcterms:modified xsi:type="dcterms:W3CDTF">2018-05-01T12:15:01Z</dcterms:modified>
  <cp:revision>21</cp:revision>
  <dc:subject/>
  <dc:title>Слайд 1</dc:title>
</cp:coreProperties>
</file>