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91C-BFB8-4DA2-9A8A-1A293CCF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104-56FB-49A4-BBAA-5732B03C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D04-D4CA-4B48-9C30-B30A785D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24D-6ED9-46C1-9C60-BF4C002D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3A3B-8EDF-4F78-88DF-A83A0293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86D9-AA19-432E-9BC8-F9DE7BDF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7277-6211-4338-85AF-437D4851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E75A-2874-45DC-9996-8871B538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A43C-0ACD-41DD-8C74-1F90DD72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DFF7-1210-46F4-B9DE-E0A1F7AC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D4A9-73D1-4A33-A8C6-29A9876B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FC5-6CEA-4AFE-B49A-508DA417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71C7-BB7B-4007-BF22-B066DF0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C037-5A6A-44B1-B6A3-020CF1A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EEBC-EBE7-476A-AC4A-19CD62EC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72CF-0F0B-4312-9B4B-2106657D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6329-249E-400F-BF30-FD7E22B5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A15-C89B-4185-9016-379CDD92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A26-596E-46F0-A8B9-8DFF13DE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E17-6C4C-464B-AD84-D5FD7A9D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D66-0A8D-4ADA-BE26-FC7FEDF3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0E8-5E85-44C4-A39C-BC1B437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850-1A08-4CBF-99AA-C8EDA865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784-A4DA-48E9-9090-DF6A4516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E6D8-3A3B-4358-9B3E-54407F7E4E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A681-5ACE-4207-A782-0DCE8B51B0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7724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Муниципальное автономное дошкольное образовательное         учреждение д/с «Радуга»</a:t>
            </a:r>
            <a:br>
              <a:rPr sz="18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идактическая игра для                              интерактивной дос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42560" y="1916280"/>
            <a:ext cx="678204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Найди лишнее»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 : Шамсутдинова С.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Советский 20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йд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5" descr="Замечательные обои-Заяц притаился в траве с животными на стол обои - с размерами x px скачать бесплатно."/>
          <p:cNvPicPr/>
          <p:nvPr/>
        </p:nvPicPr>
        <p:blipFill>
          <a:blip r:embed="rId1"/>
          <a:stretch/>
        </p:blipFill>
        <p:spPr>
          <a:xfrm>
            <a:off x="468360" y="1916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Картинки диких животных - Мой домашний зверек"/>
          <p:cNvPicPr/>
          <p:nvPr/>
        </p:nvPicPr>
        <p:blipFill>
          <a:blip r:embed="rId2"/>
          <a:stretch/>
        </p:blipFill>
        <p:spPr>
          <a:xfrm>
            <a:off x="6300720" y="4653000"/>
            <a:ext cx="2338560" cy="220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Обои Лисы ( Лиса ) Животные Фото 217596"/>
          <p:cNvPicPr/>
          <p:nvPr/>
        </p:nvPicPr>
        <p:blipFill>
          <a:blip r:embed="rId3"/>
          <a:stretch/>
        </p:blipFill>
        <p:spPr>
          <a:xfrm>
            <a:off x="6156360" y="1989000"/>
            <a:ext cx="241128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5" descr="i?id=bc04ecfd9aa01cc42ecaec5bd12857a1&amp;n=33&amp;h=190"/>
          <p:cNvPicPr/>
          <p:nvPr/>
        </p:nvPicPr>
        <p:blipFill>
          <a:blip r:embed="rId4"/>
          <a:stretch/>
        </p:blipFill>
        <p:spPr>
          <a:xfrm>
            <a:off x="468360" y="4653000"/>
            <a:ext cx="2409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йд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820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Скачать Дикие животные картинки для детей 2"/>
          <p:cNvPicPr/>
          <p:nvPr/>
        </p:nvPicPr>
        <p:blipFill>
          <a:blip r:embed="rId1"/>
          <a:stretch/>
        </p:blipFill>
        <p:spPr>
          <a:xfrm>
            <a:off x="0" y="1700280"/>
            <a:ext cx="27003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Обои Волки Животные Фото 246079"/>
          <p:cNvPicPr/>
          <p:nvPr/>
        </p:nvPicPr>
        <p:blipFill>
          <a:blip r:embed="rId2"/>
          <a:stretch/>
        </p:blipFill>
        <p:spPr>
          <a:xfrm>
            <a:off x="5940360" y="4581360"/>
            <a:ext cx="2808360" cy="18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Животные обои. . Картинки, фото скачать. . Страница 111."/>
          <p:cNvPicPr/>
          <p:nvPr/>
        </p:nvPicPr>
        <p:blipFill>
          <a:blip r:embed="rId3"/>
          <a:stretch/>
        </p:blipFill>
        <p:spPr>
          <a:xfrm>
            <a:off x="539640" y="4581360"/>
            <a:ext cx="3024360" cy="191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?id=20aa25dbb758d1e96a8d646ed7e0a324&amp;n=33&amp;h=190"/>
          <p:cNvPicPr/>
          <p:nvPr/>
        </p:nvPicPr>
        <p:blipFill>
          <a:blip r:embed="rId4"/>
          <a:stretch/>
        </p:blipFill>
        <p:spPr>
          <a:xfrm>
            <a:off x="6227640" y="1989000"/>
            <a:ext cx="2352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йд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5" descr="Животный мир, Из жизни диких птиц, birds wild life, птицы, дикие, Фотографии птиц, фотографии природы, птицы, птички, дикие птиц"/>
          <p:cNvPicPr/>
          <p:nvPr/>
        </p:nvPicPr>
        <p:blipFill>
          <a:blip r:embed="rId1"/>
          <a:stretch/>
        </p:blipFill>
        <p:spPr>
          <a:xfrm>
            <a:off x="468360" y="1700280"/>
            <a:ext cx="3166920" cy="208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i?id=2085e3158b7b925aac2313a34746d050&amp;n=33&amp;h=190"/>
          <p:cNvPicPr/>
          <p:nvPr/>
        </p:nvPicPr>
        <p:blipFill>
          <a:blip r:embed="rId2"/>
          <a:stretch/>
        </p:blipFill>
        <p:spPr>
          <a:xfrm>
            <a:off x="5580000" y="170028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9" descr="i?id=b8170e6650384993eb6c7693d6cf289e&amp;n=33&amp;h=190"/>
          <p:cNvPicPr/>
          <p:nvPr/>
        </p:nvPicPr>
        <p:blipFill>
          <a:blip r:embed="rId3"/>
          <a:stretch/>
        </p:blipFill>
        <p:spPr>
          <a:xfrm>
            <a:off x="611280" y="4508640"/>
            <a:ext cx="3024000" cy="22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5580000" y="4202280"/>
            <a:ext cx="30956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62000" y="446040"/>
            <a:ext cx="3978360" cy="27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s://im0-tub-ru.yandex.net/i?id=2f21ff12f53d029fb4138f0f0544a33d-l&amp;n=13"/>
          <p:cNvPicPr/>
          <p:nvPr/>
        </p:nvPicPr>
        <p:blipFill>
          <a:blip r:embed="rId2"/>
          <a:stretch/>
        </p:blipFill>
        <p:spPr>
          <a:xfrm>
            <a:off x="4929120" y="476280"/>
            <a:ext cx="3870360" cy="273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s://www.1zoom.ru/big2/86/227516-5873.jpg"/>
          <p:cNvPicPr/>
          <p:nvPr/>
        </p:nvPicPr>
        <p:blipFill>
          <a:blip r:embed="rId3"/>
          <a:stretch/>
        </p:blipFill>
        <p:spPr>
          <a:xfrm>
            <a:off x="463680" y="3933720"/>
            <a:ext cx="3821040" cy="266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http://fotodes.ru/upload/img1346175209.jpg"/>
          <p:cNvPicPr/>
          <p:nvPr/>
        </p:nvPicPr>
        <p:blipFill>
          <a:blip r:embed="rId4"/>
          <a:stretch/>
        </p:blipFill>
        <p:spPr>
          <a:xfrm>
            <a:off x="4778280" y="3933720"/>
            <a:ext cx="41767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Молодцы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15:54:50Z</dcterms:created>
  <dc:creator>Пользователь Windows</dc:creator>
  <dc:description/>
  <dc:language>en-US</dc:language>
  <cp:lastModifiedBy>Пользователь Windows</cp:lastModifiedBy>
  <dcterms:modified xsi:type="dcterms:W3CDTF">2018-05-01T12:15:01Z</dcterms:modified>
  <cp:revision>21</cp:revision>
  <dc:subject/>
  <dc:title>Слайд 1</dc:title>
</cp:coreProperties>
</file>