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E9D-F78D-4C26-8720-4BA6FAE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986-64EA-4B2E-BD73-B9AEB1A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EC0-7288-4461-959E-299817D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D1B-E404-4F12-A07C-9A4CEDC0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F7A8-DA33-4EB3-AB42-B32BE8AC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075-94F0-4767-BCCC-AA2E5E0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388-A920-43CF-A166-3B48004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B03-D987-4928-92EF-65823C28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8249-9C53-4FCC-B329-FD2C81A9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12C-4F5F-4449-BC2D-67CEA15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88CA-6F08-4DAC-B115-9C5C675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56A-04E2-47BC-9C62-E9AE59D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4CB-E33F-4A08-BFD7-4F23EE0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FF6-84A7-4A79-9F10-5D893F0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BAE4-2EC7-4723-B680-D00D3316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63AC-0A52-4CC8-A432-8D3044C4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C5A-338F-4213-A275-436E42C2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0E3-B61D-4949-8954-2D64845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4B1-A4AA-4719-868B-6986DD9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9C1-CD8B-43AA-9B4E-6B7E6F9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BC6-99B1-4598-B443-0B09350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299-53E7-4FE3-B3B5-FA1B733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6D1-3252-4D9A-988F-B4B1110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40C-A759-47FD-AB0A-602EB760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C90CED-9864-4AE1-9352-46C87ED57C9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7240" cy="6850080"/>
            <a:chOff x="0" y="0"/>
            <a:chExt cx="9147240" cy="685008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868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1360" cy="6850080"/>
              <a:chOff x="455760" y="0"/>
              <a:chExt cx="80913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608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452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404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016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320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856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164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3976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044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696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9320" cy="2492280"/>
              <a:chOff x="0" y="622440"/>
              <a:chExt cx="91393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D0AA6B-3258-4301-9147-EED1373B0530}" type="slidenum">
              <a:rPr b="0" lang="ru-RU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226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Сферы общест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57160" y="1136520"/>
            <a:ext cx="7351920" cy="5489640"/>
            <a:chOff x="857160" y="1136520"/>
            <a:chExt cx="7351920" cy="5489640"/>
          </a:xfrm>
        </p:grpSpPr>
        <p:sp>
          <p:nvSpPr>
            <p:cNvPr id="159" name=""/>
            <p:cNvSpPr/>
            <p:nvPr/>
          </p:nvSpPr>
          <p:spPr>
            <a:xfrm>
              <a:off x="3313080" y="1917720"/>
              <a:ext cx="2438280" cy="223056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92680" y="1136520"/>
              <a:ext cx="12826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Экономическ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43320" y="2766960"/>
              <a:ext cx="2438640" cy="2230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26400" y="360360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Политическ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13080" y="3616200"/>
              <a:ext cx="2438280" cy="223056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92680" y="607068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Социальн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84280" y="2766960"/>
              <a:ext cx="2438640" cy="22305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7160" y="360360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Духовн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75680"/>
            <a:ext cx="91440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ка – искусство упра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ешняя поли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поли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2952720" cy="204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095640" cy="2067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516720" y="378936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851280" y="501336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3059280" y="2997360"/>
            <a:ext cx="305748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1760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39640" y="907920"/>
            <a:ext cx="7992360" cy="4680720"/>
            <a:chOff x="539640" y="907920"/>
            <a:chExt cx="7992360" cy="4680720"/>
          </a:xfrm>
        </p:grpSpPr>
        <p:cxnSp>
          <p:nvCxnSpPr>
            <p:cNvPr id="255" name="_s29701"/>
            <p:cNvCxnSpPr>
              <a:stCxn id="256" idx="0"/>
              <a:endCxn id="257" idx="2"/>
            </p:cNvCxnSpPr>
            <p:nvPr/>
          </p:nvCxnSpPr>
          <p:spPr>
            <a:xfrm flipV="1">
              <a:off x="73332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29702"/>
            <p:cNvCxnSpPr>
              <a:stCxn id="259" idx="0"/>
              <a:endCxn id="260" idx="2"/>
            </p:cNvCxnSpPr>
            <p:nvPr/>
          </p:nvCxnSpPr>
          <p:spPr>
            <a:xfrm flipV="1">
              <a:off x="45360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_s29703"/>
            <p:cNvCxnSpPr>
              <a:stCxn id="262" idx="0"/>
              <a:endCxn id="263" idx="2"/>
            </p:cNvCxnSpPr>
            <p:nvPr/>
          </p:nvCxnSpPr>
          <p:spPr>
            <a:xfrm flipV="1">
              <a:off x="173844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29704"/>
            <p:cNvCxnSpPr>
              <a:stCxn id="257" idx="0"/>
              <a:endCxn id="265" idx="2"/>
            </p:cNvCxnSpPr>
            <p:nvPr/>
          </p:nvCxnSpPr>
          <p:spPr>
            <a:xfrm flipV="1" rot="16200000">
              <a:off x="5641560" y="97092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29705"/>
            <p:cNvCxnSpPr>
              <a:stCxn id="260" idx="0"/>
              <a:endCxn id="265" idx="2"/>
            </p:cNvCxnSpPr>
            <p:nvPr/>
          </p:nvCxnSpPr>
          <p:spPr>
            <a:xfrm flipV="1">
              <a:off x="4536000" y="207720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7" name="_s29706"/>
            <p:cNvCxnSpPr>
              <a:stCxn id="263" idx="0"/>
              <a:endCxn id="265" idx="2"/>
            </p:cNvCxnSpPr>
            <p:nvPr/>
          </p:nvCxnSpPr>
          <p:spPr>
            <a:xfrm flipH="1" flipV="1" rot="5400000">
              <a:off x="2844360" y="97128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5" name="_s29707"/>
            <p:cNvSpPr/>
            <p:nvPr/>
          </p:nvSpPr>
          <p:spPr>
            <a:xfrm>
              <a:off x="3336840" y="90792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Полит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29708"/>
            <p:cNvSpPr/>
            <p:nvPr/>
          </p:nvSpPr>
          <p:spPr>
            <a:xfrm>
              <a:off x="5396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фе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29709"/>
            <p:cNvSpPr/>
            <p:nvPr/>
          </p:nvSpPr>
          <p:spPr>
            <a:xfrm>
              <a:off x="33368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Государ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29710"/>
            <p:cNvSpPr/>
            <p:nvPr/>
          </p:nvSpPr>
          <p:spPr>
            <a:xfrm>
              <a:off x="613440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Искус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упра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29711"/>
            <p:cNvSpPr/>
            <p:nvPr/>
          </p:nvSpPr>
          <p:spPr>
            <a:xfrm>
              <a:off x="539640" y="441864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Пар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Митин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ыб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29712"/>
            <p:cNvSpPr/>
            <p:nvPr/>
          </p:nvSpPr>
          <p:spPr>
            <a:xfrm>
              <a:off x="333684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Исполни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Судебная</a:t>
              </a:r>
              <a:r>
                <a:rPr b="1" lang="en-US" sz="2000" spc="-1" strike="noStrike">
                  <a:solidFill>
                    <a:srgbClr val="003b7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29713"/>
            <p:cNvSpPr/>
            <p:nvPr/>
          </p:nvSpPr>
          <p:spPr>
            <a:xfrm>
              <a:off x="613440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ешня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ть сообщ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нарх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спубли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кр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ие загадк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96908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товаре быть долж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язательна ... 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оль трудился круглый год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Будет кругленьким ...  </a:t>
            </a:r>
            <a:r>
              <a:rPr b="1" i="1" lang="ru-RU" sz="2000" spc="-1" strike="noStrike">
                <a:solidFill>
                  <a:srgbClr val="ffff00"/>
                </a:solidFill>
                <a:latin typeface="Verdana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море коварном товаров и це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изнес-корабль ведёт ... 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ела у нас пойдут на лад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Мы в лучший банк внесли свой...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6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а резвая купчих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ступает очень лихо!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телевизор залезает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 товары предлагает: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 компьютеров до хлама.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мя у нее ...  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59280" y="119700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врачу, и акробат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ыдают за труд ...  </a:t>
            </a:r>
            <a:r>
              <a:rPr b="1" i="1" lang="ru-RU" sz="20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чень вкусная витри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вощного ... 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Мебель, хлеб и огурц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родают нам ...   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 сметану, хлеб и сы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кассе чек пробьёт ...  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сё, что в жизни продаётся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динаково зовётс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крупа, и самова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Называются ...              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ческая сфера обще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лу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редел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м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требл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о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лож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н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ньг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94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76720" y="4149720"/>
            <a:ext cx="2381040" cy="2425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748560" y="1341360"/>
            <a:ext cx="219852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35640" y="3213000"/>
            <a:ext cx="172728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26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Сферы общест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57160" y="1136520"/>
            <a:ext cx="7351920" cy="5489640"/>
            <a:chOff x="857160" y="1136520"/>
            <a:chExt cx="7351920" cy="5489640"/>
          </a:xfrm>
        </p:grpSpPr>
        <p:sp>
          <p:nvSpPr>
            <p:cNvPr id="181" name=""/>
            <p:cNvSpPr/>
            <p:nvPr/>
          </p:nvSpPr>
          <p:spPr>
            <a:xfrm>
              <a:off x="3313080" y="1917720"/>
              <a:ext cx="2438280" cy="223056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92680" y="1136520"/>
              <a:ext cx="12826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Экономическ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3320" y="2766960"/>
              <a:ext cx="2438640" cy="2230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6400" y="360360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Политическ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3080" y="3616200"/>
              <a:ext cx="2438280" cy="223056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92680" y="607068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Социальн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84280" y="2766960"/>
              <a:ext cx="2438640" cy="223056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7160" y="3603600"/>
              <a:ext cx="12826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Verdana"/>
                </a:rPr>
                <a:t>Духовная</a:t>
              </a:r>
              <a:r>
                <a:rPr b="0" lang="ru-RU" sz="15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760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9640" y="907920"/>
            <a:ext cx="7992360" cy="4680720"/>
            <a:chOff x="539640" y="907920"/>
            <a:chExt cx="7992360" cy="4680720"/>
          </a:xfrm>
        </p:grpSpPr>
        <p:cxnSp>
          <p:nvCxnSpPr>
            <p:cNvPr id="191" name="_s7201"/>
            <p:cNvCxnSpPr>
              <a:stCxn id="192" idx="0"/>
              <a:endCxn id="193" idx="2"/>
            </p:cNvCxnSpPr>
            <p:nvPr/>
          </p:nvCxnSpPr>
          <p:spPr>
            <a:xfrm flipV="1">
              <a:off x="73332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9"/>
            <p:cNvCxnSpPr>
              <a:stCxn id="195" idx="0"/>
              <a:endCxn id="196" idx="2"/>
            </p:cNvCxnSpPr>
            <p:nvPr/>
          </p:nvCxnSpPr>
          <p:spPr>
            <a:xfrm flipV="1">
              <a:off x="45360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7197"/>
            <p:cNvCxnSpPr>
              <a:stCxn id="198" idx="0"/>
              <a:endCxn id="199" idx="2"/>
            </p:cNvCxnSpPr>
            <p:nvPr/>
          </p:nvCxnSpPr>
          <p:spPr>
            <a:xfrm flipV="1">
              <a:off x="173844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193"/>
            <p:cNvCxnSpPr>
              <a:stCxn id="193" idx="0"/>
              <a:endCxn id="201" idx="2"/>
            </p:cNvCxnSpPr>
            <p:nvPr/>
          </p:nvCxnSpPr>
          <p:spPr>
            <a:xfrm flipV="1" rot="16200000">
              <a:off x="5641560" y="97092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192"/>
            <p:cNvCxnSpPr>
              <a:stCxn id="196" idx="0"/>
              <a:endCxn id="201" idx="2"/>
            </p:cNvCxnSpPr>
            <p:nvPr/>
          </p:nvCxnSpPr>
          <p:spPr>
            <a:xfrm flipV="1">
              <a:off x="4536000" y="207720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7191"/>
            <p:cNvCxnSpPr>
              <a:stCxn id="199" idx="0"/>
              <a:endCxn id="201" idx="2"/>
            </p:cNvCxnSpPr>
            <p:nvPr/>
          </p:nvCxnSpPr>
          <p:spPr>
            <a:xfrm flipH="1" flipV="1" rot="5400000">
              <a:off x="2844360" y="97128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7187"/>
            <p:cNvSpPr/>
            <p:nvPr/>
          </p:nvSpPr>
          <p:spPr>
            <a:xfrm>
              <a:off x="3336840" y="90792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Полит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7188"/>
            <p:cNvSpPr/>
            <p:nvPr/>
          </p:nvSpPr>
          <p:spPr>
            <a:xfrm>
              <a:off x="5396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фе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7189"/>
            <p:cNvSpPr/>
            <p:nvPr/>
          </p:nvSpPr>
          <p:spPr>
            <a:xfrm>
              <a:off x="33368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Государ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7190"/>
            <p:cNvSpPr/>
            <p:nvPr/>
          </p:nvSpPr>
          <p:spPr>
            <a:xfrm>
              <a:off x="613440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Искус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упра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7196"/>
            <p:cNvSpPr/>
            <p:nvPr/>
          </p:nvSpPr>
          <p:spPr>
            <a:xfrm>
              <a:off x="539640" y="441864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Пар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Митин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ыб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7198"/>
            <p:cNvSpPr/>
            <p:nvPr/>
          </p:nvSpPr>
          <p:spPr>
            <a:xfrm>
              <a:off x="333684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Исполни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Судебная</a:t>
              </a:r>
              <a:r>
                <a:rPr b="1" lang="en-US" sz="2000" spc="-1" strike="noStrike">
                  <a:solidFill>
                    <a:srgbClr val="003b7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7200"/>
            <p:cNvSpPr/>
            <p:nvPr/>
          </p:nvSpPr>
          <p:spPr>
            <a:xfrm>
              <a:off x="613440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ешня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ар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Митин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ыбо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итик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сфера обще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740320" cy="2352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633760" cy="241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059280" y="4149720"/>
            <a:ext cx="2449440" cy="2381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449440" cy="2382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2484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1760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907920"/>
            <a:ext cx="7992360" cy="4680720"/>
            <a:chOff x="539640" y="907920"/>
            <a:chExt cx="7992360" cy="4680720"/>
          </a:xfrm>
        </p:grpSpPr>
        <p:cxnSp>
          <p:nvCxnSpPr>
            <p:cNvPr id="213" name="_s22533"/>
            <p:cNvCxnSpPr>
              <a:stCxn id="214" idx="0"/>
              <a:endCxn id="215" idx="2"/>
            </p:cNvCxnSpPr>
            <p:nvPr/>
          </p:nvCxnSpPr>
          <p:spPr>
            <a:xfrm flipV="1">
              <a:off x="73332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22534"/>
            <p:cNvCxnSpPr>
              <a:stCxn id="217" idx="0"/>
              <a:endCxn id="218" idx="2"/>
            </p:cNvCxnSpPr>
            <p:nvPr/>
          </p:nvCxnSpPr>
          <p:spPr>
            <a:xfrm flipV="1">
              <a:off x="45360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35"/>
            <p:cNvCxnSpPr>
              <a:stCxn id="220" idx="0"/>
              <a:endCxn id="221" idx="2"/>
            </p:cNvCxnSpPr>
            <p:nvPr/>
          </p:nvCxnSpPr>
          <p:spPr>
            <a:xfrm flipV="1">
              <a:off x="173844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2536"/>
            <p:cNvCxnSpPr>
              <a:stCxn id="215" idx="0"/>
              <a:endCxn id="223" idx="2"/>
            </p:cNvCxnSpPr>
            <p:nvPr/>
          </p:nvCxnSpPr>
          <p:spPr>
            <a:xfrm flipV="1" rot="16200000">
              <a:off x="5641560" y="97092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22537"/>
            <p:cNvCxnSpPr>
              <a:stCxn id="218" idx="0"/>
              <a:endCxn id="223" idx="2"/>
            </p:cNvCxnSpPr>
            <p:nvPr/>
          </p:nvCxnSpPr>
          <p:spPr>
            <a:xfrm flipV="1">
              <a:off x="4536000" y="207720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8"/>
            <p:cNvCxnSpPr>
              <a:stCxn id="221" idx="0"/>
              <a:endCxn id="223" idx="2"/>
            </p:cNvCxnSpPr>
            <p:nvPr/>
          </p:nvCxnSpPr>
          <p:spPr>
            <a:xfrm flipH="1" flipV="1" rot="5400000">
              <a:off x="2844360" y="97128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3" name="_s22539"/>
            <p:cNvSpPr/>
            <p:nvPr/>
          </p:nvSpPr>
          <p:spPr>
            <a:xfrm>
              <a:off x="3336840" y="90792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Полит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22540"/>
            <p:cNvSpPr/>
            <p:nvPr/>
          </p:nvSpPr>
          <p:spPr>
            <a:xfrm>
              <a:off x="5396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фе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22541"/>
            <p:cNvSpPr/>
            <p:nvPr/>
          </p:nvSpPr>
          <p:spPr>
            <a:xfrm>
              <a:off x="33368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Государ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22542"/>
            <p:cNvSpPr/>
            <p:nvPr/>
          </p:nvSpPr>
          <p:spPr>
            <a:xfrm>
              <a:off x="613440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Искус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упра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22543"/>
            <p:cNvSpPr/>
            <p:nvPr/>
          </p:nvSpPr>
          <p:spPr>
            <a:xfrm>
              <a:off x="539640" y="441864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Пар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Митин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ыб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22544"/>
            <p:cNvSpPr/>
            <p:nvPr/>
          </p:nvSpPr>
          <p:spPr>
            <a:xfrm>
              <a:off x="333684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Исполни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Судебная</a:t>
              </a:r>
              <a:r>
                <a:rPr b="1" lang="en-US" sz="2000" spc="-1" strike="noStrike">
                  <a:solidFill>
                    <a:srgbClr val="003b7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22545"/>
            <p:cNvSpPr/>
            <p:nvPr/>
          </p:nvSpPr>
          <p:spPr>
            <a:xfrm>
              <a:off x="613440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ешня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3032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литика - государственная в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600200"/>
          <a:ext cx="8228160" cy="463716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 вла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 власти             в Рос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конодательная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принимает закон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арламен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Федеральное собрание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сполнительная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сполняет закон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авитель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авительство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удебная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аказывает за нарушение закон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у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онституционный суд РФ Верховный             суд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3640" y="5157720"/>
            <a:ext cx="2736720" cy="1700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736720" cy="1763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27352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7604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39640" y="907920"/>
            <a:ext cx="7992360" cy="4680720"/>
            <a:chOff x="539640" y="907920"/>
            <a:chExt cx="7992360" cy="4680720"/>
          </a:xfrm>
        </p:grpSpPr>
        <p:cxnSp>
          <p:nvCxnSpPr>
            <p:cNvPr id="233" name="_s24581"/>
            <p:cNvCxnSpPr>
              <a:stCxn id="234" idx="0"/>
              <a:endCxn id="235" idx="2"/>
            </p:cNvCxnSpPr>
            <p:nvPr/>
          </p:nvCxnSpPr>
          <p:spPr>
            <a:xfrm flipV="1">
              <a:off x="73332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24582"/>
            <p:cNvCxnSpPr>
              <a:stCxn id="237" idx="0"/>
              <a:endCxn id="238" idx="2"/>
            </p:cNvCxnSpPr>
            <p:nvPr/>
          </p:nvCxnSpPr>
          <p:spPr>
            <a:xfrm flipV="1">
              <a:off x="453600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24583"/>
            <p:cNvCxnSpPr>
              <a:stCxn id="240" idx="0"/>
              <a:endCxn id="241" idx="2"/>
            </p:cNvCxnSpPr>
            <p:nvPr/>
          </p:nvCxnSpPr>
          <p:spPr>
            <a:xfrm flipV="1">
              <a:off x="1738440" y="383292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24584"/>
            <p:cNvCxnSpPr>
              <a:stCxn id="235" idx="0"/>
              <a:endCxn id="243" idx="2"/>
            </p:cNvCxnSpPr>
            <p:nvPr/>
          </p:nvCxnSpPr>
          <p:spPr>
            <a:xfrm flipV="1" rot="16200000">
              <a:off x="5641560" y="97092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4585"/>
            <p:cNvCxnSpPr>
              <a:stCxn id="238" idx="0"/>
              <a:endCxn id="243" idx="2"/>
            </p:cNvCxnSpPr>
            <p:nvPr/>
          </p:nvCxnSpPr>
          <p:spPr>
            <a:xfrm flipV="1">
              <a:off x="4536000" y="2077200"/>
              <a:ext cx="28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24586"/>
            <p:cNvCxnSpPr>
              <a:stCxn id="241" idx="0"/>
              <a:endCxn id="243" idx="2"/>
            </p:cNvCxnSpPr>
            <p:nvPr/>
          </p:nvCxnSpPr>
          <p:spPr>
            <a:xfrm flipH="1" flipV="1" rot="5400000">
              <a:off x="2844360" y="971280"/>
              <a:ext cx="585720" cy="27979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24587"/>
            <p:cNvSpPr/>
            <p:nvPr/>
          </p:nvSpPr>
          <p:spPr>
            <a:xfrm>
              <a:off x="3336840" y="90792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Политик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24588"/>
            <p:cNvSpPr/>
            <p:nvPr/>
          </p:nvSpPr>
          <p:spPr>
            <a:xfrm>
              <a:off x="5396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фе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24589"/>
            <p:cNvSpPr/>
            <p:nvPr/>
          </p:nvSpPr>
          <p:spPr>
            <a:xfrm>
              <a:off x="333684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Государ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24590"/>
            <p:cNvSpPr/>
            <p:nvPr/>
          </p:nvSpPr>
          <p:spPr>
            <a:xfrm>
              <a:off x="6134400" y="266328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Искус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упра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24591"/>
            <p:cNvSpPr/>
            <p:nvPr/>
          </p:nvSpPr>
          <p:spPr>
            <a:xfrm>
              <a:off x="539640" y="4418640"/>
              <a:ext cx="2397600" cy="117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Пар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Митин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ыб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24592"/>
            <p:cNvSpPr/>
            <p:nvPr/>
          </p:nvSpPr>
          <p:spPr>
            <a:xfrm>
              <a:off x="333684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Исполнитель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Судебная</a:t>
              </a:r>
              <a:r>
                <a:rPr b="1" lang="en-US" sz="2000" spc="-1" strike="noStrike">
                  <a:solidFill>
                    <a:srgbClr val="003b7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24593"/>
            <p:cNvSpPr/>
            <p:nvPr/>
          </p:nvSpPr>
          <p:spPr>
            <a:xfrm>
              <a:off x="6134400" y="4418640"/>
              <a:ext cx="2397600" cy="1166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ешня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3b76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6:35:37Z</dcterms:created>
  <dc:creator>qwe</dc:creator>
  <dc:description/>
  <dc:language>en-US</dc:language>
  <cp:lastModifiedBy>qwe</cp:lastModifiedBy>
  <dcterms:modified xsi:type="dcterms:W3CDTF">2013-11-12T19:36:05Z</dcterms:modified>
  <cp:revision>9</cp:revision>
  <dc:subject/>
  <dc:title>Слайд 1</dc:title>
</cp:coreProperties>
</file>