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4C7-1EB5-437A-B856-3A0FA8C8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3FE-B50A-4839-B083-EA66C76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A8A-FD6C-4C8F-8E28-19C19703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BE1-6138-4201-94B7-B9CB2AB1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4A9D-15BA-4BD9-8324-66EE6342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4F7-7B13-40D7-9FF0-230C6C8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F9F-0387-419A-A897-764BD007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A299-FC13-435D-BEEC-B250842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101-EEA6-4D6E-87B5-C527F96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4AC-3172-4DCE-B578-013CF13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1303-3930-4FFC-86DE-3B22A33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CE3-4C64-4B72-AA52-C228A7B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BB43-15A7-48CF-B8FC-DF107CD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98C-303A-48E7-9BEF-3D5A759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CB53-D229-4084-86D4-4DE2E04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3AB4-E432-4908-9D0D-D5F049D4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02C1-DD08-4CFB-BAC4-CD2AE78D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EDB-ED1F-49D0-AC80-00501A5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FF2-68AE-48E1-8D00-A9E6F54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DB7-8651-4CB5-B8D7-FDCC8D3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8ED-474D-4162-A818-95F0FA44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91B-E96F-4EDF-867E-3AC66FA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30F-F74C-434D-A86D-0508764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72E-DF98-4B60-9503-A96F317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ACB-77E3-4185-91FB-3CBF3A577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9DA-BFFB-482F-BDC4-D1ED714B68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лигия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и ее роль в современном мир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лиг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ровоззрение и соответствующее поведение, основанной а вере в Бога и сверхъестествен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чины возникновения религии: неумение человека объяснить явления прир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Типология религ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ревние религиозные верован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(анимизм, тотемизм, фетишизм, политеиз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ациональные религ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(синтоизм, индуизм, даосизм, иудаиз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ировые религ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(христианство, ислам, буддиз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оль религии                               в современном ми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лигии имеют разные главные цел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формировании человеческого сознания религия  и наука взаимодополняют друг дру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лигия не имеет отношения к полити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лигия является одной из причин международных конфликтов и террор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867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долго искал Бога у христиан,                                                      но Его не было на крес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побывал в индуистском храме                                                  и древнем буддийском монастыр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 и там я не нашел даже следов Е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 отправился а Каабе, но Бога не было и там.                        Тогда я заглянул в свое сердце.                                   И только там я узрел Бог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торого не было больше нигде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ж. Руми (1207-1273), персидский поэ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40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ообщения                     о видах искусства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время возникновения, функции, направления, известные произведения и т.д.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и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ир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Теат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ера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стра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рафика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Живопис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кульпту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отограф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хитекту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Хореограф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коративно-прикладное искус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6:09:41Z</dcterms:created>
  <dc:creator>qwe</dc:creator>
  <dc:description/>
  <dc:language>en-US</dc:language>
  <cp:lastModifiedBy>qwe</cp:lastModifiedBy>
  <dcterms:modified xsi:type="dcterms:W3CDTF">2014-01-09T16:53:31Z</dcterms:modified>
  <cp:revision>2</cp:revision>
  <dc:subject/>
  <dc:title>Религия и ее роль в современном мире</dc:title>
</cp:coreProperties>
</file>