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5D451-29F8-474D-ACB9-56F73A1C0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C0AD0-DC20-4481-9E02-46AEAFFB661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9837E5-0AE4-48C5-8922-5FBE4322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32BE9D-707D-4491-8260-ADE6B813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A1A789-6DA8-4DC7-985F-A80345CF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BD8650-4C28-47D3-AF20-6DB6B523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EE9645-673E-4AB7-A63A-92E73BCE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D66B23-3171-4169-8AFF-1A062949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F81039-2785-41E0-B2B3-E003B1E6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F12598-C769-4546-A9DF-8C4F249C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F25B7D-67D7-486A-851F-6AD502B6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2E454B-7F15-494F-A73F-A9784247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F0FC1-E3A1-4239-BF2A-0F95EB8EABA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99D61C-81CB-4E7F-A125-685D0189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3DBB2A-9862-4A1C-86D6-1B95C945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214F13-380A-4C16-A36E-B82C1592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EFD78E-3D61-46B2-9459-1858B0B0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AD7F04-EAB7-488D-AD8C-2EDA947E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9AD83B-7726-429B-9163-ACB1E34C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42527A-19DC-4D14-9644-3D2FEF17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0A173D-DEC1-4EBB-A7AA-EFA5641B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ECEC5F-52BA-4AAD-B9A1-A4F5127F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1A4FB2-28AE-41D9-8B32-49B91495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023B4-0C2B-4BBA-8742-88AF0DED094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4599D6-654F-436A-BA84-79CC5DED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26457E-F116-4722-8AC4-3EF7A867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2FC410-7EE8-4C0C-827A-8248B83B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BB13EB-00BE-4D8E-9147-EA6D33DE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8351F8-C5FE-4712-BFC2-D05302B8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FEF239-D213-4C9F-AAD4-5658E46E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FA5CCF-DF03-480F-A2CD-A8D6EC87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55F640-8D13-4960-A81F-8693EA71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C2949B-DD3C-46DF-BEB1-16F1062C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6DDB59-F17F-4221-A344-53309DEE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E5F4E-3DAE-4BA1-9B13-6D2F7AE8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E96AD9-AC2C-4489-94BD-BCC742AD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2C023D-2C1A-4E55-8CBE-C64ABFE7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1BD2AD-9752-42CE-AD44-32BAEAE3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B18F8-EDB7-448B-8210-2E60A4E9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E6302-75FD-4E17-8BC2-92E96DB3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9F13C-F89D-4BB9-A953-BE8FB12A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3A769-CF7F-48FC-ADD7-19E580F7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F95E4-BA9D-4782-BDB8-8551B320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EACE3-3AD4-4F27-9F6C-A09E067C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889AA-781E-4ED0-A157-8404EDF42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143BF-2D90-4DBE-B6D2-EF7AADB2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1D4C5-9C85-4F2F-8D92-B33E7119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E7AE9-E619-40D5-B77A-5361BBDE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1C4BA-4574-48E4-8254-479DADF0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DF1F7-C39F-4295-A5FE-3700F78E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1EA085-63B1-40E2-8E5D-C6CB7365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160B8A-3FB0-438E-9E71-814B9A1D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B0DC0-D113-4FCF-A1F5-E5210F76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6A327A-1903-4938-B072-16F20785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85766E-889A-4F12-8C92-26A73ADD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968B0-CD7D-4E4F-BE22-607DDED274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1670ED-AE37-445E-9BC4-2E836FC8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AB380-C9A5-45C1-90C2-318A65A7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237BD0-1181-4DAD-A218-9AEA61C9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7C5C54-A71F-4CF8-9A5E-769066C5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D76F55-57BA-4D75-A2C2-18F7FF57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500A4-0CF7-4D85-B4C9-3BB1153B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348C6-D567-4BA1-A928-61EB01EF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3AF86C-F631-4676-B58F-0694316C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50DAE9-7713-47DA-9904-D078AFEA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5A0F5B-210B-4E8F-A864-42CD4404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020ED-3C9C-46FE-8233-E33D88C9B7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64BB33-8649-42CE-B0F1-973A5FEF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5E8FBD-FFDC-493F-B89D-CC9E0DF3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54C399-1F93-4AA9-930A-7908D661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D0BF21-1D94-4D6F-9E93-E899A5E3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223F6E-1DDF-4CC8-9610-A1E1F36E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982348-C025-4971-AB7E-1A15194F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13E6B0-EE16-4799-8A3D-D1AAB0E2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1BEA98-B1AF-4AEE-A669-BA963B5A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32C79B-CECA-43B6-8056-314283C4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6F7A82-2F66-46C7-8585-A2C2062B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3EBE6-2CC5-420D-A54A-76982218D41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CDF119-4C3D-4FD8-9E21-7C7C55C1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8D1CD9-9DB9-4343-B2BC-2E590B04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8030E7-2D8A-41FB-BB08-60872381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F09AD6-A2FD-47AC-B8C2-EFB1FE73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D3FCE7-3A34-497C-91ED-5C9A3702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5323E2-A474-45D4-B767-3F3BAEFD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69AB99-2636-4453-86C0-BABF1CAF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11E7F2-032A-416F-9846-51FA3B44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C7182E-71E4-4CD0-B6C0-318C2E49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D686A8-E97C-4C03-8624-786DE585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33E22-B3C3-4EF9-BE21-8F77C155FA5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0943F1-633A-4F2F-8B01-886C779A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E90FC6-4C83-443C-8143-A2D6201C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DB8E7D-ECC5-48B2-BE90-D49F965E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CEC07F-B74C-46E8-974F-283CC5ED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80EC18-C842-497A-BA6A-1B1BC287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3BCB1C-3E42-4792-B24D-9B164352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A574A7-7089-4004-A110-33A5833F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D5CD26-EFE2-4721-92F5-34C2062B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CCB674-742C-4B16-A32B-4B2C0E9E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08FB71-B802-44AF-AE9C-B2297C09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57C97-AA07-47C3-99D1-FF02BD95E2F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E6C473-536D-4273-8E62-C33CA313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7C79EF-E0F8-4084-9390-381E9A85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E42308-FCF1-4EDD-9CE6-FAC5AE094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BAD6D7-7669-4D14-AC9C-9CBAC9CB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0C277E-1C27-4C7C-9523-8A0320D9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FC7F30-1A17-4059-83F0-445FBF86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B0E04B-BECA-4087-BC4A-6BC8A776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C4CBC9-9EC2-41C6-99B6-1F056558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EE0B82-92E6-42EA-9006-836E9F5A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ED1EFA-27D4-4678-9747-2567AE63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2C0D2-0C35-4BE3-AC38-A5862800A83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A0056D-6250-487B-9376-58563CDA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460BCB-2087-4219-8CAD-791EA210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CA01CD-DBE6-4E1C-AEBF-49513DE1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95BE1B-C6B9-4FFA-8FCB-133331BD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EB8073-061D-48D7-BBE1-A055230B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E3CF0C-8DD2-4E65-B187-0685DB82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752DD9-0DAE-4127-98C8-091A7F00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40235C-B307-44A5-A644-0B86DF28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3F8A31-3A50-4924-AC2C-E3887FCC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E41CDA-5AD5-4D38-BD32-9B6AF984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D09C0-1C7F-4410-A166-5434D2D43FE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58735E-5334-4D61-B517-3AC186E0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FE9EED-0850-4FB0-98F0-222A4144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A688C3-83A2-425C-ADA9-0B98F4CF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7DA60A-7ECD-497E-B893-689975A0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274721-42E9-40F0-8AC9-DA789317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FA8725-55B6-4AB3-9033-2128BE65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7DE7EE-FF08-444A-B833-C002D54B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7C43B1-F848-4192-9692-4B9ED9E7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49EA67-D958-4A67-B56B-EAFDCA35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57BDBD-9B5E-490C-9A6F-5370D35C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>
              <a:gd name="textAreaLeft" fmla="*/ 308520 w 8686800"/>
              <a:gd name="textAreaRight" fmla="*/ 8378280 w 8686800"/>
              <a:gd name="textAreaTop" fmla="*/ 308520 h 6324480"/>
              <a:gd name="textAreaBottom" fmla="*/ 6015960 h 6324480"/>
            </a:gdLst>
            <a:ahLst/>
            <a:rect l="textAreaLeft" t="textAreaTop" r="textAreaRight" b="textAreaBottom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5270479"/>
                </a:lnTo>
                <a:lnTo>
                  <a:pt x="8686800" y="5270479"/>
                </a:lnTo>
                <a:arcTo wR="1054121" hR="1054121" stAng="0" swAng="5400003"/>
                <a:lnTo>
                  <a:pt x="0" y="6324600"/>
                </a:lnTo>
                <a:lnTo>
                  <a:pt x="0" y="1054121"/>
                </a:lnTo>
                <a:lnTo>
                  <a:pt x="0" y="1054121"/>
                </a:lnTo>
                <a:arcTo wR="1054121" hR="1054121" stAng="-10799997" swAng="5400003"/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Рисунок 12" descr="gat18122.jpg"/>
          <p:cNvPicPr/>
          <p:nvPr/>
        </p:nvPicPr>
        <p:blipFill>
          <a:blip r:embed="rId3"/>
          <a:stretch/>
        </p:blipFill>
        <p:spPr>
          <a:xfrm>
            <a:off x="6761160" y="4054320"/>
            <a:ext cx="1992240" cy="2737080"/>
          </a:xfrm>
          <a:prstGeom prst="rect">
            <a:avLst/>
          </a:prstGeom>
          <a:ln w="0">
            <a:noFill/>
          </a:ln>
        </p:spPr>
      </p:pic>
      <p:sp>
        <p:nvSpPr>
          <p:cNvPr id="2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AFC8-27C1-44C3-BDA9-F4D48C27E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>
              <a:gd name="textAreaLeft" fmla="*/ 308520 w 8686800"/>
              <a:gd name="textAreaRight" fmla="*/ 8378280 w 8686800"/>
              <a:gd name="textAreaTop" fmla="*/ 308520 h 6324480"/>
              <a:gd name="textAreaBottom" fmla="*/ 6015960 h 6324480"/>
            </a:gdLst>
            <a:ahLst/>
            <a:rect l="textAreaLeft" t="textAreaTop" r="textAreaRight" b="textAreaBottom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5270479"/>
                </a:lnTo>
                <a:lnTo>
                  <a:pt x="8686800" y="5270479"/>
                </a:lnTo>
                <a:arcTo wR="1054121" hR="1054121" stAng="0" swAng="5400003"/>
                <a:lnTo>
                  <a:pt x="0" y="6324600"/>
                </a:lnTo>
                <a:lnTo>
                  <a:pt x="0" y="1054121"/>
                </a:lnTo>
                <a:lnTo>
                  <a:pt x="0" y="1054121"/>
                </a:lnTo>
                <a:arcTo wR="1054121" hR="1054121" stAng="-10799997" swAng="5400003"/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Рисунок 12" descr="gat18122.jpg"/>
          <p:cNvPicPr/>
          <p:nvPr/>
        </p:nvPicPr>
        <p:blipFill>
          <a:blip r:embed="rId3"/>
          <a:stretch/>
        </p:blipFill>
        <p:spPr>
          <a:xfrm>
            <a:off x="6761160" y="4054320"/>
            <a:ext cx="1992240" cy="273708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7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A713-E1D0-43D3-9DBA-6C1581114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>
              <a:gd name="textAreaLeft" fmla="*/ 308520 w 8686800"/>
              <a:gd name="textAreaRight" fmla="*/ 8378280 w 8686800"/>
              <a:gd name="textAreaTop" fmla="*/ 308520 h 6324480"/>
              <a:gd name="textAreaBottom" fmla="*/ 6015960 h 6324480"/>
            </a:gdLst>
            <a:ahLst/>
            <a:rect l="textAreaLeft" t="textAreaTop" r="textAreaRight" b="textAreaBottom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5270479"/>
                </a:lnTo>
                <a:lnTo>
                  <a:pt x="8686800" y="5270479"/>
                </a:lnTo>
                <a:arcTo wR="1054121" hR="1054121" stAng="0" swAng="5400003"/>
                <a:lnTo>
                  <a:pt x="0" y="6324600"/>
                </a:lnTo>
                <a:lnTo>
                  <a:pt x="0" y="1054121"/>
                </a:lnTo>
                <a:lnTo>
                  <a:pt x="0" y="1054121"/>
                </a:lnTo>
                <a:arcTo wR="1054121" hR="1054121" stAng="-10799997" swAng="5400003"/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Рисунок 12" descr="gat18122.jpg"/>
          <p:cNvPicPr/>
          <p:nvPr/>
        </p:nvPicPr>
        <p:blipFill>
          <a:blip r:embed="rId3"/>
          <a:stretch/>
        </p:blipFill>
        <p:spPr>
          <a:xfrm>
            <a:off x="6761160" y="4054320"/>
            <a:ext cx="1992240" cy="2737080"/>
          </a:xfrm>
          <a:prstGeom prst="rect">
            <a:avLst/>
          </a:prstGeom>
          <a:ln w="0">
            <a:noFill/>
          </a:ln>
        </p:spPr>
      </p:pic>
      <p:sp>
        <p:nvSpPr>
          <p:cNvPr id="444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0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1B89-84C3-40F0-A1E0-9CADFE9AA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>
              <a:gd name="textAreaLeft" fmla="*/ 308520 w 8686800"/>
              <a:gd name="textAreaRight" fmla="*/ 8378280 w 8686800"/>
              <a:gd name="textAreaTop" fmla="*/ 308520 h 6324480"/>
              <a:gd name="textAreaBottom" fmla="*/ 6015960 h 6324480"/>
            </a:gdLst>
            <a:ahLst/>
            <a:rect l="textAreaLeft" t="textAreaTop" r="textAreaRight" b="textAreaBottom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5270479"/>
                </a:lnTo>
                <a:lnTo>
                  <a:pt x="8686800" y="5270479"/>
                </a:lnTo>
                <a:arcTo wR="1054121" hR="1054121" stAng="0" swAng="5400003"/>
                <a:lnTo>
                  <a:pt x="0" y="6324600"/>
                </a:lnTo>
                <a:lnTo>
                  <a:pt x="0" y="1054121"/>
                </a:lnTo>
                <a:lnTo>
                  <a:pt x="0" y="1054121"/>
                </a:lnTo>
                <a:arcTo wR="1054121" hR="1054121" stAng="-10799997" swAng="5400003"/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12" descr="gat18122.jpg"/>
          <p:cNvPicPr/>
          <p:nvPr/>
        </p:nvPicPr>
        <p:blipFill>
          <a:blip r:embed="rId3"/>
          <a:stretch/>
        </p:blipFill>
        <p:spPr>
          <a:xfrm>
            <a:off x="6761160" y="4054320"/>
            <a:ext cx="1992240" cy="273708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9" descr="63599134nj4.jpg"/>
          <p:cNvPicPr/>
          <p:nvPr/>
        </p:nvPicPr>
        <p:blipFill>
          <a:blip r:embed="rId4"/>
          <a:srcRect l="1260" t="2501" r="8189" b="8337"/>
          <a:stretch/>
        </p:blipFill>
        <p:spPr>
          <a:xfrm>
            <a:off x="380880" y="4378320"/>
            <a:ext cx="1371600" cy="20415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10"/>
          <p:cNvSpPr/>
          <p:nvPr/>
        </p:nvSpPr>
        <p:spPr>
          <a:xfrm>
            <a:off x="22860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CD3F-2C47-4C28-9A97-4FCBCBBBE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>
              <a:gd name="textAreaLeft" fmla="*/ 308520 w 8686800"/>
              <a:gd name="textAreaRight" fmla="*/ 8378280 w 8686800"/>
              <a:gd name="textAreaTop" fmla="*/ 308520 h 6324480"/>
              <a:gd name="textAreaBottom" fmla="*/ 6015960 h 6324480"/>
            </a:gdLst>
            <a:ahLst/>
            <a:rect l="textAreaLeft" t="textAreaTop" r="textAreaRight" b="textAreaBottom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5270479"/>
                </a:lnTo>
                <a:lnTo>
                  <a:pt x="8686800" y="5270479"/>
                </a:lnTo>
                <a:arcTo wR="1054121" hR="1054121" stAng="0" swAng="5400003"/>
                <a:lnTo>
                  <a:pt x="0" y="6324600"/>
                </a:lnTo>
                <a:lnTo>
                  <a:pt x="0" y="1054121"/>
                </a:lnTo>
                <a:lnTo>
                  <a:pt x="0" y="1054121"/>
                </a:lnTo>
                <a:arcTo wR="1054121" hR="1054121" stAng="-10799997" swAng="5400003"/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2" descr="gat18122.jpg"/>
          <p:cNvPicPr/>
          <p:nvPr/>
        </p:nvPicPr>
        <p:blipFill>
          <a:blip r:embed="rId3"/>
          <a:stretch/>
        </p:blipFill>
        <p:spPr>
          <a:xfrm>
            <a:off x="6761160" y="4054320"/>
            <a:ext cx="1992240" cy="27370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9" descr="57099343_leybgvardii_Egerskiy_polk.jpg"/>
          <p:cNvPicPr/>
          <p:nvPr/>
        </p:nvPicPr>
        <p:blipFill>
          <a:blip r:embed="rId4"/>
          <a:stretch/>
        </p:blipFill>
        <p:spPr>
          <a:xfrm>
            <a:off x="304920" y="4341960"/>
            <a:ext cx="1523880" cy="2023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6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85DD-8392-4E26-99E6-BAFFD7273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>
              <a:gd name="textAreaLeft" fmla="*/ 308520 w 8686800"/>
              <a:gd name="textAreaRight" fmla="*/ 8378280 w 8686800"/>
              <a:gd name="textAreaTop" fmla="*/ 308520 h 6324480"/>
              <a:gd name="textAreaBottom" fmla="*/ 6015960 h 6324480"/>
            </a:gdLst>
            <a:ahLst/>
            <a:rect l="textAreaLeft" t="textAreaTop" r="textAreaRight" b="textAreaBottom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5270479"/>
                </a:lnTo>
                <a:lnTo>
                  <a:pt x="8686800" y="5270479"/>
                </a:lnTo>
                <a:arcTo wR="1054121" hR="1054121" stAng="0" swAng="5400003"/>
                <a:lnTo>
                  <a:pt x="0" y="6324600"/>
                </a:lnTo>
                <a:lnTo>
                  <a:pt x="0" y="1054121"/>
                </a:lnTo>
                <a:lnTo>
                  <a:pt x="0" y="1054121"/>
                </a:lnTo>
                <a:arcTo wR="1054121" hR="1054121" stAng="-10799997" swAng="5400003"/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12" descr="gat18122.jpg"/>
          <p:cNvPicPr/>
          <p:nvPr/>
        </p:nvPicPr>
        <p:blipFill>
          <a:blip r:embed="rId3"/>
          <a:stretch/>
        </p:blipFill>
        <p:spPr>
          <a:xfrm>
            <a:off x="6761160" y="4054320"/>
            <a:ext cx="1992240" cy="273708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253C-EDFA-40A7-8013-DC824EAC2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>
              <a:gd name="textAreaLeft" fmla="*/ 308520 w 8686800"/>
              <a:gd name="textAreaRight" fmla="*/ 8378280 w 8686800"/>
              <a:gd name="textAreaTop" fmla="*/ 308520 h 6324480"/>
              <a:gd name="textAreaBottom" fmla="*/ 6015960 h 6324480"/>
            </a:gdLst>
            <a:ahLst/>
            <a:rect l="textAreaLeft" t="textAreaTop" r="textAreaRight" b="textAreaBottom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5270479"/>
                </a:lnTo>
                <a:lnTo>
                  <a:pt x="8686800" y="5270479"/>
                </a:lnTo>
                <a:arcTo wR="1054121" hR="1054121" stAng="0" swAng="5400003"/>
                <a:lnTo>
                  <a:pt x="0" y="6324600"/>
                </a:lnTo>
                <a:lnTo>
                  <a:pt x="0" y="1054121"/>
                </a:lnTo>
                <a:lnTo>
                  <a:pt x="0" y="1054121"/>
                </a:lnTo>
                <a:arcTo wR="1054121" hR="1054121" stAng="-10799997" swAng="5400003"/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Рисунок 12" descr="gat18122.jpg"/>
          <p:cNvPicPr/>
          <p:nvPr/>
        </p:nvPicPr>
        <p:blipFill>
          <a:blip r:embed="rId3"/>
          <a:stretch/>
        </p:blipFill>
        <p:spPr>
          <a:xfrm>
            <a:off x="6761160" y="4054320"/>
            <a:ext cx="1992240" cy="273708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2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4BB2-92C8-4CEF-8E11-2EF33144A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>
              <a:gd name="textAreaLeft" fmla="*/ 308520 w 8686800"/>
              <a:gd name="textAreaRight" fmla="*/ 8378280 w 8686800"/>
              <a:gd name="textAreaTop" fmla="*/ 308520 h 6324480"/>
              <a:gd name="textAreaBottom" fmla="*/ 6015960 h 6324480"/>
            </a:gdLst>
            <a:ahLst/>
            <a:rect l="textAreaLeft" t="textAreaTop" r="textAreaRight" b="textAreaBottom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5270479"/>
                </a:lnTo>
                <a:lnTo>
                  <a:pt x="8686800" y="5270479"/>
                </a:lnTo>
                <a:arcTo wR="1054121" hR="1054121" stAng="0" swAng="5400003"/>
                <a:lnTo>
                  <a:pt x="0" y="6324600"/>
                </a:lnTo>
                <a:lnTo>
                  <a:pt x="0" y="1054121"/>
                </a:lnTo>
                <a:lnTo>
                  <a:pt x="0" y="1054121"/>
                </a:lnTo>
                <a:arcTo wR="1054121" hR="1054121" stAng="-10799997" swAng="5400003"/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12" descr="gat18122.jpg"/>
          <p:cNvPicPr/>
          <p:nvPr/>
        </p:nvPicPr>
        <p:blipFill>
          <a:blip r:embed="rId3"/>
          <a:stretch/>
        </p:blipFill>
        <p:spPr>
          <a:xfrm>
            <a:off x="6761160" y="4054320"/>
            <a:ext cx="1992240" cy="2737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5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7E42-65F2-469C-8A60-60B264360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>
              <a:gd name="textAreaLeft" fmla="*/ 308520 w 8686800"/>
              <a:gd name="textAreaRight" fmla="*/ 8378280 w 8686800"/>
              <a:gd name="textAreaTop" fmla="*/ 308520 h 6324480"/>
              <a:gd name="textAreaBottom" fmla="*/ 6015960 h 6324480"/>
            </a:gdLst>
            <a:ahLst/>
            <a:rect l="textAreaLeft" t="textAreaTop" r="textAreaRight" b="textAreaBottom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5270479"/>
                </a:lnTo>
                <a:lnTo>
                  <a:pt x="8686800" y="5270479"/>
                </a:lnTo>
                <a:arcTo wR="1054121" hR="1054121" stAng="0" swAng="5400003"/>
                <a:lnTo>
                  <a:pt x="0" y="6324600"/>
                </a:lnTo>
                <a:lnTo>
                  <a:pt x="0" y="1054121"/>
                </a:lnTo>
                <a:lnTo>
                  <a:pt x="0" y="1054121"/>
                </a:lnTo>
                <a:arcTo wR="1054121" hR="1054121" stAng="-10799997" swAng="5400003"/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Рисунок 12" descr="gat18122.jpg"/>
          <p:cNvPicPr/>
          <p:nvPr/>
        </p:nvPicPr>
        <p:blipFill>
          <a:blip r:embed="rId3"/>
          <a:stretch/>
        </p:blipFill>
        <p:spPr>
          <a:xfrm>
            <a:off x="6761160" y="4054320"/>
            <a:ext cx="1992240" cy="273708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8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FA50-E7C4-4F6E-9B79-17C83389A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>
              <a:gd name="textAreaLeft" fmla="*/ 308520 w 8686800"/>
              <a:gd name="textAreaRight" fmla="*/ 8378280 w 8686800"/>
              <a:gd name="textAreaTop" fmla="*/ 308520 h 6324480"/>
              <a:gd name="textAreaBottom" fmla="*/ 6015960 h 6324480"/>
            </a:gdLst>
            <a:ahLst/>
            <a:rect l="textAreaLeft" t="textAreaTop" r="textAreaRight" b="textAreaBottom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5270479"/>
                </a:lnTo>
                <a:lnTo>
                  <a:pt x="8686800" y="5270479"/>
                </a:lnTo>
                <a:arcTo wR="1054121" hR="1054121" stAng="0" swAng="5400003"/>
                <a:lnTo>
                  <a:pt x="0" y="6324600"/>
                </a:lnTo>
                <a:lnTo>
                  <a:pt x="0" y="1054121"/>
                </a:lnTo>
                <a:lnTo>
                  <a:pt x="0" y="1054121"/>
                </a:lnTo>
                <a:arcTo wR="1054121" hR="1054121" stAng="-10799997" swAng="5400003"/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Рисунок 12" descr="gat18122.jpg"/>
          <p:cNvPicPr/>
          <p:nvPr/>
        </p:nvPicPr>
        <p:blipFill>
          <a:blip r:embed="rId3"/>
          <a:stretch/>
        </p:blipFill>
        <p:spPr>
          <a:xfrm>
            <a:off x="6761160" y="4054320"/>
            <a:ext cx="1992240" cy="273708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1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0E21-9F7C-4FFA-9D45-EDF5F02B7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>
              <a:gd name="textAreaLeft" fmla="*/ 308520 w 8686800"/>
              <a:gd name="textAreaRight" fmla="*/ 8378280 w 8686800"/>
              <a:gd name="textAreaTop" fmla="*/ 308520 h 6324480"/>
              <a:gd name="textAreaBottom" fmla="*/ 6015960 h 6324480"/>
            </a:gdLst>
            <a:ahLst/>
            <a:rect l="textAreaLeft" t="textAreaTop" r="textAreaRight" b="textAreaBottom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5270479"/>
                </a:lnTo>
                <a:lnTo>
                  <a:pt x="8686800" y="5270479"/>
                </a:lnTo>
                <a:arcTo wR="1054121" hR="1054121" stAng="0" swAng="5400003"/>
                <a:lnTo>
                  <a:pt x="0" y="6324600"/>
                </a:lnTo>
                <a:lnTo>
                  <a:pt x="0" y="1054121"/>
                </a:lnTo>
                <a:lnTo>
                  <a:pt x="0" y="1054121"/>
                </a:lnTo>
                <a:arcTo wR="1054121" hR="1054121" stAng="-10799997" swAng="5400003"/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Рисунок 12" descr="gat18122.jpg"/>
          <p:cNvPicPr/>
          <p:nvPr/>
        </p:nvPicPr>
        <p:blipFill>
          <a:blip r:embed="rId3"/>
          <a:stretch/>
        </p:blipFill>
        <p:spPr>
          <a:xfrm>
            <a:off x="6761160" y="4054320"/>
            <a:ext cx="1992240" cy="273708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4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7589-39AF-4E62-9178-6886547AD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Прямоугольник 3" descr=""/>
          <p:cNvPicPr/>
          <p:nvPr/>
        </p:nvPicPr>
        <p:blipFill>
          <a:blip r:embed="rId1"/>
          <a:stretch/>
        </p:blipFill>
        <p:spPr>
          <a:xfrm>
            <a:off x="469800" y="365040"/>
            <a:ext cx="8595000" cy="1079640"/>
          </a:xfrm>
          <a:prstGeom prst="rect">
            <a:avLst/>
          </a:prstGeom>
          <a:ln w="0">
            <a:noFill/>
          </a:ln>
        </p:spPr>
      </p:pic>
      <p:pic>
        <p:nvPicPr>
          <p:cNvPr id="487" name="Прямоугольник 4" descr=""/>
          <p:cNvPicPr/>
          <p:nvPr/>
        </p:nvPicPr>
        <p:blipFill>
          <a:blip r:embed="rId2"/>
          <a:stretch/>
        </p:blipFill>
        <p:spPr>
          <a:xfrm>
            <a:off x="450720" y="1762200"/>
            <a:ext cx="8394840" cy="1511280"/>
          </a:xfrm>
          <a:prstGeom prst="rect">
            <a:avLst/>
          </a:prstGeom>
          <a:ln w="0">
            <a:noFill/>
          </a:ln>
        </p:spPr>
      </p:pic>
      <p:pic>
        <p:nvPicPr>
          <p:cNvPr id="488" name="Прямоугольник 5" descr=""/>
          <p:cNvPicPr/>
          <p:nvPr/>
        </p:nvPicPr>
        <p:blipFill>
          <a:blip r:embed="rId3"/>
          <a:stretch/>
        </p:blipFill>
        <p:spPr>
          <a:xfrm>
            <a:off x="1968480" y="3346560"/>
            <a:ext cx="5962680" cy="1828800"/>
          </a:xfrm>
          <a:prstGeom prst="rect">
            <a:avLst/>
          </a:prstGeom>
          <a:ln w="0">
            <a:noFill/>
          </a:ln>
        </p:spPr>
      </p:pic>
      <p:pic>
        <p:nvPicPr>
          <p:cNvPr id="489" name="Прямоугольник 6" descr=""/>
          <p:cNvPicPr/>
          <p:nvPr/>
        </p:nvPicPr>
        <p:blipFill>
          <a:blip r:embed="rId4"/>
          <a:stretch/>
        </p:blipFill>
        <p:spPr>
          <a:xfrm>
            <a:off x="3986280" y="5718240"/>
            <a:ext cx="117612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Прямоугольник 2" descr=""/>
          <p:cNvPicPr/>
          <p:nvPr/>
        </p:nvPicPr>
        <p:blipFill>
          <a:blip r:embed="rId1"/>
          <a:stretch/>
        </p:blipFill>
        <p:spPr>
          <a:xfrm>
            <a:off x="347760" y="2054160"/>
            <a:ext cx="8272440" cy="1023840"/>
          </a:xfrm>
          <a:prstGeom prst="rect">
            <a:avLst/>
          </a:prstGeom>
          <a:ln w="0">
            <a:noFill/>
          </a:ln>
        </p:spPr>
      </p:pic>
      <p:pic>
        <p:nvPicPr>
          <p:cNvPr id="491" name="Прямоугольник 3" descr=""/>
          <p:cNvPicPr/>
          <p:nvPr/>
        </p:nvPicPr>
        <p:blipFill>
          <a:blip r:embed="rId2"/>
          <a:stretch/>
        </p:blipFill>
        <p:spPr>
          <a:xfrm>
            <a:off x="365040" y="3071880"/>
            <a:ext cx="8255160" cy="2305080"/>
          </a:xfrm>
          <a:prstGeom prst="rect">
            <a:avLst/>
          </a:prstGeom>
          <a:ln w="0">
            <a:noFill/>
          </a:ln>
        </p:spPr>
      </p:pic>
      <p:pic>
        <p:nvPicPr>
          <p:cNvPr id="492" name="Прямоугольник 4" descr=""/>
          <p:cNvPicPr/>
          <p:nvPr/>
        </p:nvPicPr>
        <p:blipFill>
          <a:blip r:embed="rId3"/>
          <a:stretch/>
        </p:blipFill>
        <p:spPr>
          <a:xfrm>
            <a:off x="384120" y="1316160"/>
            <a:ext cx="8236080" cy="70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Прямоугольник 3" descr=""/>
          <p:cNvPicPr/>
          <p:nvPr/>
        </p:nvPicPr>
        <p:blipFill>
          <a:blip r:embed="rId1"/>
          <a:stretch/>
        </p:blipFill>
        <p:spPr>
          <a:xfrm>
            <a:off x="384120" y="237960"/>
            <a:ext cx="8332920" cy="2224080"/>
          </a:xfrm>
          <a:prstGeom prst="rect">
            <a:avLst/>
          </a:prstGeom>
          <a:ln w="0">
            <a:noFill/>
          </a:ln>
        </p:spPr>
      </p:pic>
      <p:pic>
        <p:nvPicPr>
          <p:cNvPr id="494" name="Прямоугольник 2" descr=""/>
          <p:cNvPicPr/>
          <p:nvPr/>
        </p:nvPicPr>
        <p:blipFill>
          <a:blip r:embed="rId2"/>
          <a:stretch/>
        </p:blipFill>
        <p:spPr>
          <a:xfrm>
            <a:off x="249120" y="2077920"/>
            <a:ext cx="8675640" cy="1414440"/>
          </a:xfrm>
          <a:prstGeom prst="rect">
            <a:avLst/>
          </a:prstGeom>
          <a:ln w="0">
            <a:noFill/>
          </a:ln>
        </p:spPr>
      </p:pic>
      <p:pic>
        <p:nvPicPr>
          <p:cNvPr id="495" name="Прямоугольник 4" descr=""/>
          <p:cNvPicPr/>
          <p:nvPr/>
        </p:nvPicPr>
        <p:blipFill>
          <a:blip r:embed="rId3"/>
          <a:stretch/>
        </p:blipFill>
        <p:spPr>
          <a:xfrm>
            <a:off x="152280" y="3376440"/>
            <a:ext cx="87966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Прямоугольник 3" descr=""/>
          <p:cNvPicPr/>
          <p:nvPr/>
        </p:nvPicPr>
        <p:blipFill>
          <a:blip r:embed="rId1"/>
          <a:stretch/>
        </p:blipFill>
        <p:spPr>
          <a:xfrm>
            <a:off x="152280" y="176040"/>
            <a:ext cx="8796600" cy="2646360"/>
          </a:xfrm>
          <a:prstGeom prst="rect">
            <a:avLst/>
          </a:prstGeom>
          <a:ln w="0">
            <a:noFill/>
          </a:ln>
        </p:spPr>
      </p:pic>
      <p:pic>
        <p:nvPicPr>
          <p:cNvPr id="497" name="Прямоугольник 4" descr=""/>
          <p:cNvPicPr/>
          <p:nvPr/>
        </p:nvPicPr>
        <p:blipFill>
          <a:blip r:embed="rId2"/>
          <a:stretch/>
        </p:blipFill>
        <p:spPr>
          <a:xfrm>
            <a:off x="152280" y="3144960"/>
            <a:ext cx="8820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Прямоугольник 2" descr=""/>
          <p:cNvPicPr/>
          <p:nvPr/>
        </p:nvPicPr>
        <p:blipFill>
          <a:blip r:embed="rId1"/>
          <a:stretch/>
        </p:blipFill>
        <p:spPr>
          <a:xfrm>
            <a:off x="219240" y="401760"/>
            <a:ext cx="870552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B-Group</cp:lastModifiedBy>
  <dcterms:modified xsi:type="dcterms:W3CDTF">2018-05-01T09:30:50Z</dcterms:modified>
  <cp:revision>71</cp:revision>
  <dc:subject/>
  <dc:title>Слайд 1</dc:title>
</cp:coreProperties>
</file>