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68C2-6EE0-4B46-A4A4-9C52B65DF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FCA4-A6BB-4102-9B09-4F79E2CCA0F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028313-8EA9-483B-ACFC-E2C6974A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759114-2DBD-478A-B537-51ACB860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B89C21-DBDA-4BD6-89BE-BB6A8A90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257AE-7921-4036-884F-6C6A0AF7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C4B1F2-EFF6-4DFB-A8D0-C467F6B2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54A2BD-4A25-490B-BA16-A930ADA2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CCD71C-D193-4DDE-B59D-F791D45B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FF0F22-902E-4C45-92F4-B4683078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0E2D41-ADDA-44A2-9756-68A798EC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A6F5D3-BC2B-4522-92CC-82E6647B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F134-F3CB-4951-A546-A93B18461FF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72E480-A7D5-44C5-B7D5-B9A82967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0B5CC7-B256-4F07-8ADD-39265468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B53D0C-3AB2-4F6E-9FAE-466B1680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F1B3EC-EF84-4DB7-A8A4-26EF31A7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126678-2AD6-4FBF-8352-E7663BCB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1A28E5-04A5-49AC-97B7-AD5940D7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662CA4-E695-489E-B9EA-46FFEF33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EAEF3A-5A4C-47CA-A5C9-1E84DA33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3A4334-480F-4216-BD13-AEB88579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9CB6FA-4FC8-4B2E-8129-A11F0B15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69A1-B2A2-4396-8399-6F2BB466211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C9A415-CC3A-410F-A1CA-85384EC4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11A65D-5041-4DF0-B427-CEC493AE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17C2BA-98A4-459C-A593-39CFA5D5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137D60-642E-40EA-8AB0-13B3C983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80821B-1929-4275-BBA2-6E93208E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F97B5E-26D5-4D50-8AC6-B4A6907F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C4F8E8-4AE0-4DAF-B5C3-16503371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AB9B50-C030-48DD-8FFE-7B16015E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97A9B6-E135-4EAB-8695-E4B4248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8C7A70-86D3-48E9-8668-1AA81DD2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4B90F-D2F8-43A6-A551-3DB066D1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0BD629-0E8D-4E44-B4B6-FD49E78B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D486A7-EA4F-4202-9863-DC31A766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1FFEFF-0BBB-4BBA-9FBE-0B49DD5B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37C9E-E74A-47AA-B1D3-3B0B6378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F8879-333F-4750-995D-A7CB414F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8BF04-6C8F-4728-ACB4-8959865D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E023A-B69C-4FFB-8493-50C13047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9C011-EC29-4AEA-B9E2-4F6FF753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7B3E5-C3D2-4BEF-8CA5-3C7A15B3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47EB-08CE-40EC-B004-7DCB6EB19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883CC-A632-45F3-AB58-878FC3DA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A9BED-6720-43CD-A354-E42B57C0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76A7A-4E7A-43D2-AFBE-B19289D4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61A0E-FF49-412A-A6DA-47C49B03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B3FC3-E7E9-44FF-B2E6-1B380A9B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17691-B386-49EC-92F1-1030DAEF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79A6E-1AB7-49A5-B80D-4AF0A45B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7C4F6-31C3-44FF-B11C-7C5ECDC7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80F84-9B8E-4596-9E04-A71DF8AF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AF1F2-46D9-4A03-8F32-FCE6050E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4681-6B98-4C87-9C23-374C9BDCAF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92E35-3771-48C2-80C3-F5C4D248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EA362-86E1-4881-953C-5722A35E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0A5E0-AA25-45F8-BAE1-86521528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AA5B1-4D11-41FB-9F15-B484AE86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91224-E19D-4D33-AF2D-54092BE6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989E1-3405-4D3F-9E2A-BEC3958B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7536E-83C8-41B0-81D9-642A1C2B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EBA62-CBA6-4D4C-916D-E053236D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009E6-47E8-44B0-9ADD-A9872618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96E13-5821-4CBC-9B0E-07CB4C5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898B-8022-496D-907B-3B5F7EE7B3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8B945-9B73-483E-89D0-1660138F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7D726-B213-4DF5-B20A-5C0693CB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779B1-6629-454C-B166-009A0206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3E82F-DDD4-4174-A66A-D243C99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637C9-0F3A-4767-A7D9-2ECA90AA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E6A66-3B7B-4387-BF12-520765D0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3C89E-A05F-42A5-8248-7346FD93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BC818-CE99-4762-A089-5BAB1C2F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4713B-BB0D-4CF3-BF3B-3E119542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3FDE9-A108-466E-A0FB-6227EF23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180A-3C26-47E2-B22C-275A7C5FA4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DB397-1B1B-4A9B-9AF6-A76EC881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30061-BE1A-43EC-ADED-3C93DB18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9E2CE-5FA6-4D08-97AC-E3B6DB84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A1FC6-6A60-4168-85C5-CB71318F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D6306-11DB-488A-AABC-3BF93564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F300C-073A-4B51-A047-7D80BAD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99AE2-4770-4DED-819C-6BCD10A8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3C248-F812-4F29-9B1C-3F91894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2A6B8-640C-4FC5-AD5E-9A8F7E5A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C28E0-9391-4C90-828B-721974BB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2E0B-433E-41E3-9403-DFE8F12A951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195B6-35EB-4226-BFBF-3CAE0C1C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44AE9-2E2B-41D0-A870-F2E1F648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D95A5-2565-4EDD-8216-FD45C78E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505AD-36C4-499C-90CF-4980E5DC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B87A2-77D1-4AE7-8E2D-38B8F129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18E26-A7EC-45EB-8A27-7E7B1985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F3B1B-661B-4741-AAAF-84405085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70E24-BE87-43D2-8199-FD390A5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05089-7897-4CF7-A5B1-5032EF50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9B3E1-99A2-4EE0-BAE4-0ACCDB8E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7034-A945-4391-89B3-8CD051C916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6F699-3DB3-437E-8B9A-3743BB4C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7CA62-4C17-40F9-8A32-1DC92054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0D0ED-1685-42D8-A2CA-DC6B1EC1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78863-8CC2-44A9-B258-FBBBCA28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70384-E9D1-4788-AE7B-B013FB3A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C3ECA-BBB7-4076-88B1-E48DF803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118A2-6A00-49FE-9430-08BB2842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A5429-3327-4777-9AB2-B3BDB38B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60D05-6D10-4CFF-8A70-576CBD3E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172BB-B8B0-4406-BFE2-460D6756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75E0-1E54-44D6-9EA6-DE91278E7B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9B4EC-B0AB-4E90-895D-1169CBED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220E4-E961-4C3C-9EB1-EE038760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CD28A-4291-4857-B0A2-46531868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3065D-89FD-4B20-B32B-A75AA498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BCB1D-9622-489C-A24A-950B8626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5369BE-83FE-4B9C-977E-C8EA3C44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A250D3-E867-4F53-A106-AB075D5D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7BC108-BC45-499D-AB09-6A76A33F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6EA9EA-99EB-432A-87E8-AC9C3EB0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4FC619-457E-43B7-A1E2-933AD020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1615-1684-4E0F-B204-D466B14760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6E5467-944E-4797-B804-DE72BF58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AE5375-FF72-4DE5-943A-246EC3CD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16E0C4-45BC-4F6A-AF88-F651252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CCCDF4-C340-4EE4-B810-F653E7C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92DB2F-C82C-4DF0-A0AB-EBD8E9DC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1B0625-0DA3-442C-90F3-7CE55BC4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3C08DD-6A29-4568-893E-BF90E398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387D3E-13E3-430A-92EE-79027FF8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B73E18-8A17-45B6-ABCA-E95E8A2A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134998-C126-470E-9621-8B0F055F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2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5ADB-EE37-42DD-A1A8-F7D2F0761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26B0-272C-491C-B9B9-3FC228970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0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DB76-F774-456E-BF2E-3E6D669BF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9" descr="63599134nj4.jpg"/>
          <p:cNvPicPr/>
          <p:nvPr/>
        </p:nvPicPr>
        <p:blipFill>
          <a:blip r:embed="rId4"/>
          <a:srcRect l="1260" t="2501" r="8189" b="8337"/>
          <a:stretch/>
        </p:blipFill>
        <p:spPr>
          <a:xfrm>
            <a:off x="380880" y="4378320"/>
            <a:ext cx="1371600" cy="2041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0"/>
          <p:cNvSpPr/>
          <p:nvPr/>
        </p:nvSpPr>
        <p:spPr>
          <a:xfrm>
            <a:off x="2286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7A6F-CA88-4AAA-B68F-523D38E0C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57099343_leybgvardii_Egerskiy_polk.jpg"/>
          <p:cNvPicPr/>
          <p:nvPr/>
        </p:nvPicPr>
        <p:blipFill>
          <a:blip r:embed="rId4"/>
          <a:stretch/>
        </p:blipFill>
        <p:spPr>
          <a:xfrm>
            <a:off x="304920" y="4341960"/>
            <a:ext cx="1523880" cy="2023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DB25-926F-4209-BA85-D5983061B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BB58-94A8-458F-9CFC-4120EBC69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2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9128-A041-4BD1-A720-D636B1BA3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5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9550-9C73-4BD6-A533-EBC20CC86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9C97-042D-46DD-A540-7D6ED5C17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1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6A59-9807-4479-BBE0-E772C62FD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4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5481-F44D-4573-8C75-04240E00B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365040"/>
            <a:ext cx="8595000" cy="1079640"/>
          </a:xfrm>
          <a:prstGeom prst="rect">
            <a:avLst/>
          </a:prstGeom>
          <a:ln w="0">
            <a:noFill/>
          </a:ln>
        </p:spPr>
      </p:pic>
      <p:pic>
        <p:nvPicPr>
          <p:cNvPr id="487" name="Прямоугольник 4" descr=""/>
          <p:cNvPicPr/>
          <p:nvPr/>
        </p:nvPicPr>
        <p:blipFill>
          <a:blip r:embed="rId2"/>
          <a:stretch/>
        </p:blipFill>
        <p:spPr>
          <a:xfrm>
            <a:off x="450720" y="1762200"/>
            <a:ext cx="8394840" cy="1511280"/>
          </a:xfrm>
          <a:prstGeom prst="rect">
            <a:avLst/>
          </a:prstGeom>
          <a:ln w="0">
            <a:noFill/>
          </a:ln>
        </p:spPr>
      </p:pic>
      <p:pic>
        <p:nvPicPr>
          <p:cNvPr id="488" name="Прямоугольник 5" descr=""/>
          <p:cNvPicPr/>
          <p:nvPr/>
        </p:nvPicPr>
        <p:blipFill>
          <a:blip r:embed="rId3"/>
          <a:stretch/>
        </p:blipFill>
        <p:spPr>
          <a:xfrm>
            <a:off x="1968480" y="3346560"/>
            <a:ext cx="5962680" cy="1828800"/>
          </a:xfrm>
          <a:prstGeom prst="rect">
            <a:avLst/>
          </a:prstGeom>
          <a:ln w="0">
            <a:noFill/>
          </a:ln>
        </p:spPr>
      </p:pic>
      <p:pic>
        <p:nvPicPr>
          <p:cNvPr id="489" name="Прямоугольник 6" descr=""/>
          <p:cNvPicPr/>
          <p:nvPr/>
        </p:nvPicPr>
        <p:blipFill>
          <a:blip r:embed="rId4"/>
          <a:stretch/>
        </p:blipFill>
        <p:spPr>
          <a:xfrm>
            <a:off x="3986280" y="5718240"/>
            <a:ext cx="117612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Прямоугольник 2" descr=""/>
          <p:cNvPicPr/>
          <p:nvPr/>
        </p:nvPicPr>
        <p:blipFill>
          <a:blip r:embed="rId1"/>
          <a:stretch/>
        </p:blipFill>
        <p:spPr>
          <a:xfrm>
            <a:off x="347760" y="2054160"/>
            <a:ext cx="8272440" cy="1023840"/>
          </a:xfrm>
          <a:prstGeom prst="rect">
            <a:avLst/>
          </a:prstGeom>
          <a:ln w="0">
            <a:noFill/>
          </a:ln>
        </p:spPr>
      </p:pic>
      <p:pic>
        <p:nvPicPr>
          <p:cNvPr id="491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3071880"/>
            <a:ext cx="8255160" cy="2305080"/>
          </a:xfrm>
          <a:prstGeom prst="rect">
            <a:avLst/>
          </a:prstGeom>
          <a:ln w="0">
            <a:noFill/>
          </a:ln>
        </p:spPr>
      </p:pic>
      <p:pic>
        <p:nvPicPr>
          <p:cNvPr id="492" name="Прямоугольник 4" descr=""/>
          <p:cNvPicPr/>
          <p:nvPr/>
        </p:nvPicPr>
        <p:blipFill>
          <a:blip r:embed="rId3"/>
          <a:stretch/>
        </p:blipFill>
        <p:spPr>
          <a:xfrm>
            <a:off x="384120" y="1316160"/>
            <a:ext cx="823608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Прямоугольник 3" descr=""/>
          <p:cNvPicPr/>
          <p:nvPr/>
        </p:nvPicPr>
        <p:blipFill>
          <a:blip r:embed="rId1"/>
          <a:stretch/>
        </p:blipFill>
        <p:spPr>
          <a:xfrm>
            <a:off x="384120" y="237960"/>
            <a:ext cx="8332920" cy="2224080"/>
          </a:xfrm>
          <a:prstGeom prst="rect">
            <a:avLst/>
          </a:prstGeom>
          <a:ln w="0">
            <a:noFill/>
          </a:ln>
        </p:spPr>
      </p:pic>
      <p:pic>
        <p:nvPicPr>
          <p:cNvPr id="494" name="Прямоугольник 2" descr=""/>
          <p:cNvPicPr/>
          <p:nvPr/>
        </p:nvPicPr>
        <p:blipFill>
          <a:blip r:embed="rId2"/>
          <a:stretch/>
        </p:blipFill>
        <p:spPr>
          <a:xfrm>
            <a:off x="249120" y="2077920"/>
            <a:ext cx="8675640" cy="1414440"/>
          </a:xfrm>
          <a:prstGeom prst="rect">
            <a:avLst/>
          </a:prstGeom>
          <a:ln w="0">
            <a:noFill/>
          </a:ln>
        </p:spPr>
      </p:pic>
      <p:pic>
        <p:nvPicPr>
          <p:cNvPr id="495" name="Прямоугольник 4" descr=""/>
          <p:cNvPicPr/>
          <p:nvPr/>
        </p:nvPicPr>
        <p:blipFill>
          <a:blip r:embed="rId3"/>
          <a:stretch/>
        </p:blipFill>
        <p:spPr>
          <a:xfrm>
            <a:off x="152280" y="3376440"/>
            <a:ext cx="87966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Прямоугольник 3" descr=""/>
          <p:cNvPicPr/>
          <p:nvPr/>
        </p:nvPicPr>
        <p:blipFill>
          <a:blip r:embed="rId1"/>
          <a:stretch/>
        </p:blipFill>
        <p:spPr>
          <a:xfrm>
            <a:off x="152280" y="176040"/>
            <a:ext cx="8796600" cy="2646360"/>
          </a:xfrm>
          <a:prstGeom prst="rect">
            <a:avLst/>
          </a:prstGeom>
          <a:ln w="0">
            <a:noFill/>
          </a:ln>
        </p:spPr>
      </p:pic>
      <p:pic>
        <p:nvPicPr>
          <p:cNvPr id="497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3144960"/>
            <a:ext cx="8820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Прямоугольник 2" descr=""/>
          <p:cNvPicPr/>
          <p:nvPr/>
        </p:nvPicPr>
        <p:blipFill>
          <a:blip r:embed="rId1"/>
          <a:stretch/>
        </p:blipFill>
        <p:spPr>
          <a:xfrm>
            <a:off x="219240" y="401760"/>
            <a:ext cx="87055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-Group</cp:lastModifiedBy>
  <dcterms:modified xsi:type="dcterms:W3CDTF">2018-05-01T09:30:50Z</dcterms:modified>
  <cp:revision>71</cp:revision>
  <dc:subject/>
  <dc:title>Слайд 1</dc:title>
</cp:coreProperties>
</file>