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19426b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B64E48-7E73-4E58-9336-AE57B2263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57266D-03C3-42F3-B4FB-46A3EF26C63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CBF-3AC2-4B4C-9076-4BB95B12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106-9868-42A3-8B60-F7AEBC6B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114-0DB9-4D77-AB31-EA1ED25F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0D6-8E45-4BCC-8C77-4520A3C0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CD8-AE23-4B61-88D7-3FD91120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57D7-52D8-47F1-8DDD-E27B16E4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B84-9CB0-44D3-82E5-B62964E8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5729-39E8-4810-8918-38941051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42B5-2473-46FC-BFBD-7A78CF0E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124080" y="762120"/>
            <a:ext cx="57146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9A71-147A-449C-A65A-66986B2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317B-34CD-458A-8EFF-28E094C8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652-6B52-45C7-85F7-77B3F704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84DC-0D29-4921-9078-7EC5628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3E9D-A3B6-4D76-877A-6A4F5392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55A9-FD23-4FC9-87F8-82A7B1B8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379B-5984-4B60-88AD-9FE331E1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297-5F42-4320-B792-311515A5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8314-31A1-4BE9-A3C5-D205D939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6E90-022B-4895-A43B-FA22EDE0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8205-BFFE-48F2-9220-43FD663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A289C-5B23-42D2-A7AA-D5D94A29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A5AC-C67E-4824-935E-CC4D53B9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679-746E-4A5C-8DA1-3EBD8E19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124080" y="762120"/>
            <a:ext cx="57146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52D8-986D-4F16-BE43-B64F9669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FD73-A488-4B3E-8151-B426CB85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03EB-1D1A-47C0-B457-73C098D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5C8C-7D30-43CB-8B5E-0F2792E4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624C-F5ED-4F7B-92B2-0318BFC7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5BFC-16ED-4E8D-8A87-B6D96972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2F816-9B64-4ACD-ACFD-9CCB94C4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566-7FF5-4713-AFD4-5B5AD518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94B-1A9A-46D6-A8DF-3C4763A2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124080" y="762120"/>
            <a:ext cx="57146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DDD-28C8-4293-97F5-665AC9B2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ECF-2283-458A-88BF-44473C51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288-2876-464A-9FC1-DAE0119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44F-66E1-47EE-BDD6-90DD311D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 hidden="1"/>
          <p:cNvSpPr/>
          <p:nvPr/>
        </p:nvSpPr>
        <p:spPr>
          <a:xfrm>
            <a:off x="0" y="798480"/>
            <a:ext cx="9143640" cy="31248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" name="Rectangle 16" hidden="1"/>
          <p:cNvSpPr/>
          <p:nvPr/>
        </p:nvSpPr>
        <p:spPr>
          <a:xfrm>
            <a:off x="0" y="0"/>
            <a:ext cx="9143640" cy="8362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" name="Group 17"/>
          <p:cNvGrpSpPr/>
          <p:nvPr/>
        </p:nvGrpSpPr>
        <p:grpSpPr>
          <a:xfrm>
            <a:off x="7308720" y="189000"/>
            <a:ext cx="1665000" cy="1512360"/>
            <a:chOff x="7308720" y="189000"/>
            <a:chExt cx="1665000" cy="1512360"/>
          </a:xfrm>
        </p:grpSpPr>
        <p:sp>
          <p:nvSpPr>
            <p:cNvPr id="3" name="Oval 18"/>
            <p:cNvSpPr/>
            <p:nvPr/>
          </p:nvSpPr>
          <p:spPr>
            <a:xfrm>
              <a:off x="7812000" y="1341360"/>
              <a:ext cx="1161720" cy="36000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7308720" y="189000"/>
              <a:ext cx="1479240" cy="144576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  <a:effectLst>
              <a:outerShdw algn="ctr" dir="2212193" dist="63000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" name="Freeform 20"/>
            <p:cNvSpPr/>
            <p:nvPr/>
          </p:nvSpPr>
          <p:spPr>
            <a:xfrm>
              <a:off x="8059680" y="446040"/>
              <a:ext cx="676080" cy="9331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" name="Freeform 21"/>
            <p:cNvSpPr/>
            <p:nvPr/>
          </p:nvSpPr>
          <p:spPr>
            <a:xfrm>
              <a:off x="7586640" y="228600"/>
              <a:ext cx="907560" cy="659880"/>
            </a:xfrm>
            <a:custGeom>
              <a:avLst/>
              <a:gdLst>
                <a:gd name="textAreaLeft" fmla="*/ 0 w 907560"/>
                <a:gd name="textAreaRight" fmla="*/ 907920 w 90756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7" name="Freeform 22"/>
            <p:cNvSpPr/>
            <p:nvPr/>
          </p:nvSpPr>
          <p:spPr>
            <a:xfrm>
              <a:off x="7348680" y="453960"/>
              <a:ext cx="664920" cy="90756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8" name="Freeform 23"/>
            <p:cNvSpPr/>
            <p:nvPr/>
          </p:nvSpPr>
          <p:spPr>
            <a:xfrm>
              <a:off x="7572240" y="928800"/>
              <a:ext cx="936360" cy="66312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9" name="Oval 24"/>
            <p:cNvSpPr/>
            <p:nvPr/>
          </p:nvSpPr>
          <p:spPr>
            <a:xfrm>
              <a:off x="7800840" y="695160"/>
              <a:ext cx="522000" cy="49644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0" name="Rectangle 24"/>
          <p:cNvSpPr/>
          <p:nvPr/>
        </p:nvSpPr>
        <p:spPr>
          <a:xfrm>
            <a:off x="0" y="3527280"/>
            <a:ext cx="9143640" cy="335736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" name="Oval 25"/>
          <p:cNvSpPr/>
          <p:nvPr/>
        </p:nvSpPr>
        <p:spPr>
          <a:xfrm>
            <a:off x="1258920" y="4508640"/>
            <a:ext cx="4247640" cy="180000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1a3f5c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457200" y="6486480"/>
            <a:ext cx="213336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3124080" y="64864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6553080" y="6486480"/>
            <a:ext cx="213336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183E2A-7945-4DCA-90C5-0ADB969EF4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0" y="3141720"/>
            <a:ext cx="9143640" cy="431280"/>
          </a:xfrm>
          <a:prstGeom prst="rect">
            <a:avLst/>
          </a:prstGeom>
          <a:solidFill>
            <a:schemeClr val="tx1"/>
          </a:solidFill>
          <a:ln w="9525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6" name="Oval 18"/>
          <p:cNvSpPr/>
          <p:nvPr/>
        </p:nvSpPr>
        <p:spPr>
          <a:xfrm>
            <a:off x="276120" y="1255680"/>
            <a:ext cx="4655880" cy="4836600"/>
          </a:xfrm>
          <a:prstGeom prst="ellipse">
            <a:avLst/>
          </a:prstGeom>
          <a:solidFill>
            <a:schemeClr val="bg1"/>
          </a:solidFill>
          <a:ln w="9525">
            <a:noFill/>
          </a:ln>
          <a:effectLst>
            <a:outerShdw algn="ctr" dir="3239411" dist="172675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" name="Freeform 20"/>
          <p:cNvSpPr/>
          <p:nvPr/>
        </p:nvSpPr>
        <p:spPr>
          <a:xfrm>
            <a:off x="1130400" y="1415880"/>
            <a:ext cx="2873160" cy="2182320"/>
          </a:xfrm>
          <a:custGeom>
            <a:avLst/>
            <a:gdLst>
              <a:gd name="textAreaLeft" fmla="*/ 0 w 2873160"/>
              <a:gd name="textAreaRight" fmla="*/ 2873520 w 2873160"/>
              <a:gd name="textAreaTop" fmla="*/ 0 h 2182320"/>
              <a:gd name="textAreaBottom" fmla="*/ 2182680 h 2182320"/>
            </a:gdLst>
            <a:ahLst/>
            <a:rect l="textAreaLeft" t="textAreaTop" r="textAreaRight" b="textAreaBottom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8" name="Freeform 21"/>
          <p:cNvSpPr/>
          <p:nvPr/>
        </p:nvSpPr>
        <p:spPr>
          <a:xfrm>
            <a:off x="376200" y="2147760"/>
            <a:ext cx="2103120" cy="3031920"/>
          </a:xfrm>
          <a:custGeom>
            <a:avLst/>
            <a:gdLst>
              <a:gd name="textAreaLeft" fmla="*/ 0 w 2103120"/>
              <a:gd name="textAreaRight" fmla="*/ 2103480 w 2103120"/>
              <a:gd name="textAreaTop" fmla="*/ 0 h 3031920"/>
              <a:gd name="textAreaBottom" fmla="*/ 3032280 h 3031920"/>
            </a:gdLst>
            <a:ahLst/>
            <a:rect l="textAreaLeft" t="textAreaTop" r="textAreaRight" b="textAreaBottom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" name="Freeform 22"/>
          <p:cNvSpPr/>
          <p:nvPr/>
        </p:nvSpPr>
        <p:spPr>
          <a:xfrm>
            <a:off x="1085760" y="3730680"/>
            <a:ext cx="2962080" cy="2219040"/>
          </a:xfrm>
          <a:custGeom>
            <a:avLst/>
            <a:gdLst>
              <a:gd name="textAreaLeft" fmla="*/ 0 w 2962080"/>
              <a:gd name="textAreaRight" fmla="*/ 2962440 w 2962080"/>
              <a:gd name="textAreaTop" fmla="*/ 0 h 2219040"/>
              <a:gd name="textAreaBottom" fmla="*/ 2219400 h 2219040"/>
            </a:gdLst>
            <a:ahLst/>
            <a:rect l="textAreaLeft" t="textAreaTop" r="textAreaRight" b="textAreaBottom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9426b"/>
                </a:solidFill>
                <a:latin typeface="Verdana"/>
              </a:rPr>
              <a:t>Образец заголовка</a:t>
            </a:r>
            <a:endParaRPr b="0" lang="en-US" sz="4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" name="Freeform 19"/>
          <p:cNvSpPr/>
          <p:nvPr/>
        </p:nvSpPr>
        <p:spPr>
          <a:xfrm>
            <a:off x="2625840" y="2119320"/>
            <a:ext cx="2139480" cy="3115800"/>
          </a:xfrm>
          <a:custGeom>
            <a:avLst/>
            <a:gdLst>
              <a:gd name="textAreaLeft" fmla="*/ 0 w 2139480"/>
              <a:gd name="textAreaRight" fmla="*/ 2139840 w 2139480"/>
              <a:gd name="textAreaTop" fmla="*/ 0 h 3115800"/>
              <a:gd name="textAreaBottom" fmla="*/ 3116160 h 3115800"/>
            </a:gdLst>
            <a:ahLst/>
            <a:rect l="textAreaLeft" t="textAreaTop" r="textAreaRight" b="textAreaBottom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806480" y="2954160"/>
            <a:ext cx="1655280" cy="1655280"/>
          </a:xfrm>
          <a:prstGeom prst="ellipse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" name="Text Box 14"/>
          <p:cNvSpPr/>
          <p:nvPr/>
        </p:nvSpPr>
        <p:spPr>
          <a:xfrm>
            <a:off x="1981080" y="3505320"/>
            <a:ext cx="13078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19426b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5"/>
          <p:cNvSpPr/>
          <p:nvPr/>
        </p:nvSpPr>
        <p:spPr>
          <a:xfrm>
            <a:off x="0" y="798480"/>
            <a:ext cx="9143640" cy="31248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0" y="0"/>
            <a:ext cx="9143640" cy="8362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63" name="Group 17"/>
          <p:cNvGrpSpPr/>
          <p:nvPr/>
        </p:nvGrpSpPr>
        <p:grpSpPr>
          <a:xfrm>
            <a:off x="7308720" y="189000"/>
            <a:ext cx="1665000" cy="1512360"/>
            <a:chOff x="7308720" y="189000"/>
            <a:chExt cx="1665000" cy="1512360"/>
          </a:xfrm>
        </p:grpSpPr>
        <p:sp>
          <p:nvSpPr>
            <p:cNvPr id="64" name="Oval 18"/>
            <p:cNvSpPr/>
            <p:nvPr/>
          </p:nvSpPr>
          <p:spPr>
            <a:xfrm>
              <a:off x="7812000" y="1341360"/>
              <a:ext cx="1161720" cy="36000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7308720" y="189000"/>
              <a:ext cx="1479240" cy="144576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  <a:effectLst>
              <a:outerShdw algn="ctr" dir="2212193" dist="63000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059680" y="446040"/>
              <a:ext cx="676080" cy="9331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586640" y="228600"/>
              <a:ext cx="907560" cy="659880"/>
            </a:xfrm>
            <a:custGeom>
              <a:avLst/>
              <a:gdLst>
                <a:gd name="textAreaLeft" fmla="*/ 0 w 907560"/>
                <a:gd name="textAreaRight" fmla="*/ 907920 w 90756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7348680" y="453960"/>
              <a:ext cx="664920" cy="90756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572240" y="928800"/>
              <a:ext cx="936360" cy="66312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70" name="Oval 24"/>
            <p:cNvSpPr/>
            <p:nvPr/>
          </p:nvSpPr>
          <p:spPr>
            <a:xfrm>
              <a:off x="7800840" y="695160"/>
              <a:ext cx="522000" cy="49644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4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Образец текста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380880" y="838080"/>
            <a:ext cx="5943240" cy="253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6324480" y="6564240"/>
            <a:ext cx="23619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124080" y="6553080"/>
            <a:ext cx="2133360" cy="23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9426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EE99C4-8F8B-4DEF-9AD0-54E3B53A63CF}" type="slidenum">
              <a:rPr b="0" lang="en-US" sz="1400" spc="-1" strike="noStrike">
                <a:solidFill>
                  <a:srgbClr val="19426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5"/>
          <p:cNvSpPr/>
          <p:nvPr/>
        </p:nvSpPr>
        <p:spPr>
          <a:xfrm>
            <a:off x="0" y="798480"/>
            <a:ext cx="9143640" cy="31248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0" y="0"/>
            <a:ext cx="9143640" cy="8362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14" name="Group 17"/>
          <p:cNvGrpSpPr/>
          <p:nvPr/>
        </p:nvGrpSpPr>
        <p:grpSpPr>
          <a:xfrm>
            <a:off x="7308720" y="189000"/>
            <a:ext cx="1665000" cy="1512360"/>
            <a:chOff x="7308720" y="189000"/>
            <a:chExt cx="1665000" cy="1512360"/>
          </a:xfrm>
        </p:grpSpPr>
        <p:sp>
          <p:nvSpPr>
            <p:cNvPr id="115" name="Oval 18"/>
            <p:cNvSpPr/>
            <p:nvPr/>
          </p:nvSpPr>
          <p:spPr>
            <a:xfrm>
              <a:off x="7812000" y="1341360"/>
              <a:ext cx="1161720" cy="36000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6" name="Oval 19"/>
            <p:cNvSpPr/>
            <p:nvPr/>
          </p:nvSpPr>
          <p:spPr>
            <a:xfrm>
              <a:off x="7308720" y="189000"/>
              <a:ext cx="1479240" cy="144576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  <a:effectLst>
              <a:outerShdw algn="ctr" dir="2212193" dist="63000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7" name="Freeform 20"/>
            <p:cNvSpPr/>
            <p:nvPr/>
          </p:nvSpPr>
          <p:spPr>
            <a:xfrm>
              <a:off x="8059680" y="446040"/>
              <a:ext cx="676080" cy="9331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8" name="Freeform 21"/>
            <p:cNvSpPr/>
            <p:nvPr/>
          </p:nvSpPr>
          <p:spPr>
            <a:xfrm>
              <a:off x="7586640" y="228600"/>
              <a:ext cx="907560" cy="659880"/>
            </a:xfrm>
            <a:custGeom>
              <a:avLst/>
              <a:gdLst>
                <a:gd name="textAreaLeft" fmla="*/ 0 w 907560"/>
                <a:gd name="textAreaRight" fmla="*/ 907920 w 90756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9" name="Freeform 22"/>
            <p:cNvSpPr/>
            <p:nvPr/>
          </p:nvSpPr>
          <p:spPr>
            <a:xfrm>
              <a:off x="7348680" y="453960"/>
              <a:ext cx="664920" cy="90756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0" name="Freeform 23"/>
            <p:cNvSpPr/>
            <p:nvPr/>
          </p:nvSpPr>
          <p:spPr>
            <a:xfrm>
              <a:off x="7572240" y="928800"/>
              <a:ext cx="936360" cy="66312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1" name="Oval 24"/>
            <p:cNvSpPr/>
            <p:nvPr/>
          </p:nvSpPr>
          <p:spPr>
            <a:xfrm>
              <a:off x="7800840" y="695160"/>
              <a:ext cx="522000" cy="49644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241280"/>
            <a:ext cx="8229240" cy="524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bbc00"/>
              </a:buClr>
              <a:buFont typeface="Wingdings" charset="2"/>
              <a:buChar char=""/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Образец текста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5c9c2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19426b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19426b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19426b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19426b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19426b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19426b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19426b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80880" y="838080"/>
            <a:ext cx="5943240" cy="253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6324480" y="6564240"/>
            <a:ext cx="23619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124080" y="6553080"/>
            <a:ext cx="2133360" cy="23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9426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C34A92-68BA-416E-9864-8D2D9EA06E79}" type="slidenum">
              <a:rPr b="0" lang="en-US" sz="1400" spc="-1" strike="noStrike">
                <a:solidFill>
                  <a:srgbClr val="19426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86040" y="762120"/>
            <a:ext cx="605268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/>
                </a:solidFill>
                <a:latin typeface="Verdana"/>
              </a:rPr>
              <a:t>Использование межпредметных связей на уроках географии и английского языка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343400" y="3178080"/>
            <a:ext cx="457164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6572160" y="6000840"/>
            <a:ext cx="431280" cy="43128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204f71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8538120" y="5958000"/>
            <a:ext cx="240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2000160" y="3571920"/>
            <a:ext cx="1285560" cy="571320"/>
          </a:xfrm>
          <a:prstGeom prst="rect">
            <a:avLst/>
          </a:prstGeom>
          <a:solidFill>
            <a:srgbClr val="ffff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7 класс М.З. Биболетова «Английский с удовольствием»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aphicFrame>
        <p:nvGraphicFramePr>
          <p:cNvPr id="247" name="Содержимое 5"/>
          <p:cNvGraphicFramePr/>
          <p:nvPr/>
        </p:nvGraphicFramePr>
        <p:xfrm>
          <a:off x="457200" y="1241280"/>
          <a:ext cx="8229240" cy="151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Тема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Название стран, национ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</a:tr>
            </a:tbl>
          </a:graphicData>
        </a:graphic>
      </p:graphicFrame>
      <p:pic>
        <p:nvPicPr>
          <p:cNvPr id="248" name="Рисунок 28" descr="Страница 114 | Учебник Английский язык 7 класс М.З. Биболетова, Н.Н. Трубанева 2009"/>
          <p:cNvPicPr/>
          <p:nvPr/>
        </p:nvPicPr>
        <p:blipFill>
          <a:blip r:embed="rId1"/>
          <a:srcRect l="5031" t="5942" r="12751" b="6099"/>
          <a:stretch/>
        </p:blipFill>
        <p:spPr>
          <a:xfrm>
            <a:off x="2714760" y="2143080"/>
            <a:ext cx="3285720" cy="4498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ерспективы использования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жпредметных связей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1214280" y="1766880"/>
            <a:ext cx="4928760" cy="5090760"/>
          </a:xfrm>
          <a:custGeom>
            <a:avLst/>
            <a:gdLst>
              <a:gd name="textAreaLeft" fmla="*/ 0 w 4928760"/>
              <a:gd name="textAreaRight" fmla="*/ 4929120 w 4928760"/>
              <a:gd name="textAreaTop" fmla="*/ 0 h 5090760"/>
              <a:gd name="textAreaBottom" fmla="*/ 5091120 h 50907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98ac7"/>
              </a:gs>
              <a:gs pos="100000">
                <a:srgbClr val="35c9c2"/>
              </a:gs>
            </a:gsLst>
            <a:lin ang="5400000"/>
          </a:gradFill>
          <a:ln w="0">
            <a:noFill/>
          </a:ln>
          <a:effectLst>
            <a:outerShdw algn="ctr" dir="8252688" dist="206395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1" name="Oval 34"/>
          <p:cNvSpPr/>
          <p:nvPr/>
        </p:nvSpPr>
        <p:spPr>
          <a:xfrm rot="20876400">
            <a:off x="3316320" y="4971960"/>
            <a:ext cx="1437840" cy="66636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2" name="Oval 35"/>
          <p:cNvSpPr/>
          <p:nvPr/>
        </p:nvSpPr>
        <p:spPr>
          <a:xfrm>
            <a:off x="3247920" y="3753000"/>
            <a:ext cx="1704600" cy="1706040"/>
          </a:xfrm>
          <a:prstGeom prst="ellipse">
            <a:avLst/>
          </a:prstGeom>
          <a:gradFill rotWithShape="0">
            <a:gsLst>
              <a:gs pos="0">
                <a:srgbClr val="636868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3" name="Oval 36"/>
          <p:cNvSpPr/>
          <p:nvPr/>
        </p:nvSpPr>
        <p:spPr>
          <a:xfrm>
            <a:off x="3268800" y="3762360"/>
            <a:ext cx="1665000" cy="16632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0f4f4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3286080" y="4000680"/>
            <a:ext cx="1584000" cy="1555560"/>
          </a:xfrm>
          <a:prstGeom prst="ellipse">
            <a:avLst/>
          </a:prstGeom>
          <a:gradFill rotWithShape="0">
            <a:gsLst>
              <a:gs pos="0">
                <a:srgbClr val="a9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337824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3429000" y="4572000"/>
            <a:ext cx="5500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19426b"/>
                </a:solidFill>
                <a:latin typeface="Arial"/>
              </a:rPr>
              <a:t>Использование новых технолог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0"/>
          <p:cNvSpPr/>
          <p:nvPr/>
        </p:nvSpPr>
        <p:spPr>
          <a:xfrm rot="20827200">
            <a:off x="1472760" y="4362120"/>
            <a:ext cx="1133280" cy="60912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58" name="Group 41"/>
          <p:cNvGrpSpPr/>
          <p:nvPr/>
        </p:nvGrpSpPr>
        <p:grpSpPr>
          <a:xfrm>
            <a:off x="714240" y="3214800"/>
            <a:ext cx="8929800" cy="1598400"/>
            <a:chOff x="714240" y="3214800"/>
            <a:chExt cx="8929800" cy="1598400"/>
          </a:xfrm>
        </p:grpSpPr>
        <p:sp>
          <p:nvSpPr>
            <p:cNvPr id="259" name="Oval 42"/>
            <p:cNvSpPr/>
            <p:nvPr/>
          </p:nvSpPr>
          <p:spPr>
            <a:xfrm>
              <a:off x="1437480" y="3372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0" name="Oval 43"/>
            <p:cNvSpPr/>
            <p:nvPr/>
          </p:nvSpPr>
          <p:spPr>
            <a:xfrm>
              <a:off x="1455480" y="33807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1" name="Oval 44"/>
            <p:cNvSpPr/>
            <p:nvPr/>
          </p:nvSpPr>
          <p:spPr>
            <a:xfrm>
              <a:off x="1468440" y="3394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2" name="Oval 45"/>
            <p:cNvSpPr/>
            <p:nvPr/>
          </p:nvSpPr>
          <p:spPr>
            <a:xfrm>
              <a:off x="1540080" y="3430800"/>
              <a:ext cx="1131840" cy="106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3" name="Text Box 46"/>
            <p:cNvSpPr/>
            <p:nvPr/>
          </p:nvSpPr>
          <p:spPr>
            <a:xfrm>
              <a:off x="714240" y="3214800"/>
              <a:ext cx="8929800" cy="400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 cap="all">
                <a:solidFill>
                  <a:schemeClr val="accent2">
                    <a:lumMod val="75000"/>
                  </a:schemeClr>
                </a:solidFill>
                <a:latin typeface="Arial"/>
              </a:endParaRPr>
            </a:p>
          </p:txBody>
        </p:sp>
      </p:grpSp>
      <p:sp>
        <p:nvSpPr>
          <p:cNvPr id="264" name="Oval 47"/>
          <p:cNvSpPr/>
          <p:nvPr/>
        </p:nvSpPr>
        <p:spPr>
          <a:xfrm>
            <a:off x="1295280" y="2606760"/>
            <a:ext cx="91404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5" name="Oval 48"/>
          <p:cNvSpPr/>
          <p:nvPr/>
        </p:nvSpPr>
        <p:spPr>
          <a:xfrm>
            <a:off x="1371600" y="2000160"/>
            <a:ext cx="1023480" cy="1023480"/>
          </a:xfrm>
          <a:prstGeom prst="ellipse">
            <a:avLst/>
          </a:prstGeom>
          <a:gradFill rotWithShape="0">
            <a:gsLst>
              <a:gs pos="0">
                <a:srgbClr val="636868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6" name="Oval 49"/>
          <p:cNvSpPr/>
          <p:nvPr/>
        </p:nvSpPr>
        <p:spPr>
          <a:xfrm>
            <a:off x="1384200" y="2004840"/>
            <a:ext cx="999720" cy="999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0f4f4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7" name="Oval 50"/>
          <p:cNvSpPr/>
          <p:nvPr/>
        </p:nvSpPr>
        <p:spPr>
          <a:xfrm>
            <a:off x="1395360" y="2016000"/>
            <a:ext cx="950400" cy="933120"/>
          </a:xfrm>
          <a:prstGeom prst="ellipse">
            <a:avLst/>
          </a:prstGeom>
          <a:gradFill rotWithShape="0">
            <a:gsLst>
              <a:gs pos="0">
                <a:srgbClr val="a9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8" name="Oval 51"/>
          <p:cNvSpPr/>
          <p:nvPr/>
        </p:nvSpPr>
        <p:spPr>
          <a:xfrm>
            <a:off x="1449360" y="2041560"/>
            <a:ext cx="847440" cy="75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1598400" y="2349360"/>
            <a:ext cx="644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9426b"/>
                </a:solidFill>
                <a:latin typeface="Arial"/>
              </a:rPr>
              <a:t>Увеличение универсальной фактологическ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2562120" y="2076480"/>
            <a:ext cx="685440" cy="22824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2684520" y="1542960"/>
            <a:ext cx="682200" cy="682200"/>
          </a:xfrm>
          <a:prstGeom prst="ellipse">
            <a:avLst/>
          </a:prstGeom>
          <a:gradFill rotWithShape="0">
            <a:gsLst>
              <a:gs pos="0">
                <a:srgbClr val="636868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2693880" y="1546200"/>
            <a:ext cx="664920" cy="6663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0f4f4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2700360" y="1552680"/>
            <a:ext cx="632880" cy="622080"/>
          </a:xfrm>
          <a:prstGeom prst="ellipse">
            <a:avLst/>
          </a:prstGeom>
          <a:gradFill rotWithShape="0">
            <a:gsLst>
              <a:gs pos="0">
                <a:srgbClr val="a9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2736720" y="1571760"/>
            <a:ext cx="563040" cy="50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760120" y="1766880"/>
            <a:ext cx="1798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19426b"/>
                </a:solidFill>
                <a:latin typeface="Arial"/>
              </a:rPr>
              <a:t>Содержание 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1928880" y="3071880"/>
            <a:ext cx="678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19426b"/>
                </a:solidFill>
                <a:latin typeface="Arial"/>
              </a:rPr>
              <a:t>Синтез знаний происходит в процессе познания понятий  в рамках изучаемой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воды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78" name="Group 3"/>
          <p:cNvGrpSpPr/>
          <p:nvPr/>
        </p:nvGrpSpPr>
        <p:grpSpPr>
          <a:xfrm>
            <a:off x="1285920" y="1857240"/>
            <a:ext cx="2142720" cy="4009680"/>
            <a:chOff x="1285920" y="1857240"/>
            <a:chExt cx="2142720" cy="4009680"/>
          </a:xfrm>
        </p:grpSpPr>
        <p:sp>
          <p:nvSpPr>
            <p:cNvPr id="279" name="AutoShape 4"/>
            <p:cNvSpPr/>
            <p:nvPr/>
          </p:nvSpPr>
          <p:spPr>
            <a:xfrm>
              <a:off x="1285920" y="2163240"/>
              <a:ext cx="2098080" cy="2839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0" name="AutoShape 5"/>
            <p:cNvSpPr/>
            <p:nvPr/>
          </p:nvSpPr>
          <p:spPr>
            <a:xfrm>
              <a:off x="1318320" y="2171160"/>
              <a:ext cx="2035080" cy="27856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1" name="AutoShape 6"/>
            <p:cNvSpPr/>
            <p:nvPr/>
          </p:nvSpPr>
          <p:spPr>
            <a:xfrm>
              <a:off x="1335240" y="4222080"/>
              <a:ext cx="2007360" cy="704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2" name="AutoShape 7"/>
            <p:cNvSpPr/>
            <p:nvPr/>
          </p:nvSpPr>
          <p:spPr>
            <a:xfrm>
              <a:off x="1335240" y="2193480"/>
              <a:ext cx="2007360" cy="70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>
              <a:off x="1292040" y="5002920"/>
              <a:ext cx="2098080" cy="8640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4" name="AutoShape 9"/>
            <p:cNvSpPr/>
            <p:nvPr/>
          </p:nvSpPr>
          <p:spPr>
            <a:xfrm>
              <a:off x="1335240" y="5026680"/>
              <a:ext cx="2007360" cy="767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285" name="Group 10"/>
            <p:cNvGrpSpPr/>
            <p:nvPr/>
          </p:nvGrpSpPr>
          <p:grpSpPr>
            <a:xfrm>
              <a:off x="2008080" y="1857240"/>
              <a:ext cx="623160" cy="638640"/>
              <a:chOff x="2008080" y="1857240"/>
              <a:chExt cx="623160" cy="638640"/>
            </a:xfrm>
          </p:grpSpPr>
          <p:sp>
            <p:nvSpPr>
              <p:cNvPr id="286" name="Oval 11"/>
              <p:cNvSpPr/>
              <p:nvPr/>
            </p:nvSpPr>
            <p:spPr>
              <a:xfrm>
                <a:off x="2008080" y="1857240"/>
                <a:ext cx="623160" cy="63864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87" name="Oval 12"/>
              <p:cNvSpPr/>
              <p:nvPr/>
            </p:nvSpPr>
            <p:spPr>
              <a:xfrm>
                <a:off x="2014560" y="1862280"/>
                <a:ext cx="602640" cy="61848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88" name="Oval 13"/>
              <p:cNvSpPr/>
              <p:nvPr/>
            </p:nvSpPr>
            <p:spPr>
              <a:xfrm>
                <a:off x="2021760" y="1865880"/>
                <a:ext cx="588600" cy="6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89" name="Oval 14"/>
              <p:cNvSpPr/>
              <p:nvPr/>
            </p:nvSpPr>
            <p:spPr>
              <a:xfrm>
                <a:off x="2028600" y="1871640"/>
                <a:ext cx="559800" cy="5630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90" name="Oval 15"/>
              <p:cNvSpPr/>
              <p:nvPr/>
            </p:nvSpPr>
            <p:spPr>
              <a:xfrm>
                <a:off x="2061000" y="1887120"/>
                <a:ext cx="497160" cy="45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291" name="Text Box 16"/>
            <p:cNvSpPr/>
            <p:nvPr/>
          </p:nvSpPr>
          <p:spPr>
            <a:xfrm>
              <a:off x="2139120" y="1948680"/>
              <a:ext cx="3488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7"/>
            <p:cNvSpPr/>
            <p:nvPr/>
          </p:nvSpPr>
          <p:spPr>
            <a:xfrm>
              <a:off x="1350360" y="2592360"/>
              <a:ext cx="2078280" cy="3135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0c2135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Формируют у учащихся целостность восприятия ми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8"/>
          <p:cNvGrpSpPr/>
          <p:nvPr/>
        </p:nvGrpSpPr>
        <p:grpSpPr>
          <a:xfrm>
            <a:off x="3643200" y="1785960"/>
            <a:ext cx="2142720" cy="4080960"/>
            <a:chOff x="3643200" y="1785960"/>
            <a:chExt cx="2142720" cy="4080960"/>
          </a:xfrm>
        </p:grpSpPr>
        <p:sp>
          <p:nvSpPr>
            <p:cNvPr id="294" name="AutoShape 19"/>
            <p:cNvSpPr/>
            <p:nvPr/>
          </p:nvSpPr>
          <p:spPr>
            <a:xfrm>
              <a:off x="3643200" y="2097360"/>
              <a:ext cx="2102760" cy="2889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5" name="AutoShape 20"/>
            <p:cNvSpPr/>
            <p:nvPr/>
          </p:nvSpPr>
          <p:spPr>
            <a:xfrm>
              <a:off x="3675600" y="2105280"/>
              <a:ext cx="2039400" cy="283500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6" name="AutoShape 21"/>
            <p:cNvSpPr/>
            <p:nvPr/>
          </p:nvSpPr>
          <p:spPr>
            <a:xfrm>
              <a:off x="3692520" y="4192920"/>
              <a:ext cx="2011680" cy="71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7" name="AutoShape 22"/>
            <p:cNvSpPr/>
            <p:nvPr/>
          </p:nvSpPr>
          <p:spPr>
            <a:xfrm>
              <a:off x="3692520" y="2127960"/>
              <a:ext cx="2022480" cy="213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Способству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расширен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кругозо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3"/>
            <p:cNvSpPr/>
            <p:nvPr/>
          </p:nvSpPr>
          <p:spPr>
            <a:xfrm>
              <a:off x="4366800" y="1785960"/>
              <a:ext cx="624600" cy="64980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9" name="Oval 24"/>
            <p:cNvSpPr/>
            <p:nvPr/>
          </p:nvSpPr>
          <p:spPr>
            <a:xfrm>
              <a:off x="4373280" y="1790640"/>
              <a:ext cx="604440" cy="62892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0" name="Oval 25"/>
            <p:cNvSpPr/>
            <p:nvPr/>
          </p:nvSpPr>
          <p:spPr>
            <a:xfrm>
              <a:off x="4380840" y="1793880"/>
              <a:ext cx="590760" cy="614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1" name="Oval 26"/>
            <p:cNvSpPr/>
            <p:nvPr/>
          </p:nvSpPr>
          <p:spPr>
            <a:xfrm>
              <a:off x="4386960" y="1800360"/>
              <a:ext cx="561240" cy="57276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2" name="Oval 27"/>
            <p:cNvSpPr/>
            <p:nvPr/>
          </p:nvSpPr>
          <p:spPr>
            <a:xfrm>
              <a:off x="4420800" y="1816560"/>
              <a:ext cx="497880" cy="465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3" name="Text Box 28"/>
            <p:cNvSpPr/>
            <p:nvPr/>
          </p:nvSpPr>
          <p:spPr>
            <a:xfrm>
              <a:off x="4498560" y="1879200"/>
              <a:ext cx="3488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9"/>
            <p:cNvSpPr/>
            <p:nvPr/>
          </p:nvSpPr>
          <p:spPr>
            <a:xfrm>
              <a:off x="3772800" y="2462040"/>
              <a:ext cx="2013120" cy="1581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30"/>
            <p:cNvSpPr/>
            <p:nvPr/>
          </p:nvSpPr>
          <p:spPr>
            <a:xfrm>
              <a:off x="3646440" y="4987440"/>
              <a:ext cx="2102760" cy="879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6" name="AutoShape 31"/>
            <p:cNvSpPr/>
            <p:nvPr/>
          </p:nvSpPr>
          <p:spPr>
            <a:xfrm>
              <a:off x="3689640" y="5011560"/>
              <a:ext cx="2011680" cy="78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307" name="Group 32"/>
          <p:cNvGrpSpPr/>
          <p:nvPr/>
        </p:nvGrpSpPr>
        <p:grpSpPr>
          <a:xfrm>
            <a:off x="5937120" y="1832040"/>
            <a:ext cx="2211120" cy="4035240"/>
            <a:chOff x="5937120" y="1832040"/>
            <a:chExt cx="2211120" cy="4035240"/>
          </a:xfrm>
        </p:grpSpPr>
        <p:sp>
          <p:nvSpPr>
            <p:cNvPr id="308" name="AutoShape 33"/>
            <p:cNvSpPr/>
            <p:nvPr/>
          </p:nvSpPr>
          <p:spPr>
            <a:xfrm>
              <a:off x="5943600" y="213984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9" name="AutoShape 34"/>
            <p:cNvSpPr/>
            <p:nvPr/>
          </p:nvSpPr>
          <p:spPr>
            <a:xfrm>
              <a:off x="5977080" y="21477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0" name="AutoShape 35"/>
            <p:cNvSpPr/>
            <p:nvPr/>
          </p:nvSpPr>
          <p:spPr>
            <a:xfrm>
              <a:off x="5994360" y="421164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1" name="AutoShape 36"/>
            <p:cNvSpPr/>
            <p:nvPr/>
          </p:nvSpPr>
          <p:spPr>
            <a:xfrm>
              <a:off x="5994360" y="217008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12" name="Group 37"/>
            <p:cNvGrpSpPr/>
            <p:nvPr/>
          </p:nvGrpSpPr>
          <p:grpSpPr>
            <a:xfrm>
              <a:off x="6688080" y="1832040"/>
              <a:ext cx="642600" cy="642600"/>
              <a:chOff x="6688080" y="1832040"/>
              <a:chExt cx="642600" cy="642600"/>
            </a:xfrm>
          </p:grpSpPr>
          <p:sp>
            <p:nvSpPr>
              <p:cNvPr id="313" name="Oval 38"/>
              <p:cNvSpPr/>
              <p:nvPr/>
            </p:nvSpPr>
            <p:spPr>
              <a:xfrm>
                <a:off x="6688080" y="183204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4" name="Oval 39"/>
              <p:cNvSpPr/>
              <p:nvPr/>
            </p:nvSpPr>
            <p:spPr>
              <a:xfrm>
                <a:off x="6694920" y="183672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5" name="Oval 40"/>
              <p:cNvSpPr/>
              <p:nvPr/>
            </p:nvSpPr>
            <p:spPr>
              <a:xfrm>
                <a:off x="6702480" y="184068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6" name="Oval 41"/>
              <p:cNvSpPr/>
              <p:nvPr/>
            </p:nvSpPr>
            <p:spPr>
              <a:xfrm>
                <a:off x="6709320" y="184644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7" name="Oval 42"/>
              <p:cNvSpPr/>
              <p:nvPr/>
            </p:nvSpPr>
            <p:spPr>
              <a:xfrm>
                <a:off x="6743160" y="18619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18" name="Text Box 43"/>
            <p:cNvSpPr/>
            <p:nvPr/>
          </p:nvSpPr>
          <p:spPr>
            <a:xfrm>
              <a:off x="682776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000840" y="2643120"/>
              <a:ext cx="2147400" cy="337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c2135"/>
                </a:solidFill>
                <a:latin typeface="Arial"/>
              </a:endParaRPr>
            </a:p>
          </p:txBody>
        </p:sp>
        <p:sp>
          <p:nvSpPr>
            <p:cNvPr id="320" name="AutoShape 45"/>
            <p:cNvSpPr/>
            <p:nvPr/>
          </p:nvSpPr>
          <p:spPr>
            <a:xfrm>
              <a:off x="5937120" y="499752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1" name="AutoShape 46"/>
            <p:cNvSpPr/>
            <p:nvPr/>
          </p:nvSpPr>
          <p:spPr>
            <a:xfrm>
              <a:off x="5981760" y="502128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322" name="Прямоугольник 46"/>
          <p:cNvSpPr/>
          <p:nvPr/>
        </p:nvSpPr>
        <p:spPr>
          <a:xfrm>
            <a:off x="6000840" y="2428920"/>
            <a:ext cx="199980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c2135"/>
                </a:solidFill>
                <a:latin typeface="Verdana"/>
              </a:rPr>
              <a:t>Повышают интерес и мотивацию в обу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ыводы</a:t>
            </a:r>
            <a:br>
              <a:rPr sz="3200"/>
            </a:b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41280"/>
            <a:ext cx="8229240" cy="524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1071360" y="1857240"/>
            <a:ext cx="2357280" cy="4236120"/>
            <a:chOff x="1071360" y="1857240"/>
            <a:chExt cx="2357280" cy="4236120"/>
          </a:xfrm>
        </p:grpSpPr>
        <p:sp>
          <p:nvSpPr>
            <p:cNvPr id="326" name="AutoShape 4"/>
            <p:cNvSpPr/>
            <p:nvPr/>
          </p:nvSpPr>
          <p:spPr>
            <a:xfrm>
              <a:off x="1071360" y="2163240"/>
              <a:ext cx="2307960" cy="2839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7" name="AutoShape 5"/>
            <p:cNvSpPr/>
            <p:nvPr/>
          </p:nvSpPr>
          <p:spPr>
            <a:xfrm>
              <a:off x="1107000" y="2171160"/>
              <a:ext cx="2238480" cy="27856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8" name="AutoShape 6"/>
            <p:cNvSpPr/>
            <p:nvPr/>
          </p:nvSpPr>
          <p:spPr>
            <a:xfrm>
              <a:off x="1125720" y="4222080"/>
              <a:ext cx="2208240" cy="704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9" name="AutoShape 7"/>
            <p:cNvSpPr/>
            <p:nvPr/>
          </p:nvSpPr>
          <p:spPr>
            <a:xfrm>
              <a:off x="1125720" y="2193480"/>
              <a:ext cx="2208240" cy="70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30" name="AutoShape 8"/>
            <p:cNvSpPr/>
            <p:nvPr/>
          </p:nvSpPr>
          <p:spPr>
            <a:xfrm>
              <a:off x="1078200" y="5002920"/>
              <a:ext cx="2307960" cy="8640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31" name="AutoShape 9"/>
            <p:cNvSpPr/>
            <p:nvPr/>
          </p:nvSpPr>
          <p:spPr>
            <a:xfrm>
              <a:off x="1125720" y="5026680"/>
              <a:ext cx="2208240" cy="767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32" name="Group 10"/>
            <p:cNvGrpSpPr/>
            <p:nvPr/>
          </p:nvGrpSpPr>
          <p:grpSpPr>
            <a:xfrm>
              <a:off x="1865880" y="1857240"/>
              <a:ext cx="685440" cy="638640"/>
              <a:chOff x="1865880" y="1857240"/>
              <a:chExt cx="685440" cy="63864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865880" y="1857240"/>
                <a:ext cx="685440" cy="63864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34" name="Oval 12"/>
              <p:cNvSpPr/>
              <p:nvPr/>
            </p:nvSpPr>
            <p:spPr>
              <a:xfrm>
                <a:off x="1873080" y="1862280"/>
                <a:ext cx="663120" cy="61848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35" name="Oval 13"/>
              <p:cNvSpPr/>
              <p:nvPr/>
            </p:nvSpPr>
            <p:spPr>
              <a:xfrm>
                <a:off x="1881360" y="1865880"/>
                <a:ext cx="647640" cy="6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36" name="Oval 14"/>
              <p:cNvSpPr/>
              <p:nvPr/>
            </p:nvSpPr>
            <p:spPr>
              <a:xfrm>
                <a:off x="1888560" y="1871640"/>
                <a:ext cx="615600" cy="5630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37" name="Oval 15"/>
              <p:cNvSpPr/>
              <p:nvPr/>
            </p:nvSpPr>
            <p:spPr>
              <a:xfrm>
                <a:off x="1924200" y="1887120"/>
                <a:ext cx="546840" cy="45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38" name="Text Box 16"/>
            <p:cNvSpPr/>
            <p:nvPr/>
          </p:nvSpPr>
          <p:spPr>
            <a:xfrm>
              <a:off x="2033280" y="194868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7"/>
            <p:cNvSpPr/>
            <p:nvPr/>
          </p:nvSpPr>
          <p:spPr>
            <a:xfrm>
              <a:off x="1142640" y="2592360"/>
              <a:ext cx="2286000" cy="3501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0c2135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Способству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развит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языковых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других уме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и навык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18"/>
          <p:cNvGrpSpPr/>
          <p:nvPr/>
        </p:nvGrpSpPr>
        <p:grpSpPr>
          <a:xfrm>
            <a:off x="3643200" y="1785960"/>
            <a:ext cx="2142720" cy="4080960"/>
            <a:chOff x="3643200" y="1785960"/>
            <a:chExt cx="2142720" cy="4080960"/>
          </a:xfrm>
        </p:grpSpPr>
        <p:sp>
          <p:nvSpPr>
            <p:cNvPr id="341" name="AutoShape 19"/>
            <p:cNvSpPr/>
            <p:nvPr/>
          </p:nvSpPr>
          <p:spPr>
            <a:xfrm>
              <a:off x="3643200" y="2097360"/>
              <a:ext cx="2102760" cy="2889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2" name="AutoShape 20"/>
            <p:cNvSpPr/>
            <p:nvPr/>
          </p:nvSpPr>
          <p:spPr>
            <a:xfrm>
              <a:off x="3675600" y="2105280"/>
              <a:ext cx="2039400" cy="283500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3" name="AutoShape 21"/>
            <p:cNvSpPr/>
            <p:nvPr/>
          </p:nvSpPr>
          <p:spPr>
            <a:xfrm>
              <a:off x="3692520" y="4192920"/>
              <a:ext cx="2011680" cy="71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4" name="AutoShape 22"/>
            <p:cNvSpPr/>
            <p:nvPr/>
          </p:nvSpPr>
          <p:spPr>
            <a:xfrm>
              <a:off x="3692520" y="2127960"/>
              <a:ext cx="2022480" cy="2729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Да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возмож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естествен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научн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мет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3"/>
            <p:cNvSpPr/>
            <p:nvPr/>
          </p:nvSpPr>
          <p:spPr>
            <a:xfrm>
              <a:off x="4366800" y="1785960"/>
              <a:ext cx="624600" cy="64980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6" name="Oval 24"/>
            <p:cNvSpPr/>
            <p:nvPr/>
          </p:nvSpPr>
          <p:spPr>
            <a:xfrm>
              <a:off x="4373280" y="1790640"/>
              <a:ext cx="604440" cy="62892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7" name="Oval 25"/>
            <p:cNvSpPr/>
            <p:nvPr/>
          </p:nvSpPr>
          <p:spPr>
            <a:xfrm>
              <a:off x="4380840" y="1793880"/>
              <a:ext cx="590760" cy="614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8" name="Oval 26"/>
            <p:cNvSpPr/>
            <p:nvPr/>
          </p:nvSpPr>
          <p:spPr>
            <a:xfrm>
              <a:off x="4386960" y="1800360"/>
              <a:ext cx="561240" cy="57276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9" name="Oval 27"/>
            <p:cNvSpPr/>
            <p:nvPr/>
          </p:nvSpPr>
          <p:spPr>
            <a:xfrm>
              <a:off x="4420800" y="1816560"/>
              <a:ext cx="497880" cy="465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0" name="Text Box 28"/>
            <p:cNvSpPr/>
            <p:nvPr/>
          </p:nvSpPr>
          <p:spPr>
            <a:xfrm>
              <a:off x="4503960" y="1879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9"/>
            <p:cNvSpPr/>
            <p:nvPr/>
          </p:nvSpPr>
          <p:spPr>
            <a:xfrm>
              <a:off x="3772800" y="2462040"/>
              <a:ext cx="2013120" cy="1581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0"/>
            <p:cNvSpPr/>
            <p:nvPr/>
          </p:nvSpPr>
          <p:spPr>
            <a:xfrm>
              <a:off x="3646440" y="4987440"/>
              <a:ext cx="2102760" cy="879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3" name="AutoShape 31"/>
            <p:cNvSpPr/>
            <p:nvPr/>
          </p:nvSpPr>
          <p:spPr>
            <a:xfrm>
              <a:off x="3689640" y="5011560"/>
              <a:ext cx="2011680" cy="78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354" name="Group 32"/>
          <p:cNvGrpSpPr/>
          <p:nvPr/>
        </p:nvGrpSpPr>
        <p:grpSpPr>
          <a:xfrm>
            <a:off x="5937120" y="1832040"/>
            <a:ext cx="2211120" cy="4035240"/>
            <a:chOff x="5937120" y="1832040"/>
            <a:chExt cx="2211120" cy="4035240"/>
          </a:xfrm>
        </p:grpSpPr>
        <p:sp>
          <p:nvSpPr>
            <p:cNvPr id="355" name="AutoShape 33"/>
            <p:cNvSpPr/>
            <p:nvPr/>
          </p:nvSpPr>
          <p:spPr>
            <a:xfrm>
              <a:off x="5943600" y="213984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6" name="AutoShape 34"/>
            <p:cNvSpPr/>
            <p:nvPr/>
          </p:nvSpPr>
          <p:spPr>
            <a:xfrm>
              <a:off x="5977080" y="21477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7" name="AutoShape 35"/>
            <p:cNvSpPr/>
            <p:nvPr/>
          </p:nvSpPr>
          <p:spPr>
            <a:xfrm>
              <a:off x="5994360" y="421164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8" name="AutoShape 36"/>
            <p:cNvSpPr/>
            <p:nvPr/>
          </p:nvSpPr>
          <p:spPr>
            <a:xfrm>
              <a:off x="5994360" y="2714760"/>
              <a:ext cx="2069640" cy="2214360"/>
            </a:xfrm>
            <a:prstGeom prst="roundRect">
              <a:avLst>
                <a:gd name="adj" fmla="val 47476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19426b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Да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возмож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рассматрив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явление с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несколь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сто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37"/>
            <p:cNvGrpSpPr/>
            <p:nvPr/>
          </p:nvGrpSpPr>
          <p:grpSpPr>
            <a:xfrm>
              <a:off x="6688080" y="1832040"/>
              <a:ext cx="642600" cy="642600"/>
              <a:chOff x="6688080" y="1832040"/>
              <a:chExt cx="642600" cy="642600"/>
            </a:xfrm>
          </p:grpSpPr>
          <p:sp>
            <p:nvSpPr>
              <p:cNvPr id="360" name="Oval 38"/>
              <p:cNvSpPr/>
              <p:nvPr/>
            </p:nvSpPr>
            <p:spPr>
              <a:xfrm>
                <a:off x="6688080" y="183204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1" name="Oval 39"/>
              <p:cNvSpPr/>
              <p:nvPr/>
            </p:nvSpPr>
            <p:spPr>
              <a:xfrm>
                <a:off x="6694920" y="183672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2" name="Oval 40"/>
              <p:cNvSpPr/>
              <p:nvPr/>
            </p:nvSpPr>
            <p:spPr>
              <a:xfrm>
                <a:off x="6702480" y="184068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3" name="Oval 41"/>
              <p:cNvSpPr/>
              <p:nvPr/>
            </p:nvSpPr>
            <p:spPr>
              <a:xfrm>
                <a:off x="6709320" y="184644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4" name="Oval 42"/>
              <p:cNvSpPr/>
              <p:nvPr/>
            </p:nvSpPr>
            <p:spPr>
              <a:xfrm>
                <a:off x="6743160" y="18619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65" name="Text Box 43"/>
            <p:cNvSpPr/>
            <p:nvPr/>
          </p:nvSpPr>
          <p:spPr>
            <a:xfrm>
              <a:off x="682884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44"/>
            <p:cNvSpPr/>
            <p:nvPr/>
          </p:nvSpPr>
          <p:spPr>
            <a:xfrm>
              <a:off x="6000840" y="2643120"/>
              <a:ext cx="2147400" cy="337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c2135"/>
                </a:solidFill>
                <a:latin typeface="Arial"/>
              </a:endParaRPr>
            </a:p>
          </p:txBody>
        </p:sp>
        <p:sp>
          <p:nvSpPr>
            <p:cNvPr id="367" name="AutoShape 45"/>
            <p:cNvSpPr/>
            <p:nvPr/>
          </p:nvSpPr>
          <p:spPr>
            <a:xfrm>
              <a:off x="5937120" y="499752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8" name="AutoShape 46"/>
            <p:cNvSpPr/>
            <p:nvPr/>
          </p:nvSpPr>
          <p:spPr>
            <a:xfrm>
              <a:off x="5981760" y="502128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Company Lo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спользуемая литература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0" name="AutoShape 6"/>
          <p:cNvSpPr/>
          <p:nvPr/>
        </p:nvSpPr>
        <p:spPr>
          <a:xfrm flipH="1">
            <a:off x="5334120" y="2590920"/>
            <a:ext cx="72720" cy="144000"/>
          </a:xfrm>
          <a:prstGeom prst="octagon">
            <a:avLst>
              <a:gd name="adj" fmla="val 2928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1" name="AutoShape 7"/>
          <p:cNvSpPr/>
          <p:nvPr/>
        </p:nvSpPr>
        <p:spPr>
          <a:xfrm flipH="1">
            <a:off x="4928400" y="2857320"/>
            <a:ext cx="70920" cy="144000"/>
          </a:xfrm>
          <a:prstGeom prst="octagon">
            <a:avLst>
              <a:gd name="adj" fmla="val 2928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 flipH="1">
            <a:off x="7835040" y="2079720"/>
            <a:ext cx="70920" cy="142560"/>
          </a:xfrm>
          <a:prstGeom prst="octagon">
            <a:avLst>
              <a:gd name="adj" fmla="val 2928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3928680" y="2486160"/>
            <a:ext cx="127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5"/>
          <p:cNvGrpSpPr/>
          <p:nvPr/>
        </p:nvGrpSpPr>
        <p:grpSpPr>
          <a:xfrm>
            <a:off x="714240" y="1214280"/>
            <a:ext cx="6643440" cy="5024160"/>
            <a:chOff x="714240" y="1214280"/>
            <a:chExt cx="6643440" cy="5024160"/>
          </a:xfrm>
        </p:grpSpPr>
        <p:sp>
          <p:nvSpPr>
            <p:cNvPr id="375" name="AutoShape 16"/>
            <p:cNvSpPr/>
            <p:nvPr/>
          </p:nvSpPr>
          <p:spPr>
            <a:xfrm>
              <a:off x="714240" y="1468800"/>
              <a:ext cx="6643440" cy="4769640"/>
            </a:xfrm>
            <a:prstGeom prst="roundRect">
              <a:avLst>
                <a:gd name="adj" fmla="val 4690"/>
              </a:avLst>
            </a:prstGeom>
            <a:noFill/>
            <a:ln w="57150">
              <a:solidFill>
                <a:srgbClr val="6d50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6" name="AutoShape 17"/>
            <p:cNvSpPr/>
            <p:nvPr/>
          </p:nvSpPr>
          <p:spPr>
            <a:xfrm>
              <a:off x="1339200" y="1252800"/>
              <a:ext cx="5393520" cy="433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1f4e"/>
                </a:gs>
                <a:gs pos="50000">
                  <a:srgbClr val="6d50ca"/>
                </a:gs>
                <a:gs pos="100000">
                  <a:srgbClr val="2a1f4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7" name="AutoShape 18"/>
            <p:cNvSpPr/>
            <p:nvPr/>
          </p:nvSpPr>
          <p:spPr>
            <a:xfrm flipH="1">
              <a:off x="6213240" y="1360800"/>
              <a:ext cx="206280" cy="218160"/>
            </a:xfrm>
            <a:prstGeom prst="octagon">
              <a:avLst>
                <a:gd name="adj" fmla="val 29287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8" name="AutoShape 19"/>
            <p:cNvSpPr/>
            <p:nvPr/>
          </p:nvSpPr>
          <p:spPr>
            <a:xfrm flipH="1">
              <a:off x="1633320" y="1360800"/>
              <a:ext cx="210960" cy="218160"/>
            </a:xfrm>
            <a:prstGeom prst="octagon">
              <a:avLst>
                <a:gd name="adj" fmla="val 29287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9" name="Text Box 20"/>
            <p:cNvSpPr/>
            <p:nvPr/>
          </p:nvSpPr>
          <p:spPr>
            <a:xfrm>
              <a:off x="2120400" y="1214280"/>
              <a:ext cx="183600" cy="306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21"/>
            <p:cNvSpPr/>
            <p:nvPr/>
          </p:nvSpPr>
          <p:spPr>
            <a:xfrm>
              <a:off x="934920" y="1862280"/>
              <a:ext cx="6174720" cy="3107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отеева И.Н. «Использование межпредметных связей во внеклассной работе»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арисова Л.В. «Межпредметные связи в процессе преподавания английского языка»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лгова Л.А. «Межпредметные связи как средство мотивации учебно-воспитательного процесса по английскому языку»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омелева О.В. «Межпредметные связи в формировании коммуникативных умений»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отеева И.Н. «Пути реализации и перспективы использования межпредметных связей»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23"/>
          <p:cNvSpPr/>
          <p:nvPr/>
        </p:nvSpPr>
        <p:spPr>
          <a:xfrm>
            <a:off x="6019920" y="2352600"/>
            <a:ext cx="2133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4932360" y="2349360"/>
            <a:ext cx="3887280" cy="647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2071800" y="3571920"/>
            <a:ext cx="1142640" cy="4996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5286240"/>
            <a:ext cx="7772040" cy="48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200" spc="-1" strike="noStrike" cap="all">
                <a:solidFill>
                  <a:srgbClr val="ffffff"/>
                </a:solidFill>
                <a:latin typeface="Verdana"/>
              </a:rPr>
              <a:t>пппппиииии</a:t>
            </a: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1214280"/>
            <a:ext cx="7772040" cy="54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Всё, что находится во взаимной связи, должно преподаваться в такой же связи.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Ян Амос Коменский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Большую роль играют межпредметные связи при обучении любому предмету. Они, </a:t>
            </a:r>
            <a:r>
              <a:rPr b="1" lang="ru-RU" sz="20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во-первых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, представляют опору для полноценного восприятия и понимания новых знаний, формирования навыков и развития умений;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во-вторых,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 позволяют обобщать и систематизировать имеющийся языковой и речевой опыт и, </a:t>
            </a:r>
            <a:r>
              <a:rPr b="1" lang="ru-RU" sz="20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в-третьих,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 обеспечивают полноту знаний”. (Онищук В.А.)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Verdana"/>
              </a:rPr>
              <a:t>Цели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5400000">
            <a:off x="-2785320" y="1686600"/>
            <a:ext cx="5571720" cy="4770000"/>
          </a:xfrm>
          <a:custGeom>
            <a:avLst/>
            <a:gdLst>
              <a:gd name="textAreaLeft" fmla="*/ 103320 w 5571720"/>
              <a:gd name="textAreaRight" fmla="*/ 5468400 w 5571720"/>
              <a:gd name="textAreaTop" fmla="*/ 0 h 4770000"/>
              <a:gd name="textAreaBottom" fmla="*/ 3009600 h 477000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dbdbdb"/>
              </a:gs>
              <a:gs pos="50000">
                <a:srgbClr val="b2b2b2"/>
              </a:gs>
              <a:gs pos="100000">
                <a:srgbClr val="dbdbdb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 flipH="1" rot="5400000">
            <a:off x="-2358720" y="2107440"/>
            <a:ext cx="4714560" cy="3928680"/>
          </a:xfrm>
          <a:custGeom>
            <a:avLst/>
            <a:gdLst>
              <a:gd name="textAreaLeft" fmla="*/ -360 w 4714560"/>
              <a:gd name="textAreaRight" fmla="*/ 4714560 w 4714560"/>
              <a:gd name="textAreaTop" fmla="*/ 0 h 3928680"/>
              <a:gd name="textAreaBottom" fmla="*/ 1402920 h 392868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2357280" y="4357800"/>
            <a:ext cx="5786280" cy="12222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Повышение эффективности обу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географии и иностранному я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2428920" y="3143160"/>
            <a:ext cx="5857560" cy="107136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Расширение содержательной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обучения географии и иностранному язы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1928880" y="1785960"/>
            <a:ext cx="6286320" cy="99972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Синтез и обобщение знаний с целью 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комплексного приме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1571760" y="2071800"/>
            <a:ext cx="380520" cy="380520"/>
            <a:chOff x="1571760" y="2071800"/>
            <a:chExt cx="380520" cy="380520"/>
          </a:xfrm>
        </p:grpSpPr>
        <p:sp>
          <p:nvSpPr>
            <p:cNvPr id="183" name="Oval 12"/>
            <p:cNvSpPr/>
            <p:nvPr/>
          </p:nvSpPr>
          <p:spPr>
            <a:xfrm>
              <a:off x="1571760" y="207180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>
              <a:off x="1593360" y="209304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5" name="Oval 14"/>
            <p:cNvSpPr/>
            <p:nvPr/>
          </p:nvSpPr>
          <p:spPr>
            <a:xfrm>
              <a:off x="1613160" y="211320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1613160" y="211320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1632600" y="213264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8bbc00"/>
                </a:gs>
                <a:gs pos="100000">
                  <a:srgbClr val="4b65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1632600" y="213264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b63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89" name="Group 18"/>
          <p:cNvGrpSpPr/>
          <p:nvPr/>
        </p:nvGrpSpPr>
        <p:grpSpPr>
          <a:xfrm>
            <a:off x="2071800" y="3357720"/>
            <a:ext cx="380520" cy="380520"/>
            <a:chOff x="2071800" y="3357720"/>
            <a:chExt cx="380520" cy="380520"/>
          </a:xfrm>
        </p:grpSpPr>
        <p:sp>
          <p:nvSpPr>
            <p:cNvPr id="190" name="Oval 19"/>
            <p:cNvSpPr/>
            <p:nvPr/>
          </p:nvSpPr>
          <p:spPr>
            <a:xfrm>
              <a:off x="2071800" y="335772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2093400" y="337896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2113200" y="339912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2113200" y="339912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2132640" y="341856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8bbc00"/>
                </a:gs>
                <a:gs pos="100000">
                  <a:srgbClr val="4b65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2132640" y="341856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96" name="Group 32"/>
          <p:cNvGrpSpPr/>
          <p:nvPr/>
        </p:nvGrpSpPr>
        <p:grpSpPr>
          <a:xfrm>
            <a:off x="2000160" y="4786200"/>
            <a:ext cx="380520" cy="380520"/>
            <a:chOff x="2000160" y="4786200"/>
            <a:chExt cx="380520" cy="380520"/>
          </a:xfrm>
        </p:grpSpPr>
        <p:sp>
          <p:nvSpPr>
            <p:cNvPr id="197" name="Oval 33"/>
            <p:cNvSpPr/>
            <p:nvPr/>
          </p:nvSpPr>
          <p:spPr>
            <a:xfrm>
              <a:off x="2000160" y="478620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8" name="Oval 34"/>
            <p:cNvSpPr/>
            <p:nvPr/>
          </p:nvSpPr>
          <p:spPr>
            <a:xfrm>
              <a:off x="2021760" y="480780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041920" y="482796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2041920" y="482796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2061360" y="484740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8bbc00"/>
                </a:gs>
                <a:gs pos="100000">
                  <a:srgbClr val="4b65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061360" y="484740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4326d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адачи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457760" cy="465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9426b"/>
                </a:solidFill>
                <a:latin typeface="Verdana"/>
              </a:rPr>
              <a:t>  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8bbc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19426b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Создание единой системы образовательного процесса, построенной на интегративной основе;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8bbc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Личностно-ориентированная организация образовательного процесса;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8bbc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Раскрытие творческого потенциала и развитие ребенка.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ежпредметные связи как средство мотивации учащихся к изучению английского языка 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856440" y="1785960"/>
            <a:ext cx="7643880" cy="4428360"/>
            <a:chOff x="856440" y="1785960"/>
            <a:chExt cx="7643880" cy="4428360"/>
          </a:xfrm>
        </p:grpSpPr>
        <p:sp>
          <p:nvSpPr>
            <p:cNvPr id="207" name="AutoShape 4"/>
            <p:cNvSpPr/>
            <p:nvPr/>
          </p:nvSpPr>
          <p:spPr>
            <a:xfrm>
              <a:off x="3692520" y="4091760"/>
              <a:ext cx="182808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55d"/>
                </a:gs>
                <a:gs pos="50000">
                  <a:srgbClr val="6d50ca"/>
                </a:gs>
                <a:gs pos="100000">
                  <a:srgbClr val="32255d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ru-RU" sz="18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</a:rPr>
                <a:t>Опора  в цел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5"/>
            <p:cNvSpPr/>
            <p:nvPr/>
          </p:nvSpPr>
          <p:spPr>
            <a:xfrm>
              <a:off x="3358440" y="3571200"/>
              <a:ext cx="249984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55d"/>
                </a:gs>
                <a:gs pos="50000">
                  <a:srgbClr val="6d50ca"/>
                </a:gs>
                <a:gs pos="100000">
                  <a:srgbClr val="32255d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ru-RU" sz="18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</a:rPr>
                <a:t>Опора период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6"/>
            <p:cNvSpPr/>
            <p:nvPr/>
          </p:nvSpPr>
          <p:spPr>
            <a:xfrm>
              <a:off x="3571200" y="3072240"/>
              <a:ext cx="207216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55d"/>
                </a:gs>
                <a:gs pos="50000">
                  <a:srgbClr val="6d50ca"/>
                </a:gs>
                <a:gs pos="100000">
                  <a:srgbClr val="32255d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ru-RU" sz="18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</a:rPr>
                <a:t>Опора систем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735720" y="4215240"/>
              <a:ext cx="720000" cy="369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2944440" y="2861280"/>
              <a:ext cx="58140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856440" y="2357280"/>
              <a:ext cx="1838520" cy="2967480"/>
            </a:xfrm>
            <a:prstGeom prst="roundRect">
              <a:avLst>
                <a:gd name="adj" fmla="val 16667"/>
              </a:avLst>
            </a:prstGeom>
            <a:noFill/>
            <a:ln w="38100">
              <a:solidFill>
                <a:srgbClr val="1942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Verdana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866880" y="2571480"/>
              <a:ext cx="1755360" cy="1794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400" spc="-1" strike="noStrike">
                  <a:solidFill>
                    <a:srgbClr val="001d3a"/>
                  </a:solidFill>
                  <a:latin typeface="Verdana"/>
                </a:rPr>
                <a:t>Использование знаний одной науки при изучении других для развития умственных способностей учащихс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6715440" y="2354400"/>
              <a:ext cx="1784880" cy="2967480"/>
            </a:xfrm>
            <a:prstGeom prst="roundRect">
              <a:avLst>
                <a:gd name="adj" fmla="val 16667"/>
              </a:avLst>
            </a:prstGeom>
            <a:noFill/>
            <a:ln w="38100">
              <a:solidFill>
                <a:srgbClr val="1942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Verdana"/>
              </a:endParaRPr>
            </a:p>
          </p:txBody>
        </p:sp>
        <p:sp>
          <p:nvSpPr>
            <p:cNvPr id="215" name="Text Box 14"/>
            <p:cNvSpPr/>
            <p:nvPr/>
          </p:nvSpPr>
          <p:spPr>
            <a:xfrm>
              <a:off x="6786720" y="2571480"/>
              <a:ext cx="1642680" cy="243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1d3a"/>
                  </a:solidFill>
                  <a:latin typeface="Verdana"/>
                </a:rPr>
                <a:t>М/П представляют опору для понимания новых знаний, позволяю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1400" spc="-1" strike="noStrike">
                  <a:solidFill>
                    <a:srgbClr val="001d3a"/>
                  </a:solidFill>
                  <a:latin typeface="Verdana"/>
                </a:rPr>
                <a:t>обобщать и систематизировать имеющийся языковой потенциал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5690520" y="2861280"/>
              <a:ext cx="5778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2861280" y="1785960"/>
              <a:ext cx="3323880" cy="578880"/>
            </a:xfrm>
            <a:prstGeom prst="can">
              <a:avLst>
                <a:gd name="adj" fmla="val 27866"/>
              </a:avLst>
            </a:prstGeom>
            <a:gradFill rotWithShape="0">
              <a:gsLst>
                <a:gs pos="0">
                  <a:srgbClr val="185d59"/>
                </a:gs>
                <a:gs pos="50000">
                  <a:srgbClr val="35c9c2"/>
                </a:gs>
                <a:gs pos="100000">
                  <a:srgbClr val="185d5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3656160" y="2499120"/>
              <a:ext cx="191124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9" name="Text Box 18"/>
            <p:cNvSpPr/>
            <p:nvPr/>
          </p:nvSpPr>
          <p:spPr>
            <a:xfrm>
              <a:off x="3336480" y="1962360"/>
              <a:ext cx="20786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ачество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2807640" y="5358240"/>
              <a:ext cx="3794760" cy="856080"/>
            </a:xfrm>
            <a:prstGeom prst="can">
              <a:avLst>
                <a:gd name="adj" fmla="val 27525"/>
              </a:avLst>
            </a:prstGeom>
            <a:gradFill rotWithShape="0">
              <a:gsLst>
                <a:gs pos="0">
                  <a:srgbClr val="405600"/>
                </a:gs>
                <a:gs pos="50000">
                  <a:srgbClr val="8bbc00"/>
                </a:gs>
                <a:gs pos="100000">
                  <a:srgbClr val="4056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ru-RU" sz="1400" spc="-1" strike="noStrike" cap="all">
                  <a:solidFill>
                    <a:schemeClr val="accent4"/>
                  </a:solidFill>
                  <a:latin typeface="Arial"/>
                </a:rPr>
                <a:t>-Общеучебные 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ru-RU" sz="1400" spc="-1" strike="noStrike" cap="all">
                  <a:solidFill>
                    <a:schemeClr val="accent4"/>
                  </a:solidFill>
                  <a:latin typeface="Arial"/>
                </a:rPr>
                <a:t>-История, география и друг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ru-RU" sz="1400" spc="-1" strike="noStrike" cap="all">
                  <a:solidFill>
                    <a:schemeClr val="accent4"/>
                  </a:solidFill>
                  <a:latin typeface="Arial"/>
                </a:rPr>
                <a:t>- Родно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1"/>
            <p:cNvSpPr/>
            <p:nvPr/>
          </p:nvSpPr>
          <p:spPr>
            <a:xfrm>
              <a:off x="3632040" y="4743000"/>
              <a:ext cx="191448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 опыта работы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41280"/>
            <a:ext cx="8229240" cy="524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24" name="Пятно 1 5"/>
          <p:cNvSpPr/>
          <p:nvPr/>
        </p:nvSpPr>
        <p:spPr>
          <a:xfrm>
            <a:off x="2500200" y="2714760"/>
            <a:ext cx="4571640" cy="2428560"/>
          </a:xfrm>
          <a:prstGeom prst="irregularSeal1">
            <a:avLst/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Verdana"/>
              </a:rPr>
              <a:t>Рожд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Горизонтальный свиток 17"/>
          <p:cNvSpPr/>
          <p:nvPr/>
        </p:nvSpPr>
        <p:spPr>
          <a:xfrm>
            <a:off x="4286160" y="1285920"/>
            <a:ext cx="3071520" cy="110448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страны, время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Горизонтальный свиток 18"/>
          <p:cNvSpPr/>
          <p:nvPr/>
        </p:nvSpPr>
        <p:spPr>
          <a:xfrm>
            <a:off x="6429240" y="2357280"/>
            <a:ext cx="2285640" cy="103284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Горизонтальный свиток 19"/>
          <p:cNvSpPr/>
          <p:nvPr/>
        </p:nvSpPr>
        <p:spPr>
          <a:xfrm>
            <a:off x="6572160" y="4143240"/>
            <a:ext cx="2214360" cy="103284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Горизонтальный свиток 20"/>
          <p:cNvSpPr/>
          <p:nvPr/>
        </p:nvSpPr>
        <p:spPr>
          <a:xfrm>
            <a:off x="4214880" y="5429160"/>
            <a:ext cx="3285720" cy="88992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фигуры: звезда,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Горизонтальный свиток 21"/>
          <p:cNvSpPr/>
          <p:nvPr/>
        </p:nvSpPr>
        <p:spPr>
          <a:xfrm>
            <a:off x="571320" y="1214280"/>
            <a:ext cx="3071520" cy="124740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аздник, трад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Горизонтальный свиток 22"/>
          <p:cNvSpPr/>
          <p:nvPr/>
        </p:nvSpPr>
        <p:spPr>
          <a:xfrm>
            <a:off x="500040" y="2643120"/>
            <a:ext cx="1856880" cy="103284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откры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Горизонтальный свиток 23"/>
          <p:cNvSpPr/>
          <p:nvPr/>
        </p:nvSpPr>
        <p:spPr>
          <a:xfrm>
            <a:off x="428760" y="3786120"/>
            <a:ext cx="2499840" cy="146160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Рождественски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Горизонтальный свиток 24"/>
          <p:cNvSpPr/>
          <p:nvPr/>
        </p:nvSpPr>
        <p:spPr>
          <a:xfrm>
            <a:off x="1357200" y="5429160"/>
            <a:ext cx="2356920" cy="103284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л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7 класс  М.З. Биболетова  «Английский с удовольствием»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aphicFrame>
        <p:nvGraphicFramePr>
          <p:cNvPr id="234" name="Содержимое 7"/>
          <p:cNvGraphicFramePr/>
          <p:nvPr/>
        </p:nvGraphicFramePr>
        <p:xfrm>
          <a:off x="457200" y="1198800"/>
          <a:ext cx="8229240" cy="1909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Тема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Международные соревнования подро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- Страны, столицы, города, краткие географические све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</a:tr>
            </a:tbl>
          </a:graphicData>
        </a:graphic>
      </p:graphicFrame>
      <p:pic>
        <p:nvPicPr>
          <p:cNvPr id="235" name="Рисунок 1" descr="Страница 16 | Учебник Английский язык 7 класс М.З. Биболетова, Н.Н. Трубанева 2009"/>
          <p:cNvPicPr/>
          <p:nvPr/>
        </p:nvPicPr>
        <p:blipFill>
          <a:blip r:embed="rId1"/>
          <a:srcRect l="0" t="1808" r="0" b="11486"/>
          <a:stretch/>
        </p:blipFill>
        <p:spPr>
          <a:xfrm>
            <a:off x="357120" y="2357280"/>
            <a:ext cx="3857400" cy="4238280"/>
          </a:xfrm>
          <a:prstGeom prst="rect">
            <a:avLst/>
          </a:prstGeom>
          <a:ln w="9525">
            <a:noFill/>
          </a:ln>
        </p:spPr>
      </p:pic>
      <p:pic>
        <p:nvPicPr>
          <p:cNvPr id="236" name="Рисунок 4" descr="Страница 17 | Учебник Английский язык 7 класс М.З. Биболетова, Н.Н. Трубанева 2009"/>
          <p:cNvPicPr/>
          <p:nvPr/>
        </p:nvPicPr>
        <p:blipFill>
          <a:blip r:embed="rId2"/>
          <a:srcRect l="0" t="2018" r="0" b="8685"/>
          <a:stretch/>
        </p:blipFill>
        <p:spPr>
          <a:xfrm>
            <a:off x="4714920" y="2357280"/>
            <a:ext cx="3714480" cy="420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734328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7 класс  М.З. Биболетова  «Английский с удовольствием» </a:t>
            </a:r>
            <a:br>
              <a:rPr sz="1400"/>
            </a:b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aphicFrame>
        <p:nvGraphicFramePr>
          <p:cNvPr id="238" name="Содержимое 7"/>
          <p:cNvGraphicFramePr/>
          <p:nvPr/>
        </p:nvGraphicFramePr>
        <p:xfrm>
          <a:off x="428760" y="1241280"/>
          <a:ext cx="8257680" cy="1881720"/>
        </p:xfrm>
        <a:graphic>
          <a:graphicData uri="http://schemas.openxmlformats.org/drawingml/2006/table">
            <a:tbl>
              <a:tblPr/>
              <a:tblGrid>
                <a:gridCol w="4128840"/>
                <a:gridCol w="4128840"/>
              </a:tblGrid>
              <a:tr h="128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Тем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Встреча победителей соревн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Путешествия, поез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- Названия националь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- Употребление артиклей с географическими назван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</a:tr>
            </a:tbl>
          </a:graphicData>
        </a:graphic>
      </p:graphicFrame>
      <p:pic>
        <p:nvPicPr>
          <p:cNvPr id="239" name="Рисунок 7" descr="Страница 34 | Учебник Английский язык 7 класс М.З. Биболетова, Н.Н. Трубанева 2009"/>
          <p:cNvPicPr/>
          <p:nvPr/>
        </p:nvPicPr>
        <p:blipFill>
          <a:blip r:embed="rId1"/>
          <a:srcRect l="4814" t="3024" r="7483" b="4535"/>
          <a:stretch/>
        </p:blipFill>
        <p:spPr>
          <a:xfrm>
            <a:off x="3000240" y="2786040"/>
            <a:ext cx="2714400" cy="3925440"/>
          </a:xfrm>
          <a:prstGeom prst="rect">
            <a:avLst/>
          </a:prstGeom>
          <a:ln w="9525">
            <a:noFill/>
          </a:ln>
        </p:spPr>
      </p:pic>
      <p:pic>
        <p:nvPicPr>
          <p:cNvPr id="240" name="Рисунок 19" descr="Страница 53 | Учебник Английский язык 7 класс М.З. Биболетова, Н.Н. Трубанева 2009"/>
          <p:cNvPicPr/>
          <p:nvPr/>
        </p:nvPicPr>
        <p:blipFill>
          <a:blip r:embed="rId2"/>
          <a:srcRect l="5348" t="4221" r="5031" b="33996"/>
          <a:stretch/>
        </p:blipFill>
        <p:spPr>
          <a:xfrm>
            <a:off x="142920" y="3429000"/>
            <a:ext cx="2714400" cy="2790360"/>
          </a:xfrm>
          <a:prstGeom prst="rect">
            <a:avLst/>
          </a:prstGeom>
          <a:ln w="9525">
            <a:noFill/>
          </a:ln>
        </p:spPr>
      </p:pic>
      <p:pic>
        <p:nvPicPr>
          <p:cNvPr id="241" name="Рисунок 10" descr="Страница 35 | Учебник Английский язык 7 класс М.З. Биболетова, Н.Н. Трубанева 2009"/>
          <p:cNvPicPr/>
          <p:nvPr/>
        </p:nvPicPr>
        <p:blipFill>
          <a:blip r:embed="rId3"/>
          <a:srcRect l="6231" t="2603" r="4247" b="35266"/>
          <a:stretch/>
        </p:blipFill>
        <p:spPr>
          <a:xfrm>
            <a:off x="5857920" y="3429000"/>
            <a:ext cx="3009600" cy="295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7 класс М.З. Биболетова «Английский с удовольствием»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aphicFrame>
        <p:nvGraphicFramePr>
          <p:cNvPr id="243" name="Содержимое 5"/>
          <p:cNvGraphicFramePr/>
          <p:nvPr/>
        </p:nvGraphicFramePr>
        <p:xfrm>
          <a:off x="457200" y="1241280"/>
          <a:ext cx="8229240" cy="172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Тема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Проблемы подро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Дорога в школу, ориентация по карте гор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- Англоговорящи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</a:tr>
            </a:tbl>
          </a:graphicData>
        </a:graphic>
      </p:graphicFrame>
      <p:pic>
        <p:nvPicPr>
          <p:cNvPr id="244" name="Рисунок 22" descr="Страница 66 | Учебник Английский язык 7 класс М.З. Биболетова, Н.Н. Трубанева 2009"/>
          <p:cNvPicPr/>
          <p:nvPr/>
        </p:nvPicPr>
        <p:blipFill>
          <a:blip r:embed="rId1"/>
          <a:srcRect l="2112" t="5875" r="4927" b="2988"/>
          <a:stretch/>
        </p:blipFill>
        <p:spPr>
          <a:xfrm>
            <a:off x="785880" y="2357280"/>
            <a:ext cx="3142800" cy="4357440"/>
          </a:xfrm>
          <a:prstGeom prst="rect">
            <a:avLst/>
          </a:prstGeom>
          <a:ln w="9525">
            <a:noFill/>
          </a:ln>
        </p:spPr>
      </p:pic>
      <p:pic>
        <p:nvPicPr>
          <p:cNvPr id="245" name="Рисунок 16" descr="Страница 38 | Учебник Английский язык 7 класс М.З. Биболетова, Н.Н. Трубанева 2009"/>
          <p:cNvPicPr/>
          <p:nvPr/>
        </p:nvPicPr>
        <p:blipFill>
          <a:blip r:embed="rId2"/>
          <a:srcRect l="4323" t="3054" r="4356" b="40630"/>
          <a:stretch/>
        </p:blipFill>
        <p:spPr>
          <a:xfrm>
            <a:off x="4572000" y="2714760"/>
            <a:ext cx="4142880" cy="349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db2004123l">
  <a:themeElements>
    <a:clrScheme name="sample 2">
      <a:dk1>
        <a:srgbClr val="19426b"/>
      </a:dk1>
      <a:lt1>
        <a:srgbClr val="ffffff"/>
      </a:lt1>
      <a:dk2>
        <a:srgbClr val="008080"/>
      </a:dk2>
      <a:lt2>
        <a:srgbClr val="b2b2b2"/>
      </a:lt2>
      <a:accent1>
        <a:srgbClr val="35c9c2"/>
      </a:accent1>
      <a:accent2>
        <a:srgbClr val="398ac7"/>
      </a:accent2>
      <a:accent3>
        <a:srgbClr val="ffffff"/>
      </a:accent3>
      <a:accent4>
        <a:srgbClr val="14375a"/>
      </a:accent4>
      <a:accent5>
        <a:srgbClr val="aee1dd"/>
      </a:accent5>
      <a:accent6>
        <a:srgbClr val="337db4"/>
      </a:accent6>
      <a:hlink>
        <a:srgbClr val="8bbc00"/>
      </a:hlink>
      <a:folHlink>
        <a:srgbClr val="6d50c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db2004123l">
  <a:themeElements>
    <a:clrScheme name="sample 2">
      <a:dk1>
        <a:srgbClr val="19426b"/>
      </a:dk1>
      <a:lt1>
        <a:srgbClr val="ffffff"/>
      </a:lt1>
      <a:dk2>
        <a:srgbClr val="008080"/>
      </a:dk2>
      <a:lt2>
        <a:srgbClr val="b2b2b2"/>
      </a:lt2>
      <a:accent1>
        <a:srgbClr val="35c9c2"/>
      </a:accent1>
      <a:accent2>
        <a:srgbClr val="398ac7"/>
      </a:accent2>
      <a:accent3>
        <a:srgbClr val="ffffff"/>
      </a:accent3>
      <a:accent4>
        <a:srgbClr val="14375a"/>
      </a:accent4>
      <a:accent5>
        <a:srgbClr val="aee1dd"/>
      </a:accent5>
      <a:accent6>
        <a:srgbClr val="337db4"/>
      </a:accent6>
      <a:hlink>
        <a:srgbClr val="8bbc00"/>
      </a:hlink>
      <a:folHlink>
        <a:srgbClr val="6d50c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db2004123l">
  <a:themeElements>
    <a:clrScheme name="sample 2">
      <a:dk1>
        <a:srgbClr val="19426b"/>
      </a:dk1>
      <a:lt1>
        <a:srgbClr val="ffffff"/>
      </a:lt1>
      <a:dk2>
        <a:srgbClr val="008080"/>
      </a:dk2>
      <a:lt2>
        <a:srgbClr val="b2b2b2"/>
      </a:lt2>
      <a:accent1>
        <a:srgbClr val="35c9c2"/>
      </a:accent1>
      <a:accent2>
        <a:srgbClr val="398ac7"/>
      </a:accent2>
      <a:accent3>
        <a:srgbClr val="ffffff"/>
      </a:accent3>
      <a:accent4>
        <a:srgbClr val="14375a"/>
      </a:accent4>
      <a:accent5>
        <a:srgbClr val="aee1dd"/>
      </a:accent5>
      <a:accent6>
        <a:srgbClr val="337db4"/>
      </a:accent6>
      <a:hlink>
        <a:srgbClr val="8bbc00"/>
      </a:hlink>
      <a:folHlink>
        <a:srgbClr val="6d50c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8080"/>
      </a:dk2>
      <a:lt2>
        <a:srgbClr val="b2b2b2"/>
      </a:lt2>
      <a:accent1>
        <a:srgbClr val="35c9c2"/>
      </a:accent1>
      <a:accent2>
        <a:srgbClr val="398ac7"/>
      </a:accent2>
      <a:accent3>
        <a:srgbClr val="ffffff"/>
      </a:accent3>
      <a:accent4>
        <a:srgbClr val="14375a"/>
      </a:accent4>
      <a:accent5>
        <a:srgbClr val="aee1dd"/>
      </a:accent5>
      <a:accent6>
        <a:srgbClr val="337db4"/>
      </a:accent6>
      <a:hlink>
        <a:srgbClr val="8bbc00"/>
      </a:hlink>
      <a:folHlink>
        <a:srgbClr val="6d50c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b2004123l</Template>
  <TotalTime>1024</TotalTime>
  <Application>LibreOffice/7.4.7.2$Linux_X86_64 LibreOffice_project/40$Build-2</Application>
  <AppVersion>15.0000</AppVersion>
  <Words>479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7:18:09Z</dcterms:created>
  <dc:creator>Бардакус-фобиус</dc:creator>
  <dc:description/>
  <dc:language>en-US</dc:language>
  <cp:lastModifiedBy>User</cp:lastModifiedBy>
  <dcterms:modified xsi:type="dcterms:W3CDTF">2018-03-01T19:02:03Z</dcterms:modified>
  <cp:revision>10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